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020D-4CCC-4D43-B455-70142E5F6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38C9-DE32-4523-8E9C-D7E68AA0F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00D0-AD3F-4AFF-A0EB-0B3CFED41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6696-5834-411D-B112-A4A895D11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7406-05A9-4DEF-BC2A-6469B89C6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261D-EF7E-482F-A502-CA384D5DE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2952-BE6A-4FFD-89AA-052DC6823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BFB9-08ED-4E88-8414-2BF28E3DA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4371-F29A-42F7-9B55-BBE576CD3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EDA1-FFDD-4571-A75A-F658CE5CC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A4FE-8B97-408D-BF5E-538107E39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A00A-B2EC-4539-9BBB-20B51A396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573A-D773-4E78-8D5C-055DA3885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1F44-C741-48DF-8C37-1A3EE2472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6A01-0C13-4300-9154-548E44C33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813-E5FC-4E3F-8E8E-C1F375E8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874-B62D-4339-9ECF-493306A7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08B-5614-4CAC-8346-D4922258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040-8F0B-46FF-AABD-D9F621C2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078-EB36-4F00-B21F-C7C6D5A5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DF4-49E0-48B2-AB67-EC8191D0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255-A9F4-4FB4-B3A2-76EC988C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017-BB41-4558-B072-2CC6BB97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CEF-F376-47BD-9521-59909C6F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7B4-F5CC-44C5-92A6-10DD04B2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EB0-1358-44CA-B2AB-B3398C76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1F3-CAAE-4FDC-9B2D-5565B167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9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Hopkins Summer Epi-Biostat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D639-3A29-4170-9899-81A04085C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Multi-level Model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leen Bennet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57320" y="115920"/>
            <a:ext cx="2341440" cy="885960"/>
            <a:chOff x="157320" y="115920"/>
            <a:chExt cx="2341440" cy="885960"/>
          </a:xfrm>
        </p:grpSpPr>
        <p:pic>
          <p:nvPicPr>
            <p:cNvPr id="50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157320" y="231480"/>
              <a:ext cx="109512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403640" y="115920"/>
              <a:ext cx="1095120" cy="88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6372360" y="109440"/>
            <a:ext cx="244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614F-B8A0-4F4A-BA33-AA485C3E7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”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covariates from many levels and 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correlation among observations from within a level (clu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ffect MLMs condition on unobserved “latent variables” to account for the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about the latent variables determine the nature of the within cluster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an be borrowed across clusters (levels) to improve individual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B4B6-91CB-4114-9055-84882D1DC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wo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f health services: assessment of quality of care are often obtained from patients that are clustered within hospitals. Patients are level 1 data and hospitals are level 2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velopmental toxicity studies: pregnant mice (dams) are assigned to increased doses of a chemical and examined for evidence of malformations (a binary response). Data collected in developmental toxicity studies are clustered. Observations on the fetuses (level 1 units) nested within dams/litters (level 2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level” signifies the position of a unit of observation within th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1D01-73B1-4381-BC9D-B291B4062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hree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might be obtained in patients nested within clinics, that in turn, are nested within different regions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are obtained on children (level 1) nested within classrooms (level 2), nested within schools (level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incorporate two kinds of predi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or the desi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a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ith the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explain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organise unexplained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AA21-5948-4B7F-A1E8-52901CF7E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EB98-4361-4590-80DA-EDB2DB255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ression with Correlate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ccount of correla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valid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fficient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etting: Longitudinal 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Features of Longitudin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Covaria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common feature of repeated measurements of an individual is correlation (model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Heterogeneity of 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other common feature of longitudinal data is heterogeneous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us: unbalanced data, non-equidistant measurements over time, drop-ou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CBA0-F28F-4AFB-BAF9-064E47629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Linear Mixed-Effects Models</a:t>
            </a:r>
            <a:br>
              <a:rPr sz="44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he typical OLS regression model with a temporal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A7C7-834D-4E92-92D5-8BB8D6863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971800" y="3583080"/>
            <a:ext cx="2824200" cy="23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752480" y="2438280"/>
          <a:ext cx="6096240" cy="1011240"/>
        </p:xfrm>
        <a:graphic>
          <a:graphicData uri="http://schemas.openxmlformats.org/drawingml/2006/table">
            <a:tbl>
              <a:tblPr/>
              <a:tblGrid>
                <a:gridCol w="1828800"/>
                <a:gridCol w="503280"/>
                <a:gridCol w="1325520"/>
                <a:gridCol w="533520"/>
                <a:gridCol w="1905120"/>
              </a:tblGrid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Y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z-Cyrl-A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│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respon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ime 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l observations (data points) are independent = different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peat Measu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bservations (data points) are dependent = same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90E2-BB3C-4F71-8D89-7B1352AFE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962520" y="3657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90720" y="3112920"/>
            <a:ext cx="2904840" cy="237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029200" y="3112920"/>
            <a:ext cx="2736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18A2-E45C-49DD-9408-0E43D38AC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85800" y="2581200"/>
            <a:ext cx="7620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815F-2339-4A1A-B65B-4538B97A0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81080" y="1427040"/>
            <a:ext cx="5205600" cy="45165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380880" y="3094200"/>
            <a:ext cx="144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v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7"/>
          <p:cNvCxnSpPr/>
          <p:nvPr/>
        </p:nvCxnSpPr>
        <p:spPr>
          <a:xfrm>
            <a:off x="914040" y="3705120"/>
            <a:ext cx="1080" cy="9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0070c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72bfc5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72bfc5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subject specific intercept to the average line intercept – 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random inter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8153280" y="1362240"/>
            <a:ext cx="4572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685800" y="5961240"/>
            <a:ext cx="60948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876240" y="596412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8636040" y="337824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7"/>
          <p:cNvSpPr/>
          <p:nvPr/>
        </p:nvSpPr>
        <p:spPr>
          <a:xfrm flipH="1">
            <a:off x="2546280" y="2743200"/>
            <a:ext cx="2036880" cy="14335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9"/>
          <p:cNvSpPr/>
          <p:nvPr/>
        </p:nvSpPr>
        <p:spPr>
          <a:xfrm flipH="1">
            <a:off x="2546280" y="3786120"/>
            <a:ext cx="959040" cy="63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9"/>
          <p:cNvSpPr/>
          <p:nvPr/>
        </p:nvSpPr>
        <p:spPr>
          <a:xfrm flipH="1">
            <a:off x="2546280" y="4267080"/>
            <a:ext cx="1797120" cy="114300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22887"/>
          <p:cNvSpPr/>
          <p:nvPr/>
        </p:nvSpPr>
        <p:spPr>
          <a:xfrm>
            <a:off x="2666880" y="4343400"/>
            <a:ext cx="0" cy="566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40"/>
          <p:cNvSpPr/>
          <p:nvPr/>
        </p:nvSpPr>
        <p:spPr>
          <a:xfrm>
            <a:off x="2819520" y="4005360"/>
            <a:ext cx="0" cy="718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42"/>
          <p:cNvSpPr/>
          <p:nvPr/>
        </p:nvSpPr>
        <p:spPr>
          <a:xfrm>
            <a:off x="2819520" y="4724280"/>
            <a:ext cx="0" cy="53352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hy Multilevel Mod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social, medical and biological sciences hierarchical structure is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forming groups or clusters tend not to be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xtension of traditional regress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FE9B-9753-4FDC-9669-A40356D22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55C8-0436-44EA-A8D0-0FECC9AA1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observed value to their subject specific lines are the independent res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8381880" y="3457440"/>
            <a:ext cx="1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728720" y="1557360"/>
            <a:ext cx="52056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Linear Random intercept Model</a:t>
            </a:r>
            <a:br>
              <a:rPr sz="40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7BCF-6807-4EB3-962E-1BDF59180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700440" cy="33051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2700360" y="205740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257800" y="2057400"/>
            <a:ext cx="91440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9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random intercept model</a:t>
            </a:r>
            <a:br>
              <a:rPr sz="44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raphical representation of a random intercep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8654-8A42-41A8-AE87-2FD9A8126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rcRect l="0" t="1889" r="0" b="0"/>
          <a:stretch/>
        </p:blipFill>
        <p:spPr>
          <a:xfrm>
            <a:off x="903240" y="1650960"/>
            <a:ext cx="79358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different situation…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s the outcome changing over time at the same pace for all subjects, i.e. same sl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7A20-15C1-4E21-A8FA-C42683461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bristol.ac.uk/cmm/images/rs/2.gif"/>
          <p:cNvPicPr/>
          <p:nvPr/>
        </p:nvPicPr>
        <p:blipFill>
          <a:blip r:embed="rId1"/>
          <a:stretch/>
        </p:blipFill>
        <p:spPr>
          <a:xfrm>
            <a:off x="155520" y="2421000"/>
            <a:ext cx="4165560" cy="321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www.bristol.ac.uk/cmm/images/rs/3.gif"/>
          <p:cNvPicPr/>
          <p:nvPr/>
        </p:nvPicPr>
        <p:blipFill>
          <a:blip r:embed="rId2"/>
          <a:stretch/>
        </p:blipFill>
        <p:spPr>
          <a:xfrm>
            <a:off x="4648320" y="2421000"/>
            <a:ext cx="42638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3287-66CB-4C98-9D25-7B4AABE03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http://www.bristol.ac.uk/cmm/images/rs/3.gif"/>
          <p:cNvPicPr/>
          <p:nvPr/>
        </p:nvPicPr>
        <p:blipFill>
          <a:blip r:embed="rId1"/>
          <a:stretch/>
        </p:blipFill>
        <p:spPr>
          <a:xfrm>
            <a:off x="3078000" y="228600"/>
            <a:ext cx="2524320" cy="1905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www.bristol.ac.uk/cmm/images/rs/5.gif"/>
          <p:cNvPicPr/>
          <p:nvPr/>
        </p:nvPicPr>
        <p:blipFill>
          <a:blip r:embed="rId2"/>
          <a:stretch/>
        </p:blipFill>
        <p:spPr>
          <a:xfrm>
            <a:off x="1747800" y="2635200"/>
            <a:ext cx="5186520" cy="3994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335268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r prefer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5791320" y="838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7391520" y="4446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Random intercept/random slope Model</a:t>
            </a:r>
            <a:br>
              <a:rPr sz="2800"/>
            </a:b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CDDC-4DED-4C44-A459-6A8D876B8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http://www.bristol.ac.uk/cmm/images/rs/7.gif"/>
          <p:cNvPicPr/>
          <p:nvPr/>
        </p:nvPicPr>
        <p:blipFill>
          <a:blip r:embed="rId1"/>
          <a:stretch/>
        </p:blipFill>
        <p:spPr>
          <a:xfrm>
            <a:off x="1574640" y="2133720"/>
            <a:ext cx="5359680" cy="41907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6"/>
          <p:cNvSpPr/>
          <p:nvPr/>
        </p:nvSpPr>
        <p:spPr>
          <a:xfrm>
            <a:off x="2700360" y="152388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e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040360" y="1523880"/>
            <a:ext cx="121932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8"/>
          <p:cNvSpPr/>
          <p:nvPr/>
        </p:nvSpPr>
        <p:spPr>
          <a:xfrm>
            <a:off x="350532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7315200" y="3352680"/>
            <a:ext cx="2362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7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8534520" y="342900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1"/>
          <p:cNvSpPr/>
          <p:nvPr/>
        </p:nvSpPr>
        <p:spPr>
          <a:xfrm flipV="1">
            <a:off x="2286000" y="4517640"/>
            <a:ext cx="2438280" cy="816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20"/>
          <p:cNvSpPr/>
          <p:nvPr/>
        </p:nvSpPr>
        <p:spPr>
          <a:xfrm>
            <a:off x="4264200" y="4373640"/>
            <a:ext cx="0" cy="2887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6"/>
          <p:cNvCxnSpPr/>
          <p:nvPr/>
        </p:nvCxnSpPr>
        <p:spPr>
          <a:xfrm flipV="1">
            <a:off x="4343040" y="1904400"/>
            <a:ext cx="1307160" cy="25153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8" name="Straight Arrow Connector 129024"/>
          <p:cNvCxnSpPr/>
          <p:nvPr/>
        </p:nvCxnSpPr>
        <p:spPr>
          <a:xfrm>
            <a:off x="4756320" y="4517640"/>
            <a:ext cx="27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Rectangle 129026"/>
          <p:cNvSpPr/>
          <p:nvPr/>
        </p:nvSpPr>
        <p:spPr>
          <a:xfrm>
            <a:off x="5025600" y="4334040"/>
            <a:ext cx="34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63FF-79C4-4607-8450-D8519EC7B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A01E-ECAD-4171-B1DD-BEB252BE5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6720" y="38088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istic Regression Example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ross-over tri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: 1-not depressed; 0- de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ors: period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treatment group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bservations per person (clu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of interest: log odds ratio of depression: placebo vs.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5334120"/>
            <a:ext cx="8610480" cy="11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Model:    log{odds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ress)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0A85-E062-4340-A136-0D8550B64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:  estimate (standard err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3880" y="1295280"/>
          <a:ext cx="6172200" cy="4267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inary Logistic Reg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unt for cor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28"/>
          <p:cNvSpPr/>
          <p:nvPr/>
        </p:nvSpPr>
        <p:spPr>
          <a:xfrm>
            <a:off x="762120" y="5791320"/>
            <a:ext cx="7467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Estima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W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ard Errors (&amp; Inferences) for O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1828800" y="2963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2057400" y="297180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6"/>
          <p:cNvSpPr/>
          <p:nvPr/>
        </p:nvSpPr>
        <p:spPr>
          <a:xfrm>
            <a:off x="2057400" y="495288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2057400" y="396252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0DFE-9497-4427-874E-328F38EAA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27" descr="NonClustered"/>
          <p:cNvPicPr/>
          <p:nvPr/>
        </p:nvPicPr>
        <p:blipFill>
          <a:blip r:embed="rId1"/>
          <a:stretch/>
        </p:blipFill>
        <p:spPr>
          <a:xfrm>
            <a:off x="533520" y="395280"/>
            <a:ext cx="8153280" cy="5854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Non-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33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34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71AB-FE72-46C5-AA82-AC96BEF41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, psychological and social processes that influence health occur at man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ysis of risk factors should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ach of thes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27" descr="davinci"/>
          <p:cNvPicPr/>
          <p:nvPr/>
        </p:nvPicPr>
        <p:blipFill>
          <a:blip r:embed="rId1"/>
          <a:stretch/>
        </p:blipFill>
        <p:spPr>
          <a:xfrm>
            <a:off x="3124080" y="2895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8" descr="liver2"/>
          <p:cNvPicPr/>
          <p:nvPr/>
        </p:nvPicPr>
        <p:blipFill>
          <a:blip r:embed="rId2"/>
          <a:stretch/>
        </p:blipFill>
        <p:spPr>
          <a:xfrm>
            <a:off x="2819520" y="2416320"/>
            <a:ext cx="380880" cy="398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level Models – Mai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30" descr="simpsons3"/>
          <p:cNvPicPr/>
          <p:nvPr/>
        </p:nvPicPr>
        <p:blipFill>
          <a:blip r:embed="rId3"/>
          <a:stretch/>
        </p:blipFill>
        <p:spPr>
          <a:xfrm>
            <a:off x="3505320" y="3352680"/>
            <a:ext cx="380880" cy="36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1" descr="us1"/>
          <p:cNvPicPr/>
          <p:nvPr/>
        </p:nvPicPr>
        <p:blipFill>
          <a:blip r:embed="rId4"/>
          <a:stretch/>
        </p:blipFill>
        <p:spPr>
          <a:xfrm>
            <a:off x="4800600" y="4648320"/>
            <a:ext cx="457200" cy="380880"/>
          </a:xfrm>
          <a:prstGeom prst="rect">
            <a:avLst/>
          </a:prstGeom>
          <a:ln w="0">
            <a:noFill/>
          </a:ln>
        </p:spPr>
      </p:pic>
      <p:cxnSp>
        <p:nvCxnSpPr>
          <p:cNvPr id="63" name="AutoShape 1032"/>
          <p:cNvCxnSpPr>
            <a:stCxn id="64" idx="1"/>
            <a:endCxn id="59" idx="1"/>
          </p:cNvCxnSpPr>
          <p:nvPr/>
        </p:nvCxnSpPr>
        <p:spPr>
          <a:xfrm flipH="1" flipV="1" rot="10800000">
            <a:off x="2621520" y="2266560"/>
            <a:ext cx="197640" cy="349920"/>
          </a:xfrm>
          <a:prstGeom prst="curvedConnector5">
            <a:avLst>
              <a:gd name="adj1" fmla="val -116058"/>
              <a:gd name="adj2" fmla="val 49948"/>
              <a:gd name="adj3" fmla="val -1160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" name="Group 1033"/>
          <p:cNvGrpSpPr/>
          <p:nvPr/>
        </p:nvGrpSpPr>
        <p:grpSpPr>
          <a:xfrm>
            <a:off x="2438280" y="1981080"/>
            <a:ext cx="381240" cy="380880"/>
            <a:chOff x="2438280" y="1981080"/>
            <a:chExt cx="381240" cy="380880"/>
          </a:xfrm>
        </p:grpSpPr>
        <p:pic>
          <p:nvPicPr>
            <p:cNvPr id="66" name="Picture 1034" descr="cell"/>
            <p:cNvPicPr/>
            <p:nvPr/>
          </p:nvPicPr>
          <p:blipFill>
            <a:blip r:embed="rId5"/>
            <a:stretch/>
          </p:blipFill>
          <p:spPr>
            <a:xfrm>
              <a:off x="243828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35" descr="cell"/>
            <p:cNvPicPr/>
            <p:nvPr/>
          </p:nvPicPr>
          <p:blipFill>
            <a:blip r:embed="rId6"/>
            <a:stretch/>
          </p:blipFill>
          <p:spPr>
            <a:xfrm>
              <a:off x="262260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36" descr="cell"/>
            <p:cNvPicPr/>
            <p:nvPr/>
          </p:nvPicPr>
          <p:blipFill>
            <a:blip r:embed="rId7"/>
            <a:stretch/>
          </p:blipFill>
          <p:spPr>
            <a:xfrm>
              <a:off x="243828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037" descr="cell"/>
            <p:cNvPicPr/>
            <p:nvPr/>
          </p:nvPicPr>
          <p:blipFill>
            <a:blip r:embed="rId8"/>
            <a:stretch/>
          </p:blipFill>
          <p:spPr>
            <a:xfrm>
              <a:off x="262260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0" name="AutoShape 1038"/>
          <p:cNvCxnSpPr>
            <a:endCxn id="58" idx="1"/>
          </p:cNvCxnSpPr>
          <p:nvPr/>
        </p:nvCxnSpPr>
        <p:spPr>
          <a:xfrm flipH="1" rot="16200000">
            <a:off x="2913840" y="2876040"/>
            <a:ext cx="267120" cy="1530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1039"/>
          <p:cNvCxnSpPr>
            <a:endCxn id="61" idx="1"/>
          </p:cNvCxnSpPr>
          <p:nvPr/>
        </p:nvCxnSpPr>
        <p:spPr>
          <a:xfrm flipH="1" rot="16200000">
            <a:off x="3260880" y="32914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040"/>
          <p:cNvCxnSpPr/>
          <p:nvPr/>
        </p:nvCxnSpPr>
        <p:spPr>
          <a:xfrm flipH="1" rot="16200000">
            <a:off x="3718080" y="37486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041"/>
          <p:cNvCxnSpPr/>
          <p:nvPr/>
        </p:nvCxnSpPr>
        <p:spPr>
          <a:xfrm flipH="1" rot="16200000">
            <a:off x="4098600" y="41295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1042"/>
          <p:cNvCxnSpPr/>
          <p:nvPr/>
        </p:nvCxnSpPr>
        <p:spPr>
          <a:xfrm flipH="1" rot="16200000">
            <a:off x="4555800" y="45867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5" name="Picture 1043" descr="neighborhood2"/>
          <p:cNvPicPr/>
          <p:nvPr/>
        </p:nvPicPr>
        <p:blipFill>
          <a:blip r:embed="rId9"/>
          <a:stretch/>
        </p:blipFill>
        <p:spPr>
          <a:xfrm>
            <a:off x="3962520" y="3733920"/>
            <a:ext cx="380880" cy="42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44" descr="city"/>
          <p:cNvPicPr/>
          <p:nvPr/>
        </p:nvPicPr>
        <p:blipFill>
          <a:blip r:embed="rId10"/>
          <a:stretch/>
        </p:blipFill>
        <p:spPr>
          <a:xfrm>
            <a:off x="4343400" y="41911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45"/>
          <p:cNvSpPr/>
          <p:nvPr/>
        </p:nvSpPr>
        <p:spPr>
          <a:xfrm>
            <a:off x="6858000" y="23623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alth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46"/>
          <p:cNvSpPr/>
          <p:nvPr/>
        </p:nvSpPr>
        <p:spPr>
          <a:xfrm>
            <a:off x="6629400" y="2133720"/>
            <a:ext cx="18288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47"/>
          <p:cNvSpPr/>
          <p:nvPr/>
        </p:nvSpPr>
        <p:spPr>
          <a:xfrm>
            <a:off x="2819520" y="2133720"/>
            <a:ext cx="3809880" cy="533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48"/>
          <p:cNvSpPr/>
          <p:nvPr/>
        </p:nvSpPr>
        <p:spPr>
          <a:xfrm>
            <a:off x="3200400" y="2666880"/>
            <a:ext cx="3429000" cy="152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49"/>
          <p:cNvSpPr/>
          <p:nvPr/>
        </p:nvSpPr>
        <p:spPr>
          <a:xfrm flipV="1">
            <a:off x="3505320" y="2971440"/>
            <a:ext cx="3124080" cy="152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50"/>
          <p:cNvSpPr/>
          <p:nvPr/>
        </p:nvSpPr>
        <p:spPr>
          <a:xfrm flipV="1">
            <a:off x="3886200" y="3123720"/>
            <a:ext cx="2743200" cy="381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51"/>
          <p:cNvSpPr/>
          <p:nvPr/>
        </p:nvSpPr>
        <p:spPr>
          <a:xfrm flipV="1">
            <a:off x="4343400" y="3276360"/>
            <a:ext cx="2362320" cy="685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52"/>
          <p:cNvSpPr/>
          <p:nvPr/>
        </p:nvSpPr>
        <p:spPr>
          <a:xfrm flipV="1">
            <a:off x="4800600" y="3429000"/>
            <a:ext cx="2057400" cy="914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53"/>
          <p:cNvSpPr/>
          <p:nvPr/>
        </p:nvSpPr>
        <p:spPr>
          <a:xfrm flipV="1">
            <a:off x="5257800" y="3505320"/>
            <a:ext cx="1752480" cy="1371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55"/>
          <p:cNvSpPr/>
          <p:nvPr/>
        </p:nvSpPr>
        <p:spPr>
          <a:xfrm flipV="1">
            <a:off x="5257800" y="3962520"/>
            <a:ext cx="457200" cy="8380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56"/>
          <p:cNvSpPr/>
          <p:nvPr/>
        </p:nvSpPr>
        <p:spPr>
          <a:xfrm flipV="1">
            <a:off x="4343400" y="3048120"/>
            <a:ext cx="533520" cy="9144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57"/>
          <p:cNvSpPr/>
          <p:nvPr/>
        </p:nvSpPr>
        <p:spPr>
          <a:xfrm flipV="1">
            <a:off x="4800600" y="2819160"/>
            <a:ext cx="914400" cy="15238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9A82-8E97-4743-B2A4-542E020ED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Clustered"/>
          <p:cNvPicPr/>
          <p:nvPr/>
        </p:nvPicPr>
        <p:blipFill>
          <a:blip r:embed="rId1"/>
          <a:stretch/>
        </p:blipFill>
        <p:spPr>
          <a:xfrm>
            <a:off x="533520" y="392040"/>
            <a:ext cx="8153280" cy="58564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3441-7563-4846-9499-67F47EA5C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in-Cluster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of two observations from same cluste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8580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Clustered = (9.8-9.8) / 9.8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= (9.8-3.2) / 9.8 = 0.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2514600" y="3429000"/>
            <a:ext cx="4876920" cy="1054080"/>
            <a:chOff x="2514600" y="3429000"/>
            <a:chExt cx="4876920" cy="1054080"/>
          </a:xfrm>
        </p:grpSpPr>
        <p:sp>
          <p:nvSpPr>
            <p:cNvPr id="229" name="Text Box 7"/>
            <p:cNvSpPr/>
            <p:nvPr/>
          </p:nvSpPr>
          <p:spPr>
            <a:xfrm>
              <a:off x="2514600" y="3429000"/>
              <a:ext cx="487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 - Var Within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3733920" y="39625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2666880" y="40384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1"/>
          <p:cNvSpPr/>
          <p:nvPr/>
        </p:nvSpPr>
        <p:spPr>
          <a:xfrm>
            <a:off x="1600200" y="3200400"/>
            <a:ext cx="6172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7D52-A5AB-4283-9C6D-0CEC9FC5A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considera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s in the multi-level models can be trick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interpretation of gender in a random effects model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Y|gender,bi) = b0 + b1gender + 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of b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persons with similar unobserved latent effect bi, the difference in average Y if those same people had been males instead of 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the counter-factual world….does it make se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ntre for Multilevel Mod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iversity of Brist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ttp://www.bristol.ac.uk/cm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588C-0E3D-42ED-ABE5-D517A5EE7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B8D0-FFB5-4247-AD94-8AFEC941B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independent respons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in-Cluster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responses from the same family tend to be more like one another than two observations from different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observations from the same neighborhood tend to be more like one another than two observations from different neighbo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2B50-F070-45DA-8B17-11915218D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39880" y="3043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z”: Most Important Assumptions of Regression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ata follow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3962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Xs are fixed and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ata Modelling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inear Regressi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rue relationship is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are norm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have identical distribution (varianc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Residuals are independent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3FC3-1A33-4EC9-8EDE-61F93DD24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pecific Settings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clear violation of assumption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data, clustered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peated measurements (longitudinal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Nested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re is clear correlation among observational/experimental units in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is correlation needs to be accounted for during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therwise: biased inferences, wrong conclus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4987-145E-4923-8A60-6CE55894A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yond traditional Regression Models</a:t>
            </a: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(M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tistical models as a formal framework of analysis with a complexity of structure </a:t>
            </a: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hat matches the dat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ata with a complex nest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ependent data: dependencies in the outcome over time, over space, ove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heterogeneity: standard regression models ‘averages’, Multilevel models additionally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contextuality: micro and macro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7498-79EC-4C7D-91CE-3BDCE7B5E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effec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ariance-componen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coeffici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ix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C5EC-3669-4EE0-8A73-826A19140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Kathleen Bennett</dc:creator>
  <dc:description/>
  <dc:language>en-US</dc:language>
  <cp:lastModifiedBy>Administrator</cp:lastModifiedBy>
  <dcterms:modified xsi:type="dcterms:W3CDTF">2014-09-09T16:48:54Z</dcterms:modified>
  <cp:revision>470</cp:revision>
  <dc:subject/>
  <dc:title>PowerPoint Presentation</dc:title>
</cp:coreProperties>
</file>