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B10C-A499-4F12-BC3A-2AA716671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AECF-CF88-4AE8-AFC8-B0BFC85AC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8032-5B56-460B-B6F4-E76341864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00A6-1D2A-4F40-86C7-54BE91081D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476B-E8AC-410C-8CCF-10F0C63A1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0DFE-E5E3-433C-AAF7-5C103CD7C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3CEB-AC18-4D1C-BFDF-DF85660D1B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B79A-DE5F-408B-808A-14DD3323B6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065E-1B38-4B90-B575-17D80C439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6EE2-02EC-4F89-8A24-0021C4A7C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6F6A-DA27-4326-8C8C-C769C4C9F7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7EA1-621A-4BA1-AB6E-AE3837E98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79D4-34F9-45EB-BE6D-33EBE7C54A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6112-908A-45D0-94F4-B0CDB31E37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2B75-559E-457D-BC7C-2B62BDB5E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CA9B-ABD6-4F3F-9C8B-8E0E3FA12A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EE51-49D0-4F79-968B-DE9A38C2B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05B2-C5BC-44F9-AEA4-07B4B277D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C7EB-0CEF-419B-9ACF-44791253D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4CC1-2C6C-4823-AB9B-89CAA90BD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1C9-240C-48EC-B35A-F30650B9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8E5-8BF1-4793-916B-BDF5BE4F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343-8A52-4ED9-AFBB-EC7B556B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3AA-6756-4208-BAFE-0D0A87E2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A6E-84B1-4A9A-8832-381EB482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18A-CD4C-408E-B3F2-F2F92B63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49A-E20F-4231-860F-99A25E45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977-F702-409D-A891-92EEEFD2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500-715E-4E17-8F4B-3474E5AA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1CB-37F6-4A3E-8ED0-A4DFEA0C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148-01D7-4732-AF95-0B5F6F38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CAE-D434-4301-8190-C2F0023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E0F2-C6EA-4B9B-A1D2-FFEA72D0BC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ulating cohorts with Markov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0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Guzman Cast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Cj04316010000[1]"/>
          <p:cNvPicPr/>
          <p:nvPr/>
        </p:nvPicPr>
        <p:blipFill>
          <a:blip r:embed="rId2"/>
          <a:stretch/>
        </p:blipFill>
        <p:spPr>
          <a:xfrm>
            <a:off x="4356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Cj04316010000[1]"/>
          <p:cNvPicPr/>
          <p:nvPr/>
        </p:nvPicPr>
        <p:blipFill>
          <a:blip r:embed="rId3"/>
          <a:stretch/>
        </p:blipFill>
        <p:spPr>
          <a:xfrm>
            <a:off x="608472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MCj04316140000[1]"/>
          <p:cNvPicPr/>
          <p:nvPr/>
        </p:nvPicPr>
        <p:blipFill>
          <a:blip r:embed="rId8"/>
          <a:stretch/>
        </p:blipFill>
        <p:spPr>
          <a:xfrm>
            <a:off x="57960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MCj04316140000[1]"/>
          <p:cNvPicPr/>
          <p:nvPr/>
        </p:nvPicPr>
        <p:blipFill>
          <a:blip r:embed="rId11"/>
          <a:stretch/>
        </p:blipFill>
        <p:spPr>
          <a:xfrm>
            <a:off x="485928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C -0.04062 0.04468 -0.08124 0.08936 -0.10225 0.147 C -0.12326 0.20464 -0.12465 0.27547 -0.12604 0.34653 E">
                                      <p:cBhvr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C -0.04271 0.13819 -0.08542 0.27616 -0.03941 0.39884 C 0.0066 0.5213 0.14097 0.62801 0.27552 0.73495 E">
                                      <p:cBhvr>
                                        <p:cTn id="6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9328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042920" y="1844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04920" y="12891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72000" y="1628640"/>
            <a:ext cx="71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269440" y="602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2719440" y="5661000"/>
            <a:ext cx="1131840" cy="34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92680" y="469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d= Asymptomatic * P(a,m) + Mild * (1-P(m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6443640" y="105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643560" y="1484280"/>
            <a:ext cx="172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802480" y="3933720"/>
            <a:ext cx="17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978480" y="3357720"/>
            <a:ext cx="164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ing the effect of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better capture th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643560" y="1582560"/>
            <a:ext cx="1032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38040" y="4032360"/>
            <a:ext cx="102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978120" y="3456000"/>
            <a:ext cx="990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54764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 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908000" y="2349360"/>
            <a:ext cx="1429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H="1">
            <a:off x="2700360" y="2997360"/>
            <a:ext cx="29512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2843280" y="4437000"/>
            <a:ext cx="4392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-273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al with competitive causes of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mprehensive CH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2532240" y="4405320"/>
            <a:ext cx="1596960" cy="88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431040" y="210672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on-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62260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3332160" y="44942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836960" y="2195640"/>
            <a:ext cx="7099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Chr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39416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/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278320" y="334332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Hea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6431040" y="422928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444760" y="2104920"/>
            <a:ext cx="1595520" cy="88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2535120" y="2195640"/>
            <a:ext cx="7081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nst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43240" y="219564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A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4"/>
          <p:cNvCxnSpPr>
            <a:stCxn id="214" idx="6"/>
            <a:endCxn id="219" idx="2"/>
          </p:cNvCxnSpPr>
          <p:nvPr/>
        </p:nvCxnSpPr>
        <p:spPr>
          <a:xfrm>
            <a:off x="4129200" y="4847760"/>
            <a:ext cx="265680" cy="252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Freeform 15"/>
          <p:cNvSpPr/>
          <p:nvPr/>
        </p:nvSpPr>
        <p:spPr>
          <a:xfrm>
            <a:off x="2976480" y="5289480"/>
            <a:ext cx="708120" cy="443160"/>
          </a:xfrm>
          <a:custGeom>
            <a:avLst/>
            <a:gdLst>
              <a:gd name="textAreaLeft" fmla="*/ 0 w 708120"/>
              <a:gd name="textAreaRight" fmla="*/ 708480 w 7081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4570560" y="511344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 rot="11782200">
            <a:off x="5544720" y="299052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"/>
          <p:cNvSpPr/>
          <p:nvPr/>
        </p:nvSpPr>
        <p:spPr>
          <a:xfrm rot="11782200">
            <a:off x="5103360" y="1840680"/>
            <a:ext cx="443160" cy="443160"/>
          </a:xfrm>
          <a:custGeom>
            <a:avLst/>
            <a:gdLst>
              <a:gd name="textAreaLeft" fmla="*/ 0 w 443160"/>
              <a:gd name="textAreaRight" fmla="*/ 443520 w 443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"/>
          <p:cNvSpPr/>
          <p:nvPr/>
        </p:nvSpPr>
        <p:spPr>
          <a:xfrm rot="10800000">
            <a:off x="2887200" y="1752120"/>
            <a:ext cx="709560" cy="443160"/>
          </a:xfrm>
          <a:custGeom>
            <a:avLst/>
            <a:gdLst>
              <a:gd name="textAreaLeft" fmla="*/ 0 w 709560"/>
              <a:gd name="textAreaRight" fmla="*/ 709920 w 709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078600" y="4670280"/>
            <a:ext cx="264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6078600" y="2460600"/>
            <a:ext cx="2649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887560" y="3166920"/>
            <a:ext cx="0" cy="10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684600" y="3078000"/>
            <a:ext cx="797040" cy="141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4129200" y="2549520"/>
            <a:ext cx="442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V="1">
            <a:off x="3951360" y="3697200"/>
            <a:ext cx="1152360" cy="6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V="1">
            <a:off x="5191200" y="4140360"/>
            <a:ext cx="264960" cy="44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038480" y="2901960"/>
            <a:ext cx="1065240" cy="70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281560" y="2990880"/>
            <a:ext cx="87480" cy="26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6078600" y="2371680"/>
            <a:ext cx="0" cy="23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3419280" y="2901960"/>
            <a:ext cx="1417320" cy="132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 rot="10800000">
            <a:off x="1447560" y="1676160"/>
            <a:ext cx="60948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2286000" y="3581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you calculate transition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128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ression analysis (survival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(DIS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P can vary by sex, age, SES and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ke sure your TP reflect the time scale you are us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build a simple CHD markov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reflect the basic epidemiology of CH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 acting on the healthy population generates a number of CHD incid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esents as “Clinical CH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, the first manifestation is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nosis change substantially when you develop overt C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incidence of CHD (e.g.: smoking 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case fatality (e.g. secondary prevention of 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G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probabilities are not related to age and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clinical forms of CHD have the same pro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me later about the Markov Assumption, I have very bad mem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2270160"/>
            <a:ext cx="1447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70200" y="2819520"/>
            <a:ext cx="1689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10320" y="3016080"/>
            <a:ext cx="1809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56272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880" y="3565440"/>
            <a:ext cx="18288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9"/>
          <p:cNvCxnSpPr>
            <a:stCxn id="52" idx="3"/>
            <a:endCxn id="53" idx="1"/>
          </p:cNvCxnSpPr>
          <p:nvPr/>
        </p:nvCxnSpPr>
        <p:spPr>
          <a:xfrm>
            <a:off x="2209320" y="2468160"/>
            <a:ext cx="1461240" cy="70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0"/>
          <p:cNvCxnSpPr>
            <a:stCxn id="56" idx="3"/>
            <a:endCxn id="53" idx="1"/>
          </p:cNvCxnSpPr>
          <p:nvPr/>
        </p:nvCxnSpPr>
        <p:spPr>
          <a:xfrm flipV="1">
            <a:off x="2209320" y="3169440"/>
            <a:ext cx="1461240" cy="594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aracteristics of CHD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asymptomati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r, but still considerable long clin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between different disease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I/UA/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nic An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 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differences between states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rden of disease/Predic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specific interventions/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versus prevent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population level/public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ed interventions (‘High risk approach’) versus whole population leve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ices of Log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ribution of effects on observed changes in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hort Simulation using a Markov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a cohort of people through pathways that reflect the natural history of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groups of the cohort move between discre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probabilities drive the proportion of people in each state that move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states are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ached, no more transition from them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ulation runs i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itions occur when we change to the next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Cj04316010000[1]"/>
          <p:cNvPicPr/>
          <p:nvPr/>
        </p:nvPicPr>
        <p:blipFill>
          <a:blip r:embed="rId5"/>
          <a:stretch/>
        </p:blipFill>
        <p:spPr>
          <a:xfrm>
            <a:off x="1908000" y="1125360"/>
            <a:ext cx="360360" cy="3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MCj04316140000[1]"/>
          <p:cNvPicPr/>
          <p:nvPr/>
        </p:nvPicPr>
        <p:blipFill>
          <a:blip r:embed="rId6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MCj04316140000[1]"/>
          <p:cNvPicPr/>
          <p:nvPr/>
        </p:nvPicPr>
        <p:blipFill>
          <a:blip r:embed="rId7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MCj04316140000[1]"/>
          <p:cNvPicPr/>
          <p:nvPr/>
        </p:nvPicPr>
        <p:blipFill>
          <a:blip r:embed="rId8"/>
          <a:stretch/>
        </p:blipFill>
        <p:spPr>
          <a:xfrm>
            <a:off x="1332000" y="1484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MCj04316140000[1]"/>
          <p:cNvPicPr/>
          <p:nvPr/>
        </p:nvPicPr>
        <p:blipFill>
          <a:blip r:embed="rId9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MCj04316140000[1]"/>
          <p:cNvPicPr/>
          <p:nvPr/>
        </p:nvPicPr>
        <p:blipFill>
          <a:blip r:embed="rId10"/>
          <a:stretch/>
        </p:blipFill>
        <p:spPr>
          <a:xfrm>
            <a:off x="255600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4277E-006 C 0.03073 0.15631 0.06163 0.31284 0.11024 0.40902 C 0.15885 0.50521 0.26111 0.54891 0.29132 0.57688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MCj04316140000[1]"/>
          <p:cNvPicPr/>
          <p:nvPr/>
        </p:nvPicPr>
        <p:blipFill>
          <a:blip r:embed="rId8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MCj04316140000[1]"/>
          <p:cNvPicPr/>
          <p:nvPr/>
        </p:nvPicPr>
        <p:blipFill>
          <a:blip r:embed="rId11"/>
          <a:stretch/>
        </p:blipFill>
        <p:spPr>
          <a:xfrm>
            <a:off x="6443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7052E-006 C 0.07083 -0.01502 0.14166 -0.02982 0.20468 6.7052E-006 C 0.2677 0.02983 0.34913 0.14868 0.37795 0.17827 E">
                                      <p:cBhvr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C 0.11875 0.09249 0.2375 0.18521 0.32274 0.23053 C 0.40799 0.27584 0.48021 0.26567 0.51163 0.27261 E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948E-006 C 0.09705 0.16162 0.1941 0.32347 0.25191 0.43006 C 0.30972 0.53665 0.33073 0.60486 0.34653 0.63977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2.08092E-006 C -0.00469 0.14936 -0.00921 0.29896 -0.03941 0.37757 C -0.06962 0.45618 -0.12535 0.46404 -0.18108 0.4719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04 C 0.0691 -0.0104 0.09983 0.0259 0.09983 0.07098 C 0.09983 0.11584 0.0691 0.15237 0.03143 0.15237 C -0.00642 0.15237 -0.03698 0.11584 -0.03698 0.07098 C -0.03698 0.0259 -0.00642 -0.0104 0.03143 -0.0104 Z">
                                      <p:cBhvr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-2.25434E-006 C -0.02934 -2.25434E-006 -0.01962 0.02197 -0.01962 0.04971 C -0.01962 0.077 -0.02934 0.09966 -0.04132 0.09966 C -0.0533 0.09966 -0.06284 0.077 -0.06284 0.04971 C -0.06284 0.02197 -0.0533 -2.25434E-006 -0.04132 -2.25434E-006 Z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104 C -0.06546 0.0104 -0.04827 0.03491 -0.04827 0.06543 C -0.04827 0.09572 -0.06546 0.12069 -0.08664 0.12069 C -0.10764 0.12069 -0.12466 0.09572 -0.12466 0.06543 C -0.12466 0.03491 -0.10764 0.0104 -0.08664 0.0104 Z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104 C 0.06493 -0.0104 0.09219 0.02359 0.09219 0.06567 C 0.09219 0.10752 0.06493 0.14174 0.0316 0.14174 C -0.00173 0.14174 -0.02882 0.10752 -0.02882 0.06567 C -0.02882 0.02359 -0.00173 -0.0104 0.0316 -0.0104 Z">
                                      <p:cBhvr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01041 C 0.10208 0.01041 0.1276 0.04671 0.1276 0.09156 C 0.1276 0.13642 0.10208 0.17295 0.071 0.17295 C 0.03993 0.17295 0.01458 0.13642 0.01458 0.09156 C 0.01458 0.04671 0.03993 0.01041 0.071 0.01041 Z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104 C 0.10191 0.02104 0.12743 0.0504 0.12743 0.0867 C 0.12743 0.12277 0.10191 0.15237 0.07084 0.15237 C 0.03976 0.15237 0.01441 0.12277 0.01441 0.0867 C 0.01441 0.0504 0.03976 0.02104 0.07084 0.02104 Z">
                                      <p:cBhvr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25:44Z</dcterms:created>
  <dc:creator>Martin O'Flaherty</dc:creator>
  <dc:description/>
  <dc:language>en-US</dc:language>
  <cp:lastModifiedBy>Guzman Castillo, Maria</cp:lastModifiedBy>
  <dcterms:modified xsi:type="dcterms:W3CDTF">2014-09-16T17:12:36Z</dcterms:modified>
  <cp:revision>7</cp:revision>
  <dc:subject/>
  <dc:title>Simulating cohorts with Markov models.</dc:title>
</cp:coreProperties>
</file>