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BB13-E7A3-47E5-9D9F-32E9025EB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6D5E-576B-4503-A712-19E0C879C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E30-C603-49EE-913D-6B7DC471C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EB06-D457-422E-8DF0-8D5C6AA99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8DEE-C63D-4E69-95D3-CB3ECA7C1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6265-4DF9-47C7-9E50-7D0402C25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FCFB-09E9-47B6-A800-142FEA526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22A6-AD08-43AD-9587-29B648393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8D0A-48D1-4721-A9B8-91CC7D172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E13C-1EA9-474C-B6AD-913548654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1566-B730-4E03-BE67-01EA173E1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37AE-3E55-4688-8E29-671C7E392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3597-04E8-4815-B4ED-6A29E98BF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FF13-84C1-4C1F-94EA-C75AB6B4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C232-B380-4B57-A401-BB1E595CE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EDC-2DF1-4D1E-AF25-36450B9E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20E-D4E7-4B71-ACFD-60E6C3B4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443-E6D1-4D64-97DB-64319692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1A1-B6F2-4770-9DAB-BC020274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A18-8426-48F1-BCA9-6C7350B6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777-7DFC-420F-9502-5AD9EB09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007-4075-42E3-881E-DE5BF5DB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79B-1E2A-49DF-8BF0-BA9ABFE5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292-983B-45FD-B4AC-A9350A06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3B2-B778-40DC-9F0A-772B4E30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225-AA23-4432-9596-39F9FF16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781-16C2-4F20-A1CA-247291D5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Hopkins Summer Epi-Biostat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5DE0-B4F5-4DD7-A620-706274DF6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Multi-level Model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leen Bennet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57320" y="115920"/>
            <a:ext cx="2341440" cy="885960"/>
            <a:chOff x="157320" y="115920"/>
            <a:chExt cx="2341440" cy="885960"/>
          </a:xfrm>
        </p:grpSpPr>
        <p:pic>
          <p:nvPicPr>
            <p:cNvPr id="50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157320" y="231480"/>
              <a:ext cx="109512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403640" y="115920"/>
              <a:ext cx="1095120" cy="8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372360" y="109440"/>
            <a:ext cx="24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F8BF-8175-4DED-9469-8492CE297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”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ovariates from many levels and 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correlation among observations from within a level (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 MLMs condition on unobserved “latent variables” to account for th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bout the latent variables determine the nature of the within cluster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borrowed across clusters (levels) to improve individu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A18E-0AD7-48B5-B6BF-A68DC50E2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wo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health services: assessment of quality of care are often obtained from patients that are clustered within hospitals. Patients are level 1 data and hospitals are level 2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al toxicity studies: pregnant mice (dams) are assigned to increased doses of a chemical and examined for evidence of malformations (a binary response). Data collected in developmental toxicity studies are clustered. Observations on the fetuses (level 1 units) nested within dams/litters (level 2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vel” signifies the position of a unit of observation with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701D-716F-4C77-834B-D9172AD6E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hree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might be obtained in patients nested within clinics, that in turn, are nested within different regions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obtained on children (level 1) nested within classrooms (level 2), nested within schools (level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incorporate two kinds of predi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the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explain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organise unexplained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C2F2-D0F0-415F-979E-3479DA27B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20B6-4CFC-4CA1-A0B4-A3426A5F2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with Correlat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ccount of correla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fficient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tting: Longitud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eatures of Longitudin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varia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common feature of repeated measurements of an individual is correlation (model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terogeneity of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common feature of longitudinal data is heterogeneous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 unbalanced data, non-equidistant measurements over time, drop-o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574D-B2A7-498F-A265-CEDA7C5DD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near Mixed-Effects Models</a:t>
            </a:r>
            <a:br>
              <a:rPr sz="44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typical OLS regression model with a temporal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A0A3-0535-4166-AAA1-7F7BEE1FE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71800" y="3583080"/>
            <a:ext cx="282420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52480" y="2438280"/>
          <a:ext cx="6096240" cy="1011240"/>
        </p:xfrm>
        <a:graphic>
          <a:graphicData uri="http://schemas.openxmlformats.org/drawingml/2006/table">
            <a:tbl>
              <a:tblPr/>
              <a:tblGrid>
                <a:gridCol w="1828800"/>
                <a:gridCol w="503280"/>
                <a:gridCol w="1325520"/>
                <a:gridCol w="533520"/>
                <a:gridCol w="190512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Y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z-Cyrl-A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│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ime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observations (data points) are independent = different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peat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bservations (data points) are dependent = same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E693-4574-488A-8B68-BB018F30B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6252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3112920"/>
            <a:ext cx="2904840" cy="237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029200" y="3112920"/>
            <a:ext cx="2736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4B72-860D-4463-B65E-64A91F5E8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" y="2581200"/>
            <a:ext cx="7620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A2B4-2860-45AF-83A9-9C34FF1EE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81080" y="1427040"/>
            <a:ext cx="5205600" cy="4516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80880" y="30942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"/>
          <p:cNvCxnSpPr/>
          <p:nvPr/>
        </p:nvCxnSpPr>
        <p:spPr>
          <a:xfrm>
            <a:off x="914040" y="3705120"/>
            <a:ext cx="1080" cy="9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0070c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72bfc5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72bfc5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subject specific intercept to the average line intercept –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random inter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8153280" y="1362240"/>
            <a:ext cx="4572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85800" y="5961240"/>
            <a:ext cx="6094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76240" y="59641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8636040" y="337824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7"/>
          <p:cNvSpPr/>
          <p:nvPr/>
        </p:nvSpPr>
        <p:spPr>
          <a:xfrm flipH="1">
            <a:off x="2546280" y="2743200"/>
            <a:ext cx="2036880" cy="14335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46280" y="3786120"/>
            <a:ext cx="9590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9"/>
          <p:cNvSpPr/>
          <p:nvPr/>
        </p:nvSpPr>
        <p:spPr>
          <a:xfrm flipH="1">
            <a:off x="2546280" y="4267080"/>
            <a:ext cx="1797120" cy="114300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2887"/>
          <p:cNvSpPr/>
          <p:nvPr/>
        </p:nvSpPr>
        <p:spPr>
          <a:xfrm>
            <a:off x="2666880" y="4343400"/>
            <a:ext cx="0" cy="56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>
            <a:off x="2819520" y="4005360"/>
            <a:ext cx="0" cy="718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2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y Multilevel Mod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ocial, medical and biological sciences hierarchical structure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forming groups or clusters tend not to b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tension of traditional 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5AF9-EF8E-47DD-8DA8-8612D0D10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754C-90F7-47CD-BCF6-1DC3D64C6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observed value to their subject specific lines are the independent res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8381880" y="3457440"/>
            <a:ext cx="1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8720" y="1557360"/>
            <a:ext cx="5205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inear Random intercept Model</a:t>
            </a:r>
            <a:br>
              <a:rPr sz="40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B4DB-2889-468E-AE56-9C8A345F5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700440" cy="3305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700360" y="205740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257800" y="2057400"/>
            <a:ext cx="91440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random intercept model</a:t>
            </a:r>
            <a:br>
              <a:rPr sz="44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aphical representation of a random intercep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B319-4393-49C2-BE0A-3BBB6B3F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rcRect l="0" t="1889" r="0" b="0"/>
          <a:stretch/>
        </p:blipFill>
        <p:spPr>
          <a:xfrm>
            <a:off x="903240" y="1650960"/>
            <a:ext cx="79358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different situation…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the outcome changing over time at the same pace for all subjects, i.e. same sl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8E40-FAAD-4A71-AD41-738E35FE1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bristol.ac.uk/cmm/images/rs/2.gif"/>
          <p:cNvPicPr/>
          <p:nvPr/>
        </p:nvPicPr>
        <p:blipFill>
          <a:blip r:embed="rId1"/>
          <a:stretch/>
        </p:blipFill>
        <p:spPr>
          <a:xfrm>
            <a:off x="155520" y="2421000"/>
            <a:ext cx="4165560" cy="321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bristol.ac.uk/cmm/images/rs/3.gif"/>
          <p:cNvPicPr/>
          <p:nvPr/>
        </p:nvPicPr>
        <p:blipFill>
          <a:blip r:embed="rId2"/>
          <a:stretch/>
        </p:blipFill>
        <p:spPr>
          <a:xfrm>
            <a:off x="4648320" y="2421000"/>
            <a:ext cx="42638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2CFC-5604-4AA6-96CC-6BA4F8D7A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://www.bristol.ac.uk/cmm/images/rs/3.gif"/>
          <p:cNvPicPr/>
          <p:nvPr/>
        </p:nvPicPr>
        <p:blipFill>
          <a:blip r:embed="rId1"/>
          <a:stretch/>
        </p:blipFill>
        <p:spPr>
          <a:xfrm>
            <a:off x="3078000" y="22860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bristol.ac.uk/cmm/images/rs/5.gif"/>
          <p:cNvPicPr/>
          <p:nvPr/>
        </p:nvPicPr>
        <p:blipFill>
          <a:blip r:embed="rId2"/>
          <a:stretch/>
        </p:blipFill>
        <p:spPr>
          <a:xfrm>
            <a:off x="1747800" y="2635200"/>
            <a:ext cx="5186520" cy="3994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352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ref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791320" y="838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391520" y="444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Random intercept/random slope Model</a:t>
            </a:r>
            <a:br>
              <a:rPr sz="28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8F8D-5017-4037-A85D-C5A8FF64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bristol.ac.uk/cmm/images/rs/7.gif"/>
          <p:cNvPicPr/>
          <p:nvPr/>
        </p:nvPicPr>
        <p:blipFill>
          <a:blip r:embed="rId1"/>
          <a:stretch/>
        </p:blipFill>
        <p:spPr>
          <a:xfrm>
            <a:off x="1574640" y="2133720"/>
            <a:ext cx="535968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700360" y="152388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040360" y="152388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315200" y="3352680"/>
            <a:ext cx="2362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7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8534520" y="3429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2286000" y="4517640"/>
            <a:ext cx="2438280" cy="816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0"/>
          <p:cNvSpPr/>
          <p:nvPr/>
        </p:nvSpPr>
        <p:spPr>
          <a:xfrm>
            <a:off x="4264200" y="4373640"/>
            <a:ext cx="0" cy="288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6"/>
          <p:cNvCxnSpPr/>
          <p:nvPr/>
        </p:nvCxnSpPr>
        <p:spPr>
          <a:xfrm flipV="1">
            <a:off x="4343040" y="1904400"/>
            <a:ext cx="1307160" cy="2515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Straight Arrow Connector 129024"/>
          <p:cNvCxnSpPr/>
          <p:nvPr/>
        </p:nvCxnSpPr>
        <p:spPr>
          <a:xfrm>
            <a:off x="4756320" y="451764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129026"/>
          <p:cNvSpPr/>
          <p:nvPr/>
        </p:nvSpPr>
        <p:spPr>
          <a:xfrm>
            <a:off x="5025600" y="4334040"/>
            <a:ext cx="34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4A73-F830-4EB9-9D08-8AD836A20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D153-ADC9-45B9-B949-F39B6BB7D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6720" y="38088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istic Regression Example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-over tr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: 1-not depressed; 0-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s: period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reatment group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bservations per person (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of interest: log odds ratio of depression: placebo vs.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5334120"/>
            <a:ext cx="8610480" cy="11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del:    log{odds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)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8037-8430-4177-AE8A-616C6ACC9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 estimate (standard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1295280"/>
          <a:ext cx="617220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ry Logistic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28"/>
          <p:cNvSpPr/>
          <p:nvPr/>
        </p:nvSpPr>
        <p:spPr>
          <a:xfrm>
            <a:off x="762120" y="579132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Estim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Errors (&amp; Inferences) for 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18288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7400" y="297180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057400" y="495288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057400" y="396252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06F0-4420-45F9-AF67-36081C087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27" descr="NonClustered"/>
          <p:cNvPicPr/>
          <p:nvPr/>
        </p:nvPicPr>
        <p:blipFill>
          <a:blip r:embed="rId1"/>
          <a:stretch/>
        </p:blipFill>
        <p:spPr>
          <a:xfrm>
            <a:off x="533520" y="395280"/>
            <a:ext cx="8153280" cy="5854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Non-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4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815E-A81F-46C8-A3A1-5211353FB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, psychological and social processes that influence health occur at man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risk factor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of the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7" descr="davinci"/>
          <p:cNvPicPr/>
          <p:nvPr/>
        </p:nvPicPr>
        <p:blipFill>
          <a:blip r:embed="rId1"/>
          <a:stretch/>
        </p:blipFill>
        <p:spPr>
          <a:xfrm>
            <a:off x="31240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liver2"/>
          <p:cNvPicPr/>
          <p:nvPr/>
        </p:nvPicPr>
        <p:blipFill>
          <a:blip r:embed="rId2"/>
          <a:stretch/>
        </p:blipFill>
        <p:spPr>
          <a:xfrm>
            <a:off x="2819520" y="2416320"/>
            <a:ext cx="380880" cy="39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Models – Mai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0" descr="simpsons3"/>
          <p:cNvPicPr/>
          <p:nvPr/>
        </p:nvPicPr>
        <p:blipFill>
          <a:blip r:embed="rId3"/>
          <a:stretch/>
        </p:blipFill>
        <p:spPr>
          <a:xfrm>
            <a:off x="3505320" y="33526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1" descr="us1"/>
          <p:cNvPicPr/>
          <p:nvPr/>
        </p:nvPicPr>
        <p:blipFill>
          <a:blip r:embed="rId4"/>
          <a:stretch/>
        </p:blipFill>
        <p:spPr>
          <a:xfrm>
            <a:off x="4800600" y="464832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63" name="AutoShape 1032"/>
          <p:cNvCxnSpPr>
            <a:stCxn id="64" idx="1"/>
            <a:endCxn id="59" idx="1"/>
          </p:cNvCxnSpPr>
          <p:nvPr/>
        </p:nvCxnSpPr>
        <p:spPr>
          <a:xfrm flipH="1" flipV="1" rot="10800000">
            <a:off x="2621520" y="2266560"/>
            <a:ext cx="197640" cy="349920"/>
          </a:xfrm>
          <a:prstGeom prst="curvedConnector5">
            <a:avLst>
              <a:gd name="adj1" fmla="val -116058"/>
              <a:gd name="adj2" fmla="val 49948"/>
              <a:gd name="adj3" fmla="val -1160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" name="Group 1033"/>
          <p:cNvGrpSpPr/>
          <p:nvPr/>
        </p:nvGrpSpPr>
        <p:grpSpPr>
          <a:xfrm>
            <a:off x="2438280" y="1981080"/>
            <a:ext cx="381240" cy="380880"/>
            <a:chOff x="2438280" y="1981080"/>
            <a:chExt cx="381240" cy="380880"/>
          </a:xfrm>
        </p:grpSpPr>
        <p:pic>
          <p:nvPicPr>
            <p:cNvPr id="66" name="Picture 1034" descr="cell"/>
            <p:cNvPicPr/>
            <p:nvPr/>
          </p:nvPicPr>
          <p:blipFill>
            <a:blip r:embed="rId5"/>
            <a:stretch/>
          </p:blipFill>
          <p:spPr>
            <a:xfrm>
              <a:off x="243828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5" descr="cell"/>
            <p:cNvPicPr/>
            <p:nvPr/>
          </p:nvPicPr>
          <p:blipFill>
            <a:blip r:embed="rId6"/>
            <a:stretch/>
          </p:blipFill>
          <p:spPr>
            <a:xfrm>
              <a:off x="262260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36" descr="cell"/>
            <p:cNvPicPr/>
            <p:nvPr/>
          </p:nvPicPr>
          <p:blipFill>
            <a:blip r:embed="rId7"/>
            <a:stretch/>
          </p:blipFill>
          <p:spPr>
            <a:xfrm>
              <a:off x="243828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037" descr="cell"/>
            <p:cNvPicPr/>
            <p:nvPr/>
          </p:nvPicPr>
          <p:blipFill>
            <a:blip r:embed="rId8"/>
            <a:stretch/>
          </p:blipFill>
          <p:spPr>
            <a:xfrm>
              <a:off x="262260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0" name="AutoShape 1038"/>
          <p:cNvCxnSpPr>
            <a:endCxn id="58" idx="1"/>
          </p:cNvCxnSpPr>
          <p:nvPr/>
        </p:nvCxnSpPr>
        <p:spPr>
          <a:xfrm flipH="1" rot="16200000">
            <a:off x="2913840" y="2876040"/>
            <a:ext cx="267120" cy="153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039"/>
          <p:cNvCxnSpPr>
            <a:endCxn id="61" idx="1"/>
          </p:cNvCxnSpPr>
          <p:nvPr/>
        </p:nvCxnSpPr>
        <p:spPr>
          <a:xfrm flipH="1" rot="16200000">
            <a:off x="3260880" y="32914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040"/>
          <p:cNvCxnSpPr/>
          <p:nvPr/>
        </p:nvCxnSpPr>
        <p:spPr>
          <a:xfrm flipH="1" rot="16200000">
            <a:off x="3718080" y="37486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041"/>
          <p:cNvCxnSpPr/>
          <p:nvPr/>
        </p:nvCxnSpPr>
        <p:spPr>
          <a:xfrm flipH="1" rot="16200000">
            <a:off x="4098600" y="41295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042"/>
          <p:cNvCxnSpPr/>
          <p:nvPr/>
        </p:nvCxnSpPr>
        <p:spPr>
          <a:xfrm flipH="1" rot="16200000">
            <a:off x="4555800" y="45867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5" name="Picture 1043" descr="neighborhood2"/>
          <p:cNvPicPr/>
          <p:nvPr/>
        </p:nvPicPr>
        <p:blipFill>
          <a:blip r:embed="rId9"/>
          <a:stretch/>
        </p:blipFill>
        <p:spPr>
          <a:xfrm>
            <a:off x="3962520" y="3733920"/>
            <a:ext cx="380880" cy="42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44" descr="city"/>
          <p:cNvPicPr/>
          <p:nvPr/>
        </p:nvPicPr>
        <p:blipFill>
          <a:blip r:embed="rId10"/>
          <a:stretch/>
        </p:blipFill>
        <p:spPr>
          <a:xfrm>
            <a:off x="4343400" y="41911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45"/>
          <p:cNvSpPr/>
          <p:nvPr/>
        </p:nvSpPr>
        <p:spPr>
          <a:xfrm>
            <a:off x="6858000" y="2362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lt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46"/>
          <p:cNvSpPr/>
          <p:nvPr/>
        </p:nvSpPr>
        <p:spPr>
          <a:xfrm>
            <a:off x="6629400" y="2133720"/>
            <a:ext cx="18288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7"/>
          <p:cNvSpPr/>
          <p:nvPr/>
        </p:nvSpPr>
        <p:spPr>
          <a:xfrm>
            <a:off x="2819520" y="2133720"/>
            <a:ext cx="3809880" cy="533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8"/>
          <p:cNvSpPr/>
          <p:nvPr/>
        </p:nvSpPr>
        <p:spPr>
          <a:xfrm>
            <a:off x="3200400" y="2666880"/>
            <a:ext cx="342900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9"/>
          <p:cNvSpPr/>
          <p:nvPr/>
        </p:nvSpPr>
        <p:spPr>
          <a:xfrm flipV="1">
            <a:off x="3505320" y="2971440"/>
            <a:ext cx="312408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50"/>
          <p:cNvSpPr/>
          <p:nvPr/>
        </p:nvSpPr>
        <p:spPr>
          <a:xfrm flipV="1">
            <a:off x="3886200" y="3123720"/>
            <a:ext cx="27432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51"/>
          <p:cNvSpPr/>
          <p:nvPr/>
        </p:nvSpPr>
        <p:spPr>
          <a:xfrm flipV="1">
            <a:off x="4343400" y="327636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52"/>
          <p:cNvSpPr/>
          <p:nvPr/>
        </p:nvSpPr>
        <p:spPr>
          <a:xfrm flipV="1">
            <a:off x="4800600" y="3429000"/>
            <a:ext cx="205740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53"/>
          <p:cNvSpPr/>
          <p:nvPr/>
        </p:nvSpPr>
        <p:spPr>
          <a:xfrm flipV="1">
            <a:off x="5257800" y="3505320"/>
            <a:ext cx="175248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55"/>
          <p:cNvSpPr/>
          <p:nvPr/>
        </p:nvSpPr>
        <p:spPr>
          <a:xfrm flipV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56"/>
          <p:cNvSpPr/>
          <p:nvPr/>
        </p:nvSpPr>
        <p:spPr>
          <a:xfrm flipV="1">
            <a:off x="4343400" y="3048120"/>
            <a:ext cx="53352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57"/>
          <p:cNvSpPr/>
          <p:nvPr/>
        </p:nvSpPr>
        <p:spPr>
          <a:xfrm flipV="1">
            <a:off x="4800600" y="2819160"/>
            <a:ext cx="914400" cy="15238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45D0-F371-42B0-8CD1-8355C0733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lustered"/>
          <p:cNvPicPr/>
          <p:nvPr/>
        </p:nvPicPr>
        <p:blipFill>
          <a:blip r:embed="rId1"/>
          <a:stretch/>
        </p:blipFill>
        <p:spPr>
          <a:xfrm>
            <a:off x="533520" y="392040"/>
            <a:ext cx="8153280" cy="585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1199-BDE3-4E11-B509-E52611F9C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in-Cluster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two observations from same clus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lustered = (9.8-9.8) / 9.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= (9.8-3.2) / 9.8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514600" y="3429000"/>
            <a:ext cx="4876920" cy="1054080"/>
            <a:chOff x="2514600" y="3429000"/>
            <a:chExt cx="4876920" cy="1054080"/>
          </a:xfrm>
        </p:grpSpPr>
        <p:sp>
          <p:nvSpPr>
            <p:cNvPr id="229" name="Text Box 7"/>
            <p:cNvSpPr/>
            <p:nvPr/>
          </p:nvSpPr>
          <p:spPr>
            <a:xfrm>
              <a:off x="2514600" y="342900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 - Var Withi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3733920" y="39625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2666880" y="40384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1"/>
          <p:cNvSpPr/>
          <p:nvPr/>
        </p:nvSpPr>
        <p:spPr>
          <a:xfrm>
            <a:off x="1600200" y="3200400"/>
            <a:ext cx="6172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8DD5-EAC6-48D3-8ABA-022BEFB03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in the multi-level models can be tric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nterpretation of gender in a random effects model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|gender,bi) = b0 + b1gender + 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b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rsons with similar unobserved latent effect bi, the difference in average Y if those same people had been males instead of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e counter-factual world….does it make s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ntre for Multilevel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of Brist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bristol.ac.uk/cm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F2CF-98C3-4736-8C0E-92DF975EE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F23D-9E02-4967-9780-C2690F9F2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dependent respons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in-Cluster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responses from the same family tend to be more like one another than two observations from differen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observations from the same neighborhood tend to be more like one another than two observations from different 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54F-28B4-4B1B-A1E2-B4620AC5D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9880" y="3043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”: Most Important Assumptions of Regression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ata follow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Xs are fixed and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Modelling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near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ue relationship i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are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have identical distribution (vari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Residuals are independent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8D9F-1427-42C0-A5B6-CFB1EB41C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pecific Settings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clear violation of assumption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data, clustered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peated measurements (longitudinal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este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is clear correlation among observational/experimental units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correlation needs to be accounted for dur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wise: biased inferences, wrong conclu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532A-AA76-49D2-A787-AD5E481D5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yond traditional Regression Models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(M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tistical models as a formal framework of analysis with a complexity of structure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at matches the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ata with a complex nes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ependent data: dependencies in the outcome over time, over space, ove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heterogeneity: standard regression models ‘averages’, Multilevel models additionally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contextuality: micro and macro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AD56-67E0-4C4A-B0BB-1A822B9A3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effec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ariance-componen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coeffici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C6FE-5BD6-4071-BFCB-435BC8B6F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athleen Bennett</dc:creator>
  <dc:description/>
  <dc:language>en-US</dc:language>
  <cp:lastModifiedBy>Administrator</cp:lastModifiedBy>
  <dcterms:modified xsi:type="dcterms:W3CDTF">2014-09-09T16:48:54Z</dcterms:modified>
  <cp:revision>470</cp:revision>
  <dc:subject/>
  <dc:title>PowerPoint Presentation</dc:title>
</cp:coreProperties>
</file>