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09F7-B65A-4A7F-9D78-C97DA87EDD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FFB8-F706-4314-9974-1E174B516E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1347-35ED-4743-8B02-1A033A243F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472F-D867-48B4-86D0-2A5AC19A1A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9084-8B64-484F-B27B-CAADD991D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CECD-7EC2-4BDC-88E2-9F7700F6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8A81-22CD-4BF1-9312-DF0370CB2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417E-FAF1-4F65-9905-C6AB72BCD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23D7-3C53-44DC-8756-F9C38654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2327-BA2D-4F44-9EB0-0F021C15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1F78-0CFA-4B87-91DA-832263A0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9F37-2591-4368-8C38-D71D5C44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3DE5-D38C-4C78-A570-51B3F797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742A-3332-400B-B660-EFE94AD4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848D-F29A-48DF-860F-0C426BD5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0958-86E3-4C4F-941C-759E8242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9969-01B1-4712-8733-272C9C2CAAC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50% Myth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we need new cardiovascular risk factors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Myth: “ just 50% of CHD cases are explained by classical risk factors “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RONG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bert Beaglehole (2002)  stated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 J Epidemiol. 2002 Dec;31(6):1117-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ource of this assertion is very difficult to disc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idence from existing studies shows that the classical risk factors explain most cases of CH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cluded the search for new CHD risk factors is just occupational therapy for epidemiolog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re recently, InterHEART, an international case-control study provided valuable data to use in this debat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The exerc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lease address these questions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proportion of CHD burden could be attributed to diet and lifestyle risk factor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ustify your answer and support it  from the strengths you identify in this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der the weaknesses that you identified in this paper, what other evidence you will need to support your conclu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odolog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ide  4 groups. All groups starts with the abstract. Then groups will share out the sections, one group doing Introduction, one the Methods, Results [first three paragraphs , please focus on Table 3,4 and 5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 Discu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the critical appraisal skills checklist to help you decide on the quality of this case-control study and to summarize the main resul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41400" y="1600200"/>
          <a:ext cx="89233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0" y="1600200"/>
                    <a:ext cx="89233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Rectangle 3"/>
          <p:cNvSpPr/>
          <p:nvPr/>
        </p:nvSpPr>
        <p:spPr>
          <a:xfrm>
            <a:off x="457200" y="2286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INTERHEART Study </a:t>
            </a: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”nine potentially modifiable risk factors account for over 90% of the risk of an initial acute myocardial infarction”  </a:t>
            </a:r>
            <a:r>
              <a:rPr b="1" i="1" lang="en-GB" sz="2100" spc="-1" strike="noStrike">
                <a:solidFill>
                  <a:srgbClr val="ffff00"/>
                </a:solidFill>
                <a:latin typeface="Arial"/>
              </a:rPr>
              <a:t>Population attributable risk fraction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457200" y="6248520"/>
            <a:ext cx="822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9933"/>
                </a:solidFill>
                <a:latin typeface="Arial"/>
                <a:ea typeface="Arial"/>
              </a:rPr>
              <a:t>Salim Yusuf et al .</a:t>
            </a:r>
            <a:r>
              <a:rPr b="1" lang="en-GB" sz="1400" spc="-1" strike="noStrike">
                <a:solidFill>
                  <a:srgbClr val="ff9933"/>
                </a:solidFill>
                <a:latin typeface="Comic Sans MS"/>
              </a:rPr>
              <a:t> </a:t>
            </a:r>
            <a:r>
              <a:rPr b="1" i="1" lang="en-GB" sz="1400" spc="-1" strike="noStrike">
                <a:solidFill>
                  <a:srgbClr val="ff9933"/>
                </a:solidFill>
                <a:latin typeface="Arial"/>
                <a:ea typeface="Arial"/>
              </a:rPr>
              <a:t>Effect of potentially modifiable risk factors associated with myocardial infarction in 52 countries (the INTERHEART study).  </a:t>
            </a:r>
            <a:r>
              <a:rPr b="1" lang="en-GB" sz="1400" spc="-1" strike="noStrike">
                <a:solidFill>
                  <a:srgbClr val="ff9933"/>
                </a:solidFill>
                <a:latin typeface="Comic Sans MS"/>
              </a:rPr>
              <a:t>L</a:t>
            </a:r>
            <a:r>
              <a:rPr b="1" i="1" lang="en-GB" sz="1400" spc="-1" strike="noStrike">
                <a:solidFill>
                  <a:srgbClr val="ff9933"/>
                </a:solidFill>
                <a:latin typeface="Comic Sans MS"/>
              </a:rPr>
              <a:t>ancet </a:t>
            </a:r>
            <a:r>
              <a:rPr b="1" i="1" lang="en-GB" sz="1200" spc="-1" strike="noStrike">
                <a:solidFill>
                  <a:srgbClr val="ff9933"/>
                </a:solidFill>
                <a:latin typeface="Verdana"/>
                <a:ea typeface="Times New Roman"/>
              </a:rPr>
              <a:t> 364  9437   11 Sept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457200" y="6858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INTERHEART 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en-GB" sz="4400" spc="-1" strike="noStrike">
                <a:solidFill>
                  <a:srgbClr val="ffff00"/>
                </a:solidFill>
                <a:latin typeface="Comic Sans MS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457200" y="6248520"/>
            <a:ext cx="822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9933"/>
                </a:solidFill>
                <a:latin typeface="Arial"/>
                <a:ea typeface="Arial"/>
              </a:rPr>
              <a:t>Salim Yusuf et al .</a:t>
            </a:r>
            <a:r>
              <a:rPr b="1" lang="en-GB" sz="1400" spc="-1" strike="noStrike">
                <a:solidFill>
                  <a:srgbClr val="ff9933"/>
                </a:solidFill>
                <a:latin typeface="Comic Sans MS"/>
              </a:rPr>
              <a:t> </a:t>
            </a:r>
            <a:r>
              <a:rPr b="1" i="1" lang="en-GB" sz="1400" spc="-1" strike="noStrike">
                <a:solidFill>
                  <a:srgbClr val="ff9933"/>
                </a:solidFill>
                <a:latin typeface="Arial"/>
                <a:ea typeface="Arial"/>
              </a:rPr>
              <a:t>Effect of potentially modifiable risk factors associated with myocardial infarction in 52 countries (the INTERHEART study).  </a:t>
            </a:r>
            <a:r>
              <a:rPr b="1" lang="en-GB" sz="1400" spc="-1" strike="noStrike">
                <a:solidFill>
                  <a:srgbClr val="ff9933"/>
                </a:solidFill>
                <a:latin typeface="Comic Sans MS"/>
              </a:rPr>
              <a:t>L</a:t>
            </a:r>
            <a:r>
              <a:rPr b="1" i="1" lang="en-GB" sz="1400" spc="-1" strike="noStrike">
                <a:solidFill>
                  <a:srgbClr val="ff9933"/>
                </a:solidFill>
                <a:latin typeface="Comic Sans MS"/>
              </a:rPr>
              <a:t>ancet </a:t>
            </a:r>
            <a:r>
              <a:rPr b="1" i="1" lang="en-GB" sz="1200" spc="-1" strike="noStrike">
                <a:solidFill>
                  <a:srgbClr val="ff9933"/>
                </a:solidFill>
                <a:latin typeface="Verdana"/>
                <a:ea typeface="Times New Roman"/>
              </a:rPr>
              <a:t> 364  9437   11 Sept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533520" y="23623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nine potentially modifiable risk factors account for over 90% of the risk of an initial acute myocardial infarction [AM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Abnormal lipids, smoking, hypertension, diabetes, abdominal obesity, psychosocial factors, consumption of fruits, vegetables, and alcohol, and regular physical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9 risk factors account for most of AMI risk worldwide in both sexes and at all ages in all reg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prevention strategies can be based on similar principles worldwide and have the potential to prevent most premature A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uting Services</cp:lastModifiedBy>
  <dcterms:modified xsi:type="dcterms:W3CDTF">2008-04-11T08:09:2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