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5AE-F476-4823-B839-3CCA0D30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D01-F57D-47F0-940B-01920D3C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D64-F9E4-43B6-9932-069E639D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F1CF-BDF9-414A-94F3-D5202757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1DD-B809-4780-9937-CD5AE2B4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448-80A5-4E74-ACC5-D29A6AF7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AB3-B3C1-428C-A71D-2CC53C28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81A-A135-4169-8B88-BD1DF04C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B29-1D95-47AB-9EB6-40851B37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BC2-E503-4AF0-B7AA-CF7BB2EE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E59-B47F-4449-8204-B0B4D67F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BA5-2FDC-434F-BC13-315A1534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263F-4B4A-4062-833F-ACC6FE483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ing the effect of thrombolytics for use in a 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mbolytics: what are the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group has to complete a table by extracting relevant pieces of evidence from publish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have at your disposal the following pap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es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ar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2;87;308-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igent (ISIS-2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M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8;316;1337-13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able, justify any assumption you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data by 10 year age-groups and s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terested in short term mortality (3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49520"/>
          <a:ext cx="8229600" cy="3558960"/>
        </p:xfrm>
        <a:graphic>
          <a:graphicData uri="http://schemas.openxmlformats.org/drawingml/2006/table">
            <a:tbl>
              <a:tblPr/>
              <a:tblGrid>
                <a:gridCol w="1881360"/>
                <a:gridCol w="1663560"/>
                <a:gridCol w="1550880"/>
                <a:gridCol w="1747800"/>
                <a:gridCol w="138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-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mbolitics, AMI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000080"/>
            <a:ext cx="746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960" y="785880"/>
            <a:ext cx="8126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0"/>
          <a:ext cx="8229600" cy="6594480"/>
        </p:xfrm>
        <a:graphic>
          <a:graphicData uri="http://schemas.openxmlformats.org/drawingml/2006/table">
            <a:tbl>
              <a:tblPr/>
              <a:tblGrid>
                <a:gridCol w="488880"/>
                <a:gridCol w="2198880"/>
                <a:gridCol w="1112760"/>
                <a:gridCol w="2104920"/>
                <a:gridCol w="1214640"/>
                <a:gridCol w="620640"/>
                <a:gridCol w="488880"/>
              </a:tblGrid>
              <a:tr h="2156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DATED NOV 2006 latest treatment effectiveness data from USA model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cute myocardial infarction (ACUTE TREATMEN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ess 2002, updated F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ombolysis , RRR, 30 day mort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 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int estim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65 -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65 to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08:52Z</dcterms:created>
  <dc:creator>Martin O'Flaherty</dc:creator>
  <dc:description/>
  <dc:language>en-US</dc:language>
  <cp:lastModifiedBy>Martin O'Flaherty</cp:lastModifiedBy>
  <dcterms:modified xsi:type="dcterms:W3CDTF">2007-06-21T08:55:50Z</dcterms:modified>
  <cp:revision>3</cp:revision>
  <dc:subject/>
  <dc:title>Estimating the effect of thrombolytics for use in a model </dc:title>
</cp:coreProperties>
</file>