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3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5084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6800" y="734760"/>
            <a:ext cx="4908600" cy="367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5084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2444-1822-4F3D-AA40-97A7F8D9FF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AC06-80D8-47DB-9B0D-875A89F9D8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1947-D652-4D92-8584-E3DB126443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E576-8306-45A9-BA86-1D6A7AFA9A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341A-0F0D-4354-AC00-23194D3742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3B13-6AE2-40AF-91C7-7A17F0FAD3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4F01-2891-4EFB-8B00-20E7B1C16F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53BD-24D0-41E7-B00F-0A164E9932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E8E8-5C0A-4492-A32D-5F35C108F4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5EA3-22B3-43AD-97E4-C1C220F3A9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2954-B653-4461-AA4C-7024D8C4A6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814F-5D61-4D2F-B83E-E60A4EB95F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F16A-061F-4319-AD60-03B33E16C9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BE35-6313-4E04-AC4C-0ABE317450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89A7-545D-4EDE-B7E5-04F6D22FF9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F3AE-2FB0-43B1-BEC3-6FF687730D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CE10-3D91-4407-99AC-14E1C2C1D2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11C6-2A90-4812-8561-FC312A5AE4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F6FB-3724-4E41-9EB1-25CB65E6FE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2D77-7D1B-4C92-8FCA-6081F2E00F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FCF4-2B4D-4753-9B04-F2A3E81A43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B5D3-6277-427E-97E9-1D64C5DC72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BA7F-E22E-4DFF-98DE-60608B4325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B1A5-93AE-4D4F-B5D1-3FC1A77096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A149-CD1D-4ED1-A76A-992C648943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439F-13B7-4FAE-A0A2-7D12147896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1651-3399-4565-867E-8513C56321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C2CA-D7B9-4AF1-AC66-40B95EE813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A483-663E-465D-B2F4-78597D1BB2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845D-2657-4732-B927-2CB5F0F27C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E7B0-6A9F-4A3B-A62B-92BA1C6885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2EBF-71F2-4834-A42F-F5C33A8A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E7C-D0BD-44EE-883D-8861017E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0648-D0D6-47A4-8E54-6077413D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FE62-4D75-491B-9A1D-0E9877D9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52A4-36B1-4C11-80A3-CF42C604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35A-625A-4FFE-B3D3-6A81FA45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5D8B-4C2D-450B-A5E4-70B7A44C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6659-834E-4D3F-8466-56E75C76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DC75-12DA-4B90-ABDF-A4F90FFB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A1E-2ADC-4BBA-85FE-7BF60225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78EE-B24E-49C3-941F-BB30BA9A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BD6B-C372-48C8-8626-3A81DC06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7C5F-945A-4265-965D-5B49A29EC7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pcsc.info/Publication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rengths &amp; Limitations of existing data sources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Julia Critchle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mon Capewell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47c06"/>
                </a:solidFill>
                <a:latin typeface="Arial"/>
              </a:rPr>
              <a:t>Mortality data avai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WHO HFA,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0-64, 65+, 25-6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0-14, 15-29, 30-44, 45-59, 60-74, 75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WHO-H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0-84 by 5-year age groups, 85+, 0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for CHD and ST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1544760"/>
          <a:ext cx="8928000" cy="30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44760"/>
                    <a:ext cx="8928000" cy="30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73240" y="609480"/>
            <a:ext cx="4492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Arial"/>
              </a:rPr>
              <a:t>Participat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-9205920" y="-8736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K. Steinbac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-9205920" y="-760896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-9205920" y="-6481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-9205920" y="717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-9205920" y="4613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the NETHER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-9205920" y="6624720"/>
            <a:ext cx="91440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. Graff-Ivers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-9205920" y="136191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. Primate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-9205920" y="143208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-9205920" y="15524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-9205920" y="16087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6"/>
          <p:cNvGrpSpPr/>
          <p:nvPr/>
        </p:nvGrpSpPr>
        <p:grpSpPr>
          <a:xfrm>
            <a:off x="-9212400" y="-9867960"/>
            <a:ext cx="27568800" cy="5965920"/>
            <a:chOff x="-9212400" y="-9867960"/>
            <a:chExt cx="27568800" cy="5965920"/>
          </a:xfrm>
        </p:grpSpPr>
        <p:grpSp>
          <p:nvGrpSpPr>
            <p:cNvPr id="91" name="Group 17"/>
            <p:cNvGrpSpPr/>
            <p:nvPr/>
          </p:nvGrpSpPr>
          <p:grpSpPr>
            <a:xfrm>
              <a:off x="-9208080" y="-9863280"/>
              <a:ext cx="27559800" cy="5956200"/>
              <a:chOff x="-9208080" y="-9863280"/>
              <a:chExt cx="27559800" cy="5956200"/>
            </a:xfrm>
          </p:grpSpPr>
          <p:grpSp>
            <p:nvGrpSpPr>
              <p:cNvPr id="92" name="Group 18"/>
              <p:cNvGrpSpPr/>
              <p:nvPr/>
            </p:nvGrpSpPr>
            <p:grpSpPr>
              <a:xfrm>
                <a:off x="-9208080" y="-9863280"/>
                <a:ext cx="1908000" cy="974880"/>
                <a:chOff x="-9208080" y="-9863280"/>
                <a:chExt cx="1908000" cy="974880"/>
              </a:xfrm>
            </p:grpSpPr>
            <p:sp>
              <p:nvSpPr>
                <p:cNvPr id="93" name="Rectangle 19"/>
                <p:cNvSpPr/>
                <p:nvPr/>
              </p:nvSpPr>
              <p:spPr>
                <a:xfrm>
                  <a:off x="-9168480" y="-9863280"/>
                  <a:ext cx="182880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AUSTRI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20"/>
                <p:cNvSpPr/>
                <p:nvPr/>
              </p:nvSpPr>
              <p:spPr>
                <a:xfrm>
                  <a:off x="-920808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21"/>
              <p:cNvGrpSpPr/>
              <p:nvPr/>
            </p:nvGrpSpPr>
            <p:grpSpPr>
              <a:xfrm>
                <a:off x="-7299720" y="-9863280"/>
                <a:ext cx="1908000" cy="974880"/>
                <a:chOff x="-7299720" y="-9863280"/>
                <a:chExt cx="1908000" cy="974880"/>
              </a:xfrm>
            </p:grpSpPr>
            <p:grpSp>
              <p:nvGrpSpPr>
                <p:cNvPr id="96" name="Group 22"/>
                <p:cNvGrpSpPr/>
                <p:nvPr/>
              </p:nvGrpSpPr>
              <p:grpSpPr>
                <a:xfrm>
                  <a:off x="-7260120" y="-9863280"/>
                  <a:ext cx="1828800" cy="974880"/>
                  <a:chOff x="-7260120" y="-9863280"/>
                  <a:chExt cx="1828800" cy="974880"/>
                </a:xfrm>
              </p:grpSpPr>
              <p:sp>
                <p:nvSpPr>
                  <p:cNvPr id="97" name="Rectangle 23"/>
                  <p:cNvSpPr/>
                  <p:nvPr/>
                </p:nvSpPr>
                <p:spPr>
                  <a:xfrm>
                    <a:off x="-7260120" y="-9863280"/>
                    <a:ext cx="18288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700" spc="-1" strike="noStrike">
                        <a:solidFill>
                          <a:srgbClr val="000000"/>
                        </a:solidFill>
                        <a:latin typeface="Arial"/>
                      </a:rPr>
                      <a:t> 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Rectangle 24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Rectangle 25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Rectangle 26"/>
                  <p:cNvSpPr/>
                  <p:nvPr/>
                </p:nvSpPr>
                <p:spPr>
                  <a:xfrm>
                    <a:off x="-7260120" y="-9299520"/>
                    <a:ext cx="1828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" name="Rectangle 27"/>
                <p:cNvSpPr/>
                <p:nvPr/>
              </p:nvSpPr>
              <p:spPr>
                <a:xfrm>
                  <a:off x="-729972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28"/>
              <p:cNvGrpSpPr/>
              <p:nvPr/>
            </p:nvGrpSpPr>
            <p:grpSpPr>
              <a:xfrm>
                <a:off x="-9208080" y="-8888400"/>
                <a:ext cx="1908000" cy="563400"/>
                <a:chOff x="-9208080" y="-8888400"/>
                <a:chExt cx="1908000" cy="563400"/>
              </a:xfrm>
            </p:grpSpPr>
            <p:sp>
              <p:nvSpPr>
                <p:cNvPr id="103" name="Rectangle 29"/>
                <p:cNvSpPr/>
                <p:nvPr/>
              </p:nvSpPr>
              <p:spPr>
                <a:xfrm>
                  <a:off x="-916848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30"/>
                <p:cNvSpPr/>
                <p:nvPr/>
              </p:nvSpPr>
              <p:spPr>
                <a:xfrm>
                  <a:off x="-920808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31"/>
              <p:cNvGrpSpPr/>
              <p:nvPr/>
            </p:nvGrpSpPr>
            <p:grpSpPr>
              <a:xfrm>
                <a:off x="-7299720" y="-8888400"/>
                <a:ext cx="1908000" cy="563400"/>
                <a:chOff x="-7299720" y="-8888400"/>
                <a:chExt cx="1908000" cy="563400"/>
              </a:xfrm>
            </p:grpSpPr>
            <p:sp>
              <p:nvSpPr>
                <p:cNvPr id="106" name="Rectangle 32"/>
                <p:cNvSpPr/>
                <p:nvPr/>
              </p:nvSpPr>
              <p:spPr>
                <a:xfrm>
                  <a:off x="-726012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Kornitze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33"/>
                <p:cNvSpPr/>
                <p:nvPr/>
              </p:nvSpPr>
              <p:spPr>
                <a:xfrm>
                  <a:off x="-729972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34"/>
              <p:cNvGrpSpPr/>
              <p:nvPr/>
            </p:nvGrpSpPr>
            <p:grpSpPr>
              <a:xfrm>
                <a:off x="-9208080" y="-8325000"/>
                <a:ext cx="1908000" cy="563400"/>
                <a:chOff x="-9208080" y="-8325000"/>
                <a:chExt cx="1908000" cy="563400"/>
              </a:xfrm>
            </p:grpSpPr>
            <p:sp>
              <p:nvSpPr>
                <p:cNvPr id="109" name="Rectangle 35"/>
                <p:cNvSpPr/>
                <p:nvPr/>
              </p:nvSpPr>
              <p:spPr>
                <a:xfrm>
                  <a:off x="-916848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DENMA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36"/>
                <p:cNvSpPr/>
                <p:nvPr/>
              </p:nvSpPr>
              <p:spPr>
                <a:xfrm>
                  <a:off x="-920808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37"/>
              <p:cNvGrpSpPr/>
              <p:nvPr/>
            </p:nvGrpSpPr>
            <p:grpSpPr>
              <a:xfrm>
                <a:off x="-7299720" y="-8325000"/>
                <a:ext cx="1908000" cy="563400"/>
                <a:chOff x="-7299720" y="-8325000"/>
                <a:chExt cx="1908000" cy="563400"/>
              </a:xfrm>
            </p:grpSpPr>
            <p:sp>
              <p:nvSpPr>
                <p:cNvPr id="112" name="Rectangle 38"/>
                <p:cNvSpPr/>
                <p:nvPr/>
              </p:nvSpPr>
              <p:spPr>
                <a:xfrm>
                  <a:off x="-726012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Mads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39"/>
                <p:cNvSpPr/>
                <p:nvPr/>
              </p:nvSpPr>
              <p:spPr>
                <a:xfrm>
                  <a:off x="-729972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40"/>
              <p:cNvGrpSpPr/>
              <p:nvPr/>
            </p:nvGrpSpPr>
            <p:grpSpPr>
              <a:xfrm>
                <a:off x="-9208080" y="-7761600"/>
                <a:ext cx="1908000" cy="563760"/>
                <a:chOff x="-9208080" y="-7761600"/>
                <a:chExt cx="1908000" cy="563760"/>
              </a:xfrm>
            </p:grpSpPr>
            <p:sp>
              <p:nvSpPr>
                <p:cNvPr id="115" name="Rectangle 41"/>
                <p:cNvSpPr/>
                <p:nvPr/>
              </p:nvSpPr>
              <p:spPr>
                <a:xfrm>
                  <a:off x="-916848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IN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42"/>
                <p:cNvSpPr/>
                <p:nvPr/>
              </p:nvSpPr>
              <p:spPr>
                <a:xfrm>
                  <a:off x="-920808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43"/>
              <p:cNvGrpSpPr/>
              <p:nvPr/>
            </p:nvGrpSpPr>
            <p:grpSpPr>
              <a:xfrm>
                <a:off x="-7299720" y="-7761600"/>
                <a:ext cx="1908000" cy="563760"/>
                <a:chOff x="-7299720" y="-7761600"/>
                <a:chExt cx="1908000" cy="563760"/>
              </a:xfrm>
            </p:grpSpPr>
            <p:sp>
              <p:nvSpPr>
                <p:cNvPr id="118" name="Rectangle 44"/>
                <p:cNvSpPr/>
                <p:nvPr/>
              </p:nvSpPr>
              <p:spPr>
                <a:xfrm>
                  <a:off x="-726012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V. Saloma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45"/>
                <p:cNvSpPr/>
                <p:nvPr/>
              </p:nvSpPr>
              <p:spPr>
                <a:xfrm>
                  <a:off x="-729972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46"/>
              <p:cNvGrpSpPr/>
              <p:nvPr/>
            </p:nvGrpSpPr>
            <p:grpSpPr>
              <a:xfrm>
                <a:off x="-9208080" y="-7197840"/>
                <a:ext cx="1908000" cy="563400"/>
                <a:chOff x="-9208080" y="-7197840"/>
                <a:chExt cx="1908000" cy="563400"/>
              </a:xfrm>
            </p:grpSpPr>
            <p:sp>
              <p:nvSpPr>
                <p:cNvPr id="121" name="Rectangle 47"/>
                <p:cNvSpPr/>
                <p:nvPr/>
              </p:nvSpPr>
              <p:spPr>
                <a:xfrm>
                  <a:off x="-916848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ran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48"/>
                <p:cNvSpPr/>
                <p:nvPr/>
              </p:nvSpPr>
              <p:spPr>
                <a:xfrm>
                  <a:off x="-920808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49"/>
              <p:cNvGrpSpPr/>
              <p:nvPr/>
            </p:nvGrpSpPr>
            <p:grpSpPr>
              <a:xfrm>
                <a:off x="-7299720" y="-7197840"/>
                <a:ext cx="1908000" cy="563400"/>
                <a:chOff x="-7299720" y="-7197840"/>
                <a:chExt cx="1908000" cy="563400"/>
              </a:xfrm>
            </p:grpSpPr>
            <p:sp>
              <p:nvSpPr>
                <p:cNvPr id="124" name="Rectangle 50"/>
                <p:cNvSpPr/>
                <p:nvPr/>
              </p:nvSpPr>
              <p:spPr>
                <a:xfrm>
                  <a:off x="-726012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Paterniti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51"/>
                <p:cNvSpPr/>
                <p:nvPr/>
              </p:nvSpPr>
              <p:spPr>
                <a:xfrm>
                  <a:off x="-729972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52"/>
              <p:cNvGrpSpPr/>
              <p:nvPr/>
            </p:nvGrpSpPr>
            <p:grpSpPr>
              <a:xfrm>
                <a:off x="-9208080" y="-6634440"/>
                <a:ext cx="1908000" cy="746280"/>
                <a:chOff x="-9208080" y="-6634440"/>
                <a:chExt cx="1908000" cy="746280"/>
              </a:xfrm>
            </p:grpSpPr>
            <p:sp>
              <p:nvSpPr>
                <p:cNvPr id="127" name="Rectangle 53"/>
                <p:cNvSpPr/>
                <p:nvPr/>
              </p:nvSpPr>
              <p:spPr>
                <a:xfrm>
                  <a:off x="-916848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ERMAN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54"/>
                <p:cNvSpPr/>
                <p:nvPr/>
              </p:nvSpPr>
              <p:spPr>
                <a:xfrm>
                  <a:off x="-920808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55"/>
              <p:cNvGrpSpPr/>
              <p:nvPr/>
            </p:nvGrpSpPr>
            <p:grpSpPr>
              <a:xfrm>
                <a:off x="-7299720" y="-6634440"/>
                <a:ext cx="1908000" cy="746280"/>
                <a:chOff x="-7299720" y="-6634440"/>
                <a:chExt cx="1908000" cy="746280"/>
              </a:xfrm>
            </p:grpSpPr>
            <p:sp>
              <p:nvSpPr>
                <p:cNvPr id="130" name="Rectangle 56"/>
                <p:cNvSpPr/>
                <p:nvPr/>
              </p:nvSpPr>
              <p:spPr>
                <a:xfrm>
                  <a:off x="-726012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A. Doring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57"/>
                <p:cNvSpPr/>
                <p:nvPr/>
              </p:nvSpPr>
              <p:spPr>
                <a:xfrm>
                  <a:off x="-729972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58"/>
              <p:cNvGrpSpPr/>
              <p:nvPr/>
            </p:nvGrpSpPr>
            <p:grpSpPr>
              <a:xfrm>
                <a:off x="-9208080" y="-5888160"/>
                <a:ext cx="1908000" cy="1198440"/>
                <a:chOff x="-9208080" y="-5888160"/>
                <a:chExt cx="1908000" cy="1198440"/>
              </a:xfrm>
            </p:grpSpPr>
            <p:sp>
              <p:nvSpPr>
                <p:cNvPr id="133" name="Rectangle 59"/>
                <p:cNvSpPr/>
                <p:nvPr/>
              </p:nvSpPr>
              <p:spPr>
                <a:xfrm>
                  <a:off x="-916848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TAL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60"/>
                <p:cNvSpPr/>
                <p:nvPr/>
              </p:nvSpPr>
              <p:spPr>
                <a:xfrm>
                  <a:off x="-92080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61"/>
              <p:cNvGrpSpPr/>
              <p:nvPr/>
            </p:nvGrpSpPr>
            <p:grpSpPr>
              <a:xfrm>
                <a:off x="-7299720" y="-5888160"/>
                <a:ext cx="1908000" cy="1198440"/>
                <a:chOff x="-7299720" y="-5888160"/>
                <a:chExt cx="1908000" cy="1198440"/>
              </a:xfrm>
            </p:grpSpPr>
            <p:sp>
              <p:nvSpPr>
                <p:cNvPr id="136" name="Rectangle 62"/>
                <p:cNvSpPr/>
                <p:nvPr/>
              </p:nvSpPr>
              <p:spPr>
                <a:xfrm>
                  <a:off x="-7260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Giampaoli, L. Palmieri, S. Panico,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F. Seccareccia, D. Vanuzz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63"/>
                <p:cNvSpPr/>
                <p:nvPr/>
              </p:nvSpPr>
              <p:spPr>
                <a:xfrm>
                  <a:off x="-7299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64"/>
              <p:cNvGrpSpPr/>
              <p:nvPr/>
            </p:nvGrpSpPr>
            <p:grpSpPr>
              <a:xfrm>
                <a:off x="-5391720" y="-5888160"/>
                <a:ext cx="1908000" cy="1198440"/>
                <a:chOff x="-5391720" y="-5888160"/>
                <a:chExt cx="1908000" cy="1198440"/>
              </a:xfrm>
            </p:grpSpPr>
            <p:sp>
              <p:nvSpPr>
                <p:cNvPr id="139" name="Rectangle 65"/>
                <p:cNvSpPr/>
                <p:nvPr/>
              </p:nvSpPr>
              <p:spPr>
                <a:xfrm>
                  <a:off x="-5352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CE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66"/>
                <p:cNvSpPr/>
                <p:nvPr/>
              </p:nvSpPr>
              <p:spPr>
                <a:xfrm>
                  <a:off x="-5391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67"/>
              <p:cNvGrpSpPr/>
              <p:nvPr/>
            </p:nvGrpSpPr>
            <p:grpSpPr>
              <a:xfrm>
                <a:off x="-3483720" y="-5888160"/>
                <a:ext cx="1908000" cy="1198440"/>
                <a:chOff x="-3483720" y="-5888160"/>
                <a:chExt cx="1908000" cy="1198440"/>
              </a:xfrm>
            </p:grpSpPr>
            <p:sp>
              <p:nvSpPr>
                <p:cNvPr id="142" name="Rectangle 68"/>
                <p:cNvSpPr/>
                <p:nvPr/>
              </p:nvSpPr>
              <p:spPr>
                <a:xfrm>
                  <a:off x="-3444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V. Gudnaso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69"/>
                <p:cNvSpPr/>
                <p:nvPr/>
              </p:nvSpPr>
              <p:spPr>
                <a:xfrm>
                  <a:off x="-3483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70"/>
              <p:cNvGrpSpPr/>
              <p:nvPr/>
            </p:nvGrpSpPr>
            <p:grpSpPr>
              <a:xfrm>
                <a:off x="-1575360" y="-5888160"/>
                <a:ext cx="1908000" cy="1198440"/>
                <a:chOff x="-1575360" y="-5888160"/>
                <a:chExt cx="1908000" cy="1198440"/>
              </a:xfrm>
            </p:grpSpPr>
            <p:sp>
              <p:nvSpPr>
                <p:cNvPr id="145" name="Rectangle 71"/>
                <p:cNvSpPr/>
                <p:nvPr/>
              </p:nvSpPr>
              <p:spPr>
                <a:xfrm>
                  <a:off x="-153576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REE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72"/>
                <p:cNvSpPr/>
                <p:nvPr/>
              </p:nvSpPr>
              <p:spPr>
                <a:xfrm>
                  <a:off x="-157536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73"/>
              <p:cNvGrpSpPr/>
              <p:nvPr/>
            </p:nvGrpSpPr>
            <p:grpSpPr>
              <a:xfrm>
                <a:off x="332280" y="-5888160"/>
                <a:ext cx="1908000" cy="1198440"/>
                <a:chOff x="332280" y="-5888160"/>
                <a:chExt cx="1908000" cy="1198440"/>
              </a:xfrm>
            </p:grpSpPr>
            <p:sp>
              <p:nvSpPr>
                <p:cNvPr id="148" name="Rectangle 74"/>
                <p:cNvSpPr/>
                <p:nvPr/>
              </p:nvSpPr>
              <p:spPr>
                <a:xfrm>
                  <a:off x="371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A. Trichopoulou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75"/>
                <p:cNvSpPr/>
                <p:nvPr/>
              </p:nvSpPr>
              <p:spPr>
                <a:xfrm>
                  <a:off x="332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76"/>
              <p:cNvGrpSpPr/>
              <p:nvPr/>
            </p:nvGrpSpPr>
            <p:grpSpPr>
              <a:xfrm>
                <a:off x="2240280" y="-5888160"/>
                <a:ext cx="1908000" cy="1198440"/>
                <a:chOff x="2240280" y="-5888160"/>
                <a:chExt cx="1908000" cy="1198440"/>
              </a:xfrm>
            </p:grpSpPr>
            <p:sp>
              <p:nvSpPr>
                <p:cNvPr id="151" name="Rectangle 77"/>
                <p:cNvSpPr/>
                <p:nvPr/>
              </p:nvSpPr>
              <p:spPr>
                <a:xfrm>
                  <a:off x="2279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78"/>
                <p:cNvSpPr/>
                <p:nvPr/>
              </p:nvSpPr>
              <p:spPr>
                <a:xfrm>
                  <a:off x="2240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79"/>
              <p:cNvGrpSpPr/>
              <p:nvPr/>
            </p:nvGrpSpPr>
            <p:grpSpPr>
              <a:xfrm>
                <a:off x="-9208080" y="-4689720"/>
                <a:ext cx="1908000" cy="782640"/>
                <a:chOff x="-9208080" y="-4689720"/>
                <a:chExt cx="1908000" cy="782640"/>
              </a:xfrm>
            </p:grpSpPr>
            <p:sp>
              <p:nvSpPr>
                <p:cNvPr id="154" name="Rectangle 80"/>
                <p:cNvSpPr/>
                <p:nvPr/>
              </p:nvSpPr>
              <p:spPr>
                <a:xfrm>
                  <a:off x="-916848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Verschur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Rectangle 81"/>
                <p:cNvSpPr/>
                <p:nvPr/>
              </p:nvSpPr>
              <p:spPr>
                <a:xfrm>
                  <a:off x="-92080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82"/>
              <p:cNvGrpSpPr/>
              <p:nvPr/>
            </p:nvGrpSpPr>
            <p:grpSpPr>
              <a:xfrm>
                <a:off x="-7299720" y="-4689720"/>
                <a:ext cx="1908000" cy="782640"/>
                <a:chOff x="-7299720" y="-4689720"/>
                <a:chExt cx="1908000" cy="782640"/>
              </a:xfrm>
            </p:grpSpPr>
            <p:sp>
              <p:nvSpPr>
                <p:cNvPr id="157" name="Rectangle 83"/>
                <p:cNvSpPr/>
                <p:nvPr/>
              </p:nvSpPr>
              <p:spPr>
                <a:xfrm>
                  <a:off x="-7260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NORWA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84"/>
                <p:cNvSpPr/>
                <p:nvPr/>
              </p:nvSpPr>
              <p:spPr>
                <a:xfrm>
                  <a:off x="-7299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85"/>
              <p:cNvGrpSpPr/>
              <p:nvPr/>
            </p:nvGrpSpPr>
            <p:grpSpPr>
              <a:xfrm>
                <a:off x="-5391720" y="-4689720"/>
                <a:ext cx="1908000" cy="782640"/>
                <a:chOff x="-5391720" y="-4689720"/>
                <a:chExt cx="1908000" cy="782640"/>
              </a:xfrm>
            </p:grpSpPr>
            <p:sp>
              <p:nvSpPr>
                <p:cNvPr id="160" name="Rectangle 86"/>
                <p:cNvSpPr/>
                <p:nvPr/>
              </p:nvSpPr>
              <p:spPr>
                <a:xfrm>
                  <a:off x="-5352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7"/>
                <p:cNvSpPr/>
                <p:nvPr/>
              </p:nvSpPr>
              <p:spPr>
                <a:xfrm>
                  <a:off x="-5391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88"/>
              <p:cNvGrpSpPr/>
              <p:nvPr/>
            </p:nvGrpSpPr>
            <p:grpSpPr>
              <a:xfrm>
                <a:off x="-3483720" y="-4689720"/>
                <a:ext cx="1908000" cy="782640"/>
                <a:chOff x="-3483720" y="-4689720"/>
                <a:chExt cx="1908000" cy="782640"/>
              </a:xfrm>
            </p:grpSpPr>
            <p:sp>
              <p:nvSpPr>
                <p:cNvPr id="163" name="Rectangle 89"/>
                <p:cNvSpPr/>
                <p:nvPr/>
              </p:nvSpPr>
              <p:spPr>
                <a:xfrm>
                  <a:off x="-3444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90"/>
                <p:cNvSpPr/>
                <p:nvPr/>
              </p:nvSpPr>
              <p:spPr>
                <a:xfrm>
                  <a:off x="-348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91"/>
              <p:cNvGrpSpPr/>
              <p:nvPr/>
            </p:nvGrpSpPr>
            <p:grpSpPr>
              <a:xfrm>
                <a:off x="-1575360" y="-4689720"/>
                <a:ext cx="1908000" cy="782640"/>
                <a:chOff x="-1575360" y="-4689720"/>
                <a:chExt cx="1908000" cy="782640"/>
              </a:xfrm>
            </p:grpSpPr>
            <p:sp>
              <p:nvSpPr>
                <p:cNvPr id="166" name="Rectangle 92"/>
                <p:cNvSpPr/>
                <p:nvPr/>
              </p:nvSpPr>
              <p:spPr>
                <a:xfrm>
                  <a:off x="-15357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A. Paja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93"/>
                <p:cNvSpPr/>
                <p:nvPr/>
              </p:nvSpPr>
              <p:spPr>
                <a:xfrm>
                  <a:off x="-157536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94"/>
              <p:cNvGrpSpPr/>
              <p:nvPr/>
            </p:nvGrpSpPr>
            <p:grpSpPr>
              <a:xfrm>
                <a:off x="332280" y="-4689720"/>
                <a:ext cx="1908000" cy="782640"/>
                <a:chOff x="332280" y="-4689720"/>
                <a:chExt cx="1908000" cy="782640"/>
              </a:xfrm>
            </p:grpSpPr>
            <p:sp>
              <p:nvSpPr>
                <p:cNvPr id="169" name="Rectangle 95"/>
                <p:cNvSpPr/>
                <p:nvPr/>
              </p:nvSpPr>
              <p:spPr>
                <a:xfrm>
                  <a:off x="371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RTUGAL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96"/>
                <p:cNvSpPr/>
                <p:nvPr/>
              </p:nvSpPr>
              <p:spPr>
                <a:xfrm>
                  <a:off x="332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97"/>
              <p:cNvGrpSpPr/>
              <p:nvPr/>
            </p:nvGrpSpPr>
            <p:grpSpPr>
              <a:xfrm>
                <a:off x="2240280" y="-4689720"/>
                <a:ext cx="1908000" cy="782640"/>
                <a:chOff x="2240280" y="-4689720"/>
                <a:chExt cx="1908000" cy="782640"/>
              </a:xfrm>
            </p:grpSpPr>
            <p:sp>
              <p:nvSpPr>
                <p:cNvPr id="172" name="Rectangle 98"/>
                <p:cNvSpPr/>
                <p:nvPr/>
              </p:nvSpPr>
              <p:spPr>
                <a:xfrm>
                  <a:off x="2279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E. Roch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99"/>
                <p:cNvSpPr/>
                <p:nvPr/>
              </p:nvSpPr>
              <p:spPr>
                <a:xfrm>
                  <a:off x="2240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100"/>
              <p:cNvGrpSpPr/>
              <p:nvPr/>
            </p:nvGrpSpPr>
            <p:grpSpPr>
              <a:xfrm>
                <a:off x="4148640" y="-4689720"/>
                <a:ext cx="1642680" cy="782640"/>
                <a:chOff x="4148640" y="-4689720"/>
                <a:chExt cx="1642680" cy="782640"/>
              </a:xfrm>
            </p:grpSpPr>
            <p:sp>
              <p:nvSpPr>
                <p:cNvPr id="175" name="Rectangle 101"/>
                <p:cNvSpPr/>
                <p:nvPr/>
              </p:nvSpPr>
              <p:spPr>
                <a:xfrm>
                  <a:off x="418788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PAI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02"/>
                <p:cNvSpPr/>
                <p:nvPr/>
              </p:nvSpPr>
              <p:spPr>
                <a:xfrm>
                  <a:off x="41486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103"/>
              <p:cNvGrpSpPr/>
              <p:nvPr/>
            </p:nvGrpSpPr>
            <p:grpSpPr>
              <a:xfrm>
                <a:off x="5791320" y="-4689720"/>
                <a:ext cx="1907640" cy="782640"/>
                <a:chOff x="5791320" y="-4689720"/>
                <a:chExt cx="1907640" cy="782640"/>
              </a:xfrm>
            </p:grpSpPr>
            <p:sp>
              <p:nvSpPr>
                <p:cNvPr id="178" name="Rectangle 104"/>
                <p:cNvSpPr/>
                <p:nvPr/>
              </p:nvSpPr>
              <p:spPr>
                <a:xfrm>
                  <a:off x="58305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S. San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5"/>
                <p:cNvSpPr/>
                <p:nvPr/>
              </p:nvSpPr>
              <p:spPr>
                <a:xfrm>
                  <a:off x="5791320" y="-4689720"/>
                  <a:ext cx="190764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106"/>
              <p:cNvGrpSpPr/>
              <p:nvPr/>
            </p:nvGrpSpPr>
            <p:grpSpPr>
              <a:xfrm>
                <a:off x="7699320" y="-4689720"/>
                <a:ext cx="1642680" cy="782640"/>
                <a:chOff x="7699320" y="-4689720"/>
                <a:chExt cx="1642680" cy="782640"/>
              </a:xfrm>
            </p:grpSpPr>
            <p:sp>
              <p:nvSpPr>
                <p:cNvPr id="181" name="Rectangle 107"/>
                <p:cNvSpPr/>
                <p:nvPr/>
              </p:nvSpPr>
              <p:spPr>
                <a:xfrm>
                  <a:off x="773892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WED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108"/>
                <p:cNvSpPr/>
                <p:nvPr/>
              </p:nvSpPr>
              <p:spPr>
                <a:xfrm>
                  <a:off x="769932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109"/>
              <p:cNvGrpSpPr/>
              <p:nvPr/>
            </p:nvGrpSpPr>
            <p:grpSpPr>
              <a:xfrm>
                <a:off x="9342000" y="-4689720"/>
                <a:ext cx="1908000" cy="782640"/>
                <a:chOff x="9342000" y="-4689720"/>
                <a:chExt cx="1908000" cy="782640"/>
              </a:xfrm>
            </p:grpSpPr>
            <p:sp>
              <p:nvSpPr>
                <p:cNvPr id="184" name="Rectangle 110"/>
                <p:cNvSpPr/>
                <p:nvPr/>
              </p:nvSpPr>
              <p:spPr>
                <a:xfrm>
                  <a:off x="938160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N. Hamma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111"/>
                <p:cNvSpPr/>
                <p:nvPr/>
              </p:nvSpPr>
              <p:spPr>
                <a:xfrm>
                  <a:off x="934200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112"/>
              <p:cNvGrpSpPr/>
              <p:nvPr/>
            </p:nvGrpSpPr>
            <p:grpSpPr>
              <a:xfrm>
                <a:off x="11250000" y="-4689720"/>
                <a:ext cx="1642680" cy="782640"/>
                <a:chOff x="11250000" y="-4689720"/>
                <a:chExt cx="1642680" cy="782640"/>
              </a:xfrm>
            </p:grpSpPr>
            <p:sp>
              <p:nvSpPr>
                <p:cNvPr id="187" name="Rectangle 113"/>
                <p:cNvSpPr/>
                <p:nvPr/>
              </p:nvSpPr>
              <p:spPr>
                <a:xfrm>
                  <a:off x="1128960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U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114"/>
                <p:cNvSpPr/>
                <p:nvPr/>
              </p:nvSpPr>
              <p:spPr>
                <a:xfrm>
                  <a:off x="1125000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115"/>
              <p:cNvGrpSpPr/>
              <p:nvPr/>
            </p:nvGrpSpPr>
            <p:grpSpPr>
              <a:xfrm>
                <a:off x="12893040" y="-4689720"/>
                <a:ext cx="1908000" cy="782640"/>
                <a:chOff x="12893040" y="-4689720"/>
                <a:chExt cx="1908000" cy="782640"/>
              </a:xfrm>
            </p:grpSpPr>
            <p:sp>
              <p:nvSpPr>
                <p:cNvPr id="190" name="Rectangle 116"/>
                <p:cNvSpPr/>
                <p:nvPr/>
              </p:nvSpPr>
              <p:spPr>
                <a:xfrm>
                  <a:off x="1293264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P. Primatest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117"/>
                <p:cNvSpPr/>
                <p:nvPr/>
              </p:nvSpPr>
              <p:spPr>
                <a:xfrm>
                  <a:off x="1289304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118"/>
              <p:cNvGrpSpPr/>
              <p:nvPr/>
            </p:nvGrpSpPr>
            <p:grpSpPr>
              <a:xfrm>
                <a:off x="14801040" y="-4689720"/>
                <a:ext cx="1642680" cy="782640"/>
                <a:chOff x="14801040" y="-4689720"/>
                <a:chExt cx="1642680" cy="782640"/>
              </a:xfrm>
            </p:grpSpPr>
            <p:sp>
              <p:nvSpPr>
                <p:cNvPr id="193" name="Rectangle 119"/>
                <p:cNvSpPr/>
                <p:nvPr/>
              </p:nvSpPr>
              <p:spPr>
                <a:xfrm>
                  <a:off x="1484064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EUROPEAN HEART NETWO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120"/>
                <p:cNvSpPr/>
                <p:nvPr/>
              </p:nvSpPr>
              <p:spPr>
                <a:xfrm>
                  <a:off x="148010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121"/>
              <p:cNvGrpSpPr/>
              <p:nvPr/>
            </p:nvGrpSpPr>
            <p:grpSpPr>
              <a:xfrm>
                <a:off x="16443720" y="-4689720"/>
                <a:ext cx="1908000" cy="782640"/>
                <a:chOff x="16443720" y="-4689720"/>
                <a:chExt cx="1908000" cy="782640"/>
              </a:xfrm>
            </p:grpSpPr>
            <p:sp>
              <p:nvSpPr>
                <p:cNvPr id="196" name="Rectangle 122"/>
                <p:cNvSpPr/>
                <p:nvPr/>
              </p:nvSpPr>
              <p:spPr>
                <a:xfrm>
                  <a:off x="164833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123"/>
                <p:cNvSpPr/>
                <p:nvPr/>
              </p:nvSpPr>
              <p:spPr>
                <a:xfrm>
                  <a:off x="1644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Rectangle 124"/>
            <p:cNvSpPr/>
            <p:nvPr/>
          </p:nvSpPr>
          <p:spPr>
            <a:xfrm>
              <a:off x="-9212400" y="-9867960"/>
              <a:ext cx="27568800" cy="5965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9" name=""/>
          <p:cNvGraphicFramePr/>
          <p:nvPr/>
        </p:nvGraphicFramePr>
        <p:xfrm>
          <a:off x="1258920" y="1838160"/>
          <a:ext cx="6769080" cy="4632480"/>
        </p:xfrm>
        <a:graphic>
          <a:graphicData uri="http://schemas.openxmlformats.org/drawingml/2006/table">
            <a:tbl>
              <a:tblPr/>
              <a:tblGrid>
                <a:gridCol w="2236680"/>
                <a:gridCol w="45324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A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K. Steinbach – Austrian Hearth Foundation, W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Kornitzer – School of Public Health, Brux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ZECH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Holub – Institute of Health Information and Statistics, Pra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DEN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Madsen – National Institute of Public Health, Copenha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Salomaa – National Public Health Institute, Helsin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Bloch, C. Peretti – Institut de Veille Sanitarie, Saint Maur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Doering – Insitute für Epidemiologie GSF, Neuherbe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HUNG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R. Adany – School of Public Health, Debrec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 (COORDINATO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iampaoli, L. Palmieri, P. Ciccarelli, S. Panico, D. Vanuzzo, R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CE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Gudnason – Iceland Heart Association, Kopavog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REE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Trichopoulou – School of Medicine, Ath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The NETHER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Verschuren – National Institute of Public Health and E. Biltho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raff-Iversen – Norvegian Insitute of Public Health, Os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Pajak – Institut of Public Health, Krak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E. Rocha – Insituto de medicina Preventiva, Lisb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Sans – Institut d'Estudis de la Salut, Barcelo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N. Hammar – Karolinska Institute, Stockho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P. Primatesta – </a:t>
                      </a:r>
                      <a:r>
                        <a:rPr b="1" lang="en-GB" sz="1000" spc="-1" strike="noStrike">
                          <a:solidFill>
                            <a:srgbClr val="406000"/>
                          </a:solidFill>
                          <a:latin typeface="Comic Sans MS"/>
                          <a:ea typeface="Times New Roman"/>
                        </a:rPr>
                        <a:t>Univ. College London Medical School, Lond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EUROPEAN HEART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Allender – University of Oxford, Oxf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Object 169"/>
          <p:cNvGraphicFramePr/>
          <p:nvPr/>
        </p:nvGraphicFramePr>
        <p:xfrm>
          <a:off x="611280" y="557280"/>
          <a:ext cx="3995640" cy="135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57280"/>
                    <a:ext cx="399564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1979640" y="1512720"/>
          <a:ext cx="518796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12720"/>
                    <a:ext cx="5187960" cy="4508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4" name="Rectangle 3"/>
          <p:cNvSpPr/>
          <p:nvPr/>
        </p:nvSpPr>
        <p:spPr>
          <a:xfrm>
            <a:off x="3407040" y="74628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c43f"/>
                </a:solidFill>
                <a:latin typeface="Arial"/>
              </a:rPr>
              <a:t>The map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7380360" y="-27000"/>
          <a:ext cx="1763640" cy="600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-2700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539640" y="606600"/>
            <a:ext cx="8061480" cy="51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381240" algn="ctr">
              <a:lnSpc>
                <a:spcPct val="100000"/>
              </a:lnSpc>
              <a:tabLst>
                <a:tab algn="l" pos="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bbe0e3"/>
                </a:solidFill>
                <a:latin typeface="Arial"/>
                <a:ea typeface="Times New Roman"/>
              </a:rPr>
              <a:t>Main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700"/>
              </a:spcBef>
              <a:buClr>
                <a:srgbClr val="6aa94e"/>
              </a:buClr>
              <a:buFont typeface="Comic Sans MS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ioritise cardiovascular disease of major interest in EU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ovide a list of specific indicators and sources of information for monitoring C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epare the Manual of Operations for the implementation of population-based registers of acute myocardial infarction/acute coronary syndrome, stroke and of CVD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3"/>
          <p:cNvGraphicFramePr/>
          <p:nvPr/>
        </p:nvGraphicFramePr>
        <p:xfrm>
          <a:off x="7380360" y="0"/>
          <a:ext cx="1763640" cy="60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40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47c06"/>
                </a:solidFill>
                <a:latin typeface="Arial"/>
              </a:rPr>
              <a:t>EUROCISS Recommendations for mortality indic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848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MI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1 (ICD9: 4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HD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5 (ICD9: 410-4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CVA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60-I69 (ICD9: 430-4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schaemic STROKE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 I64 (ICD9: 4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Haemorragic STROK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Intracerebral) ICD10 codes I61, I62 (ICD9: 431, 4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Subarachnoid) ICD10 code I60 (ICD9: 4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54800"/>
                </a:solidFill>
                <a:latin typeface="Arial"/>
              </a:rPr>
              <a:t>35-44, 45-54, 55-64, 65-74 and 75-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406000"/>
                </a:solidFill>
                <a:latin typeface="Arial"/>
              </a:rPr>
              <a:t>Indicators should be standardised by age and gender using the European standard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3200"/>
            </a:br>
            <a:r>
              <a:rPr b="0" i="1" lang="it-IT" sz="3200" spc="-1" strike="noStrike">
                <a:solidFill>
                  <a:srgbClr val="d67c0e"/>
                </a:solidFill>
                <a:latin typeface="Arial"/>
              </a:rPr>
              <a:t>population characteristics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600200"/>
          <a:ext cx="8229600" cy="4465800"/>
        </p:xfrm>
        <a:graphic>
          <a:graphicData uri="http://schemas.openxmlformats.org/drawingml/2006/table">
            <a:tbl>
              <a:tblPr/>
              <a:tblGrid>
                <a:gridCol w="2111400"/>
                <a:gridCol w="1592280"/>
                <a:gridCol w="1270080"/>
                <a:gridCol w="1671480"/>
                <a:gridCol w="1584360"/>
              </a:tblGrid>
              <a:tr h="547200"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ge 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opul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cces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8046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harlero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h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3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2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hool of Public Health/University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Bru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9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v.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8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rhus  Un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3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5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ERM U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SF – K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034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8-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538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2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lth Region 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4172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 Stu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90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7-20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4" name="Picture 77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124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d67c0e"/>
                </a:solidFill>
                <a:latin typeface="Arial"/>
              </a:rPr>
              <a:t>case definition</a:t>
            </a:r>
            <a:r>
              <a:rPr b="0" lang="it-IT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71640" y="1171440"/>
          <a:ext cx="7345440" cy="5291280"/>
        </p:xfrm>
        <a:graphic>
          <a:graphicData uri="http://schemas.openxmlformats.org/drawingml/2006/table">
            <a:tbl>
              <a:tblPr/>
              <a:tblGrid>
                <a:gridCol w="1886040"/>
                <a:gridCol w="649080"/>
                <a:gridCol w="1041480"/>
                <a:gridCol w="1166760"/>
                <a:gridCol w="1235160"/>
                <a:gridCol w="1366920"/>
              </a:tblGrid>
              <a:tr h="63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ver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ink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/ 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alid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CG, enzymes, symptoms,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valid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, 428,79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oponin/CKMB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 –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7" name="Picture 82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531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3"/>
          <p:cNvSpPr/>
          <p:nvPr/>
        </p:nvSpPr>
        <p:spPr>
          <a:xfrm>
            <a:off x="1679760" y="6467400"/>
            <a:ext cx="5775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*) all codes are presented in the ICD-9 revision to facilitate the comparison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d47c06"/>
                </a:solidFill>
                <a:latin typeface="Arial"/>
              </a:rPr>
              <a:t>MONIC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mparable and reli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Hot-cold pursuit to identify suspected events in all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ll events validated during registration period</a:t>
            </a: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verage (only some areas of cou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ge range (35-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Dated [1985-199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sources of da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Global Info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data warehouse that collects, stores and displays information on chronic diseases and their risk factors for all WHO member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903600" y="486900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who.int/infobase/report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isk factors included in Info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et - Low fruit and vege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weight &amp; Obe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ysical Activit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jc_1a"/>
          <p:cNvPicPr/>
          <p:nvPr/>
        </p:nvPicPr>
        <p:blipFill>
          <a:blip r:embed="rId1"/>
          <a:stretch/>
        </p:blipFill>
        <p:spPr>
          <a:xfrm>
            <a:off x="468360" y="333360"/>
            <a:ext cx="76374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jc_1b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9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Bar2DHorizontal1222706638199998a1mo_cg_059mo_cc_104_Big"/>
          <p:cNvPicPr/>
          <p:nvPr/>
        </p:nvPicPr>
        <p:blipFill>
          <a:blip r:embed="rId1"/>
          <a:stretch/>
        </p:blipFill>
        <p:spPr>
          <a:xfrm>
            <a:off x="762120" y="549360"/>
            <a:ext cx="76197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Bar2DHorizontal-1356485970199999a17cd_07010_Small"/>
          <p:cNvPicPr/>
          <p:nvPr/>
        </p:nvPicPr>
        <p:blipFill>
          <a:blip r:embed="rId1"/>
          <a:stretch/>
        </p:blipFill>
        <p:spPr>
          <a:xfrm>
            <a:off x="611280" y="333360"/>
            <a:ext cx="7991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APCSC_Map"/>
          <p:cNvPicPr/>
          <p:nvPr/>
        </p:nvPicPr>
        <p:blipFill>
          <a:blip r:embed="rId1"/>
          <a:stretch/>
        </p:blipFill>
        <p:spPr>
          <a:xfrm>
            <a:off x="684360" y="1197000"/>
            <a:ext cx="7775280" cy="51483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1473120" y="40464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ia-Pacific Studies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sia Pacific Studies Collaboration - APC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 patient data meta-analysis from existing longitudinal studies with information on cardiovascular disease in the Asia Pacif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ject's main research them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actions between 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valence and attributable risk for five major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relationship of cancer incidence to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 650,000 participants, 44 separate cohort studies in mainland China, Hong Kong, Taiwan, Japan, South Korea, Singapore, Thailand, New Zealand and Austral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p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rom the project have been published or are in press in international peer reviewed journals. http://www.apcsc.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- Global Burdens of Disease Project (GB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Project, commenced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, Harvard 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rehensive and consistent set of estimates of mortality and morbidity by age, sex, region for world for first time for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measure – DALY (Disability Adjusted Life Year) – includes premature deaths and disability, weighted by severity of di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FA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1352520"/>
            <a:ext cx="86421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1/3 estimated 56 million deaths occurring annual are recorded in vital registr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estimates from these plus disease registers, population surveys, epidemiological studies to “fill in the gap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79280" y="723960"/>
            <a:ext cx="87854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-282600" y="1052640"/>
            <a:ext cx="970920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D rates &amp; Life expect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-282600" y="1700280"/>
            <a:ext cx="97092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r>
              <a:rPr b="1" lang="it-IT" sz="3600" spc="-1" strike="noStrike">
                <a:solidFill>
                  <a:srgbClr val="d47c06"/>
                </a:solidFill>
                <a:latin typeface="Arial"/>
              </a:rPr>
              <a:t>(European Health For All Datab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Covers all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User friendly web ac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Nice graphics for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a not standard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ed (most recent 2001-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11:23:38Z</dcterms:created>
  <dc:creator>Julia Critchley</dc:creator>
  <dc:description/>
  <dc:language>en-US</dc:language>
  <cp:lastModifiedBy>Computing Services</cp:lastModifiedBy>
  <dcterms:modified xsi:type="dcterms:W3CDTF">2008-04-14T10:19:54Z</dcterms:modified>
  <cp:revision>12</cp:revision>
  <dc:subject/>
  <dc:title>Slide 1</dc:title>
</cp:coreProperties>
</file>