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3B6-11B1-437B-8110-46947EE9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E41-848D-4977-944C-BE350227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4D1-5569-4CD3-BA37-1E57B207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BE1-DB73-4EC6-B64E-A24AB16D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CFA-AB8D-4B4F-B646-3D2B17E2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5ED-36F8-4991-927A-7A97439C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7F7-26E1-4C44-8052-82AFDC96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FF1-4DFD-4E31-AE66-198E461C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7F8-0E85-40C4-AD35-ABD71A3E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A69-096D-4FE0-8328-D4B1A441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D54-AA65-4636-807F-45C40ADD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EB7-C1CD-4BB3-B866-9E56BFF9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BB24-1ECC-4C1F-996F-C7C4991C442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Cohort and longitudinal studies: statist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Kath Benne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June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logomariecurie"/>
          <p:cNvPicPr/>
          <p:nvPr/>
        </p:nvPicPr>
        <p:blipFill>
          <a:blip r:embed="rId1"/>
          <a:stretch/>
        </p:blipFill>
        <p:spPr>
          <a:xfrm>
            <a:off x="900000" y="476280"/>
            <a:ext cx="1905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Case fatality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expressed as the percentage of persons diagnosed as having a specified disease who die as a result of that illness within a given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Sometimes 30-day or 1 year case-fatality rates quo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ase-fatality rate is not the same as mortality r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 also referred to as fatality rate or case-fatality ra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lative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is ratio of 2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.e. (rate group 1)/(rate group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known as rate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, rate for CHD in men calculated as 1.76 per 1000 in 1995, and 0.483 per 1000 in wom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=1.76/0.483 =3.6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ortality from lung cancer by </a:t>
            </a:r>
            <a:br>
              <a:rPr sz="4400"/>
            </a:b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5-year age-ba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epimortlungcancer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Standardised 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Arial"/>
              </a:rPr>
              <a:t>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s a standard population to which age-specific rates ar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y age-specific rates in pops A &amp;B by standard population then comp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-specific rates for populations no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d on applying age-specific rates for standard population to population of interest to determine ‘expecte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ised Mortality Ratio (SMR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Total Observed deaths / Total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-609480" y="1447920"/>
          <a:ext cx="10815480" cy="56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447920"/>
                    <a:ext cx="10815480" cy="56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-457200" y="1579680"/>
          <a:ext cx="10379160" cy="52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579680"/>
                    <a:ext cx="103791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-1446120" y="996840"/>
          <a:ext cx="1116324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6120" y="996840"/>
                    <a:ext cx="1116324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served 1781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 = 1781/2032.5 = 0.8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gt;1  more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lt;1 less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multiplied by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s of cohort stud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Framingham study. Cohort o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,209 men and women  in 1948 between the ages of 30 and 62 from the town of Framingham, Massachusetts, to examine CVD development, returning every two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British doctors study. Cohort of male doctors started in 1951 to examine smoking and related mortality (Doll and Hil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llion Women Study. Cohort of 1 million women asked about HRT use and followed up for cancer inc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1197000"/>
          <a:ext cx="7127640" cy="54864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298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ersons free of dise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o not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40"/>
          <p:cNvSpPr/>
          <p:nvPr/>
        </p:nvSpPr>
        <p:spPr>
          <a:xfrm>
            <a:off x="1042920" y="189000"/>
            <a:ext cx="74167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ata from a cohort study are express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268360" y="76500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llow-up to see wheth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7451640" y="2565360"/>
            <a:ext cx="18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exposed (IE)=a/a+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7524720" y="4005360"/>
            <a:ext cx="18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unexposed (IO)=c/c+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Statistical method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revalence, Inc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s, standardised rates, case fatality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lative rates/r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ttributable risk and Attributable risk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gression and beta coeffic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Data from cohort studies are analyzed in terms of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Relative risk (RR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cidence rate in the exposed group (IE)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 rate in the non-exposed group (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higher than 1 imply that the factor under study is associated with an increased risk of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lower than 1 imply that the factor is  associated with a decreased risk of disea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magnitude of the relative risk indicates the strength of the associ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436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ttributable Risk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implies that not all of the disease incidence is due to the exposure, as some nonexposed individuals may develop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O (Incidence in nonexposed group) = 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"background incidenc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 (Incidence in exposed group) = ”background incidence”+ Incidence due to the exposur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the incidence in the exposed group which is attributable to the exposure can be calculated by subtrac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(AR): AR = IE – 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ttributable risk percent: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39640" y="1413000"/>
            <a:ext cx="88203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ercentage of the total incidence in the exposed group which is attributable to the exposure can be calcula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%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E - I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 1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cut also = (RR-1)/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97164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opulation is not all expo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0666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ases per 1000 population are   attributable to the expos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know the Incidence in the total population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(1-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s the Prevale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 the expos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=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cut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 X P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opul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roportion of the risk in the total population is attribut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%,PAR%, P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ominator is the risk in the total population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The numerator is the “extra” risk (PAR) whi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)/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/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+1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Example: Cohort study of smoking and coronary heart dise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Verdana"/>
              </a:rPr>
              <a:t>Cohort of initially healthy 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n't 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tal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4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916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3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on-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7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4913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5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Smokers = 84/3000 = 28.0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 = 87/5000 = 17.4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R 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Incidence in 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28.0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1.6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17.4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Example: Attributable ri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 (incidence in exposed group attributable to the expos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Incidence in Smokers - Incidence in Non-Smo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28.0 - 17.4 = 10.6/1000/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%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% total incidence in exposed grp attributable to expos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cidence in Smokers - 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x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idence in Sm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(28.0 - 17.4)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10.6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 = 37.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7.9% of the morbidity from CHD among smokers may be attributable to smo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: Population AR (PAR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=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 X 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prevalence of smoking in the population is 4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calculate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-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= 21.6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6/1000 – 17.4/1000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= AR X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(10.6/1000)X 0.4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[(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= (21.6-17.4)/21.6 = 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AR%=(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 / [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+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.4*(1.6-1)/[0.4*(1.6-1)+1]=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ethods to account for varying lengths of follow-up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ce participants may enter or leave the study at various times due to death, emmigration or loss to follow-up, the time of observation is usually not uniform. This is accounted for by mai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Person - years of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Life - tabl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urvival analysis, Cox proportional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evalence is the </a:t>
            </a:r>
            <a:r>
              <a:rPr b="0" i="1" lang="en-IE" sz="3200" spc="-1" strike="noStrike">
                <a:solidFill>
                  <a:srgbClr val="ffffff"/>
                </a:solidFill>
                <a:latin typeface="Arial"/>
              </a:rPr>
              <a:t>proportion of a population that are cases at on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existing cases with disease/on dr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population in same tim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.g birth defect prevalence rat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births with given abnorm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number of live bir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>
            <a:off x="1447920" y="38862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1295280" y="5943600"/>
            <a:ext cx="5181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Is the linear relationship reason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0962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n broad terms, regression can be thought of as a statistical model which is used to help us get the ‘best guess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Formally, we assume that there is an underlying linear relationship between the variables, and our observations lie scattered about that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actual value of ‘Y’ is ‘scattered’ about the expected or predicted value of 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Linear Model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08720" y="1988640"/>
            <a:ext cx="345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Line is ‘best’ fit in statistical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catter is called 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sidual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varia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648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equation of a line can be writte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E[Y] = a + b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 = intercept (where line cuts Y ax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b = slope of the line (can be +ve or –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oftware fits the ‘best guess’ for a and 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4437000"/>
            <a:ext cx="8675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egression Analysis: Leaving versus 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he regression equa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Leaving = </a:t>
            </a:r>
            <a:r>
              <a:rPr b="1" lang="en-GB" sz="1800" spc="-1" strike="noStrike">
                <a:solidFill>
                  <a:srgbClr val="00cc99"/>
                </a:solidFill>
                <a:latin typeface="Courier New"/>
              </a:rPr>
              <a:t>7.75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GB" sz="1800" spc="-1" strike="noStrike">
                <a:solidFill>
                  <a:srgbClr val="ff7c80"/>
                </a:solidFill>
                <a:latin typeface="Courier New"/>
              </a:rPr>
              <a:t>0.817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redictor        Coef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S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       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Constant        7.749       3.122       2.48    0.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          0.81749     0.04284      19.08    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M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s there an effect of gen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at is can one consider different lines for red and bl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hould these lines be parallel or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What about ‘adjusting’ for other covariates such as age or ‘intelligence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More than one variable = multiple linear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cidence is the 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rate at which new cases occur in a population during a specified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new cases/starting on therapy i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ulation at risk in give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Bacteremia among OC users in study of 482 using OC, 27 developed bacter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= (27/482)*100=5.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116000" y="3357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ter-relation between incidence and preval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alence = incidence* average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 commonly used in epidem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ccff"/>
                </a:solidFill>
                <a:latin typeface="Arial"/>
              </a:rPr>
              <a:t>Crude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ntire population eg. Total deaths/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Category specif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age-specific, gender-specif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Cancer rates by age-category, 35-44, 45-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Age-adjust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tandardis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s for appropriate comparison when differing populations being studies. Reduces distortions in comparison due to age differences in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d to quantify the risk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umerator is number of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nominato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ulation at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-years at risk or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ually presented as per 1000 persons or 1000 person-years at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ded the disease/event occurs randomly and independently, reasonable to assume follow Poisso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imated standard error of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(rate)=number of events /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number events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+1)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he number of deaths from CHD in Scottish men in 1995 was 1080, total population of men 61295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 of CHD deaths per 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080/612955)*1000 = 1.7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number of death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0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016.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1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146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rate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16.55/612955 , 1146.4/6129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.66, 1.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4:33:02Z</dcterms:created>
  <dc:creator>bmaguire</dc:creator>
  <dc:description/>
  <dc:language>en-US</dc:language>
  <cp:lastModifiedBy>Computing Services</cp:lastModifiedBy>
  <dcterms:modified xsi:type="dcterms:W3CDTF">2008-04-10T12:31:18Z</dcterms:modified>
  <cp:revision>77</cp:revision>
  <dc:subject/>
  <dc:title>Trial design</dc:title>
</cp:coreProperties>
</file>