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5DC0-B20F-4A72-9E32-F6E830962A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FAD8-F022-42A7-B0E5-F6AD0801D22C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7D02-AF3F-4E0E-9693-E0A7AFAE02A0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E24E-1EBF-4F0C-8E53-BF3EB045C201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EFAA-BB7E-4CC5-BF72-91C767F00299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86B6-5D96-4503-9F38-D0D92CDBF98D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9915-0B4B-47B8-A025-0FDB7F60DC29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8E1D-97AA-44EB-87E6-23E1F46D3582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EED8-1232-4215-8D54-804FA7644FC1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B90A-0D23-4C99-986F-F441CA5E7D1C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4724-4908-409F-A797-A7910A80747B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ACB9-19FA-4A7A-A63E-ABAFAE476179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lectio factors that get you to attend one hosp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CF0F-8CE7-426E-B962-B970E63D683D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9E49-3BD1-495D-A2BB-DDC720206FA9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BD0F-E8E1-474E-B8BA-36E123A84860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43B4-4A69-4E48-94E4-31A90B9AFDDC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26B4-0A2C-4822-89FE-9D929F6A7620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95C6-B96B-4FF5-8902-F880CAE8608B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2E65-50E7-4536-9A7F-CBE03FD15665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3DAA-811C-4D74-9ECB-5601B138D584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B721-BC8A-4F91-8930-5665EEC7248E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915F-167B-4584-9917-8B9F249C76E2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8F94-2F06-42E4-9363-F3E4D5DD22FF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CB6B-33C7-4DA9-BBAD-19C545FA2015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5DE5-FEC5-4353-9919-4EF61E34D4E6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FA0A-6FB7-4E7F-93F4-ADE27446D1A1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9A32-9BEB-419F-8629-AB9B3C2DC39E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AE88-ECA7-4D13-96FA-3F7834D7B43C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1972-86C3-4C5E-9826-361701DCBF67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E6E7-B0ED-469B-BC0F-3BBD8F1768FB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F62E-DADA-4214-AF1D-AB974CF2C73E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AA8A-98B3-469E-8AA0-42A1FF6D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343C-A6C1-4AD8-91D4-13FB8593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F58B-D0E4-4547-818B-D4E5EFA4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E1B1-8D7E-41CD-804B-0C8D2B92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19A4-E25B-44C4-8EB3-DA3AA34B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9406-9EF1-4F87-8685-5D373CB2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B0B0-2F5F-428F-A465-11A9D03A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AE61-764A-4CDC-AC06-8B807AF5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3ED6-F0C0-45BB-BFC5-5BE0DC86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CE38-23A3-4B0D-B0CD-47BCA3C9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5D9F-30B9-49D9-B43D-ADA53A38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17A6-41EF-4D9C-8B74-8117D017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7C0D-2A38-45BB-96AA-576DE222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50BF-F67C-48FE-BBA8-26631F6D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2659-0A5F-49BD-B3E1-A4ABB4B8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55FD-25D6-4C2E-9110-82E8AE87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E86B-AAE8-46E3-A1F9-3AF491F5A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A28D-8AD6-4A0B-9878-8C1121E7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4224-C043-4F60-B7C4-6C97ED29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1288-5746-49CF-B84C-646551D4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C924-2895-4C2D-BE53-1F87DC9F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A231-FA63-4C1E-865C-284F81CD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14BE-E260-4681-8EA7-43EC3403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7590-8AAB-4E27-BD0B-977E762A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027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02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5CB3-CFDC-4640-B9F4-0B6836BA6CF3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027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028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B797-2D89-4418-9110-F0DE5C760804}" type="slidenum">
              <a:rPr b="0" lang="en-GB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se-control studi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r Luis E Cuevas – LSTM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Julia Critchle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2"/>
          <p:cNvSpPr/>
          <p:nvPr/>
        </p:nvSpPr>
        <p:spPr>
          <a:xfrm>
            <a:off x="2057400" y="3581280"/>
            <a:ext cx="5791320" cy="533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posure to risk factor/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18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0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219320" y="1752480"/>
            <a:ext cx="7315200" cy="4267440"/>
          </a:xfrm>
          <a:prstGeom prst="rect">
            <a:avLst/>
          </a:prstGeom>
          <a:noFill/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6" name="Picture 5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1"/>
          <p:cNvSpPr/>
          <p:nvPr/>
        </p:nvSpPr>
        <p:spPr>
          <a:xfrm>
            <a:off x="2057400" y="3581280"/>
            <a:ext cx="5791320" cy="533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s exposure higher/lower in case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1981080" y="2057400"/>
            <a:ext cx="1524240" cy="609480"/>
          </a:xfrm>
          <a:prstGeom prst="rect">
            <a:avLst/>
          </a:prstGeom>
          <a:solidFill>
            <a:srgbClr val="ff66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14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12440" y="965160"/>
            <a:ext cx="63118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hen are these studies most useful?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8680" y="2398680"/>
            <a:ext cx="8208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imited information on risk factors (some times carried out before cohort studie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idence of the disease is low (rare disease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tudy many risk factors simultaneousl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7160" y="112680"/>
            <a:ext cx="86374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"/>
              </a:rPr>
              <a:t>Major problem with case-control studies is bias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election bia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differences in people who select themselves for studies compared with those who do no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Measurement bia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individual measurements of disease or exposure are more likely to be incorrec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Recall bias in case-control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How might you reduce these biases in practice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uggestions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762120" y="685800"/>
            <a:ext cx="3352680" cy="762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7315200" y="3048120"/>
            <a:ext cx="213372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238880" y="1523880"/>
            <a:ext cx="221004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685800" y="4419720"/>
            <a:ext cx="84582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are the factors that put a person at 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igher risk of suffering from CHD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0" y="1828800"/>
            <a:ext cx="9144000" cy="129528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0" y="3581280"/>
            <a:ext cx="9144000" cy="129564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Physical activity and risk of coronary heart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7238880" y="2819520"/>
            <a:ext cx="1905120" cy="129528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4191120" y="1828800"/>
            <a:ext cx="380988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dividuals with CH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4038480" y="4191120"/>
            <a:ext cx="3962520" cy="9144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dividuals without CH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600200" y="1905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676520" y="4267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1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011480" cy="50691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760680" y="533520"/>
            <a:ext cx="266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se defini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5257800" y="2057400"/>
            <a:ext cx="358128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Hospit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health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ent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opul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ngle poi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eriod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agno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ew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5332320" y="609480"/>
            <a:ext cx="29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urce/s of ca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0" y="1143000"/>
            <a:ext cx="9144000" cy="38088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Rectangle 28"/>
          <p:cNvSpPr/>
          <p:nvPr/>
        </p:nvSpPr>
        <p:spPr>
          <a:xfrm>
            <a:off x="5029200" y="5334120"/>
            <a:ext cx="304920" cy="68580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Rectangle 29"/>
          <p:cNvSpPr/>
          <p:nvPr/>
        </p:nvSpPr>
        <p:spPr>
          <a:xfrm>
            <a:off x="179280" y="4005360"/>
            <a:ext cx="4176720" cy="143964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Rectangle 30"/>
          <p:cNvSpPr/>
          <p:nvPr/>
        </p:nvSpPr>
        <p:spPr>
          <a:xfrm>
            <a:off x="179280" y="2205000"/>
            <a:ext cx="4191120" cy="1655640"/>
          </a:xfrm>
          <a:prstGeom prst="rect">
            <a:avLst/>
          </a:prstGeom>
          <a:noFill/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tr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fficult and critical issu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dividuals who would have been selected as cases if they had the disease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ame popul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parability to cases essential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urces of contr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4476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ospit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eneral popul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pecial group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riends, neighbors, relativ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ideal control group 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Analytical (Observational) Epidemio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ohort Stud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se-control stud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im to identify potential associations between ‘risk’ factors and a particular disease or outco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3"/>
          <p:cNvSpPr/>
          <p:nvPr/>
        </p:nvSpPr>
        <p:spPr>
          <a:xfrm>
            <a:off x="971640" y="476280"/>
            <a:ext cx="33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urces of contro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6475680" y="190512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spital 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553080" y="2631960"/>
            <a:ext cx="2133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limitations of the control group should be taken into account when interpreting finding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762120" y="1676520"/>
            <a:ext cx="5715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762120" y="198108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9" descr=""/>
          <p:cNvPicPr/>
          <p:nvPr/>
        </p:nvPicPr>
        <p:blipFill>
          <a:blip r:embed="rId1"/>
          <a:stretch/>
        </p:blipFill>
        <p:spPr>
          <a:xfrm>
            <a:off x="517680" y="1557360"/>
            <a:ext cx="4005000" cy="41767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8"/>
          <p:cNvSpPr/>
          <p:nvPr/>
        </p:nvSpPr>
        <p:spPr>
          <a:xfrm>
            <a:off x="539640" y="2492280"/>
            <a:ext cx="3961080" cy="93672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imitations of contr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ospit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ll by defini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&gt; smoke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&gt; alcoho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lativ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enetic similari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ocio-economic condition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eographical situa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illing to collaborat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xie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Not always availabl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1332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eighbour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aiting to return from wor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milari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hare environmen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eneral popul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enerally unavailabl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Unreliable (recall bias?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uncooperativ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1143000" y="762120"/>
            <a:ext cx="626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ist potential risk factor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4" name="Picture 12" descr=""/>
          <p:cNvPicPr/>
          <p:nvPr/>
        </p:nvPicPr>
        <p:blipFill>
          <a:blip r:embed="rId1"/>
          <a:stretch/>
        </p:blipFill>
        <p:spPr>
          <a:xfrm>
            <a:off x="457200" y="2168640"/>
            <a:ext cx="4137120" cy="39970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3"/>
          <p:cNvSpPr/>
          <p:nvPr/>
        </p:nvSpPr>
        <p:spPr>
          <a:xfrm>
            <a:off x="395280" y="2997360"/>
            <a:ext cx="4248000" cy="230328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Recap – confound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207" name="Group 11"/>
          <p:cNvGrpSpPr/>
          <p:nvPr/>
        </p:nvGrpSpPr>
        <p:grpSpPr>
          <a:xfrm>
            <a:off x="838080" y="2971800"/>
            <a:ext cx="7562880" cy="3886200"/>
            <a:chOff x="838080" y="2971800"/>
            <a:chExt cx="7562880" cy="3886200"/>
          </a:xfrm>
        </p:grpSpPr>
        <p:sp>
          <p:nvSpPr>
            <p:cNvPr id="208" name="Oval 3"/>
            <p:cNvSpPr/>
            <p:nvPr/>
          </p:nvSpPr>
          <p:spPr>
            <a:xfrm>
              <a:off x="1066680" y="5257800"/>
              <a:ext cx="1828800" cy="16002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cc"/>
                  </a:solidFill>
                  <a:latin typeface="Tahoma"/>
                </a:rPr>
                <a:t>smoking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" name="Oval 4"/>
            <p:cNvSpPr/>
            <p:nvPr/>
          </p:nvSpPr>
          <p:spPr>
            <a:xfrm>
              <a:off x="838080" y="2971800"/>
              <a:ext cx="1828800" cy="16002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6699"/>
                  </a:solidFill>
                  <a:latin typeface="Tahoma"/>
                </a:rPr>
                <a:t>Physical 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6699"/>
                  </a:solidFill>
                  <a:latin typeface="Tahoma"/>
                </a:rPr>
                <a:t>activity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Rectangle 5"/>
            <p:cNvSpPr/>
            <p:nvPr/>
          </p:nvSpPr>
          <p:spPr>
            <a:xfrm>
              <a:off x="6248520" y="3353040"/>
              <a:ext cx="2152440" cy="703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cc00"/>
                  </a:solidFill>
                  <a:latin typeface="Arial"/>
                </a:rPr>
                <a:t>mortality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124080" y="3429000"/>
              <a:ext cx="2667240" cy="68580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" name="AutoShape 7"/>
            <p:cNvSpPr/>
            <p:nvPr/>
          </p:nvSpPr>
          <p:spPr>
            <a:xfrm rot="20229600">
              <a:off x="3352680" y="4495680"/>
              <a:ext cx="2667240" cy="68580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AutoShape 8"/>
            <p:cNvSpPr/>
            <p:nvPr/>
          </p:nvSpPr>
          <p:spPr>
            <a:xfrm>
              <a:off x="1600200" y="4648320"/>
              <a:ext cx="457200" cy="4572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Rectangle 9"/>
          <p:cNvSpPr/>
          <p:nvPr/>
        </p:nvSpPr>
        <p:spPr>
          <a:xfrm>
            <a:off x="4802040" y="5029200"/>
            <a:ext cx="32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confound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457200" y="129528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A variable is a confounder if it is associated with the outcome of interest (death) and independently with the risk factor of interest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We are interested in the relationship between physical activity and CHD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Infant death. Smoking is also associated with CHD, and smoking and physical activity are associated with each other. Smoking is therefore a confound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of the relationship between physical activity and CHD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1054800" y="609480"/>
            <a:ext cx="24544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Confounding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acto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600200" y="2209680"/>
            <a:ext cx="3124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Restri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tch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Tahoma"/>
              </a:rPr>
              <a:t>Stratified analy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Tahoma"/>
              </a:rPr>
              <a:t>Multiple regress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0" name="Picture 4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0"/>
          <p:cNvSpPr/>
          <p:nvPr/>
        </p:nvSpPr>
        <p:spPr>
          <a:xfrm>
            <a:off x="317520" y="720000"/>
            <a:ext cx="863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tching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AutoShape 11"/>
          <p:cNvSpPr/>
          <p:nvPr/>
        </p:nvSpPr>
        <p:spPr>
          <a:xfrm>
            <a:off x="4343400" y="36576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AutoShape 12"/>
          <p:cNvSpPr/>
          <p:nvPr/>
        </p:nvSpPr>
        <p:spPr>
          <a:xfrm>
            <a:off x="5867280" y="36576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AutoShape 13"/>
          <p:cNvSpPr/>
          <p:nvPr/>
        </p:nvSpPr>
        <p:spPr>
          <a:xfrm>
            <a:off x="7543800" y="36576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 avoid confound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ge and se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re difficult to analy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ssible to ‘overmatch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Assessing Causalit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tatistically significant Odds Ratios show that there are associations between the risk factor (physical activity) and the disease (CHD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y don’t prove this relationship is caus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240" y="120240"/>
            <a:ext cx="863748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Criteria for assessing causality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400"/>
            </a:b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(Bradford Hill)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Exposure before onset of disea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Strength of associ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Independence from confound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onsistent in different populations with different levels of exposu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onsistent with different studies in different setting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Dose-response relationship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Biologically plausib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Evidence from animal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Removal of exposure reduces ris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</a:rPr>
              <a:t>Strength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Good for study of rare diseas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Long latent perio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an look at multiple risk factors for a single disea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Quicker and cheaper than cohort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1" name="Picture 5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7"/>
          <p:cNvSpPr/>
          <p:nvPr/>
        </p:nvSpPr>
        <p:spPr>
          <a:xfrm>
            <a:off x="1984680" y="304920"/>
            <a:ext cx="456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Times New Roman"/>
              </a:rPr>
              <a:t>Case-control studi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imitations - summa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efficient for the evaluation of rare exposur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lection b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asurement b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call b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ifficult to interpre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es not provide incidence ra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es not provide ‘causation’, only associati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icture 5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1"/>
          <p:cNvSpPr/>
          <p:nvPr/>
        </p:nvSpPr>
        <p:spPr>
          <a:xfrm>
            <a:off x="1598040" y="2743200"/>
            <a:ext cx="219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ith the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udi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1294200" y="5486400"/>
            <a:ext cx="267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Withou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the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udi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Differences between cohort studies and case-contro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ohorts – start with expos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se-controls – start with disea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Rectangle 1028"/>
          <p:cNvSpPr/>
          <p:nvPr/>
        </p:nvSpPr>
        <p:spPr>
          <a:xfrm>
            <a:off x="914400" y="2895480"/>
            <a:ext cx="167652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XPOS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Line 1029"/>
          <p:cNvSpPr/>
          <p:nvPr/>
        </p:nvSpPr>
        <p:spPr>
          <a:xfrm>
            <a:off x="2514600" y="3276720"/>
            <a:ext cx="35053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1030"/>
          <p:cNvSpPr/>
          <p:nvPr/>
        </p:nvSpPr>
        <p:spPr>
          <a:xfrm>
            <a:off x="6172200" y="2895480"/>
            <a:ext cx="137160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Rectangle 1031"/>
          <p:cNvSpPr/>
          <p:nvPr/>
        </p:nvSpPr>
        <p:spPr>
          <a:xfrm>
            <a:off x="1066680" y="5029200"/>
            <a:ext cx="137160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Rectangle 1033"/>
          <p:cNvSpPr/>
          <p:nvPr/>
        </p:nvSpPr>
        <p:spPr>
          <a:xfrm>
            <a:off x="6172200" y="5029200"/>
            <a:ext cx="167652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XPOS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Line 1034"/>
          <p:cNvSpPr/>
          <p:nvPr/>
        </p:nvSpPr>
        <p:spPr>
          <a:xfrm>
            <a:off x="2590920" y="5486400"/>
            <a:ext cx="35049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art by defining a CAS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47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nical definition may be insuffici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st of criteria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producibilit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ertainty of diagnosi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roven, very likely, possib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rit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ild, Moderate, Seve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SUALLY INCIDENT CASES (newly diagnos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27"/>
          <p:cNvSpPr/>
          <p:nvPr/>
        </p:nvSpPr>
        <p:spPr>
          <a:xfrm>
            <a:off x="1295280" y="2057400"/>
            <a:ext cx="22100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How man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Rectangle 1028"/>
          <p:cNvSpPr/>
          <p:nvPr/>
        </p:nvSpPr>
        <p:spPr>
          <a:xfrm>
            <a:off x="1295280" y="4876920"/>
            <a:ext cx="24386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00"/>
                </a:solidFill>
                <a:latin typeface="Times New Roman"/>
              </a:rPr>
              <a:t>How many controls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Picture 1029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30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34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38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39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40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842760"/>
            <a:ext cx="76834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How many cases and controls?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ased on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vailability of cases and contro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st the main risk facto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view the prevalence of the risk factor in the contro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hat would be the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xpected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evalence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of the risk factor in cas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pi-Info -  ask a statistici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xpected differen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762120" y="2286000"/>
          <a:ext cx="4797360" cy="25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0"/>
                    <a:ext cx="4797360" cy="25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 Box 4"/>
          <p:cNvSpPr/>
          <p:nvPr/>
        </p:nvSpPr>
        <p:spPr>
          <a:xfrm>
            <a:off x="5924160" y="1717560"/>
            <a:ext cx="2980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alence in control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tera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ther stud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ational statistic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th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alence in 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tera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ious stud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Key inform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mon sen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0" y="51814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 epi-inf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2819520" y="2514600"/>
            <a:ext cx="0" cy="144792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14:35:09Z</dcterms:created>
  <dc:creator>lcuevas</dc:creator>
  <dc:description/>
  <dc:language>en-US</dc:language>
  <cp:lastModifiedBy>Computing Services</cp:lastModifiedBy>
  <cp:lastPrinted>2006-01-24T10:39:16Z</cp:lastPrinted>
  <dcterms:modified xsi:type="dcterms:W3CDTF">2008-04-11T07:33:45Z</dcterms:modified>
  <cp:revision>34</cp:revision>
  <dc:subject/>
  <dc:title>No Slide Title</dc:title>
</cp:coreProperties>
</file>