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6E36E-9F9B-4A4C-9E0E-51C09F009FB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7EBA-4D51-4FD2-80FE-311ACD6ED2F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1143000" y="685800"/>
            <a:ext cx="4572000" cy="3429000"/>
          </a:xfrm>
          <a:prstGeom prst="rect">
            <a:avLst/>
          </a:prstGeom>
          <a:ln w="0">
            <a:noFill/>
          </a:ln>
        </p:spPr>
      </p:sp>
      <p:sp>
        <p:nvSpPr>
          <p:cNvPr id="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B828-D7EB-45D8-951D-CF01A26478E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3178B-0E5C-4E15-872A-0F79275DA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D7EB3-1FBF-46F2-869A-C17233D72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DBF2C-AB80-4C7D-A389-5D0947527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59DBF-9D99-44DD-912B-859E2BFC3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CB036-670B-4935-8370-BEEFABBEE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81E5A-78DA-48CD-A4B4-D508D77DC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AB1CD-67F8-4BFB-9688-9C5581F5C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1BDAA-B840-4B06-8261-95D83F6E6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6F25C-FC97-489E-B645-3E1F1D630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872E9-5E8C-426A-8A50-5A6C70348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E7118-D774-4D28-80D9-02C7A1ADC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7A527-76FD-4D04-AE94-F55CD0AE2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C9B27-1E29-4F67-99F6-026B6855F14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oup Work: Discussion of a Cohort study </a:t>
            </a:r>
            <a:endParaRPr b="0" lang="en-US" sz="3600" spc="-1" strike="noStrike">
              <a:solidFill>
                <a:srgbClr val="000000"/>
              </a:solidFill>
              <a:latin typeface="Calibri"/>
            </a:endParaRPr>
          </a:p>
        </p:txBody>
      </p:sp>
      <p:sp>
        <p:nvSpPr>
          <p:cNvPr id="49" name=""/>
          <p:cNvSpPr txBox="1"/>
          <p:nvPr/>
        </p:nvSpPr>
        <p:spPr>
          <a:xfrm>
            <a:off x="428760" y="1071720"/>
            <a:ext cx="8229600" cy="488304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will discuss the following paper: </a:t>
            </a: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000000"/>
                </a:solidFill>
                <a:uFillTx/>
                <a:latin typeface="Calibri"/>
              </a:rPr>
              <a:t>Favorable Cardiovascular Risk Profile in Young Women and Long-term Risk of Cardiovascular and All-Cause Mortality. Daviglus et al. JAMA. 2004;292:1588-1592 (available in your folders)</a:t>
            </a:r>
            <a:endParaRPr b="0" lang="en-US" sz="20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ide your discussion using the questions presented below.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The paper is short and the abstract is very informative. Read it first to get an overview of the paper. Then the group can split in smaller groups to address each question separately, and then feedback to the rest towards the end of the session.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minister carefully your tim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use the CASP Critical appraisal guide to help you better understand the paper. </a:t>
            </a:r>
            <a:br>
              <a:rPr sz="2400"/>
            </a:br>
            <a:r>
              <a:rPr b="0" lang="en-GB" sz="2400" spc="-1" strike="noStrike">
                <a:solidFill>
                  <a:srgbClr val="000000"/>
                </a:solidFill>
                <a:latin typeface="Calibri"/>
              </a:rPr>
              <a:t>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60960" indent="-25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Questions</a:t>
            </a:r>
            <a:br>
              <a:rPr sz="4000"/>
            </a:br>
            <a:endParaRPr b="0" lang="en-US" sz="4800" spc="-1" strike="noStrike">
              <a:solidFill>
                <a:srgbClr val="000000"/>
              </a:solidFill>
              <a:latin typeface="Calibri"/>
            </a:endParaRPr>
          </a:p>
        </p:txBody>
      </p:sp>
      <p:sp>
        <p:nvSpPr>
          <p:cNvPr id="51" name=""/>
          <p:cNvSpPr txBox="1"/>
          <p:nvPr/>
        </p:nvSpPr>
        <p:spPr>
          <a:xfrm>
            <a:off x="457200" y="1285920"/>
            <a:ext cx="8229600" cy="4525920"/>
          </a:xfrm>
          <a:prstGeom prst="rect">
            <a:avLst/>
          </a:prstGeom>
          <a:noFill/>
          <a:ln w="0">
            <a:noFill/>
          </a:ln>
        </p:spPr>
        <p:txBody>
          <a:bodyPr anchor="t">
            <a:normAutofit fontScale="91000"/>
          </a:bodyPr>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ich is the main objective of the study?</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scribe the study :</a:t>
            </a:r>
            <a:endParaRPr b="0" lang="en-US" sz="24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ig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opulatio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outcom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exposur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engths and limitations</a:t>
            </a:r>
            <a:endParaRPr b="0" lang="en-US" sz="2000" spc="-1" strike="noStrike">
              <a:solidFill>
                <a:srgbClr val="000000"/>
              </a:solidFill>
              <a:latin typeface="Calibri"/>
            </a:endParaRPr>
          </a:p>
          <a:p>
            <a:pPr lvl="1" marL="676080" indent="-2599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y a study of CVD risk factors in women?</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2 contradict what we know about CVD epidemiology? </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3 lend support to the risk factor idea?</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0:29:14Z</dcterms:created>
  <dc:creator>Martin O'Flaherty</dc:creator>
  <dc:description/>
  <dc:language>en-US</dc:language>
  <cp:lastModifiedBy>Computing Services</cp:lastModifiedBy>
  <dcterms:modified xsi:type="dcterms:W3CDTF">2008-04-14T12:40:33Z</dcterms:modified>
  <cp:revision>6</cp:revision>
  <dc:subject/>
  <dc:title>Favorable Cardiovascular Risk Profile in Young Women and Long-term Risk of Cardiovascular and All-Cause Mortality </dc:title>
</cp:coreProperties>
</file>