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</p:sldIdLst>
  <p:sldSz cx="9144000" cy="6858000"/>
  <p:notesSz cx="6858000" cy="100123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0" y="0"/>
            <a:ext cx="6858000" cy="1001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dt" idx="25"/>
          </p:nvPr>
        </p:nvSpPr>
        <p:spPr>
          <a:xfrm>
            <a:off x="3884400" y="-360"/>
            <a:ext cx="297180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sldImg"/>
          </p:nvPr>
        </p:nvSpPr>
        <p:spPr>
          <a:xfrm>
            <a:off x="927000" y="750600"/>
            <a:ext cx="5004000" cy="3754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move the slide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body"/>
          </p:nvPr>
        </p:nvSpPr>
        <p:spPr>
          <a:xfrm>
            <a:off x="685800" y="4756320"/>
            <a:ext cx="5486400" cy="450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ftr" idx="26"/>
          </p:nvPr>
        </p:nvSpPr>
        <p:spPr>
          <a:xfrm>
            <a:off x="-360" y="9510480"/>
            <a:ext cx="297180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 type="sldNum" idx="27"/>
          </p:nvPr>
        </p:nvSpPr>
        <p:spPr>
          <a:xfrm>
            <a:off x="3884400" y="9510480"/>
            <a:ext cx="297180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FDF93-9500-495A-AEC4-C48E3597249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927000" y="750960"/>
            <a:ext cx="5004000" cy="375444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756320"/>
            <a:ext cx="5486400" cy="45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Slide Number Placeholder 3"/>
          <p:cNvSpPr/>
          <p:nvPr/>
        </p:nvSpPr>
        <p:spPr>
          <a:xfrm>
            <a:off x="3884760" y="951084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9EEBE-297C-42C8-B24D-3918C0F1365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927000" y="750960"/>
            <a:ext cx="5004000" cy="375444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756320"/>
            <a:ext cx="5486400" cy="45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Slide Number Placeholder 3"/>
          <p:cNvSpPr/>
          <p:nvPr/>
        </p:nvSpPr>
        <p:spPr>
          <a:xfrm>
            <a:off x="3884760" y="951084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66F3E-2C26-4A9C-9ECE-2EECBE0D72A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927000" y="750960"/>
            <a:ext cx="5004000" cy="375444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756320"/>
            <a:ext cx="5486400" cy="45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Slide Number Placeholder 3"/>
          <p:cNvSpPr/>
          <p:nvPr/>
        </p:nvSpPr>
        <p:spPr>
          <a:xfrm>
            <a:off x="3884760" y="951084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746B4-3E63-48B4-81D1-E38E32728D0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927000" y="750960"/>
            <a:ext cx="5004000" cy="375444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756320"/>
            <a:ext cx="5486400" cy="45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Slide Number Placeholder 3"/>
          <p:cNvSpPr/>
          <p:nvPr/>
        </p:nvSpPr>
        <p:spPr>
          <a:xfrm>
            <a:off x="3884760" y="951084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FBC8E-20E2-4532-940B-7E5615C9B7F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927000" y="750960"/>
            <a:ext cx="5004000" cy="375444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756320"/>
            <a:ext cx="5486400" cy="45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Slide Number Placeholder 3"/>
          <p:cNvSpPr/>
          <p:nvPr/>
        </p:nvSpPr>
        <p:spPr>
          <a:xfrm>
            <a:off x="3884760" y="951084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427F2-9A5E-4A32-A47A-C32C3B8C1EB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927000" y="750960"/>
            <a:ext cx="5004000" cy="375444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756320"/>
            <a:ext cx="5486400" cy="45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Slide Number Placeholder 3"/>
          <p:cNvSpPr/>
          <p:nvPr/>
        </p:nvSpPr>
        <p:spPr>
          <a:xfrm>
            <a:off x="3884760" y="951084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09797-90E9-47D8-AD8B-01B3A8CBF2D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927000" y="750960"/>
            <a:ext cx="5004000" cy="375444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756320"/>
            <a:ext cx="5486400" cy="45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Slide Number Placeholder 3"/>
          <p:cNvSpPr/>
          <p:nvPr/>
        </p:nvSpPr>
        <p:spPr>
          <a:xfrm>
            <a:off x="3884760" y="951084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6B128-898C-4738-8300-8597DFE15A2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927000" y="750960"/>
            <a:ext cx="5004000" cy="375444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756320"/>
            <a:ext cx="5486400" cy="45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Slide Number Placeholder 3"/>
          <p:cNvSpPr/>
          <p:nvPr/>
        </p:nvSpPr>
        <p:spPr>
          <a:xfrm>
            <a:off x="3884760" y="951084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6F0AF-5E56-41BD-B669-67C25E4CF2D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927000" y="750960"/>
            <a:ext cx="5004000" cy="375444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756320"/>
            <a:ext cx="5486400" cy="45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Slide Number Placeholder 3"/>
          <p:cNvSpPr/>
          <p:nvPr/>
        </p:nvSpPr>
        <p:spPr>
          <a:xfrm>
            <a:off x="3884760" y="951084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557B9-1C2F-480B-80F8-C68486B9146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19723-F840-4C38-9627-41361AA41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E9537-68E1-40C3-B140-49979A8C9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CF015-2A1C-4690-AFDA-C6330FBBC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58A84-B63E-4E49-8CFB-3D7F0D4DC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24925-97BE-4F98-B572-70C0E120F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F18B9-7D25-441F-89AF-7CAE64C4A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9B52D-DA45-43F0-B93C-5D493A092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7AB29-6E95-4090-9872-C1C8CBFDF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F6A6A-0EF2-45D5-BD41-6A3E4AE2B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79C80-9FF6-40E4-B724-C96469F33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19C00-1273-4B40-9A56-85492A288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397FD-A259-4AD6-A132-7B5F5A6E1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58047-8D6E-44C1-80B6-A08D9967C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79EFA-617B-46AC-AD9D-66FA41362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F850A-2F5A-4B46-923A-81296EF11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A48A3-9DF1-4817-B0BC-090F46598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6789F-1622-4009-88B9-813A1E71C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22AB142-D67B-45E6-9287-ACCFD1FAC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58FBC02-2B24-46DE-83E2-3EE177C0A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6C29409-F18A-406B-8CE0-62E97E307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1211EA2-5591-48A1-AB17-45A635B5B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3F97C4-86EE-4C61-A39E-BEEB7E6F6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75C5E-98B7-4555-BB14-5235BA81F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4109F91-FAFD-4B68-9EB0-14A9F4EBC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4BE7F08-8C50-4E18-ADDA-08EDDA57E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FBD73CA-0589-4BAF-90C5-93250573F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93AD76A-556B-4E18-9388-4258AF433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21CDB22-30DA-447F-9578-A8DE7C819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0D4DC9B-B8F4-437A-B749-C51BD81E6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3D5DE6-128D-4C2E-88CA-5C6038F8F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AFE7D5D-B2B8-41AA-8694-04B7BCC17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B7980E8-E0F2-433E-851C-2BA5B9060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943AC28-6D85-4EFD-8608-0DC7C07F6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1E273-9F4A-4379-B0FF-935E4D5FF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AB148DE-45CF-4E77-8377-5912980E5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74ACD87-70E2-4702-94AC-BC4108C62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45E243B-119A-4BF3-B5C3-E1EB67B82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B8D7E16-D16E-4DE8-B929-5317D39DC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2A9D423-EE56-4722-8A0C-1B204FA8D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D09DF73-B3F9-4B36-B6D0-587C250D8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9D50282-8673-429B-BDA2-6A3C86D51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9C9BC1D-D367-40AC-839D-93A5A497B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187C75B-07B2-4CDB-910D-F66A88505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2371550-4694-40E3-BEAB-D0F7B3119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A1252-4AFA-4888-ACE1-9CC50A978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F3E1C77-1998-4663-8E5C-76432BFDA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B97F123-DD2B-488F-BE95-607F381A9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EC4712D-5819-42AF-92AC-842B1DA10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D24E0C3-940F-4E03-A107-56BD54786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293410D-B567-470B-8B6F-A29B99D02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260788D-8CB1-4766-964F-1F9BB6586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ECD1612-BBBA-4AD3-8903-BFE27001A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824522F-A8ED-4B2F-AC83-229A55B69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52370B9-115B-4EFF-A9A0-341632166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ADCE495-D479-4CC8-AE97-64A54DDA2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443BD-6DD9-484B-9BD1-F9D8BEB97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302C968-04E3-4F8B-9B79-F55FDB4BA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07D36E-D69D-42B0-A12D-2F4895595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0C8C12-7078-4604-8179-A8EABDD69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5099BB-DD99-4720-B687-DBE46C2D8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71CB09-796D-4375-A2A7-D97EE7D85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1B3123-C75B-4D79-8CB7-9E0DF847A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D07394-E438-45D8-AE49-BFDF837C9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056245-1416-49F7-A4E1-08119D670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E3B6BE-5083-4CE1-87E7-4D783C0C2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346323-8FFE-4943-AB16-ABD7168A7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68400-6831-4A7C-B5EC-5C6603103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F22AE6-A721-4EF1-821A-A8F8B881E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4BAC8A-0E05-4844-88A2-6F5073ADC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4F534A-1791-41BB-A9B8-2016EB304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18606DC-AD68-49B2-8ABA-03107DC71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AF54501-DC1C-4C8D-970A-04ECACF6C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A94163A-251E-4048-8893-D57FF765B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F7237DA-43B3-445C-9AF3-B98834A46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C187147-1F2E-4C59-ACCA-95EB2A286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FA497B9-4710-4A6B-A458-78196B8FF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CBBAF6B-8689-4A9B-A1CE-0ED178A05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0D855-C9A9-47D3-A142-8F5200C4A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9B546D4-D1C2-429D-A8B9-765DA2E6C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401362A-982E-4909-8D29-162B3A174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3863BE2-4124-4ABA-95EA-52EBBCB9B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68D67E3-F2A7-4D2C-AE88-693B6FCEB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B29D5F7-90C1-45CF-B28B-F8F7DE67D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CC5563-D221-4054-A1CE-83440447A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AFC85E-ED76-4845-BE63-9E60146A4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33CCB0-88C9-44DA-A84B-8CB34F681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7673C6-5B79-41F0-B1B0-46C391FD1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F46EEB-7FE4-4167-B219-D0C39835F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E041F-690F-4F11-A773-FBDFA95B0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9F6D98-6804-4BB0-800C-CE07F7C4B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516102-22BF-4065-9160-0AD730AB7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34C71B-C0F6-40F4-98FC-4FD8A2D1A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F5B2A5-592D-4ACA-A4DB-2398230C2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D7D50B-6AC3-44D0-BC91-A9A00FA8A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0C4CF0-B160-4FCB-8D51-E45D14523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F190A7-693E-46FE-87BF-F072463E4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3F2C4-D4B4-4915-B24C-9B37D2DDB015}" type="slidenum">
              <a:rPr b="1" lang="en-GB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400" spc="-1" strike="noStrike">
                <a:solidFill>
                  <a:srgbClr val="ebddc3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8BE84-B6EA-418B-ACE8-F48AFBFA770E}" type="slidenum">
              <a:rPr b="1" lang="en-GB" sz="1400" spc="-1" strike="noStrike">
                <a:solidFill>
                  <a:srgbClr val="ebddc3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A7E91-A548-4FE4-80B8-B81502C2B0A6}" type="slidenum">
              <a:rPr b="1" lang="en-GB" sz="2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2D08C-57FA-4F35-B166-83E7C762DC17}" type="slidenum">
              <a:rPr b="1" lang="en-GB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4FC3F-9722-457F-B229-7414C376A0E5}" type="slidenum">
              <a:rPr b="1" lang="en-GB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62EA2-B641-4E1F-9796-7E47DE2F250B}" type="slidenum">
              <a:rPr b="1" lang="en-GB" sz="1400" spc="-1" strike="noStrike">
                <a:solidFill>
                  <a:srgbClr val="775f55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8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A0EB1-B577-4A3C-89AD-C76F617149FC}" type="slidenum">
              <a:rPr b="1" lang="en-GB" sz="28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4291F-3B08-44CE-A50F-17686E2A9DEF}" type="slidenum">
              <a:rPr b="1" lang="en-GB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europa.eu.int/mariecurie-actions" TargetMode="External"/><Relationship Id="rId2" Type="http://schemas.openxmlformats.org/officeDocument/2006/relationships/image" Target="../media/image3.png"/><Relationship Id="rId3" Type="http://schemas.openxmlformats.org/officeDocument/2006/relationships/hyperlink" Target="http://www.medicine.tcd.ie/pharmacology_therapeutics/marie_curie_training_programme/index.php" TargetMode="External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785520" y="1643040"/>
            <a:ext cx="647676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bddc3"/>
                </a:solidFill>
                <a:latin typeface="Tw Cen MT"/>
              </a:rPr>
              <a:t>DATA NEEDS FOR A MODEL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600" spc="-1" strike="noStrike">
              <a:solidFill>
                <a:srgbClr val="ffffff"/>
              </a:solidFill>
              <a:latin typeface="Tw Cen MT"/>
            </a:endParaRPr>
          </a:p>
        </p:txBody>
      </p:sp>
      <p:grpSp>
        <p:nvGrpSpPr>
          <p:cNvPr id="359" name="Group 6"/>
          <p:cNvGrpSpPr/>
          <p:nvPr/>
        </p:nvGrpSpPr>
        <p:grpSpPr>
          <a:xfrm>
            <a:off x="3149640" y="216000"/>
            <a:ext cx="5599080" cy="866520"/>
            <a:chOff x="3149640" y="216000"/>
            <a:chExt cx="5599080" cy="866520"/>
          </a:xfrm>
        </p:grpSpPr>
        <p:pic>
          <p:nvPicPr>
            <p:cNvPr id="360" name="Picture 7" descr="Marie Curies Actions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7396200" y="216000"/>
              <a:ext cx="1352520" cy="86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1" name="Picture 8" descr="Logo">
              <a:hlinkClick r:id="rId3"/>
            </p:cNvPr>
            <p:cNvPicPr/>
            <p:nvPr/>
          </p:nvPicPr>
          <p:blipFill>
            <a:blip r:embed="rId4"/>
            <a:stretch/>
          </p:blipFill>
          <p:spPr>
            <a:xfrm>
              <a:off x="3635280" y="274680"/>
              <a:ext cx="3648240" cy="35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Rectangle 9"/>
            <p:cNvSpPr/>
            <p:nvPr/>
          </p:nvSpPr>
          <p:spPr>
            <a:xfrm>
              <a:off x="3149640" y="647640"/>
              <a:ext cx="3912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e9d333"/>
                  </a:solidFill>
                  <a:latin typeface="Calibri"/>
                </a:rPr>
                <a:t>Cardiovascular Epidemiology and Epidemiological Modelli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3" name="Rectangle 5"/>
          <p:cNvSpPr/>
          <p:nvPr/>
        </p:nvSpPr>
        <p:spPr>
          <a:xfrm>
            <a:off x="1835280" y="4724280"/>
            <a:ext cx="6400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Martin O’Flaher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Simon Capew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Division of Public Heal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University of Liverpo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775f55"/>
                </a:solidFill>
                <a:latin typeface="Tw Cen MT"/>
              </a:rPr>
              <a:t>Model data need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571680" y="157176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Depend on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w Cen MT"/>
              </a:rPr>
              <a:t>Questions to be addressed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w Cen MT"/>
              </a:rPr>
              <a:t>Choice of model logic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w Cen MT"/>
              </a:rPr>
              <a:t>Desired output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w Cen MT"/>
              </a:rPr>
              <a:t>Purpose: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Tw Cen MT"/>
              </a:rPr>
              <a:t>Populate the model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Tw Cen MT"/>
              </a:rPr>
              <a:t>Validate the model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Key issue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w Cen MT"/>
              </a:rPr>
              <a:t>Availability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w Cen MT"/>
              </a:rPr>
              <a:t>Format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6" name="Rectangle 3"/>
          <p:cNvSpPr/>
          <p:nvPr/>
        </p:nvSpPr>
        <p:spPr>
          <a:xfrm>
            <a:off x="1714680" y="5929200"/>
            <a:ext cx="6215040" cy="785880"/>
          </a:xfrm>
          <a:prstGeom prst="rect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w Cen MT"/>
              </a:rPr>
              <a:t>A modeller’s dilemma: Built your model around your dat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w Cen MT"/>
              </a:rPr>
              <a:t>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w Cen MT"/>
              </a:rPr>
              <a:t>Build a model and then gather the dat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775f55"/>
                </a:solidFill>
                <a:latin typeface="Tw Cen MT"/>
              </a:rPr>
              <a:t>A generic model of a chronic disease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8" name="Oval 5"/>
          <p:cNvSpPr/>
          <p:nvPr/>
        </p:nvSpPr>
        <p:spPr>
          <a:xfrm>
            <a:off x="1571760" y="2214720"/>
            <a:ext cx="1643040" cy="1571400"/>
          </a:xfrm>
          <a:prstGeom prst="ellipse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w Cen MT"/>
              </a:rPr>
              <a:t>Healt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Oval 6"/>
          <p:cNvSpPr/>
          <p:nvPr/>
        </p:nvSpPr>
        <p:spPr>
          <a:xfrm>
            <a:off x="4643280" y="2214720"/>
            <a:ext cx="1643400" cy="1571400"/>
          </a:xfrm>
          <a:prstGeom prst="ellipse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w Cen MT"/>
              </a:rPr>
              <a:t>Dise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Oval 7"/>
          <p:cNvSpPr/>
          <p:nvPr/>
        </p:nvSpPr>
        <p:spPr>
          <a:xfrm>
            <a:off x="3429000" y="4572000"/>
            <a:ext cx="1643040" cy="1571760"/>
          </a:xfrm>
          <a:prstGeom prst="ellipse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w Cen MT"/>
              </a:rPr>
              <a:t>Dea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1" name="Straight Arrow Connector 9"/>
          <p:cNvCxnSpPr/>
          <p:nvPr/>
        </p:nvCxnSpPr>
        <p:spPr>
          <a:xfrm>
            <a:off x="3429000" y="2999880"/>
            <a:ext cx="929520" cy="2520"/>
          </a:xfrm>
          <a:prstGeom prst="straightConnector1">
            <a:avLst/>
          </a:prstGeom>
          <a:ln w="57240">
            <a:solidFill>
              <a:srgbClr val="94b6d2"/>
            </a:solidFill>
            <a:miter/>
            <a:tailEnd len="med" type="arrow" w="med"/>
          </a:ln>
        </p:spPr>
      </p:cxnSp>
      <p:cxnSp>
        <p:nvCxnSpPr>
          <p:cNvPr id="372" name="Straight Arrow Connector 10"/>
          <p:cNvCxnSpPr/>
          <p:nvPr/>
        </p:nvCxnSpPr>
        <p:spPr>
          <a:xfrm flipH="1">
            <a:off x="4857480" y="4000320"/>
            <a:ext cx="429120" cy="572040"/>
          </a:xfrm>
          <a:prstGeom prst="straightConnector1">
            <a:avLst/>
          </a:prstGeom>
          <a:ln w="57240">
            <a:solidFill>
              <a:srgbClr val="94b6d2"/>
            </a:solidFill>
            <a:miter/>
            <a:tailEnd len="med" type="arrow" w="med"/>
          </a:ln>
        </p:spPr>
      </p:cxnSp>
      <p:cxnSp>
        <p:nvCxnSpPr>
          <p:cNvPr id="373" name="Straight Arrow Connector 12"/>
          <p:cNvCxnSpPr/>
          <p:nvPr/>
        </p:nvCxnSpPr>
        <p:spPr>
          <a:xfrm>
            <a:off x="2714760" y="3928680"/>
            <a:ext cx="714960" cy="786600"/>
          </a:xfrm>
          <a:prstGeom prst="straightConnector1">
            <a:avLst/>
          </a:prstGeom>
          <a:ln w="57240">
            <a:solidFill>
              <a:srgbClr val="94b6d2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Oval 14"/>
          <p:cNvSpPr/>
          <p:nvPr/>
        </p:nvSpPr>
        <p:spPr>
          <a:xfrm rot="2412600">
            <a:off x="1318680" y="1006560"/>
            <a:ext cx="2819520" cy="4862520"/>
          </a:xfrm>
          <a:prstGeom prst="ellipse">
            <a:avLst/>
          </a:prstGeom>
          <a:solidFill>
            <a:srgbClr val="94b6d2">
              <a:alpha val="25000"/>
            </a:srgbClr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775f55"/>
                </a:solidFill>
                <a:latin typeface="Tw Cen MT"/>
              </a:rPr>
              <a:t>A generic model addressing a generic public health question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6" name="Oval 5"/>
          <p:cNvSpPr/>
          <p:nvPr/>
        </p:nvSpPr>
        <p:spPr>
          <a:xfrm>
            <a:off x="1571760" y="2214720"/>
            <a:ext cx="1643040" cy="1571400"/>
          </a:xfrm>
          <a:prstGeom prst="ellipse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w Cen MT"/>
              </a:rPr>
              <a:t>Healt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Oval 6"/>
          <p:cNvSpPr/>
          <p:nvPr/>
        </p:nvSpPr>
        <p:spPr>
          <a:xfrm>
            <a:off x="4643280" y="2214720"/>
            <a:ext cx="1643400" cy="1571400"/>
          </a:xfrm>
          <a:prstGeom prst="ellipse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w Cen MT"/>
              </a:rPr>
              <a:t>Dise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Oval 7"/>
          <p:cNvSpPr/>
          <p:nvPr/>
        </p:nvSpPr>
        <p:spPr>
          <a:xfrm>
            <a:off x="3429000" y="4572000"/>
            <a:ext cx="1643040" cy="1571760"/>
          </a:xfrm>
          <a:prstGeom prst="ellipse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w Cen MT"/>
              </a:rPr>
              <a:t>Dea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9" name="Straight Arrow Connector 9"/>
          <p:cNvCxnSpPr/>
          <p:nvPr/>
        </p:nvCxnSpPr>
        <p:spPr>
          <a:xfrm>
            <a:off x="3429000" y="2999880"/>
            <a:ext cx="929520" cy="2520"/>
          </a:xfrm>
          <a:prstGeom prst="straightConnector1">
            <a:avLst/>
          </a:prstGeom>
          <a:ln w="57240">
            <a:solidFill>
              <a:srgbClr val="94b6d2"/>
            </a:solidFill>
            <a:miter/>
            <a:tailEnd len="med" type="arrow" w="med"/>
          </a:ln>
        </p:spPr>
      </p:cxnSp>
      <p:cxnSp>
        <p:nvCxnSpPr>
          <p:cNvPr id="380" name="Straight Arrow Connector 10"/>
          <p:cNvCxnSpPr/>
          <p:nvPr/>
        </p:nvCxnSpPr>
        <p:spPr>
          <a:xfrm flipH="1">
            <a:off x="4857480" y="4000320"/>
            <a:ext cx="429120" cy="572040"/>
          </a:xfrm>
          <a:prstGeom prst="straightConnector1">
            <a:avLst/>
          </a:prstGeom>
          <a:ln w="57240">
            <a:solidFill>
              <a:srgbClr val="94b6d2"/>
            </a:solidFill>
            <a:miter/>
            <a:tailEnd len="med" type="arrow" w="med"/>
          </a:ln>
        </p:spPr>
      </p:cxnSp>
      <p:cxnSp>
        <p:nvCxnSpPr>
          <p:cNvPr id="381" name="Straight Arrow Connector 12"/>
          <p:cNvCxnSpPr/>
          <p:nvPr/>
        </p:nvCxnSpPr>
        <p:spPr>
          <a:xfrm>
            <a:off x="2714760" y="3928680"/>
            <a:ext cx="714960" cy="786600"/>
          </a:xfrm>
          <a:prstGeom prst="straightConnector1">
            <a:avLst/>
          </a:prstGeom>
          <a:ln w="57240">
            <a:solidFill>
              <a:srgbClr val="94b6d2"/>
            </a:solidFill>
            <a:miter/>
            <a:tailEnd len="med" type="arrow" w="med"/>
          </a:ln>
        </p:spPr>
      </p:cxnSp>
      <p:sp>
        <p:nvSpPr>
          <p:cNvPr id="382" name="Oval 15"/>
          <p:cNvSpPr/>
          <p:nvPr/>
        </p:nvSpPr>
        <p:spPr>
          <a:xfrm rot="1558200">
            <a:off x="3634920" y="1670040"/>
            <a:ext cx="2605320" cy="5135400"/>
          </a:xfrm>
          <a:prstGeom prst="ellipse">
            <a:avLst/>
          </a:prstGeom>
          <a:solidFill>
            <a:srgbClr val="ba8f2d">
              <a:alpha val="25000"/>
            </a:srgbClr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16"/>
          <p:cNvSpPr/>
          <p:nvPr/>
        </p:nvSpPr>
        <p:spPr>
          <a:xfrm>
            <a:off x="785880" y="4857840"/>
            <a:ext cx="2000160" cy="357120"/>
          </a:xfrm>
          <a:prstGeom prst="rect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w Cen MT"/>
              </a:rPr>
              <a:t>Primary Preven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ctangle 17"/>
          <p:cNvSpPr/>
          <p:nvPr/>
        </p:nvSpPr>
        <p:spPr>
          <a:xfrm>
            <a:off x="2786040" y="6286680"/>
            <a:ext cx="2500200" cy="357120"/>
          </a:xfrm>
          <a:prstGeom prst="rect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w Cen MT"/>
              </a:rPr>
              <a:t>Secondary Preven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775f55"/>
                </a:solidFill>
                <a:latin typeface="Tw Cen MT"/>
              </a:rPr>
              <a:t>A generic model of a chronic disease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6" name="Oval 5"/>
          <p:cNvSpPr/>
          <p:nvPr/>
        </p:nvSpPr>
        <p:spPr>
          <a:xfrm>
            <a:off x="1571760" y="2214720"/>
            <a:ext cx="1643040" cy="1571400"/>
          </a:xfrm>
          <a:prstGeom prst="ellipse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w Cen MT"/>
              </a:rPr>
              <a:t>Healt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Oval 6"/>
          <p:cNvSpPr/>
          <p:nvPr/>
        </p:nvSpPr>
        <p:spPr>
          <a:xfrm>
            <a:off x="4643280" y="2214720"/>
            <a:ext cx="1643400" cy="1571400"/>
          </a:xfrm>
          <a:prstGeom prst="ellipse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w Cen MT"/>
              </a:rPr>
              <a:t>Dise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Oval 7"/>
          <p:cNvSpPr/>
          <p:nvPr/>
        </p:nvSpPr>
        <p:spPr>
          <a:xfrm>
            <a:off x="3429000" y="4572000"/>
            <a:ext cx="1643040" cy="1571760"/>
          </a:xfrm>
          <a:prstGeom prst="ellipse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w Cen MT"/>
              </a:rPr>
              <a:t>Dea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9" name="Straight Arrow Connector 9"/>
          <p:cNvCxnSpPr/>
          <p:nvPr/>
        </p:nvCxnSpPr>
        <p:spPr>
          <a:xfrm>
            <a:off x="3429000" y="2999880"/>
            <a:ext cx="929520" cy="2520"/>
          </a:xfrm>
          <a:prstGeom prst="straightConnector1">
            <a:avLst/>
          </a:prstGeom>
          <a:ln w="57240">
            <a:solidFill>
              <a:srgbClr val="94b6d2"/>
            </a:solidFill>
            <a:miter/>
            <a:tailEnd len="med" type="arrow" w="med"/>
          </a:ln>
        </p:spPr>
      </p:cxnSp>
      <p:cxnSp>
        <p:nvCxnSpPr>
          <p:cNvPr id="390" name="Straight Arrow Connector 10"/>
          <p:cNvCxnSpPr/>
          <p:nvPr/>
        </p:nvCxnSpPr>
        <p:spPr>
          <a:xfrm flipH="1">
            <a:off x="4857480" y="4000320"/>
            <a:ext cx="429120" cy="572040"/>
          </a:xfrm>
          <a:prstGeom prst="straightConnector1">
            <a:avLst/>
          </a:prstGeom>
          <a:ln w="57240">
            <a:solidFill>
              <a:srgbClr val="94b6d2"/>
            </a:solidFill>
            <a:miter/>
            <a:tailEnd len="med" type="arrow" w="med"/>
          </a:ln>
        </p:spPr>
      </p:cxnSp>
      <p:cxnSp>
        <p:nvCxnSpPr>
          <p:cNvPr id="391" name="Straight Arrow Connector 12"/>
          <p:cNvCxnSpPr/>
          <p:nvPr/>
        </p:nvCxnSpPr>
        <p:spPr>
          <a:xfrm>
            <a:off x="2714760" y="3928680"/>
            <a:ext cx="714960" cy="786600"/>
          </a:xfrm>
          <a:prstGeom prst="straightConnector1">
            <a:avLst/>
          </a:prstGeom>
          <a:ln w="57240">
            <a:solidFill>
              <a:srgbClr val="94b6d2"/>
            </a:solidFill>
            <a:miter/>
            <a:tailEnd len="med" type="arrow" w="med"/>
          </a:ln>
        </p:spPr>
      </p:cxnSp>
      <p:sp>
        <p:nvSpPr>
          <p:cNvPr id="392" name="Down Arrow Callout 8"/>
          <p:cNvSpPr/>
          <p:nvPr/>
        </p:nvSpPr>
        <p:spPr>
          <a:xfrm>
            <a:off x="3500280" y="1643040"/>
            <a:ext cx="857520" cy="1071720"/>
          </a:xfrm>
          <a:prstGeom prst="downArrowCallout">
            <a:avLst>
              <a:gd name="adj1" fmla="val 25002"/>
              <a:gd name="adj2" fmla="val 25000"/>
              <a:gd name="adj3" fmla="val 24996"/>
              <a:gd name="adj4" fmla="val 64977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ffffff"/>
                </a:solidFill>
                <a:latin typeface="Tw Cen MT"/>
              </a:rPr>
              <a:t>What determin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ffffff"/>
                </a:solidFill>
                <a:latin typeface="Tw Cen MT"/>
              </a:rPr>
              <a:t>INCIDENC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Left Arrow Callout 11"/>
          <p:cNvSpPr/>
          <p:nvPr/>
        </p:nvSpPr>
        <p:spPr>
          <a:xfrm>
            <a:off x="6000840" y="4214880"/>
            <a:ext cx="1714320" cy="857160"/>
          </a:xfrm>
          <a:prstGeom prst="leftArrowCallout">
            <a:avLst>
              <a:gd name="adj1" fmla="val 25002"/>
              <a:gd name="adj2" fmla="val 25000"/>
              <a:gd name="adj3" fmla="val 25000"/>
              <a:gd name="adj4" fmla="val 64983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w Cen MT"/>
              </a:rPr>
              <a:t>What Determines progn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Left Arrow Callout 13"/>
          <p:cNvSpPr/>
          <p:nvPr/>
        </p:nvSpPr>
        <p:spPr>
          <a:xfrm>
            <a:off x="6429240" y="2214720"/>
            <a:ext cx="1214640" cy="785520"/>
          </a:xfrm>
          <a:prstGeom prst="leftArrowCallout">
            <a:avLst>
              <a:gd name="adj1" fmla="val 25002"/>
              <a:gd name="adj2" fmla="val 25000"/>
              <a:gd name="adj3" fmla="val 25013"/>
              <a:gd name="adj4" fmla="val 64983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w Cen MT"/>
              </a:rPr>
              <a:t>How large  are the grou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5" name="Straight Arrow Connector 15"/>
          <p:cNvCxnSpPr/>
          <p:nvPr/>
        </p:nvCxnSpPr>
        <p:spPr>
          <a:xfrm>
            <a:off x="1071360" y="4071600"/>
            <a:ext cx="1929240" cy="1857960"/>
          </a:xfrm>
          <a:prstGeom prst="straightConnector1">
            <a:avLst/>
          </a:prstGeom>
          <a:ln w="76320">
            <a:solidFill>
              <a:srgbClr val="94b6d2"/>
            </a:solidFill>
            <a:miter/>
            <a:tailEnd len="med" type="triangle" w="med"/>
          </a:ln>
        </p:spPr>
      </p:cxnSp>
      <p:sp>
        <p:nvSpPr>
          <p:cNvPr id="396" name="Right Arrow Callout 21"/>
          <p:cNvSpPr/>
          <p:nvPr/>
        </p:nvSpPr>
        <p:spPr>
          <a:xfrm>
            <a:off x="857160" y="4786200"/>
            <a:ext cx="1071720" cy="714600"/>
          </a:xfrm>
          <a:prstGeom prst="rightArrowCallout">
            <a:avLst>
              <a:gd name="adj1" fmla="val 25002"/>
              <a:gd name="adj2" fmla="val 25000"/>
              <a:gd name="adj3" fmla="val 24996"/>
              <a:gd name="adj4" fmla="val 64977"/>
            </a:avLst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w Cen MT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775f55"/>
                </a:solidFill>
                <a:latin typeface="Tw Cen MT"/>
              </a:rPr>
              <a:t>A summary of IMPACT data need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Tw Cen MT"/>
              </a:rPr>
              <a:t>Number of people in each group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In each risk factor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In each disease subgroup (eg: AMI, UA, CA, HF)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Number of death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Tw Cen MT"/>
              </a:rPr>
              <a:t>What determines incidence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Risk factors effect measures (RR or b)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Tw Cen MT"/>
              </a:rPr>
              <a:t>What determines prognosis: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Case fatality rates for each disease group (rates)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Interventions that reduce case fatality (RRR)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Uptake of those interventions (%)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775f55"/>
                </a:solidFill>
                <a:latin typeface="Tw Cen MT"/>
              </a:rPr>
              <a:t>A summary of IMPACT data need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Take into account tim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w Cen MT"/>
              </a:rPr>
              <a:t>Trends of: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Tw Cen MT"/>
              </a:rPr>
              <a:t>Number of people in each group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Tw Cen MT"/>
              </a:rPr>
              <a:t>Levels of risk factors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Tw Cen MT"/>
              </a:rPr>
              <a:t>Levels of uptake of treatments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Data to validate the mod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w Cen MT"/>
              </a:rPr>
              <a:t>Observed mortality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775f55"/>
                </a:solidFill>
                <a:latin typeface="Tw Cen MT"/>
              </a:rPr>
              <a:t>Some last (but not least) data need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Tw Cen MT"/>
              </a:rPr>
              <a:t>Data to support assumptions: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Needed to fill gaps in knowledge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They are guesses, but the better the data supporting the guess the better the guess.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An example: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lnSpc>
                <a:spcPct val="90000"/>
              </a:lnSpc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w Cen MT"/>
              </a:rPr>
              <a:t>“</a:t>
            </a:r>
            <a:r>
              <a:rPr b="0" lang="en-GB" sz="2100" spc="-1" strike="noStrike" u="sng">
                <a:solidFill>
                  <a:srgbClr val="000000"/>
                </a:solidFill>
                <a:uFillTx/>
                <a:latin typeface="Tw Cen MT"/>
              </a:rPr>
              <a:t>English</a:t>
            </a:r>
            <a:r>
              <a:rPr b="0" lang="en-GB" sz="2100" spc="-1" strike="noStrike">
                <a:solidFill>
                  <a:srgbClr val="000000"/>
                </a:solidFill>
                <a:latin typeface="Tw Cen MT"/>
              </a:rPr>
              <a:t> fatality rates: </a:t>
            </a:r>
            <a:r>
              <a:rPr b="0" lang="en-GB" sz="2100" spc="-1" strike="noStrike" u="sng">
                <a:solidFill>
                  <a:srgbClr val="000000"/>
                </a:solidFill>
                <a:uFillTx/>
                <a:latin typeface="Tw Cen MT"/>
              </a:rPr>
              <a:t>Scottish</a:t>
            </a:r>
            <a:r>
              <a:rPr b="0" lang="en-GB" sz="2100" spc="-1" strike="noStrike">
                <a:solidFill>
                  <a:srgbClr val="000000"/>
                </a:solidFill>
                <a:latin typeface="Tw Cen MT"/>
              </a:rPr>
              <a:t> SLIDE  data adjusted using England/Scotland SMR </a:t>
            </a:r>
            <a:r>
              <a:rPr b="0" lang="en-GB" sz="1200" spc="-1" strike="noStrike">
                <a:solidFill>
                  <a:srgbClr val="000000"/>
                </a:solidFill>
                <a:latin typeface="Tw Cen MT"/>
              </a:rPr>
              <a:t>(see http://www.heartstats.org/temp/Tabsp1.6spweb06spup.XLS)”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Tw Cen MT"/>
              </a:rPr>
              <a:t>Data will need: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Critical appraisal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Adaptation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w Cen MT"/>
              </a:rPr>
              <a:t>Documented (appendices)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775f55"/>
                </a:solidFill>
                <a:latin typeface="Tw Cen MT"/>
              </a:rPr>
              <a:t>The data gathering task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This phase of a modelling project is critical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w Cen MT"/>
              </a:rPr>
              <a:t>Defines feasibility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w Cen MT"/>
              </a:rPr>
              <a:t>Defines the quality of the final product (the principle of “garbage IN, garbage OUT”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w Cen MT"/>
              </a:rPr>
              <a:t>It is time consuming: it will take a large amount of the available resources.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w Cen MT"/>
              </a:rPr>
              <a:t>But as any activity in a modelling exercise, data gathering is an ITERATION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w Cen MT"/>
              </a:rPr>
              <a:t>We start simple, and we add layers of greater complexity.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1:13:36Z</dcterms:created>
  <dc:creator>O'Flaherty</dc:creator>
  <dc:description/>
  <dc:language>en-US</dc:language>
  <cp:lastModifiedBy>Computing Services</cp:lastModifiedBy>
  <dcterms:modified xsi:type="dcterms:W3CDTF">2008-04-14T10:12:33Z</dcterms:modified>
  <cp:revision>8</cp:revision>
  <dc:subject/>
  <dc:title>Data Needs for a Model</dc:title>
</cp:coreProperties>
</file>