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DFA7-0BBB-4984-8E21-D76935558E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A570-D7FD-43D8-A660-9910A0DB681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4FE5-5C1D-4333-B68A-688246F8F03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A090-ABC6-4B09-944C-0D71D8D74A0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D64C-485B-433F-85C4-4A9FACABAC9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F5A6-72FC-4633-911D-24DCB156711C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63EA-FFD8-4433-881F-085B110BC2A2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C8E0-136E-40C9-BBE2-E9F8BDE798A4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1719-2507-4AE3-B9A1-65F192029B72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8825-31D4-4B2F-BE51-A3EA424FF99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9162-EAD9-49CF-94FD-28D1C9BAC81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FB9D-91A4-4486-B859-F94F56399E8C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io factors that get you to attend one hos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D52A-A309-40A4-A869-18ABD7156BC6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55BC-20CF-4338-B1B4-816E2FF57D5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96D1-8B05-41D4-888B-334F2A83FC7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A361-A23F-4EB2-98B4-D383BF49459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4760-0633-4B8F-91A8-D9C740E4701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86D2-DB12-45ED-B531-33B7E4830F3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A418-B974-41FD-BFED-4CC16728AC14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5B62-611D-4576-9166-222113399FC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4628-142E-43DA-A896-F6E9EB06C30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81A0-2EBB-4D85-B456-AE7D3566D18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91A9-1169-413E-A945-AAB6E302B2EF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6A78-FBCC-4F19-9620-2187BCC7C21F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8DBB-771D-413F-A6B5-1CD274A1F44F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6272-05FF-44FE-84B4-F493626C3EC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0B1D-6D8D-4A19-B22C-30201909C1F6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33C8-FF2C-4F59-B024-8EB61A3E7DD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4673-ACB0-4069-995E-5284179A0F82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6F43-F689-41F4-A4E8-5275FAA966C7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60FE-3219-45CC-807E-137F48993BD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ADEC-437C-4EE9-8A45-E05C7324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ACDF-2EA0-464E-8E11-6436ABE1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239E-F77E-4BDF-B96D-1F8D713B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35F-0B9D-4960-92C7-7FEE957A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7D0F-D157-4B28-9386-254912B4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097E-41E1-4C9E-9A80-3CA0C70A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02C8-3800-44D6-9AD9-CDAA7787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F14C-6552-4F0D-99E2-7B41F2FE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60AF-F360-4603-ACD8-1D4879BC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8B14-78A7-40DE-AC10-59BB8B28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230D-5DCF-4E15-8D15-674FD7EF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E45-68EF-4C04-BBB1-1A6C98EC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EB9E-30C2-4245-B5C6-2765F395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6975-30CF-423E-9642-58BCE8D1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9BDD-87FD-4302-AEFA-E505D148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4696-684A-4BD0-A13A-F8525279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3B5B-F259-48CE-91F0-02B3A9F9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01A-DB68-4614-B292-D8FBD488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07D8-42BB-4090-9042-FA8C415E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844-53F4-4955-AB1D-59ABFAF8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2B9C-72BF-4E89-B56C-F22CC173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8C01-9D01-4511-9CC5-EACF3573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6E0E-3751-4103-8A9D-ED38FD95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CAB8-E37B-485F-9C8D-31264077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03C8-453B-48FD-9A96-618A3EC093B6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027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9231-B27A-4237-A3BA-9F5EC6554035}" type="slidenum">
              <a:rPr b="0" lang="en-GB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se-control stud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r Luis E Cuevas – LST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Julia Critchle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osure to risk factor/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1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219320" y="1752480"/>
            <a:ext cx="7315200" cy="426744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1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 exposure higher/lower in case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1080" y="2057400"/>
            <a:ext cx="1524240" cy="60948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12440" y="965160"/>
            <a:ext cx="63118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en are these studies most useful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2398680"/>
            <a:ext cx="820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imited information on risk factors (some times carried out before cohort studi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idence of the disease is low (rare diseas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udy many risk factors simultaneous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7160" y="112680"/>
            <a:ext cx="86374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Major problem with case-control studies is bias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election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ifferences in people who select themselves for studies compared with those who do no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easurement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ividual measurements of disease or exposure are more likely to be incorr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call bias in case-contro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How might you reduce these biases in practic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uggestion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762120" y="685800"/>
            <a:ext cx="335268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7315200" y="3048120"/>
            <a:ext cx="21337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38880" y="1523880"/>
            <a:ext cx="221004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85800" y="4419720"/>
            <a:ext cx="8458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are the factors that put a person at 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gher risk of suffering from CH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1828800"/>
            <a:ext cx="914400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0" y="3581280"/>
            <a:ext cx="9144000" cy="129564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hysical activity and risk of coronary heart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7238880" y="2819520"/>
            <a:ext cx="190512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191120" y="1828800"/>
            <a:ext cx="380988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 CH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038480" y="4191120"/>
            <a:ext cx="396252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out CH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600200" y="1905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676520" y="4267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1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11480" cy="50691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760680" y="533520"/>
            <a:ext cx="26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 defin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257800" y="2057400"/>
            <a:ext cx="35812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ospit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ealth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ent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ngle poi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erio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agno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5332320" y="609480"/>
            <a:ext cx="29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/s of c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0" y="1143000"/>
            <a:ext cx="9144000" cy="3808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5029200" y="5334120"/>
            <a:ext cx="304920" cy="68580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179280" y="4005360"/>
            <a:ext cx="4176720" cy="143964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179280" y="2205000"/>
            <a:ext cx="4191120" cy="165564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fficult and critical issu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dividuals who would have been selected as cases if they had the disease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ame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arability to cases essentia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urce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4476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pecial group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iends, neighbors, relativ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ideal control group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nalytical (Observational) Epidemio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im to identify potential associations between ‘risk’ factors and a particular disease or outco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971640" y="476280"/>
            <a:ext cx="33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s of contr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475680" y="19051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spital 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553080" y="2631960"/>
            <a:ext cx="213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limitations of the control group should be taken into account when interpreting findin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762120" y="1676520"/>
            <a:ext cx="5715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62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517680" y="1557360"/>
            <a:ext cx="4005000" cy="41767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539640" y="2492280"/>
            <a:ext cx="3961080" cy="93672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ll by defini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smok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alcoho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lativ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tic 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ocio-economic condit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ographical situ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lling to collaborat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xie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ot always 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ighbou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aiting to return from wor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hare environm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rally un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reliable (recall bias?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cooperativ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1143000" y="762120"/>
            <a:ext cx="62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ist potential risk fac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457200" y="2168640"/>
            <a:ext cx="4137120" cy="39970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3"/>
          <p:cNvSpPr/>
          <p:nvPr/>
        </p:nvSpPr>
        <p:spPr>
          <a:xfrm>
            <a:off x="395280" y="2997360"/>
            <a:ext cx="4248000" cy="230328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Recap – confound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838080" y="2971800"/>
            <a:ext cx="7562880" cy="3886200"/>
            <a:chOff x="838080" y="2971800"/>
            <a:chExt cx="7562880" cy="3886200"/>
          </a:xfrm>
        </p:grpSpPr>
        <p:sp>
          <p:nvSpPr>
            <p:cNvPr id="208" name="Oval 3"/>
            <p:cNvSpPr/>
            <p:nvPr/>
          </p:nvSpPr>
          <p:spPr>
            <a:xfrm>
              <a:off x="1066680" y="5257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cc"/>
                  </a:solidFill>
                  <a:latin typeface="Tahoma"/>
                </a:rPr>
                <a:t>smoking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Oval 4"/>
            <p:cNvSpPr/>
            <p:nvPr/>
          </p:nvSpPr>
          <p:spPr>
            <a:xfrm>
              <a:off x="838080" y="2971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Physical 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activit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6248520" y="3353040"/>
              <a:ext cx="2152440" cy="703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cc00"/>
                  </a:solidFill>
                  <a:latin typeface="Arial"/>
                </a:rPr>
                <a:t>mortality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24080" y="342900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AutoShape 7"/>
            <p:cNvSpPr/>
            <p:nvPr/>
          </p:nvSpPr>
          <p:spPr>
            <a:xfrm rot="20229600">
              <a:off x="3352680" y="449568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AutoShape 8"/>
            <p:cNvSpPr/>
            <p:nvPr/>
          </p:nvSpPr>
          <p:spPr>
            <a:xfrm>
              <a:off x="1600200" y="4648320"/>
              <a:ext cx="457200" cy="457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Rectangle 9"/>
          <p:cNvSpPr/>
          <p:nvPr/>
        </p:nvSpPr>
        <p:spPr>
          <a:xfrm>
            <a:off x="4802040" y="502920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confoun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457200" y="12952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A variable is a confounder if it is associated with the outcome of interest (death) and independently with the risk factor of interest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We are interested in the relationship between physical activity and CHD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Infant death. Smoking is also associated with CHD, and smoking and physical activity are associated with each other. Smoking is therefore a confoun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of the relationship between physical activity and CHD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1054800" y="609480"/>
            <a:ext cx="2454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onfound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ac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600200" y="2209680"/>
            <a:ext cx="3124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estri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c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Stratified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Multiple reg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0" name="Picture 4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"/>
          <p:cNvSpPr/>
          <p:nvPr/>
        </p:nvSpPr>
        <p:spPr>
          <a:xfrm>
            <a:off x="317520" y="720000"/>
            <a:ext cx="86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tching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43434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12"/>
          <p:cNvSpPr/>
          <p:nvPr/>
        </p:nvSpPr>
        <p:spPr>
          <a:xfrm>
            <a:off x="586728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75438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 avoid confound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ge and se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difficult to analy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ssible to ‘overmatch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ssessing Causalit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tatistically significant Odds Ratios show that there are associations between the risk factor (physical activity) and the disease (CHD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y don’t prove this relationship is caus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12024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Criteria for assessing causality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(Bradford Hill)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xposure before onset of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Strength of associ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ependence from confound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in different populations with different levels of expos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with different studies in different setting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ose-response relationshi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Biologically plausi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vidence from anima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moval of exposure reduces ris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Strength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Good for study of rare dise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Long latent perio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an look at multiple risk factors for a single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Quicker and cheaper than cohort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7"/>
          <p:cNvSpPr/>
          <p:nvPr/>
        </p:nvSpPr>
        <p:spPr>
          <a:xfrm>
            <a:off x="1984680" y="304920"/>
            <a:ext cx="45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Times New Roman"/>
              </a:rPr>
              <a:t>Case-control studi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- summa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efficient for the evaluation of rare exposu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lection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asurement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all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fficult to interpre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incidence r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‘causation’, only associ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/>
          <p:cNvSpPr/>
          <p:nvPr/>
        </p:nvSpPr>
        <p:spPr>
          <a:xfrm>
            <a:off x="1598040" y="2743200"/>
            <a:ext cx="21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th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294200" y="5486400"/>
            <a:ext cx="267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ithou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Differences between cohort studies and case-contro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s – start with expos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s – start with dise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Rectangle 1028"/>
          <p:cNvSpPr/>
          <p:nvPr/>
        </p:nvSpPr>
        <p:spPr>
          <a:xfrm>
            <a:off x="914400" y="289548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Line 1029"/>
          <p:cNvSpPr/>
          <p:nvPr/>
        </p:nvSpPr>
        <p:spPr>
          <a:xfrm>
            <a:off x="2514600" y="3276720"/>
            <a:ext cx="35053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030"/>
          <p:cNvSpPr/>
          <p:nvPr/>
        </p:nvSpPr>
        <p:spPr>
          <a:xfrm>
            <a:off x="6172200" y="289548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1031"/>
          <p:cNvSpPr/>
          <p:nvPr/>
        </p:nvSpPr>
        <p:spPr>
          <a:xfrm>
            <a:off x="1066680" y="502920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1033"/>
          <p:cNvSpPr/>
          <p:nvPr/>
        </p:nvSpPr>
        <p:spPr>
          <a:xfrm>
            <a:off x="6172200" y="502920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Line 1034"/>
          <p:cNvSpPr/>
          <p:nvPr/>
        </p:nvSpPr>
        <p:spPr>
          <a:xfrm>
            <a:off x="2590920" y="5486400"/>
            <a:ext cx="35049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art by defining a CA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47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nical definition may be insuffici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of criteri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roducibil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rtainty of diagnosi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ven, very likely, possi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r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ld, Moderate, Seve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UALLY INCIDENT CASES (newly diagnos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27"/>
          <p:cNvSpPr/>
          <p:nvPr/>
        </p:nvSpPr>
        <p:spPr>
          <a:xfrm>
            <a:off x="1295280" y="20574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How man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1028"/>
          <p:cNvSpPr/>
          <p:nvPr/>
        </p:nvSpPr>
        <p:spPr>
          <a:xfrm>
            <a:off x="1295280" y="4876920"/>
            <a:ext cx="24386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imes New Roman"/>
              </a:rPr>
              <a:t>How many controls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1029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30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34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3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3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4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842760"/>
            <a:ext cx="7683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How many cases and controls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sed o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vailability of cases and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the main risk facto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view the prevalence of the risk factor in the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at would be the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xpecte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valenc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the risk factor in c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pi-Info -  ask a statistici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pected differen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62120" y="2286000"/>
          <a:ext cx="4797360" cy="25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479736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4"/>
          <p:cNvSpPr/>
          <p:nvPr/>
        </p:nvSpPr>
        <p:spPr>
          <a:xfrm>
            <a:off x="5924160" y="1717560"/>
            <a:ext cx="2980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ontro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ational statist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ious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ey infor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mon sen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0" y="51814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epi-inf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2819520" y="2514600"/>
            <a:ext cx="0" cy="14479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14:35:09Z</dcterms:created>
  <dc:creator>lcuevas</dc:creator>
  <dc:description/>
  <dc:language>en-US</dc:language>
  <cp:lastModifiedBy>Computing Services</cp:lastModifiedBy>
  <cp:lastPrinted>2006-01-24T10:39:16Z</cp:lastPrinted>
  <dcterms:modified xsi:type="dcterms:W3CDTF">2008-04-11T07:33:45Z</dcterms:modified>
  <cp:revision>34</cp:revision>
  <dc:subject/>
  <dc:title>No Slide Title</dc:title>
</cp:coreProperties>
</file>