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83C-1AF6-4077-911C-E235C802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E49-CCD5-4F01-8041-F6074264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3A5-3199-4B90-8750-CDB9720D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E73-58AF-47A6-A4FD-520E29C6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A9E-2D80-4D70-9622-4A1BAFB2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EB6-B3F5-4C4E-8EB8-3426FF64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9B0-EAC5-4815-B28A-0145C59E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17D-52DB-46EA-BBC1-7FB97B7A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CF9-7D16-4878-B6D3-3CC9CB88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A57-CE44-4B19-9B45-97DD7BB3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838-CE73-4139-BAC9-CFBEDE11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15C-6797-4784-BC29-7EA0BA39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4D1C-2BF4-4473-907A-85E3BCFBC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ing the effect of thrombolytics for use in a mod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mbolytics: what are the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group has to complete a table by extracting relevant pieces of evidence from publish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have at your disposal the following pap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es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ar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2;87;308-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igent (ISIS-2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MJ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8;316;1337-13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the table, justify any assumption you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data by 10 year age-groups and s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terested in short term mortality (30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1649520"/>
          <a:ext cx="8229600" cy="3558960"/>
        </p:xfrm>
        <a:graphic>
          <a:graphicData uri="http://schemas.openxmlformats.org/drawingml/2006/table">
            <a:tbl>
              <a:tblPr/>
              <a:tblGrid>
                <a:gridCol w="1881360"/>
                <a:gridCol w="1663560"/>
                <a:gridCol w="1550880"/>
                <a:gridCol w="1747800"/>
                <a:gridCol w="138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-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mbolitics, AMI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000080"/>
            <a:ext cx="746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960" y="785880"/>
            <a:ext cx="8126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0"/>
          <a:ext cx="8229600" cy="6594480"/>
        </p:xfrm>
        <a:graphic>
          <a:graphicData uri="http://schemas.openxmlformats.org/drawingml/2006/table">
            <a:tbl>
              <a:tblPr/>
              <a:tblGrid>
                <a:gridCol w="488880"/>
                <a:gridCol w="2198880"/>
                <a:gridCol w="1112760"/>
                <a:gridCol w="2104920"/>
                <a:gridCol w="1214640"/>
                <a:gridCol w="620640"/>
                <a:gridCol w="488880"/>
              </a:tblGrid>
              <a:tr h="2156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DATED NOV 2006 latest treatment effectiveness data from USA model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cute myocardial infarction (ACUTE TREATMENT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ess 2002, updated F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rombolysis , RRR, 30 day mort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i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 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int estim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65 -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65 to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08:52Z</dcterms:created>
  <dc:creator>Martin O'Flaherty</dc:creator>
  <dc:description/>
  <dc:language>en-US</dc:language>
  <cp:lastModifiedBy>Martin O'Flaherty</cp:lastModifiedBy>
  <dcterms:modified xsi:type="dcterms:W3CDTF">2007-06-21T08:55:50Z</dcterms:modified>
  <cp:revision>3</cp:revision>
  <dc:subject/>
  <dc:title>Estimating the effect of thrombolytics for use in a model </dc:title>
</cp:coreProperties>
</file>