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642F-9A21-442D-9A63-94C6CC34D5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B91F-5373-41A2-92F1-AD32CE5843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2261-2F64-497F-98AF-EE94EA42DC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D1B3-ED67-408B-B74A-142EE5E133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5CC7-DBD9-40B5-8D4A-BF229C4C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5516-DC17-420D-B8E7-8932530E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9B83-FAAB-448D-A0A9-3E22C134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4B60-7286-4B95-BC72-B34ED6E62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F75D-4DE7-4740-980B-EB7CDDA2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ABB7-BA3C-491C-8A6C-6E43C2CA7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3BEC-7909-41C7-B8AE-1A97ABEB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6762-989C-4375-ABA5-6ED37B77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C85C-790D-408B-B17B-A4F42CE5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05FD-72A7-43D7-A0F8-2A87602B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6DC3-D408-44F8-8AE8-AC005A7B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FEAC-A97E-412A-A46B-F68E3D6D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37DF-EBBB-4272-A862-D36558BBB6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50% Myth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we need new cardiovascular risk factors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Myth: “ just 50% of CHD cases are explained by classical risk factors “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obert Beaglehole (2002)  stated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 J Epidemiol. 2002 Dec;31(6):1117-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ource of this assertion is very difficult to dis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idence from existing studies shows that the classical risk factors explain most cases of CH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luded the search for new CHD risk factors is just occupational therapy for epidemiolog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re recently, InterHEART, an international case-control study provided valuable data to use in this deba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The exercis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lease address these question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proportion of CHD burden could be attributed to diet and lifestyle risk factor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stify your answer and support it  from the strengths you identify in this 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der the weaknesses that you identified in this paper, what other evidence you will need to support your conclu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odolog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de  4 groups. All groups starts with the abstract. Then groups will share out the sections, one group doing Introduction, one the Methods, Results [first three paragraphs , please focus on Table 3,4 and 5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e critical appraisal skills checklist to help you decide on the quality of this case-control study and to summarize the main resul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41400" y="1600200"/>
          <a:ext cx="89233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0" y="1600200"/>
                    <a:ext cx="89233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3"/>
          <p:cNvSpPr/>
          <p:nvPr/>
        </p:nvSpPr>
        <p:spPr>
          <a:xfrm>
            <a:off x="45720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TERHEART Study </a:t>
            </a: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”nine potentially modifiable risk factors account for over 90% of the risk of an initial acute myocardial infarction”  </a:t>
            </a:r>
            <a:r>
              <a:rPr b="1" i="1" lang="en-GB" sz="2100" spc="-1" strike="noStrike">
                <a:solidFill>
                  <a:srgbClr val="ffff00"/>
                </a:solidFill>
                <a:latin typeface="Arial"/>
              </a:rPr>
              <a:t>Population attributable risk fraction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57200" y="62485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Salim Yusuf et al .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 </a:t>
            </a: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Effect of potentially modifiable risk factors associated with myocardial infarction in 52 countries (the INTERHEART study).  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L</a:t>
            </a:r>
            <a:r>
              <a:rPr b="1" i="1" lang="en-GB" sz="1400" spc="-1" strike="noStrike">
                <a:solidFill>
                  <a:srgbClr val="ff9933"/>
                </a:solidFill>
                <a:latin typeface="Comic Sans MS"/>
              </a:rPr>
              <a:t>ancet </a:t>
            </a:r>
            <a:r>
              <a:rPr b="1" i="1" lang="en-GB" sz="1200" spc="-1" strike="noStrike">
                <a:solidFill>
                  <a:srgbClr val="ff9933"/>
                </a:solidFill>
                <a:latin typeface="Verdana"/>
                <a:ea typeface="Times New Roman"/>
              </a:rPr>
              <a:t> 364  9437   11 Sept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457200" y="6858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ff00"/>
                </a:solidFill>
                <a:latin typeface="Comic Sans MS"/>
              </a:rPr>
              <a:t> </a:t>
            </a: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INTERHEART 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en-GB" sz="4400" spc="-1" strike="noStrike">
                <a:solidFill>
                  <a:srgbClr val="ffff00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457200" y="6248520"/>
            <a:ext cx="8229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Salim Yusuf et al .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 </a:t>
            </a:r>
            <a:r>
              <a:rPr b="1" i="1" lang="en-GB" sz="1400" spc="-1" strike="noStrike">
                <a:solidFill>
                  <a:srgbClr val="ff9933"/>
                </a:solidFill>
                <a:latin typeface="Arial"/>
                <a:ea typeface="Arial"/>
              </a:rPr>
              <a:t>Effect of potentially modifiable risk factors associated with myocardial infarction in 52 countries (the INTERHEART study).  </a:t>
            </a:r>
            <a:r>
              <a:rPr b="1" lang="en-GB" sz="1400" spc="-1" strike="noStrike">
                <a:solidFill>
                  <a:srgbClr val="ff9933"/>
                </a:solidFill>
                <a:latin typeface="Comic Sans MS"/>
              </a:rPr>
              <a:t>L</a:t>
            </a:r>
            <a:r>
              <a:rPr b="1" i="1" lang="en-GB" sz="1400" spc="-1" strike="noStrike">
                <a:solidFill>
                  <a:srgbClr val="ff9933"/>
                </a:solidFill>
                <a:latin typeface="Comic Sans MS"/>
              </a:rPr>
              <a:t>ancet </a:t>
            </a:r>
            <a:r>
              <a:rPr b="1" i="1" lang="en-GB" sz="1200" spc="-1" strike="noStrike">
                <a:solidFill>
                  <a:srgbClr val="ff9933"/>
                </a:solidFill>
                <a:latin typeface="Verdana"/>
                <a:ea typeface="Times New Roman"/>
              </a:rPr>
              <a:t> 364  9437   11 Sept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533520" y="23623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nine potentially modifiable risk factors account for over 90% of the risk of an initial acute myocardial infarction [AM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Abnormal lipids, smoking, hypertension, diabetes, abdominal obesity, psychosocial factors, consumption of fruits, vegetables, and alcohol, and regular physical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9 risk factors account for most of AMI risk worldwide in both sexes and at all ages in all reg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  <a:ea typeface="Arial"/>
              </a:rPr>
              <a:t>prevention strategies can be based on similar principles worldwide and have the potential to prevent most premature A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puting Services</cp:lastModifiedBy>
  <dcterms:modified xsi:type="dcterms:W3CDTF">2008-04-11T08:09:2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