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8B80-DC12-4A75-B5EA-B321F3E7E6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DDC1-F807-42EF-B44F-5E0B1674F7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1C03-ED41-4F0B-867A-121777EC47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E2A-0C83-4EC3-AE1B-B0E5BF1032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08CEB-B21A-4EF1-A916-0E84A8E8EB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B18-C2B5-4A99-BA05-9F26122B11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E6E0-EC8C-4DFC-B480-4EDE5778242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6CC3-E7A5-4F82-95CC-778946005A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11C5-58F6-421A-A27C-7FBB9A4077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4F4-399E-46D4-9334-954C85578F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F142-3F17-4366-8009-0A82CD8B4A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DFA3-0E42-4191-BD8B-C88C4D20D0D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4D20-2EAD-4F38-BA52-61BEC059F1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5BB6-217A-453D-A77F-A4ED18D2AFA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6B63-CF90-4525-A9BF-2CDFE1F6EC0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E621-AE4F-4702-A1E2-FA1D23AA70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B888-7B92-45C7-92A9-2ACC9300FA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254B-4753-48C0-A8DB-28AE9E1772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EA70-DAE2-4767-B1E4-728D13179E1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BC55A-AA9E-4F1F-B772-BDD8B5EAA6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8DF8-CCD6-4CB4-AFE3-9D793C739E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095C-6E16-4A5A-8550-3AEEC8A0E7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1C2E-711C-41DC-AE15-FA743939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3851-169E-4A86-8DF9-ECAF4699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F353-D29E-4273-8C61-3748D7D1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8DA-2E0E-4D56-9FD2-171C1FC5A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5E8B-8601-4A1F-A7E1-BC70B0B0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9E99-BAF7-4854-AD48-87AB5DFC7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AB33-EAA9-411F-9F5D-ED2715E4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DF35-F1BE-4153-8197-1043022C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6DF5C-27DC-4B10-B0FE-F9F40949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E702-4067-43EB-8D2B-7E14CA1E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30B6-5F27-4CF0-8A82-D3F3FE6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C4E-E34F-4E32-B185-50C3C0D4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D1220-BF23-46A3-9693-4F282FD7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987E-C90B-482D-8FE0-1317F65D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41744-6C2A-4B6F-994A-17AD0EC4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5427-7E0C-42D3-B8C1-31010EE47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B7C2-47EE-4DDC-ADE5-66B513BB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543D99-4413-4A8D-9629-89D05FAF5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D4A1F1-242F-4A86-914C-D3017BE32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ACBC40-CC56-4BDC-A382-AECF600C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2EF2A-4F1B-4DB9-9E8A-54BF020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2BA2C6-F5CA-4DB1-BCFB-82B4C72E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6A2-2999-4C8E-82B8-D9B2E04C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48940-EDA6-4510-91B5-34D14427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02D676-D88B-4345-B63A-F7FA649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7EBBE-A380-4DB1-9E4C-D07866F5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409991-E3F0-4ABC-B582-EEDBB679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ED72F-C57E-40D2-BAC7-14D3D4B1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82749C-7BE4-4D79-B02D-ED2AE22A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0E0DE-1A76-403B-A0A9-D7A1F25B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8BBAE-1210-4BD1-8B0C-E2CCEEC6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518394-5F11-4EF7-9903-10807EF6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22687-7C78-4288-BF54-1986D6DF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6B2-E011-4AF2-BD6B-0E52D718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B8328-E693-4023-B550-A0E17D9A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D8D9BD-80EA-4D4F-9410-8CC1B840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B0D6E6-E1BA-49E7-93A7-856B0E55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210F60-2DE1-47AD-A755-BFDF4D8E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4D7EC-8E3F-4973-B929-A9C9D705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93F278-B038-46B0-BB0D-BF00A81DA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9E2F3-0797-40F7-86D6-BFAC733A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DD9E37-6EEC-4FEB-A0FD-2F31F06E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7CADD-1FDA-4385-893B-7B648DE4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1C446A-B8AC-4400-AFD6-2FFA183C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1F31-2218-446B-AC05-0FB1F122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A8108A-BA89-4F85-9A11-D7B36E2B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3B2043-467F-445F-AF6F-75447308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F016F-D2FE-47B4-B599-9A23748C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3DCB8-E46E-43EE-A1E8-B816FDF5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69067B-0224-49AF-97AD-8C8363F4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C7D42-B962-494F-AFF1-24B2278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77A50-B523-4C1B-BA17-4E236839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81C24-0E08-469B-A642-18A9F49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E3F4F-5109-4DAE-BE51-4ACBD5D2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69FDD6-DADA-4F9F-8101-4B3C435D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B76-6135-44B5-9372-5E1B9C38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F00EF-F193-4A3D-B05B-A681A66C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896C5-6795-4EB8-AC30-6B9C9000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DD41E-C33C-4C11-8502-7F47FA3B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DAD28-D4ED-40A4-9E53-DC53FCB7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5BE937-95CE-48F8-AEBA-554C80BE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E3201-2564-4B75-92B1-87380FC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65DB-BF09-4479-83AC-9DD38917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BE74F-BAD1-463A-AD19-C7420333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1D20-E87C-42E9-89DB-62A7D5B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0F470-DBBB-4049-BEE2-B1891C55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B11-334F-45B4-9009-1E6C8EAB7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3336F-3FF0-44F3-A824-0C9BC623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F8CB2-01FE-419C-8EDC-E06F1124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19493-5B91-48F2-8B3B-A4823033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15F95-C8A5-4F42-A288-31A0E31A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C2B4D1-F87E-423A-9294-DC269D91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DFD47-37EB-429B-BACD-1724ADDE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2CD74D-A68D-4BE8-8DE1-F1B378C0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F98811-8B85-4C87-81EB-7636E69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F7138-BD21-46E6-BF56-3BCF0C5A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7835A8-091E-43DA-9134-BD5814B3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C1E-BB51-466B-9FC6-11B8B9BA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919B5-695D-429E-80B7-27441F74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7C1C1-D9BE-4DD6-96F8-94A24244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0FE9E3-2B8D-4C05-B4A5-5C89CFAC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FE0D3A-354B-4504-A03F-4EC63B3A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E140C-477C-45E9-845F-793C00F5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89A12-F679-457D-A088-A47C6BB4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6DF09-A017-4143-B496-6492CF9C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106E1-5FDB-44BA-BA39-6831C806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F2634-04B7-421B-BDB3-07C3C111A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2A766-654B-45D3-A712-94BFF301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EC3-3C25-405E-ACAF-A31B09C7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59465-1916-4365-9C7C-471B2D7E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F7320E-DD81-4648-8B2D-9B61432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539FB-9A8C-44FD-87D3-A257CB97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4AF7A-1C72-44D0-BE87-6B3D7A0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77ED6-6BB1-4ED3-8B6C-CE2464B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6578-B87A-44DF-8318-A36C82214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41861-7E47-4E39-9B75-20D74E078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78E9-E11E-4432-8A5B-C381033BB922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D1EF-ECF8-420D-ADA6-D014B32054D7}" type="slidenum">
              <a:rPr b="1" lang="en-GB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C982-8251-46AA-90E1-141535CFE543}" type="slidenum"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33EA-3B6A-4213-94FC-F2D162FE3764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E017-1339-4E8B-A420-9E51640E717F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49B-1843-4A0B-8EE7-BEB3C09AA707}" type="slidenum">
              <a:rPr b="1" lang="en-GB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BBE1-4879-4732-80FC-9CCB1104A063}" type="slidenum"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363-781F-4D2B-BF65-2D4EE7EEDFCD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ore.iss.it/eurocis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143080" y="27147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KEY FACTS REGARDING CVD TREATMENTS:</a:t>
            </a:r>
            <a:br>
              <a:rPr sz="4000"/>
            </a:br>
            <a:r>
              <a:rPr b="0" lang="en-GB" sz="4000" spc="-1" strike="noStrike">
                <a:solidFill>
                  <a:srgbClr val="ebddc3"/>
                </a:solidFill>
                <a:latin typeface="Tw Cen MT"/>
              </a:rPr>
              <a:t>USING THE EVIDENCE BASE IN MODELLING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  <a:ea typeface="Arial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hronic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Progressive occlusion by an atherosclerotic plaque, causing myocardial ischemia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Clinical definition based on anginal symptoms, pattern and duration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w Cen MT"/>
              </a:rPr>
              <a:t>Several validated questionnaires (Rose questionnaire)</a:t>
            </a: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Avoid ischemic events (secondary prevention)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AMI/U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6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Secondary Prevention in CVD patient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Who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very patient with Clinical CHD (Survivors of ACS, Chronic Angina, CHD related heart failure and) and Strok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spirin/Clopidogr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ticoagulant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CEI/ARIIB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eta blockers (stroke: may not be indicated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BP reduc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moking cess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ehabili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CAB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Has an effect on mortality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Benefit changes with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Extent of coronary artery involvemen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entricular function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4786200" y="1571760"/>
            <a:ext cx="3695760" cy="2314440"/>
          </a:xfrm>
          <a:prstGeom prst="rect">
            <a:avLst/>
          </a:prstGeom>
          <a:ln w="0">
            <a:noFill/>
          </a:ln>
        </p:spPr>
      </p:pic>
      <p:sp>
        <p:nvSpPr>
          <p:cNvPr id="434" name="Rectangle 5"/>
          <p:cNvSpPr/>
          <p:nvPr/>
        </p:nvSpPr>
        <p:spPr>
          <a:xfrm>
            <a:off x="6000840" y="407196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Yusuf et al. Lancet 1994; 344: 563-70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PC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ompared to Medical treat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has no mortality benefit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produces symptom relief.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1"/>
          <a:stretch/>
        </p:blipFill>
        <p:spPr>
          <a:xfrm>
            <a:off x="4786200" y="2071800"/>
            <a:ext cx="3591000" cy="240012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6"/>
          <p:cNvSpPr/>
          <p:nvPr/>
        </p:nvSpPr>
        <p:spPr>
          <a:xfrm>
            <a:off x="5357880" y="4643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1200" spc="-1" strike="noStrike">
                <a:solidFill>
                  <a:srgbClr val="000000"/>
                </a:solidFill>
                <a:latin typeface="Arial"/>
              </a:rPr>
              <a:t>Bucher et al. BMJ 2000; 321: 73-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Drug eluting sten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0" name="Picture 2" descr="http://content.nejm.org/content/vol356/issue15/images/large/05f2.jpeg"/>
          <p:cNvPicPr/>
          <p:nvPr/>
        </p:nvPicPr>
        <p:blipFill>
          <a:blip r:embed="rId1"/>
          <a:stretch/>
        </p:blipFill>
        <p:spPr>
          <a:xfrm>
            <a:off x="1319040" y="1428840"/>
            <a:ext cx="6505920" cy="47228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4"/>
          <p:cNvSpPr/>
          <p:nvPr/>
        </p:nvSpPr>
        <p:spPr>
          <a:xfrm>
            <a:off x="5006520" y="6286680"/>
            <a:ext cx="2364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Boden et al. NEJM 356 (15): 15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ogressive loss of the pump function of the hear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Clinical syndrome + a measure of ventricular function. Some biomarkers are beeing increasingly used in clinical practic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Decrease mortality from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Progressive heart failure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3" marL="1343880" indent="-223920">
              <a:lnSpc>
                <a:spcPct val="80000"/>
              </a:lnSpc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udden 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Symptom relief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esource use control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22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Symptoms and Quality of Life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Proxy measures of ventricular function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vailable treatments for Heart Failur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Reha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EI/ARII b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spir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eta-block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Implantable Cardio Defibrillato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pironolacton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nticoagulants 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miodarone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tins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Current Debat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hysiopathological thinking suggests a rol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Role of statins in PostMI and C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ational evidence suggest an effe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linical trials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CORONA : no effect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GISSI: expecting resul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atins in heart failur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9" name="Picture 4" descr="Image"/>
          <p:cNvPicPr/>
          <p:nvPr/>
        </p:nvPicPr>
        <p:blipFill>
          <a:blip r:embed="rId1"/>
          <a:stretch/>
        </p:blipFill>
        <p:spPr>
          <a:xfrm>
            <a:off x="142920" y="1424160"/>
            <a:ext cx="8429760" cy="50050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5"/>
          <p:cNvSpPr/>
          <p:nvPr/>
        </p:nvSpPr>
        <p:spPr>
          <a:xfrm>
            <a:off x="928800" y="1357200"/>
            <a:ext cx="300024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5214960" y="1357200"/>
            <a:ext cx="3143160" cy="5716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Non CHD 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5805000" y="6433200"/>
            <a:ext cx="27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 Am Coll Cardiol. 2008 Jan 29;51(4):415-26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7128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8"/>
          <p:cNvSpPr/>
          <p:nvPr/>
        </p:nvSpPr>
        <p:spPr>
          <a:xfrm>
            <a:off x="4286160" y="1357200"/>
            <a:ext cx="428760" cy="4287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ortality benefit or Quality of Lif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Which patients are eligible?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urrent guidelines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Simplified model of the Clinical phase of Atherosclerosi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pSp>
        <p:nvGrpSpPr>
          <p:cNvPr id="364" name="Oval 3"/>
          <p:cNvGrpSpPr/>
          <p:nvPr/>
        </p:nvGrpSpPr>
        <p:grpSpPr>
          <a:xfrm>
            <a:off x="1085760" y="2395440"/>
            <a:ext cx="962280" cy="3249720"/>
            <a:chOff x="1085760" y="2395440"/>
            <a:chExt cx="962280" cy="3249720"/>
          </a:xfrm>
        </p:grpSpPr>
        <p:pic>
          <p:nvPicPr>
            <p:cNvPr id="365" name="Oval 3" descr=""/>
            <p:cNvPicPr/>
            <p:nvPr/>
          </p:nvPicPr>
          <p:blipFill>
            <a:blip r:embed="rId1"/>
            <a:stretch/>
          </p:blipFill>
          <p:spPr>
            <a:xfrm>
              <a:off x="1085760" y="2395440"/>
              <a:ext cx="962280" cy="324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1268280" y="2889360"/>
              <a:ext cx="606600" cy="22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w Cen MT"/>
                </a:rPr>
                <a:t>At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Oval 4"/>
          <p:cNvSpPr/>
          <p:nvPr/>
        </p:nvSpPr>
        <p:spPr>
          <a:xfrm>
            <a:off x="4286160" y="1857240"/>
            <a:ext cx="714600" cy="714600"/>
          </a:xfrm>
          <a:prstGeom prst="ellipse">
            <a:avLst/>
          </a:prstGeom>
          <a:solidFill>
            <a:srgbClr val="000000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Sudden Dea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Oval 6"/>
          <p:cNvSpPr/>
          <p:nvPr/>
        </p:nvSpPr>
        <p:spPr>
          <a:xfrm>
            <a:off x="2786040" y="5000760"/>
            <a:ext cx="714240" cy="714240"/>
          </a:xfrm>
          <a:prstGeom prst="ellipse">
            <a:avLst/>
          </a:prstGeom>
          <a:solidFill>
            <a:srgbClr val="a5ab81"/>
          </a:solidFill>
          <a:ln w="10080">
            <a:solidFill>
              <a:srgbClr val="a5ab81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Chronic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8"/>
          <p:cNvSpPr/>
          <p:nvPr/>
        </p:nvSpPr>
        <p:spPr>
          <a:xfrm>
            <a:off x="2643120" y="3857760"/>
            <a:ext cx="928800" cy="714240"/>
          </a:xfrm>
          <a:prstGeom prst="ellipse">
            <a:avLst/>
          </a:prstGeom>
          <a:solidFill>
            <a:srgbClr val="efcdc1"/>
          </a:solidFill>
          <a:ln w="10080">
            <a:solidFill>
              <a:srgbClr val="dd8047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2643120" y="3289320"/>
            <a:ext cx="928800" cy="714240"/>
          </a:xfrm>
          <a:prstGeom prst="ellipse">
            <a:avLst/>
          </a:prstGeom>
          <a:solidFill>
            <a:srgbClr val="dd8047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Acute Myocardial Infar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Oval 9"/>
          <p:cNvGrpSpPr/>
          <p:nvPr/>
        </p:nvGrpSpPr>
        <p:grpSpPr>
          <a:xfrm>
            <a:off x="5516640" y="3468600"/>
            <a:ext cx="817560" cy="817560"/>
            <a:chOff x="5516640" y="3468600"/>
            <a:chExt cx="817560" cy="817560"/>
          </a:xfrm>
        </p:grpSpPr>
        <p:pic>
          <p:nvPicPr>
            <p:cNvPr id="372" name="Oval 9" descr=""/>
            <p:cNvPicPr/>
            <p:nvPr/>
          </p:nvPicPr>
          <p:blipFill>
            <a:blip r:embed="rId2"/>
            <a:stretch/>
          </p:blipFill>
          <p:spPr>
            <a:xfrm>
              <a:off x="5516640" y="3468600"/>
              <a:ext cx="8175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676840" y="3605040"/>
              <a:ext cx="504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Heart Failu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Oval 10"/>
          <p:cNvGrpSpPr/>
          <p:nvPr/>
        </p:nvGrpSpPr>
        <p:grpSpPr>
          <a:xfrm>
            <a:off x="6877080" y="3402000"/>
            <a:ext cx="816120" cy="816120"/>
            <a:chOff x="6877080" y="3402000"/>
            <a:chExt cx="816120" cy="816120"/>
          </a:xfrm>
        </p:grpSpPr>
        <p:pic>
          <p:nvPicPr>
            <p:cNvPr id="375" name="Oval 10" descr=""/>
            <p:cNvPicPr/>
            <p:nvPr/>
          </p:nvPicPr>
          <p:blipFill>
            <a:blip r:embed="rId3"/>
            <a:stretch/>
          </p:blipFill>
          <p:spPr>
            <a:xfrm>
              <a:off x="6877080" y="3402000"/>
              <a:ext cx="81612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7034040" y="3533760"/>
              <a:ext cx="50508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Deat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77" name="Curved Connector 12"/>
          <p:cNvCxnSpPr/>
          <p:nvPr/>
        </p:nvCxnSpPr>
        <p:spPr>
          <a:xfrm flipV="1">
            <a:off x="2000160" y="2214000"/>
            <a:ext cx="2286720" cy="1786680"/>
          </a:xfrm>
          <a:prstGeom prst="curvedConnector5">
            <a:avLst>
              <a:gd name="adj1" fmla="val 11651"/>
              <a:gd name="adj2" fmla="val 50000"/>
              <a:gd name="adj3" fmla="val 1165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8" name="Curved Connector 16"/>
          <p:cNvCxnSpPr/>
          <p:nvPr/>
        </p:nvCxnSpPr>
        <p:spPr>
          <a:xfrm flipV="1">
            <a:off x="2000160" y="3965040"/>
            <a:ext cx="572400" cy="36000"/>
          </a:xfrm>
          <a:prstGeom prst="curvedConnector5">
            <a:avLst>
              <a:gd name="adj1" fmla="val 49968"/>
              <a:gd name="adj2" fmla="val 49494"/>
              <a:gd name="adj3" fmla="val 4996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9" name="Curved Connector 20"/>
          <p:cNvCxnSpPr/>
          <p:nvPr/>
        </p:nvCxnSpPr>
        <p:spPr>
          <a:xfrm>
            <a:off x="1999800" y="4000680"/>
            <a:ext cx="786600" cy="1357920"/>
          </a:xfrm>
          <a:prstGeom prst="curvedConnector5">
            <a:avLst>
              <a:gd name="adj1" fmla="val 50000"/>
              <a:gd name="adj2" fmla="val 49986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Curved Connector 22"/>
          <p:cNvCxnSpPr>
            <a:stCxn id="368" idx="0"/>
            <a:endCxn id="381" idx="4"/>
          </p:cNvCxnSpPr>
          <p:nvPr/>
        </p:nvCxnSpPr>
        <p:spPr>
          <a:xfrm flipV="1" rot="16200000">
            <a:off x="2981520" y="4839120"/>
            <a:ext cx="286560" cy="37080"/>
          </a:xfrm>
          <a:prstGeom prst="curvedConnector5">
            <a:avLst>
              <a:gd name="adj1" fmla="val 49937"/>
              <a:gd name="adj2" fmla="val 50000"/>
              <a:gd name="adj3" fmla="val 499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2" name="Shape 24"/>
          <p:cNvCxnSpPr>
            <a:stCxn id="368" idx="6"/>
          </p:cNvCxnSpPr>
          <p:nvPr/>
        </p:nvCxnSpPr>
        <p:spPr>
          <a:xfrm flipV="1">
            <a:off x="3499920" y="4214160"/>
            <a:ext cx="2429640" cy="114372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3" name="Shape 26"/>
          <p:cNvCxnSpPr>
            <a:stCxn id="368" idx="6"/>
          </p:cNvCxnSpPr>
          <p:nvPr/>
        </p:nvCxnSpPr>
        <p:spPr>
          <a:xfrm flipV="1">
            <a:off x="3500280" y="4142880"/>
            <a:ext cx="3787200" cy="121536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4" name="Shape 28"/>
          <p:cNvCxnSpPr>
            <a:stCxn id="367" idx="6"/>
          </p:cNvCxnSpPr>
          <p:nvPr/>
        </p:nvCxnSpPr>
        <p:spPr>
          <a:xfrm>
            <a:off x="5000760" y="2214360"/>
            <a:ext cx="2286720" cy="121500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5" name="Shape 30"/>
          <p:cNvCxnSpPr/>
          <p:nvPr/>
        </p:nvCxnSpPr>
        <p:spPr>
          <a:xfrm flipV="1">
            <a:off x="3642840" y="3428280"/>
            <a:ext cx="3644280" cy="500760"/>
          </a:xfrm>
          <a:prstGeom prst="curvedConnector5">
            <a:avLst>
              <a:gd name="adj1" fmla="val 17121"/>
              <a:gd name="adj2" fmla="val 94244"/>
              <a:gd name="adj3" fmla="val 17121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6" name="Oval 33"/>
          <p:cNvSpPr/>
          <p:nvPr/>
        </p:nvSpPr>
        <p:spPr>
          <a:xfrm>
            <a:off x="4286160" y="3646440"/>
            <a:ext cx="857520" cy="714600"/>
          </a:xfrm>
          <a:prstGeom prst="ellipse">
            <a:avLst/>
          </a:prstGeom>
          <a:solidFill>
            <a:srgbClr val="d8b25c"/>
          </a:solidFill>
          <a:ln w="10080">
            <a:solidFill>
              <a:srgbClr val="d8b25c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w Cen MT"/>
              </a:rPr>
              <a:t>MI Surviv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urved Connector 35"/>
          <p:cNvCxnSpPr>
            <a:stCxn id="381" idx="6"/>
            <a:endCxn id="386" idx="2"/>
          </p:cNvCxnSpPr>
          <p:nvPr/>
        </p:nvCxnSpPr>
        <p:spPr>
          <a:xfrm>
            <a:off x="3643200" y="3965400"/>
            <a:ext cx="643320" cy="38880"/>
          </a:xfrm>
          <a:prstGeom prst="curvedConnector5">
            <a:avLst>
              <a:gd name="adj1" fmla="val 50000"/>
              <a:gd name="adj2" fmla="val 49532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8" name="Curved Connector 37"/>
          <p:cNvCxnSpPr>
            <a:stCxn id="386" idx="6"/>
          </p:cNvCxnSpPr>
          <p:nvPr/>
        </p:nvCxnSpPr>
        <p:spPr>
          <a:xfrm flipV="1">
            <a:off x="5143680" y="3857040"/>
            <a:ext cx="429120" cy="14652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9" name="Curved Connector 39"/>
          <p:cNvCxnSpPr>
            <a:stCxn id="386" idx="0"/>
          </p:cNvCxnSpPr>
          <p:nvPr/>
        </p:nvCxnSpPr>
        <p:spPr>
          <a:xfrm flipH="1" flipV="1" rot="5400000">
            <a:off x="5891760" y="2251440"/>
            <a:ext cx="218160" cy="2572560"/>
          </a:xfrm>
          <a:prstGeom prst="curvedConnector5">
            <a:avLst>
              <a:gd name="adj1" fmla="val 204958"/>
              <a:gd name="adj2" fmla="val 49993"/>
              <a:gd name="adj3" fmla="val 20495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Curved Connector 41"/>
          <p:cNvCxnSpPr/>
          <p:nvPr/>
        </p:nvCxnSpPr>
        <p:spPr>
          <a:xfrm flipV="1">
            <a:off x="6286320" y="3785400"/>
            <a:ext cx="643320" cy="72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1" name="Oval 42"/>
          <p:cNvSpPr/>
          <p:nvPr/>
        </p:nvSpPr>
        <p:spPr>
          <a:xfrm>
            <a:off x="2571840" y="3214800"/>
            <a:ext cx="1071360" cy="1500120"/>
          </a:xfrm>
          <a:prstGeom prst="ellipse">
            <a:avLst/>
          </a:prstGeom>
          <a:solidFill>
            <a:srgbClr val="de3f2e">
              <a:alpha val="38000"/>
            </a:srgbClr>
          </a:solidFill>
          <a:ln w="19080">
            <a:solidFill>
              <a:srgbClr val="c0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Oval 46"/>
          <p:cNvGrpSpPr/>
          <p:nvPr/>
        </p:nvGrpSpPr>
        <p:grpSpPr>
          <a:xfrm>
            <a:off x="3657600" y="5967360"/>
            <a:ext cx="822240" cy="824040"/>
            <a:chOff x="3657600" y="5967360"/>
            <a:chExt cx="822240" cy="824040"/>
          </a:xfrm>
        </p:grpSpPr>
        <p:pic>
          <p:nvPicPr>
            <p:cNvPr id="392" name="Oval 46" descr=""/>
            <p:cNvPicPr/>
            <p:nvPr/>
          </p:nvPicPr>
          <p:blipFill>
            <a:blip r:embed="rId4"/>
            <a:stretch/>
          </p:blipFill>
          <p:spPr>
            <a:xfrm>
              <a:off x="3657600" y="5967360"/>
              <a:ext cx="82224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3819600" y="6105600"/>
              <a:ext cx="504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ffffff"/>
                  </a:solidFill>
                  <a:latin typeface="Tw Cen MT"/>
                </a:rPr>
                <a:t>Strok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94" name="Curved Connector 47"/>
          <p:cNvCxnSpPr/>
          <p:nvPr/>
        </p:nvCxnSpPr>
        <p:spPr>
          <a:xfrm>
            <a:off x="1999800" y="4000680"/>
            <a:ext cx="1715400" cy="2358000"/>
          </a:xfrm>
          <a:prstGeom prst="curvedConnector5">
            <a:avLst>
              <a:gd name="adj1" fmla="val 10537"/>
              <a:gd name="adj2" fmla="val 49992"/>
              <a:gd name="adj3" fmla="val 10537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5" name="Curved Connector 52"/>
          <p:cNvCxnSpPr/>
          <p:nvPr/>
        </p:nvCxnSpPr>
        <p:spPr>
          <a:xfrm flipV="1">
            <a:off x="4429080" y="4142880"/>
            <a:ext cx="2858400" cy="2215440"/>
          </a:xfrm>
          <a:prstGeom prst="curvedConnector2">
            <a:avLst/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6" name="Curved Connector 55"/>
          <p:cNvCxnSpPr>
            <a:endCxn id="381" idx="4"/>
          </p:cNvCxnSpPr>
          <p:nvPr/>
        </p:nvCxnSpPr>
        <p:spPr>
          <a:xfrm flipV="1" rot="16200000">
            <a:off x="2945880" y="4874760"/>
            <a:ext cx="1286640" cy="965880"/>
          </a:xfrm>
          <a:prstGeom prst="curvedConnector5">
            <a:avLst>
              <a:gd name="adj1" fmla="val 81108"/>
              <a:gd name="adj2" fmla="val 50000"/>
              <a:gd name="adj3" fmla="val 81108"/>
            </a:avLst>
          </a:prstGeom>
          <a:ln w="3492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Efficacy vs effectivenes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CT and SR usually better than real practic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: those not receiving the drug do not benefit from it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Many interventions acting on the same individuals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Estimation of a common effect: The Mant-Hicks approach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2"/>
              <p:cNvSpPr txBox="1"/>
              <p:nvPr/>
            </p:nvSpPr>
            <p:spPr>
              <a:xfrm>
                <a:off x="1714680" y="4929120"/>
                <a:ext cx="550044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monRRR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a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b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RR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Key issues when modelling interventions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umma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Patients group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igh quality information on efficacy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PCI vs thromboly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hronic Angin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CABG vs PCI vs Medical Managem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Stat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Key facts in modelling intervention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Key patients group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cute Coronary Syndrom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able Angin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Heart Failur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Strok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Peripheral Arterial disea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trategies to Manage CVD Disea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Aims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revent clinical diseas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ostpone disease progress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crease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ncrease Quality of Lif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Coronary Syndro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w Cen MT"/>
              </a:rPr>
              <a:t>Complex situation: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efinitions keep changing for clinical purpose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Epidemiological definitions: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Circulation. 2003 Nov 18;108(20):2543-9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w Cen MT"/>
              </a:rPr>
              <a:t>EuroCISS: </a:t>
            </a:r>
            <a:r>
              <a:rPr b="0" lang="fr-FR" sz="18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cuore.iss.it/eurocis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Groups (Clinical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Acute Myocardial infarct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STEMI (ST elevation Myocardial Infarction)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4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w Cen MT"/>
              </a:rPr>
              <a:t>NSTEMI (Non ST elevation Myocardial infarcti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w Cen MT"/>
              </a:rPr>
              <a:t>Unstable angin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cute myocardial infarc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rupture leading to a sudden occlusion of a coronary artery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Myocardial muscle loss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Host of complications: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Electrical: arryhtmia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Mechanical: heart failure and cardiogenic shoc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Type of AMI (STEMI vs NSTEMI) is critical to guide decisions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Decrease size of infarct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Treat complication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prevent further ischemic events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current 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8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Stroke.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6" name="Picture 1" descr="Beneficial"/>
          <p:cNvPicPr/>
          <p:nvPr/>
        </p:nvPicPr>
        <p:blipFill>
          <a:blip r:embed="rId1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Likely to be beneficial"/>
          <p:cNvPicPr/>
          <p:nvPr/>
        </p:nvPicPr>
        <p:blipFill>
          <a:blip r:embed="rId2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Trade off between benefits and harms"/>
          <p:cNvPicPr/>
          <p:nvPr/>
        </p:nvPicPr>
        <p:blipFill>
          <a:blip r:embed="rId3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4" descr="Unlikely to be beneficial"/>
          <p:cNvPicPr/>
          <p:nvPr/>
        </p:nvPicPr>
        <p:blipFill>
          <a:blip r:embed="rId4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Likely to be ineffective or harmful"/>
          <p:cNvPicPr/>
          <p:nvPr/>
        </p:nvPicPr>
        <p:blipFill>
          <a:blip r:embed="rId5"/>
          <a:stretch/>
        </p:blipFill>
        <p:spPr>
          <a:xfrm>
            <a:off x="0" y="0"/>
            <a:ext cx="228600" cy="152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"/>
          <p:cNvGraphicFramePr/>
          <p:nvPr/>
        </p:nvGraphicFramePr>
        <p:xfrm>
          <a:off x="785880" y="1285920"/>
          <a:ext cx="7500960" cy="3844800"/>
        </p:xfrm>
        <a:graphic>
          <a:graphicData uri="http://schemas.openxmlformats.org/drawingml/2006/table">
            <a:tbl>
              <a:tblPr/>
              <a:tblGrid>
                <a:gridCol w="3166920"/>
                <a:gridCol w="2166840"/>
                <a:gridCol w="2167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ngiotensin Converting Enzyme inhibi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Primary 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EMI: Thrombo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12" name="Down Arrow 12"/>
          <p:cNvSpPr/>
          <p:nvPr/>
        </p:nvSpPr>
        <p:spPr>
          <a:xfrm>
            <a:off x="4429080" y="1714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own Arrow 13"/>
          <p:cNvSpPr/>
          <p:nvPr/>
        </p:nvSpPr>
        <p:spPr>
          <a:xfrm>
            <a:off x="4429080" y="23526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Down Arrow 14"/>
          <p:cNvSpPr/>
          <p:nvPr/>
        </p:nvSpPr>
        <p:spPr>
          <a:xfrm>
            <a:off x="4429080" y="300024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own Arrow 15"/>
          <p:cNvSpPr/>
          <p:nvPr/>
        </p:nvSpPr>
        <p:spPr>
          <a:xfrm>
            <a:off x="4429080" y="37861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Down Arrow 16"/>
          <p:cNvSpPr/>
          <p:nvPr/>
        </p:nvSpPr>
        <p:spPr>
          <a:xfrm>
            <a:off x="4429080" y="45720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7"/>
          <p:cNvSpPr/>
          <p:nvPr/>
        </p:nvSpPr>
        <p:spPr>
          <a:xfrm>
            <a:off x="1785960" y="5572080"/>
            <a:ext cx="5929200" cy="916920"/>
          </a:xfrm>
          <a:prstGeom prst="rect">
            <a:avLst/>
          </a:prstGeom>
          <a:gradFill rotWithShape="0">
            <a:gsLst>
              <a:gs pos="0">
                <a:srgbClr val="b7d3ed"/>
              </a:gs>
              <a:gs pos="100000">
                <a:srgbClr val="e9f0f8"/>
              </a:gs>
            </a:gsLst>
            <a:lin ang="5400000"/>
          </a:gradFill>
          <a:ln w="9360">
            <a:solidFill>
              <a:srgbClr val="8fb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going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I vs.  thromb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Unstable Angin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Atherosclerotic plaque unstable, producing inflammatory and thrombotic phenomena causing myocardial ischemia but not myocardial muscle death. 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w Cen MT"/>
              </a:rPr>
              <a:t>Definition:</a:t>
            </a:r>
            <a:endParaRPr b="0" lang="en-US" sz="17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ew  symptoms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Recent change in the stable anginal symptoms pattern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w Cen MT"/>
              </a:rPr>
              <a:t>No evidence of myocardial necrosis.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w Cen MT"/>
              </a:rPr>
              <a:t>Therapy: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Avoid progression to AMI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Stabilize atherosclerotic plaque to avoid progression of ischemia (eg: to AMI)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evascularization strategies based on risk of future events and anatomy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Efficac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w Cen MT"/>
              </a:rPr>
              <a:t>Rates of major cardiovascular events: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Death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AMI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fractory ischaemia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2" marL="905040" indent="-22608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e admission to hospital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w Cen MT"/>
              </a:rPr>
              <a:t>Safety outcomes:</a:t>
            </a:r>
            <a:r>
              <a:rPr b="0" lang="en-GB" sz="15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w Cen MT"/>
              </a:rPr>
              <a:t>Rates of major bleeding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lvl="1" marL="633240" indent="-27000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714240" y="1714680"/>
          <a:ext cx="7500960" cy="4036680"/>
        </p:xfrm>
        <a:graphic>
          <a:graphicData uri="http://schemas.openxmlformats.org/drawingml/2006/table">
            <a:tbl>
              <a:tblPr/>
              <a:tblGrid>
                <a:gridCol w="3167280"/>
                <a:gridCol w="2166840"/>
                <a:gridCol w="2166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Effect on morta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ype  of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spirin and Hepar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pIIb/IIIa inhibitors/Clopidogr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Block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cutaneous coronary intervention (PC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  <p:sp>
        <p:nvSpPr>
          <p:cNvPr id="422" name="Down Arrow 4"/>
          <p:cNvSpPr/>
          <p:nvPr/>
        </p:nvSpPr>
        <p:spPr>
          <a:xfrm>
            <a:off x="4429080" y="21430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Down Arrow 5"/>
          <p:cNvSpPr/>
          <p:nvPr/>
        </p:nvSpPr>
        <p:spPr>
          <a:xfrm>
            <a:off x="4429080" y="29242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own Arrow 6"/>
          <p:cNvSpPr/>
          <p:nvPr/>
        </p:nvSpPr>
        <p:spPr>
          <a:xfrm>
            <a:off x="4429080" y="357192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Down Arrow 7"/>
          <p:cNvSpPr/>
          <p:nvPr/>
        </p:nvSpPr>
        <p:spPr>
          <a:xfrm>
            <a:off x="4429080" y="435780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Down Arrow 8"/>
          <p:cNvSpPr/>
          <p:nvPr/>
        </p:nvSpPr>
        <p:spPr>
          <a:xfrm>
            <a:off x="4429080" y="5143680"/>
            <a:ext cx="9288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81875a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4:26:09Z</dcterms:created>
  <dc:creator>Martin O'Flaherty</dc:creator>
  <dc:description/>
  <dc:language>en-US</dc:language>
  <cp:lastModifiedBy>Computing Services</cp:lastModifiedBy>
  <dcterms:modified xsi:type="dcterms:W3CDTF">2008-04-09T12:50:59Z</dcterms:modified>
  <cp:revision>40</cp:revision>
  <dc:subject/>
  <dc:title>Slide 1</dc:title>
</cp:coreProperties>
</file>