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5AFE-EBA1-4944-9F71-D9919758F7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3713-6F34-4350-B04D-04F9BAFAB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B2DC-0CD1-401F-9B4A-EE326976CB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4033-52AF-45B7-B861-65F9739A93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148-9C94-4E10-82CC-A8E36F29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6D0F-D304-43C1-BF14-DB77C3B4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828-8897-4AC9-A160-D77F7F26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8F0-27ED-4131-97CD-311C1ED2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A44-60EE-4E26-BCAC-AD98A57B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6D8-6334-4B63-910B-5FDD6AD7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344-2D2C-4982-9598-AD6C68EB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474-FD68-42C8-8043-42928CA8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7A44-DFCF-4EBE-B15D-3D1A4E97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410-0A4D-4A9D-9CAD-2D89856F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17A-10EE-4801-B28E-9DF84249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DD1-4C29-4DBD-A724-CF259DC1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63AB-944F-4090-ADE3-F555A7F931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50% Myt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we need new cardiovascular risk factor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Myth: “ just 50% of CHD cases are explained by classical risk factors “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ert Beaglehole (2002)  stated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 J Epidemiol. 2002 Dec;31(6):1117-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rce of this assertion is very difficult to dis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from existing studies shows that the classical risk factors explain most cases of CH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luded the search for new CHD risk factors is just occupational therapy for epidem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re recently, InterHEART, an international case-control study provided valuable data to use in this deb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he exerc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ease address these question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proportion of CHD burden could be attributed to diet and lifestyle risk factor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ify your answer and support it  from the strengths you identify in thi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der the weaknesses that you identified in this paper, what other evidence you will need to support your conclu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olo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de  4 groups. All groups starts with the abstract. Then groups will share out the sections, one group doing Introduction, one the Methods, Results [first three paragraphs , please focus on Table 3,4 and 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critical appraisal skills checklist to help you decide on the quality of this case-control study and to summarize the main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1400" y="1600200"/>
          <a:ext cx="8923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600200"/>
                    <a:ext cx="8923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3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Study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”nine potentially modifiable risk factors account for over 90% of the risk of an initial acute myocardial infarction”  </a:t>
            </a:r>
            <a:r>
              <a:rPr b="1" i="1" lang="en-GB" sz="2100" spc="-1" strike="noStrike">
                <a:solidFill>
                  <a:srgbClr val="ffff00"/>
                </a:solidFill>
                <a:latin typeface="Arial"/>
              </a:rPr>
              <a:t>Population attributable risk frac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44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3520" y="23623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nine potentially modifiable risk factors account for over 90% of the risk of an initial acute myocardial infarction [AM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Abnormal lipids, smoking, hypertension, diabetes, abdominal obesity, psychosocial factors, consumption of fruits, vegetables, and alcohol, and regular physic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9 risk factors account for most of AMI risk worldwide in both sexes and at all ages in all reg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prevention strategies can be based on similar principles worldwide and have the potential to prevent most premature 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ing Services</cp:lastModifiedBy>
  <dcterms:modified xsi:type="dcterms:W3CDTF">2008-04-11T08:09:2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