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02CD-44D5-41AB-AFA5-01D6E33E6E6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25B4-35F5-4975-B986-4D0E581855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3711-183D-4B2D-94A8-4906FB86BE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ED65-3119-484C-82F8-431437C972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479A-06D5-4E83-979C-D559C924F4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BFC6-9072-4958-B0F5-1C535F0652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EB19-97A2-4812-80F2-9E9C6F5181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C914-646F-477A-8BBB-B1A454FB7A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2B6B-1C79-468C-AEBA-1658DEC2C2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FFAF-2A56-4214-8069-FFC813307D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39F7-1D57-4087-AA7C-4133DD737F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B14E-9CD5-4827-B4DB-A22DEA837E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AECA-B633-499F-8FD3-AD27857CA6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7725-9A77-45C2-A6B4-D0E79186B6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1E29-EE83-46C0-B851-F0F7485572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06DB-5174-48D1-842E-504903E4FA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E5BA-F617-4217-BB48-E3B31B1E4BF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48F5-B827-452D-AD5F-4A78DBDFB4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6948-7E51-4BA1-BA18-2AFFD8A719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407E-E39B-4AC6-B82D-109E71A2D4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031E-A861-4961-BFFB-AD38CF0B7F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B1D5-9126-476D-8DAB-E173D11516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B77-E00E-4B42-99FA-3B3A3AAB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D6F-58DB-4DBE-84D1-EBFFDCAA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047F-6270-439F-9841-C4341BC3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E713-BA25-4546-A050-53D05F08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356A-310C-490D-8C59-C99FBB03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7DDB-1668-4B7C-B8D3-B1C6E86D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E526-401B-438E-90CF-DC60D428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B9FF-5509-48E4-A39E-813F9164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3091-8969-4FE5-873D-28B700C1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0C05-28F9-422A-8019-70294EA9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1545-96A9-4AA5-962D-EE85D898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513-6316-463A-9733-2F493F7C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289F-18B3-493F-8FF5-DAD67118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59ED-F4B7-4826-8357-70242A6E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746C-D10A-4507-82AE-ABE4E4CE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BCA1-E31C-4224-A5D2-81D2EDE4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4C4F-D99E-446C-9757-548FD526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53928-69DE-4609-877A-E11840C8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5D602-2F73-490B-ADAE-A1BE138C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A03F8-9D85-4DBE-B699-E89AE12F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E3D054-6320-4D8F-975B-5F17EAB7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D46D91-831D-449E-96D8-B6DF6C9B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707-0BA5-481E-BB87-9432F7FE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1C3FA-451C-437C-9ED8-340B5E52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C3A1F-F476-4453-931F-DEDC8F50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EF01A-A819-4761-AA91-6F0FD258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F187CF-BDE0-4849-A478-BC8E8949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A4920-D82B-4470-94CA-E46C38C7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32DCA-B3A1-4D33-9BD3-8FB68C3C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CDC55-9190-4BCE-BB7C-3313BE68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3491F5-C775-499B-88CD-4E833B84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E40281-EDC6-4864-BACF-7DBD5A96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D555CE-7759-4E54-BD84-C8B321ED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F4DE-34B0-4660-8F44-E9255FD6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61C631-B24C-4C25-9636-CF5AF022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AB38A2-259F-4E65-A3D5-5465A9FB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74122B-0FE6-4D43-9447-04B83144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64D82E-D4AE-497F-981B-B78348B7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249362-DEBD-41CB-9D56-08FF4F8C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194183-029F-44C1-A1FF-49721638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6A45E9-2BB8-42D1-951B-536BE033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3EBEBA-0CF9-4ADD-9855-9318B63D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03BF80-F061-4C0D-B6F5-D4C901B9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AEE621-7542-421C-A250-0E8EFDFF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FF5-EF53-43D4-A084-64B0F988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1A73F-8E99-4D54-B7CD-B07DA756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0CF19F-69D0-465B-A6E3-23BDE5C7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34975-EFB6-4AAF-B19A-EB839E16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A9224C-D3C0-41A3-8FB2-4A9B5862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A91373-5AC7-43D9-B93D-EAB46EDA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FDC65C-E12A-4DBB-9F36-1E9C7482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185415-07AD-4FC3-8E63-B98773E8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D5F732-239A-4F38-AD80-7051AC04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E1ED2-C1F8-41DD-AFBC-E5303D89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61577E-F23B-46A7-8AC8-B4501694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FF7D-2E93-4BAA-9D60-0F8BC43E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650C7-5E70-44E4-B35A-6B343348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5B811-BC09-4B96-9AF4-61C56A17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600C6-16AE-47CF-B5F9-0321191D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F7D32-C766-4F81-8372-906F5A7C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74064-4ED0-4866-9C8B-BBADCC8A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2F0D5-E122-4817-BD3A-C4F28E32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CF4B1-AF5B-48C0-81C4-65484011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5446A-653B-4CFD-9689-EF2BF4AE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A84AF-F509-4FF8-9D45-7036FB3A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4446D-A4FA-4A15-B5CB-57C6C1E2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057B-60BD-4317-96CB-AC9F3A1A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C847E-46F6-475B-897D-AE72850C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3DAA8-DBC5-4D23-ABB1-0288D31C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8419B-674A-4613-9691-C691DC15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B73FF8-071B-4A27-A88F-0C5BB1A7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2696C6-EA81-40A9-8047-20A43F97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16A1FD-6198-4269-A38E-B7AC49F5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F935F0-691F-4F3E-94FD-A9FB5987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ADC1C6-C26C-4435-8D83-72215133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D63374-6973-44BF-A10E-26791D18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1675D5-E017-439F-82B9-42ED2FCD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2A8-2B33-4864-8F7D-0A7B9551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40B880-2F7B-4DBB-8871-5687CCC1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D1E87A-458E-4CAC-A02A-CF4FEA96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D0AD5A-8427-436E-84F0-53ACE807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166CEC-E2A2-4CDF-9219-2A29359D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EEDA18-6DEF-45ED-BEDD-6C96085A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0809B-74B7-48D7-9109-49597678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3BB0D-FFA6-4C51-9879-F43321DB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9E8B0-A9EB-49BC-A0C7-C790D280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F21F5-2506-42B3-B1B9-591B403D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7E30C-BD7B-4F48-8D13-5B220D92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D3A-6664-49BC-A521-747DD042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9BD91-CA16-4426-88E2-1BEE21B7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872B2-C1CF-4D9B-9463-89CD545F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1C44A-919A-4871-84D2-6E713808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ADF9F-166A-4997-A56C-F8971D9D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C191E-99C1-4EC5-A13E-6ACF1118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25045-F360-484B-B438-8989C3EF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E065B-C62F-467B-8450-A8C787E7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BBAB-0B68-4528-B538-AB90557D8D4A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2A98-E2D4-40A7-BA50-E9E55FB31A6B}" type="slidenum">
              <a:rPr b="1" lang="en-GB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7160-9A09-4510-8DDB-A99981293224}" type="slidenum"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BDF9-5457-4B6A-BA55-EA677E1FB635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AF98-F1E6-4DFB-802A-71C764BD02F3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CCA7-CC4B-4B32-8F86-00A04D980DEF}" type="slidenum">
              <a:rPr b="1" lang="en-GB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4788-9C9B-4ABD-A672-EFF9D3C07D38}" type="slidenum"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7752-0388-41D0-BCAE-487B2004616B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uore.iss.it/eurocis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271476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KEY FACTS REGARDING CVD TREATMENTS:</a:t>
            </a:r>
            <a:br>
              <a:rPr sz="4000"/>
            </a:b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USING THE EVIDENCE BASE IN MODELLING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  <a:ea typeface="Arial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hronic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Progressive occlusion by an atherosclerotic plaque, causing myocardial ischemia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linical definition based on anginal symptoms, pattern and duration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everal validated questionnaires (Rose questionnaire)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Avoid ischemic events (secondary prevention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AMI/U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Secondary Prevention in CVD patient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Who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very patient with Clinical CHD (Survivors of ACS, Chronic Angina, CHD related heart failure and) and Strok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spirin/Clopidogr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ticoagula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CEI/ARII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eta blockers (stroke: may not be indicated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P redu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moking cess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habili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AB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Has an effect on mortality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Benefit changes with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Extent of coronary artery involve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entricular func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4786200" y="1571760"/>
            <a:ext cx="3695760" cy="23144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6000840" y="407196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Yusuf et al. Lancet 1994; 344: 563-70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PC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has no mortality benefi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produces symptom relief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tretch/>
        </p:blipFill>
        <p:spPr>
          <a:xfrm>
            <a:off x="4786200" y="2071800"/>
            <a:ext cx="3591000" cy="240012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5357880" y="4643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Arial"/>
              </a:rPr>
              <a:t>Bucher et al. BMJ 2000; 321: 73-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Drug eluting st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0" name="Picture 2" descr="http://content.nejm.org/content/vol356/issue15/images/large/05f2.jpeg"/>
          <p:cNvPicPr/>
          <p:nvPr/>
        </p:nvPicPr>
        <p:blipFill>
          <a:blip r:embed="rId1"/>
          <a:stretch/>
        </p:blipFill>
        <p:spPr>
          <a:xfrm>
            <a:off x="1319040" y="1428840"/>
            <a:ext cx="6505920" cy="47228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4"/>
          <p:cNvSpPr/>
          <p:nvPr/>
        </p:nvSpPr>
        <p:spPr>
          <a:xfrm>
            <a:off x="5006520" y="6286680"/>
            <a:ext cx="236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Boden et al. NEJM 356 (15): 15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ogressive loss of the pump function of the hear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Clinical syndrome + a measure of ventricular function. Some biomarkers are beeing increasingly used in clinical practic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Decrease mortality from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Progressive heart failure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udden 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esource use control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Proxy measures of ventricular functio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vailable treatments for Heart Failur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Reha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EI/ARII 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spirin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eta-block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mplantable Cardio Defibrillato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pironolact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nticoagulants 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miodaro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tin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urrent Debat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hysiopathological thinking suggests a ro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Role of statins in PostMI and 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ational evidence suggest an effe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linical trial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CORONA : no effec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GISSI: expecting resul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9" name="Picture 4" descr="Image"/>
          <p:cNvPicPr/>
          <p:nvPr/>
        </p:nvPicPr>
        <p:blipFill>
          <a:blip r:embed="rId1"/>
          <a:stretch/>
        </p:blipFill>
        <p:spPr>
          <a:xfrm>
            <a:off x="142920" y="1424160"/>
            <a:ext cx="8429760" cy="50050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928800" y="1357200"/>
            <a:ext cx="300024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5214960" y="1357200"/>
            <a:ext cx="314316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Non 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5805000" y="6433200"/>
            <a:ext cx="271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 Am Coll Cardiol. 2008 Jan 29;51(4):415-2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7128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428616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ortality benefit or Quality of Lif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Which patients are eligibl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urrent guidelin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Simplified model of the Clinical phase of Atherosclerosi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64" name="Oval 3"/>
          <p:cNvGrpSpPr/>
          <p:nvPr/>
        </p:nvGrpSpPr>
        <p:grpSpPr>
          <a:xfrm>
            <a:off x="1085760" y="2395440"/>
            <a:ext cx="962280" cy="3249720"/>
            <a:chOff x="1085760" y="2395440"/>
            <a:chExt cx="962280" cy="3249720"/>
          </a:xfrm>
        </p:grpSpPr>
        <p:pic>
          <p:nvPicPr>
            <p:cNvPr id="365" name="Oval 3" descr=""/>
            <p:cNvPicPr/>
            <p:nvPr/>
          </p:nvPicPr>
          <p:blipFill>
            <a:blip r:embed="rId1"/>
            <a:stretch/>
          </p:blipFill>
          <p:spPr>
            <a:xfrm>
              <a:off x="1085760" y="2395440"/>
              <a:ext cx="96228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268280" y="2889360"/>
              <a:ext cx="606600" cy="22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w Cen MT"/>
                </a:rPr>
                <a:t>At 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Oval 4"/>
          <p:cNvSpPr/>
          <p:nvPr/>
        </p:nvSpPr>
        <p:spPr>
          <a:xfrm>
            <a:off x="4286160" y="1857240"/>
            <a:ext cx="714600" cy="714600"/>
          </a:xfrm>
          <a:prstGeom prst="ellipse">
            <a:avLst/>
          </a:prstGeom>
          <a:solidFill>
            <a:srgbClr val="000000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Sudden De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2786040" y="5000760"/>
            <a:ext cx="714240" cy="714240"/>
          </a:xfrm>
          <a:prstGeom prst="ellipse">
            <a:avLst/>
          </a:prstGeom>
          <a:solidFill>
            <a:srgbClr val="a5ab81"/>
          </a:solidFill>
          <a:ln w="10080">
            <a:solidFill>
              <a:srgbClr val="a5ab81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Chronic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8"/>
          <p:cNvSpPr/>
          <p:nvPr/>
        </p:nvSpPr>
        <p:spPr>
          <a:xfrm>
            <a:off x="2643120" y="3857760"/>
            <a:ext cx="928800" cy="714240"/>
          </a:xfrm>
          <a:prstGeom prst="ellipse">
            <a:avLst/>
          </a:prstGeom>
          <a:solidFill>
            <a:srgbClr val="efcdc1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2643120" y="3289320"/>
            <a:ext cx="928800" cy="714240"/>
          </a:xfrm>
          <a:prstGeom prst="ellipse">
            <a:avLst/>
          </a:prstGeom>
          <a:solidFill>
            <a:srgbClr val="dd8047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cute Myocardial Infar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Oval 9"/>
          <p:cNvGrpSpPr/>
          <p:nvPr/>
        </p:nvGrpSpPr>
        <p:grpSpPr>
          <a:xfrm>
            <a:off x="5516640" y="3468600"/>
            <a:ext cx="817560" cy="817560"/>
            <a:chOff x="5516640" y="3468600"/>
            <a:chExt cx="817560" cy="817560"/>
          </a:xfrm>
        </p:grpSpPr>
        <p:pic>
          <p:nvPicPr>
            <p:cNvPr id="372" name="Oval 9" descr=""/>
            <p:cNvPicPr/>
            <p:nvPr/>
          </p:nvPicPr>
          <p:blipFill>
            <a:blip r:embed="rId2"/>
            <a:stretch/>
          </p:blipFill>
          <p:spPr>
            <a:xfrm>
              <a:off x="5516640" y="34686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5676840" y="360504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Heart Fail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Oval 10"/>
          <p:cNvGrpSpPr/>
          <p:nvPr/>
        </p:nvGrpSpPr>
        <p:grpSpPr>
          <a:xfrm>
            <a:off x="6877080" y="3402000"/>
            <a:ext cx="816120" cy="816120"/>
            <a:chOff x="6877080" y="3402000"/>
            <a:chExt cx="816120" cy="816120"/>
          </a:xfrm>
        </p:grpSpPr>
        <p:pic>
          <p:nvPicPr>
            <p:cNvPr id="375" name="Oval 10" descr=""/>
            <p:cNvPicPr/>
            <p:nvPr/>
          </p:nvPicPr>
          <p:blipFill>
            <a:blip r:embed="rId3"/>
            <a:stretch/>
          </p:blipFill>
          <p:spPr>
            <a:xfrm>
              <a:off x="6877080" y="3402000"/>
              <a:ext cx="81612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7034040" y="353376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7" name="Curved Connector 12"/>
          <p:cNvCxnSpPr/>
          <p:nvPr/>
        </p:nvCxnSpPr>
        <p:spPr>
          <a:xfrm flipV="1">
            <a:off x="2000160" y="2214000"/>
            <a:ext cx="2286720" cy="1786680"/>
          </a:xfrm>
          <a:prstGeom prst="curvedConnector5">
            <a:avLst>
              <a:gd name="adj1" fmla="val 11651"/>
              <a:gd name="adj2" fmla="val 50000"/>
              <a:gd name="adj3" fmla="val 1165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8" name="Curved Connector 16"/>
          <p:cNvCxnSpPr/>
          <p:nvPr/>
        </p:nvCxnSpPr>
        <p:spPr>
          <a:xfrm flipV="1">
            <a:off x="2000160" y="3965040"/>
            <a:ext cx="572400" cy="36000"/>
          </a:xfrm>
          <a:prstGeom prst="curvedConnector5">
            <a:avLst>
              <a:gd name="adj1" fmla="val 49968"/>
              <a:gd name="adj2" fmla="val 49494"/>
              <a:gd name="adj3" fmla="val 4996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9" name="Curved Connector 20"/>
          <p:cNvCxnSpPr/>
          <p:nvPr/>
        </p:nvCxnSpPr>
        <p:spPr>
          <a:xfrm>
            <a:off x="1999800" y="4000680"/>
            <a:ext cx="786600" cy="135792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Curved Connector 22"/>
          <p:cNvCxnSpPr>
            <a:stCxn id="368" idx="0"/>
            <a:endCxn id="381" idx="4"/>
          </p:cNvCxnSpPr>
          <p:nvPr/>
        </p:nvCxnSpPr>
        <p:spPr>
          <a:xfrm flipV="1" rot="16200000">
            <a:off x="2981520" y="4839120"/>
            <a:ext cx="286560" cy="3708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2" name="Shape 24"/>
          <p:cNvCxnSpPr>
            <a:stCxn id="368" idx="6"/>
          </p:cNvCxnSpPr>
          <p:nvPr/>
        </p:nvCxnSpPr>
        <p:spPr>
          <a:xfrm flipV="1">
            <a:off x="3499920" y="4214160"/>
            <a:ext cx="2429640" cy="114372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3" name="Shape 26"/>
          <p:cNvCxnSpPr>
            <a:stCxn id="368" idx="6"/>
          </p:cNvCxnSpPr>
          <p:nvPr/>
        </p:nvCxnSpPr>
        <p:spPr>
          <a:xfrm flipV="1">
            <a:off x="3500280" y="4142880"/>
            <a:ext cx="3787200" cy="121536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4" name="Shape 28"/>
          <p:cNvCxnSpPr>
            <a:stCxn id="367" idx="6"/>
          </p:cNvCxnSpPr>
          <p:nvPr/>
        </p:nvCxnSpPr>
        <p:spPr>
          <a:xfrm>
            <a:off x="5000760" y="2214360"/>
            <a:ext cx="2286720" cy="121500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5" name="Shape 30"/>
          <p:cNvCxnSpPr/>
          <p:nvPr/>
        </p:nvCxnSpPr>
        <p:spPr>
          <a:xfrm flipV="1">
            <a:off x="3642840" y="3428280"/>
            <a:ext cx="3644280" cy="500760"/>
          </a:xfrm>
          <a:prstGeom prst="curvedConnector5">
            <a:avLst>
              <a:gd name="adj1" fmla="val 17121"/>
              <a:gd name="adj2" fmla="val 94244"/>
              <a:gd name="adj3" fmla="val 1712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6" name="Oval 33"/>
          <p:cNvSpPr/>
          <p:nvPr/>
        </p:nvSpPr>
        <p:spPr>
          <a:xfrm>
            <a:off x="4286160" y="3646440"/>
            <a:ext cx="857520" cy="714600"/>
          </a:xfrm>
          <a:prstGeom prst="ellipse">
            <a:avLst/>
          </a:prstGeom>
          <a:solidFill>
            <a:srgbClr val="d8b25c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MI Surviv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Curved Connector 35"/>
          <p:cNvCxnSpPr>
            <a:stCxn id="381" idx="6"/>
            <a:endCxn id="386" idx="2"/>
          </p:cNvCxnSpPr>
          <p:nvPr/>
        </p:nvCxnSpPr>
        <p:spPr>
          <a:xfrm>
            <a:off x="3643200" y="3965400"/>
            <a:ext cx="64332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8" name="Curved Connector 37"/>
          <p:cNvCxnSpPr>
            <a:stCxn id="386" idx="6"/>
          </p:cNvCxnSpPr>
          <p:nvPr/>
        </p:nvCxnSpPr>
        <p:spPr>
          <a:xfrm flipV="1">
            <a:off x="5143680" y="3857040"/>
            <a:ext cx="429120" cy="14652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9" name="Curved Connector 39"/>
          <p:cNvCxnSpPr>
            <a:stCxn id="386" idx="0"/>
          </p:cNvCxnSpPr>
          <p:nvPr/>
        </p:nvCxnSpPr>
        <p:spPr>
          <a:xfrm flipH="1" flipV="1" rot="5400000">
            <a:off x="5891760" y="2251440"/>
            <a:ext cx="218160" cy="2572560"/>
          </a:xfrm>
          <a:prstGeom prst="curvedConnector5">
            <a:avLst>
              <a:gd name="adj1" fmla="val 204958"/>
              <a:gd name="adj2" fmla="val 49993"/>
              <a:gd name="adj3" fmla="val 204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Curved Connector 41"/>
          <p:cNvCxnSpPr/>
          <p:nvPr/>
        </p:nvCxnSpPr>
        <p:spPr>
          <a:xfrm flipV="1">
            <a:off x="6286320" y="3785400"/>
            <a:ext cx="643320" cy="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1" name="Oval 42"/>
          <p:cNvSpPr/>
          <p:nvPr/>
        </p:nvSpPr>
        <p:spPr>
          <a:xfrm>
            <a:off x="2571840" y="3214800"/>
            <a:ext cx="1071360" cy="1500120"/>
          </a:xfrm>
          <a:prstGeom prst="ellipse">
            <a:avLst/>
          </a:prstGeom>
          <a:solidFill>
            <a:srgbClr val="de3f2e">
              <a:alpha val="38000"/>
            </a:srgbClr>
          </a:solidFill>
          <a:ln w="19080">
            <a:solidFill>
              <a:srgbClr val="c0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Oval 46"/>
          <p:cNvGrpSpPr/>
          <p:nvPr/>
        </p:nvGrpSpPr>
        <p:grpSpPr>
          <a:xfrm>
            <a:off x="3657600" y="5967360"/>
            <a:ext cx="822240" cy="824040"/>
            <a:chOff x="3657600" y="5967360"/>
            <a:chExt cx="822240" cy="824040"/>
          </a:xfrm>
        </p:grpSpPr>
        <p:pic>
          <p:nvPicPr>
            <p:cNvPr id="392" name="Oval 46" descr=""/>
            <p:cNvPicPr/>
            <p:nvPr/>
          </p:nvPicPr>
          <p:blipFill>
            <a:blip r:embed="rId4"/>
            <a:stretch/>
          </p:blipFill>
          <p:spPr>
            <a:xfrm>
              <a:off x="3657600" y="5967360"/>
              <a:ext cx="82224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3819600" y="610560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Strok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4" name="Curved Connector 47"/>
          <p:cNvCxnSpPr/>
          <p:nvPr/>
        </p:nvCxnSpPr>
        <p:spPr>
          <a:xfrm>
            <a:off x="1999800" y="4000680"/>
            <a:ext cx="1715400" cy="2358000"/>
          </a:xfrm>
          <a:prstGeom prst="curvedConnector5">
            <a:avLst>
              <a:gd name="adj1" fmla="val 10537"/>
              <a:gd name="adj2" fmla="val 49992"/>
              <a:gd name="adj3" fmla="val 105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5" name="Curved Connector 52"/>
          <p:cNvCxnSpPr/>
          <p:nvPr/>
        </p:nvCxnSpPr>
        <p:spPr>
          <a:xfrm flipV="1">
            <a:off x="4429080" y="4142880"/>
            <a:ext cx="2858400" cy="221544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6" name="Curved Connector 55"/>
          <p:cNvCxnSpPr>
            <a:endCxn id="381" idx="4"/>
          </p:cNvCxnSpPr>
          <p:nvPr/>
        </p:nvCxnSpPr>
        <p:spPr>
          <a:xfrm flipV="1" rot="16200000">
            <a:off x="2945880" y="4874760"/>
            <a:ext cx="1286640" cy="965880"/>
          </a:xfrm>
          <a:prstGeom prst="curvedConnector5">
            <a:avLst>
              <a:gd name="adj1" fmla="val 81108"/>
              <a:gd name="adj2" fmla="val 50000"/>
              <a:gd name="adj3" fmla="val 8110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Efficacy vs effectivenes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CT and SR usually better than real practi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: those not receiving the drug do not benefit from it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any interventions acting on the same individual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Estimation of a common effect: The Mant-Hicks approa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1714680" y="4929120"/>
                <a:ext cx="55004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monRRR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b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umma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atients group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igh quality information on efficac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CI vs thrombolys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hronic Angi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ABG vs PCI vs Medical Manage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Key facts in modelling interven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Key patients grou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ute Coronary Syndr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ble Angi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ro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Peripheral Arterial dise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rategies to Manage CVD Disea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im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event clinical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ostpone disease progre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crease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ncrease Quality of Lif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Coronary Syndro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omplex situatio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finitions keep changing for clinical purpos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pidemiological definitions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Circulation. 2003 Nov 18;108(20):2543-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EuroCISS: </a:t>
            </a:r>
            <a:r>
              <a:rPr b="0" lang="fr-FR" sz="1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cuore.iss.it/eurocis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Groups (Clinical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cute Myocardial infar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STEMI (ST elevation Myocardial Infarction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NSTEMI (Non ST elevation Myocardial infar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myocardial infar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rupture leading to a sudden occlusion of a coronary artery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Myocardial muscle loss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Host of complications: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Electrical: arryhtmia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Mechanical: heart failure and cardiogenic shoc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Type of AMI (STEMI vs NSTEMI) is critical to guide decision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Decrease size of infarct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Treat complication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prevent further ischemic event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current 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trok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6" name="Picture 1" descr="Beneficial"/>
          <p:cNvPicPr/>
          <p:nvPr/>
        </p:nvPicPr>
        <p:blipFill>
          <a:blip r:embed="rId1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Likely to be beneficial"/>
          <p:cNvPicPr/>
          <p:nvPr/>
        </p:nvPicPr>
        <p:blipFill>
          <a:blip r:embed="rId2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Trade off between benefits and harms"/>
          <p:cNvPicPr/>
          <p:nvPr/>
        </p:nvPicPr>
        <p:blipFill>
          <a:blip r:embed="rId3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Unlikely to be beneficial"/>
          <p:cNvPicPr/>
          <p:nvPr/>
        </p:nvPicPr>
        <p:blipFill>
          <a:blip r:embed="rId4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Likely to be ineffective or harmful"/>
          <p:cNvPicPr/>
          <p:nvPr/>
        </p:nvPicPr>
        <p:blipFill>
          <a:blip r:embed="rId5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785880" y="1285920"/>
          <a:ext cx="7500960" cy="3844800"/>
        </p:xfrm>
        <a:graphic>
          <a:graphicData uri="http://schemas.openxmlformats.org/drawingml/2006/table">
            <a:tbl>
              <a:tblPr/>
              <a:tblGrid>
                <a:gridCol w="3166920"/>
                <a:gridCol w="2166840"/>
                <a:gridCol w="2167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giotensin Converting Enzym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Primary 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Thrombo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12" name="Down Arrow 12"/>
          <p:cNvSpPr/>
          <p:nvPr/>
        </p:nvSpPr>
        <p:spPr>
          <a:xfrm>
            <a:off x="4429080" y="1714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Down Arrow 13"/>
          <p:cNvSpPr/>
          <p:nvPr/>
        </p:nvSpPr>
        <p:spPr>
          <a:xfrm>
            <a:off x="4429080" y="23526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Down Arrow 14"/>
          <p:cNvSpPr/>
          <p:nvPr/>
        </p:nvSpPr>
        <p:spPr>
          <a:xfrm>
            <a:off x="4429080" y="300024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Down Arrow 15"/>
          <p:cNvSpPr/>
          <p:nvPr/>
        </p:nvSpPr>
        <p:spPr>
          <a:xfrm>
            <a:off x="4429080" y="37861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Down Arrow 16"/>
          <p:cNvSpPr/>
          <p:nvPr/>
        </p:nvSpPr>
        <p:spPr>
          <a:xfrm>
            <a:off x="4429080" y="45720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1785960" y="5572080"/>
            <a:ext cx="5929200" cy="91692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9360">
            <a:solidFill>
              <a:srgbClr val="8fb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going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I vs.  thromb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Unstable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unstable, producing inflammatory and thrombotic phenomena causing myocardial ischemia but not myocardial muscle death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ew  symptoms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Recent change in the stable anginal symptoms pattern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o evidence of myocardial necrosis.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Avoid progression to AMI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avoid progression of ischemia (eg: to AMI)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evascularization strategies based on risk of future events and anatomy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 admission to hospital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14240" y="1714680"/>
          <a:ext cx="7500960" cy="4036680"/>
        </p:xfrm>
        <a:graphic>
          <a:graphicData uri="http://schemas.openxmlformats.org/drawingml/2006/table">
            <a:tbl>
              <a:tblPr/>
              <a:tblGrid>
                <a:gridCol w="3167280"/>
                <a:gridCol w="2166840"/>
                <a:gridCol w="2166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 and Hepa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pIIb/IIIa inhibitors/Clopidog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22" name="Down Arrow 4"/>
          <p:cNvSpPr/>
          <p:nvPr/>
        </p:nvSpPr>
        <p:spPr>
          <a:xfrm>
            <a:off x="4429080" y="21430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Down Arrow 5"/>
          <p:cNvSpPr/>
          <p:nvPr/>
        </p:nvSpPr>
        <p:spPr>
          <a:xfrm>
            <a:off x="4429080" y="29242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own Arrow 6"/>
          <p:cNvSpPr/>
          <p:nvPr/>
        </p:nvSpPr>
        <p:spPr>
          <a:xfrm>
            <a:off x="4429080" y="35719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Down Arrow 7"/>
          <p:cNvSpPr/>
          <p:nvPr/>
        </p:nvSpPr>
        <p:spPr>
          <a:xfrm>
            <a:off x="4429080" y="43578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Down Arrow 8"/>
          <p:cNvSpPr/>
          <p:nvPr/>
        </p:nvSpPr>
        <p:spPr>
          <a:xfrm>
            <a:off x="4429080" y="5143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4:26:09Z</dcterms:created>
  <dc:creator>Martin O'Flaherty</dc:creator>
  <dc:description/>
  <dc:language>en-US</dc:language>
  <cp:lastModifiedBy>Computing Services</cp:lastModifiedBy>
  <dcterms:modified xsi:type="dcterms:W3CDTF">2008-04-09T12:50:59Z</dcterms:modified>
  <cp:revision>40</cp:revision>
  <dc:subject/>
  <dc:title>Slide 1</dc:title>
</cp:coreProperties>
</file>