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39DD1-3087-4591-AC01-F4CF714032A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9714B-4840-4960-BDCC-2E027F931F9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63B57-3CB3-4173-BA76-B705AAE4495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01DFE-C365-410E-BB86-8D1F9CE3732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F95CA-5472-4D41-9F29-F9A97DA7456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DF8C5-0E4B-4DF3-B2DF-2B2F1C26ABA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ABEBA-BFE7-45C8-97CC-F65FF093C62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26E66-C369-49F8-8334-10531DA974A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88E9E-C1A6-4DBD-8E94-81EBCEF90E6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9A9A8-FDAE-41DB-A544-740A75DDCE6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3B533-386A-4C52-8F1E-D5A3E23B603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EB392-A04C-480B-9D10-D0568B66420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0E482-3DB9-4FFA-8E28-6EAE120D666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BB4BC-440A-4AE7-B790-256B530191A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D4F3D-C68D-40EC-93A2-6EFA5A950B2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0849E-E150-436E-A337-479A6D63E88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9F867-9904-45FA-9887-826D1CB2375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52AEA-8A4C-4E54-862A-8831DBA3053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947CA-4E39-496E-A9A4-7F41778C8D2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47EE5-644C-40B5-B80A-D6D30343A91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B6B5A-9FB6-47BF-A556-B6016E0C9CB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213B2-360D-44B7-B224-2034607B029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3FE1-F1C4-49E5-956E-4AB9F213B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2F6C-FECB-4D47-8A73-254520A5D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F094-CEF5-4AD3-A280-5520C0F4F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9575-D982-495D-9D16-A5B9D0AFA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51C42-CEA2-4DCC-849B-67AFD79C2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82B5D-A268-4A7C-A7B2-AEB08C143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82D75-058B-465C-8FB7-047EDFF05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306FB-A302-407A-92CF-BF9F13694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93C8F-1BE8-4EDE-BB9D-13E7D0B7A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43184-448D-4EF6-AF07-FA2AD21FB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250EB-4C0B-467F-ADF2-2F870BA77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E814-3523-4DA3-BE02-CA80EC13E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5529E-17B8-49D2-889E-E1EC29063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C3842-6C3B-4F06-8B1B-FF627A807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D138D-7039-441A-AA44-EFE97355D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5F1EB-C774-4981-80DF-4B7A9981F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507E0-40C0-49B2-83C6-9F552A0B5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EE8475-72C5-4592-97D5-3E529F9EA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E3EBA9-E624-459B-8C73-F40932C97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FC4BCA-DF70-4765-92D1-505F7F409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17D948-1610-4089-AC62-3D3E36ECE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D2E5E2-5057-4705-874A-CCE26C56F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684C-03A8-493B-831C-9876EC589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56D367-DA06-4525-BF3E-EC22F4F35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51E6E6-86B0-471A-9C2E-62F91383E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50A792-BA99-435C-AC96-878C8675F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7AAC1E-A56E-4E57-936B-8EFE93138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B79022-61D2-444A-B6F9-85E933EAC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2330E0-9E08-4A26-A173-F111E8C20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8DDCF7-4AE1-4632-99C2-3B59D82EA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30120DE-2B6A-48A5-B3E3-D24430B8E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40D7C0E-D004-4403-9CCD-20698B2C0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2CA32B4-6376-4E8D-8338-A4D33281C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43DD-E075-4AD2-89C2-3D6F7D061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919FD9A-6834-441E-AACE-9611607AB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ECE571A-E25F-4786-9292-C699A259D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460A027-0AB0-4EFE-B7FD-B8D765757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CB135AF-E537-43CA-A45B-A962634D0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ADBC21E-765F-4217-B6EB-B922D3478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BD7FEEE-3B1E-4CC2-B476-596586ED3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5B79335-5E07-4F1B-AA30-D25A65121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B801F90-78E2-4A3B-85FB-7AD0503EE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E5E1770-AFB3-4238-B2DB-77F32BD60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9EC730-3488-418D-ADFC-0635DFA57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C2D8-1D17-477C-A91A-806174013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680338-3CBC-498E-BF65-AF049B092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D6DB36-60A6-40AB-B670-40032BBE9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9BB495-25CF-4EFE-833B-55123A1C1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4F5C16-60A1-4F30-9F78-D989E6E8A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10EBBB-401A-4716-8F80-F91A02773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63F1E5A-9A91-48AB-9FD5-EED7CA7D6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CB38B9-4999-4F7B-874A-83E08EDEB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6B1B6D6-FA0C-4CCD-82F6-3E82B72DD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E52455-6A45-497F-BEFE-8D1612EC8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D35F76-AF42-4AB3-88E6-C88F9E301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6EA3-8DD1-4232-806B-2DF28C733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A9E60D-F7D8-485A-B0B4-F1CD60790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E53F08-F88D-4BFA-B150-82AAF9EA4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0311AD-A10E-49B6-BC0E-82C093FDF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8E0D00-639B-4233-9B5D-6E521B6BE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32B41D-9BE5-413B-B73B-57BEAA950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52792A-3F09-4444-B336-0CAE55257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24F55F-9B82-4723-9549-B7D168521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AC4D17-D6AE-4B51-B9D4-32946A73C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8BF841-2A11-4EB2-8646-4CAA807A0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14B6F1-FE03-4339-B6FC-5F9BCD9F6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4E65-4A27-4C87-AA78-DCD8D9BBA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ECBF43-4FC7-4BBD-A05B-DC86D7F66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CEBED0-A029-44BD-92BD-A9C0C9F7C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3F8271-08FD-4154-8FF6-317F9CB15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CD34591-C20B-4483-9C57-F00CECFF0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4DF8844-AA4A-4A81-BF92-A5E88CDBF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352E612-825D-45D1-BE38-52367D1EE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95D0BFE-B2F4-4270-A257-180D0A669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BA7AC69-CCB9-4197-AC49-A47CA6132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F63EB72-A773-4312-8F2C-C36249484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D4E219F-E9ED-47FF-B8DD-B0C8273E6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0F7B-B7EE-4527-80C7-DCE7A99E3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1490653-6F15-4BFD-BA6F-DBDDEA14D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65F9531-CB7A-439E-831E-BD0FE0381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5DD74B1-6086-43BD-A58D-E8F9E6750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95252B3-AFAC-4A77-B13D-25AD5B267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1704EEC-E82C-47FC-BFC0-5ABC5BA16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D8136B-B655-4F1A-A6ED-A1B4B80F2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246AE7-748F-46A3-9491-A607141DB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098646-A6CE-4410-9EC1-653ADF63C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76D648-7A62-40C8-AA86-DD4C4BE4F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DC6DD9-BDD1-4794-A493-DB61834A5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2296-490F-44DB-8115-8E27326DA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23236C-9E70-4A88-9B9D-CAF831D61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BE2CC7-8624-4A2A-9C42-6532452B0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01DB80-5F5B-4409-84C7-D2897701A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63423E-474D-4998-A2AE-5416076AA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5894FB-7672-4FF0-88C6-D9CED4A80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31A85D-552A-4D2C-A61A-F866284B4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2EA5E5-A9F2-452B-B956-94A4FE0AA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FC1AF-8B96-48D2-B59D-B7C2B5AA8A2A}" type="slidenum"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77C43-9F51-4489-B665-973F1DFED628}" type="slidenum">
              <a:rPr b="1" lang="en-GB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1F0AC-2163-4C62-B11F-57EA1C757DD8}" type="slidenum"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5552A-3F72-495B-804E-F20566976443}" type="slidenum"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10E75-8F88-46A6-8EAD-0B343C8C8D77}" type="slidenum"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54289-F366-4B06-B172-E84D63346CCA}" type="slidenum">
              <a:rPr b="1" lang="en-GB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84F3E-8B01-46D4-819F-14C0231258D0}" type="slidenum"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7D69D-7A98-4C87-B4FF-D8C542F75C40}" type="slidenum"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europa.eu.int/mariecurie-actions" TargetMode="External"/><Relationship Id="rId2" Type="http://schemas.openxmlformats.org/officeDocument/2006/relationships/image" Target="../media/image3.png"/><Relationship Id="rId3" Type="http://schemas.openxmlformats.org/officeDocument/2006/relationships/hyperlink" Target="http://www.medicine.tcd.ie/pharmacology_therapeutics/marie_curie_training_programme/index.php" TargetMode="Externa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cuore.iss.it/eurociss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143080" y="2714760"/>
            <a:ext cx="647712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bddc3"/>
                </a:solidFill>
                <a:latin typeface="Tw Cen MT"/>
              </a:rPr>
              <a:t>KEY FACTS REGARDING CVD TREATMENTS:</a:t>
            </a:r>
            <a:br>
              <a:rPr sz="4000"/>
            </a:br>
            <a:r>
              <a:rPr b="0" lang="en-GB" sz="4000" spc="-1" strike="noStrike">
                <a:solidFill>
                  <a:srgbClr val="ebddc3"/>
                </a:solidFill>
                <a:latin typeface="Tw Cen MT"/>
              </a:rPr>
              <a:t>USING THE EVIDENCE BASE IN MODELLING</a:t>
            </a:r>
            <a:endParaRPr b="0" lang="en-US" sz="40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8" name="Rectangle 5"/>
          <p:cNvSpPr/>
          <p:nvPr/>
        </p:nvSpPr>
        <p:spPr>
          <a:xfrm>
            <a:off x="1835280" y="47242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Martin O’Flaher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imon Capew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Division of Public Heal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University of Liverp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9" name="Group 6"/>
          <p:cNvGrpSpPr/>
          <p:nvPr/>
        </p:nvGrpSpPr>
        <p:grpSpPr>
          <a:xfrm>
            <a:off x="3149640" y="216000"/>
            <a:ext cx="5599080" cy="866520"/>
            <a:chOff x="3149640" y="216000"/>
            <a:chExt cx="5599080" cy="866520"/>
          </a:xfrm>
        </p:grpSpPr>
        <p:pic>
          <p:nvPicPr>
            <p:cNvPr id="360" name="Picture 7" descr="Marie Curies Actions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7396200" y="216000"/>
              <a:ext cx="1352520" cy="86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1" name="Picture 8" descr="Logo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3635280" y="274680"/>
              <a:ext cx="3648240" cy="35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Rectangle 9"/>
            <p:cNvSpPr/>
            <p:nvPr/>
          </p:nvSpPr>
          <p:spPr>
            <a:xfrm>
              <a:off x="3149640" y="647640"/>
              <a:ext cx="3912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e9d333"/>
                  </a:solidFill>
                  <a:latin typeface="Calibri"/>
                  <a:ea typeface="Arial"/>
                </a:rPr>
                <a:t>Cardiovascular Epidemiology and Epidemiological Modell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75f55"/>
                </a:solidFill>
                <a:latin typeface="Tw Cen MT"/>
              </a:rPr>
              <a:t>Chronic Angina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w Cen MT"/>
              </a:rPr>
              <a:t>Progressive occlusion by an atherosclerotic plaque, causing myocardial ischemia.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w Cen MT"/>
              </a:rPr>
              <a:t>Definition: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w Cen MT"/>
              </a:rPr>
              <a:t>Clinical definition based on anginal symptoms, pattern and duration</a:t>
            </a: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w Cen MT"/>
              </a:rPr>
              <a:t>Several validated questionnaires (Rose questionnaire)</a:t>
            </a: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Therapy: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w Cen MT"/>
              </a:rPr>
              <a:t>Avoid ischemic events (secondary prevention)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w Cen MT"/>
              </a:rPr>
              <a:t>Symptom relief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w Cen MT"/>
              </a:rPr>
              <a:t>Efficacy outcomes:</a:t>
            </a:r>
            <a:r>
              <a:rPr b="0" lang="en-GB" sz="16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w Cen MT"/>
              </a:rPr>
              <a:t>Rates of major cardiovascular events: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w Cen MT"/>
              </a:rPr>
              <a:t>Death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w Cen MT"/>
              </a:rPr>
              <a:t>AMI/UA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w Cen MT"/>
              </a:rPr>
              <a:t>Symptoms and Quality of Life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w Cen MT"/>
              </a:rPr>
              <a:t>Safety outcomes:</a:t>
            </a:r>
            <a:r>
              <a:rPr b="0" lang="en-GB" sz="16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w Cen MT"/>
              </a:rPr>
              <a:t>Rates of major bleeding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775f55"/>
                </a:solidFill>
                <a:latin typeface="Tw Cen MT"/>
              </a:rPr>
              <a:t>Secondary Prevention in CVD patients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Who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Every patient with Clinical CHD (Survivors of ACS, Chronic Angina, CHD related heart failure and) and Strok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Aspirin/Clopidogrel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Anticoagulant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ACEI/ARIIB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Beta blockers (stroke: may not be indicated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Statin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BP reduction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Smoking cessation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Rehabilitation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75f55"/>
                </a:solidFill>
                <a:latin typeface="Tw Cen MT"/>
              </a:rPr>
              <a:t>CAB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Compared to Medical treatment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Has an effect on mortality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Benefit changes with: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w Cen MT"/>
              </a:rPr>
              <a:t>Extent of coronary artery involvement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w Cen MT"/>
              </a:rPr>
              <a:t>Ventricular function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33" name="Picture 2" descr=""/>
          <p:cNvPicPr/>
          <p:nvPr/>
        </p:nvPicPr>
        <p:blipFill>
          <a:blip r:embed="rId1"/>
          <a:stretch/>
        </p:blipFill>
        <p:spPr>
          <a:xfrm>
            <a:off x="4786200" y="1571760"/>
            <a:ext cx="3695760" cy="2314440"/>
          </a:xfrm>
          <a:prstGeom prst="rect">
            <a:avLst/>
          </a:prstGeom>
          <a:ln w="0">
            <a:noFill/>
          </a:ln>
        </p:spPr>
      </p:pic>
      <p:sp>
        <p:nvSpPr>
          <p:cNvPr id="434" name="Rectangle 5"/>
          <p:cNvSpPr/>
          <p:nvPr/>
        </p:nvSpPr>
        <p:spPr>
          <a:xfrm>
            <a:off x="6000840" y="4071960"/>
            <a:ext cx="4572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Yusuf et al. Lancet 1994; 344: 563-70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75f55"/>
                </a:solidFill>
                <a:latin typeface="Tw Cen MT"/>
              </a:rPr>
              <a:t>PCI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Compared to Medical treatmen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It has no mortality benefit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It produces symptom relief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37" name="Picture 3" descr=""/>
          <p:cNvPicPr/>
          <p:nvPr/>
        </p:nvPicPr>
        <p:blipFill>
          <a:blip r:embed="rId1"/>
          <a:stretch/>
        </p:blipFill>
        <p:spPr>
          <a:xfrm>
            <a:off x="4786200" y="2071800"/>
            <a:ext cx="3591000" cy="2400120"/>
          </a:xfrm>
          <a:prstGeom prst="rect">
            <a:avLst/>
          </a:prstGeom>
          <a:ln w="0">
            <a:noFill/>
          </a:ln>
        </p:spPr>
      </p:pic>
      <p:sp>
        <p:nvSpPr>
          <p:cNvPr id="438" name="Rectangle 6"/>
          <p:cNvSpPr/>
          <p:nvPr/>
        </p:nvSpPr>
        <p:spPr>
          <a:xfrm>
            <a:off x="5357880" y="464328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200" spc="-1" strike="noStrike">
                <a:solidFill>
                  <a:srgbClr val="000000"/>
                </a:solidFill>
                <a:latin typeface="Arial"/>
              </a:rPr>
              <a:t>Bucher et al. BMJ 2000; 321: 73- 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75f55"/>
                </a:solidFill>
                <a:latin typeface="Tw Cen MT"/>
              </a:rPr>
              <a:t>Drug eluting stent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440" name="Picture 2" descr="http://content.nejm.org/content/vol356/issue15/images/large/05f2.jpeg"/>
          <p:cNvPicPr/>
          <p:nvPr/>
        </p:nvPicPr>
        <p:blipFill>
          <a:blip r:embed="rId1"/>
          <a:stretch/>
        </p:blipFill>
        <p:spPr>
          <a:xfrm>
            <a:off x="1319040" y="1428840"/>
            <a:ext cx="6505920" cy="4722840"/>
          </a:xfrm>
          <a:prstGeom prst="rect">
            <a:avLst/>
          </a:prstGeom>
          <a:ln w="0">
            <a:noFill/>
          </a:ln>
        </p:spPr>
      </p:pic>
      <p:sp>
        <p:nvSpPr>
          <p:cNvPr id="441" name="Rectangle 4"/>
          <p:cNvSpPr/>
          <p:nvPr/>
        </p:nvSpPr>
        <p:spPr>
          <a:xfrm>
            <a:off x="5006520" y="6286680"/>
            <a:ext cx="2364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Arial"/>
              </a:rPr>
              <a:t>Boden et al. NEJM 356 (15): 150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75f55"/>
                </a:solidFill>
                <a:latin typeface="Tw Cen MT"/>
              </a:rPr>
              <a:t>Heart Failur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12480" indent="-31248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Progressive loss of the pump function of the heart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Definition: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w Cen MT"/>
              </a:rPr>
              <a:t>Clinical syndrome + a measure of ventricular function. Some biomarkers are beeing increasingly used in clinical practice. 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Tw Cen MT"/>
              </a:rPr>
              <a:t>Therapy: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2" marL="896040" indent="-22392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w Cen MT"/>
              </a:rPr>
              <a:t>Decrease mortality from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lvl="3" marL="1343880" indent="-223920">
              <a:lnSpc>
                <a:spcPct val="8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w Cen MT"/>
              </a:rPr>
              <a:t>Progressive heart failure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lvl="3" marL="1343880" indent="-223920">
              <a:lnSpc>
                <a:spcPct val="8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w Cen MT"/>
              </a:rPr>
              <a:t>Sudden death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lvl="2" marL="896040" indent="-22392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w Cen MT"/>
              </a:rPr>
              <a:t>Symptom relief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lvl="2" marL="896040" indent="-22392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w Cen MT"/>
              </a:rPr>
              <a:t>Resource use control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w Cen MT"/>
              </a:rPr>
              <a:t>Efficacy outcomes:</a:t>
            </a:r>
            <a:r>
              <a:rPr b="0" lang="en-GB" sz="22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w Cen MT"/>
              </a:rPr>
              <a:t>Rates of major cardiovascular events: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lvl="2" marL="896040" indent="-22392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w Cen MT"/>
              </a:rPr>
              <a:t>Death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lvl="2" marL="896040" indent="-22392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w Cen MT"/>
              </a:rPr>
              <a:t>Symptoms and Quality of Life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lvl="2" marL="896040" indent="-22392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w Cen MT"/>
              </a:rPr>
              <a:t>Proxy measures of ventricular function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775f55"/>
                </a:solidFill>
                <a:latin typeface="Tw Cen MT"/>
              </a:rPr>
              <a:t>Available treatments for Heart Failure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Rehab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ACEI/ARII b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Aspirin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Beta-blocker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Implantable Cardio Defibrillator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Spironolacton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Anticoagulants 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Amiodarone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Statins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75f55"/>
                </a:solidFill>
                <a:latin typeface="Tw Cen MT"/>
              </a:rPr>
              <a:t>Statins in Heart Failur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Current Debate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Physiopathological thinking suggests a role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Role of statins in PostMI and CA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Observational evidence suggest an effect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Clinical trials: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w Cen MT"/>
              </a:rPr>
              <a:t>CORONA : no effect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w Cen MT"/>
              </a:rPr>
              <a:t>GISSI: expecting result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75f55"/>
                </a:solidFill>
                <a:latin typeface="Tw Cen MT"/>
              </a:rPr>
              <a:t>Statins in heart failur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449" name="Picture 4" descr="Image"/>
          <p:cNvPicPr/>
          <p:nvPr/>
        </p:nvPicPr>
        <p:blipFill>
          <a:blip r:embed="rId1"/>
          <a:stretch/>
        </p:blipFill>
        <p:spPr>
          <a:xfrm>
            <a:off x="142920" y="1424160"/>
            <a:ext cx="8429760" cy="5005080"/>
          </a:xfrm>
          <a:prstGeom prst="rect">
            <a:avLst/>
          </a:prstGeom>
          <a:ln w="0">
            <a:noFill/>
          </a:ln>
        </p:spPr>
      </p:pic>
      <p:sp>
        <p:nvSpPr>
          <p:cNvPr id="450" name="Rectangle 5"/>
          <p:cNvSpPr/>
          <p:nvPr/>
        </p:nvSpPr>
        <p:spPr>
          <a:xfrm>
            <a:off x="928800" y="1357200"/>
            <a:ext cx="3000240" cy="571680"/>
          </a:xfrm>
          <a:prstGeom prst="rect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w Cen MT"/>
              </a:rPr>
              <a:t>CHD rel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6"/>
          <p:cNvSpPr/>
          <p:nvPr/>
        </p:nvSpPr>
        <p:spPr>
          <a:xfrm>
            <a:off x="5214960" y="1357200"/>
            <a:ext cx="3143160" cy="571680"/>
          </a:xfrm>
          <a:prstGeom prst="rect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w Cen MT"/>
              </a:rPr>
              <a:t>Non CHD rel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6"/>
          <p:cNvSpPr/>
          <p:nvPr/>
        </p:nvSpPr>
        <p:spPr>
          <a:xfrm>
            <a:off x="5805000" y="6433200"/>
            <a:ext cx="271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 Am Coll Cardiol. 2008 Jan 29;51(4):415-26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7"/>
          <p:cNvSpPr/>
          <p:nvPr/>
        </p:nvSpPr>
        <p:spPr>
          <a:xfrm>
            <a:off x="71280" y="1357200"/>
            <a:ext cx="428760" cy="42876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8"/>
          <p:cNvSpPr/>
          <p:nvPr/>
        </p:nvSpPr>
        <p:spPr>
          <a:xfrm>
            <a:off x="4286160" y="1357200"/>
            <a:ext cx="428760" cy="42876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775f55"/>
                </a:solidFill>
                <a:latin typeface="Tw Cen MT"/>
              </a:rPr>
              <a:t>Key issues when modelling interventions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w Cen MT"/>
              </a:rPr>
              <a:t>Mortality benefit or Quality of Life?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w Cen MT"/>
              </a:rPr>
              <a:t>Which patients are eligible?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w Cen MT"/>
              </a:rPr>
              <a:t>Current guideline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775f55"/>
                </a:solidFill>
                <a:latin typeface="Tw Cen MT"/>
              </a:rPr>
              <a:t>A Simplified model of the Clinical phase of Atherosclerosis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grpSp>
        <p:nvGrpSpPr>
          <p:cNvPr id="364" name="Oval 3"/>
          <p:cNvGrpSpPr/>
          <p:nvPr/>
        </p:nvGrpSpPr>
        <p:grpSpPr>
          <a:xfrm>
            <a:off x="1085760" y="2395440"/>
            <a:ext cx="962280" cy="3249720"/>
            <a:chOff x="1085760" y="2395440"/>
            <a:chExt cx="962280" cy="3249720"/>
          </a:xfrm>
        </p:grpSpPr>
        <p:pic>
          <p:nvPicPr>
            <p:cNvPr id="365" name="Oval 3" descr=""/>
            <p:cNvPicPr/>
            <p:nvPr/>
          </p:nvPicPr>
          <p:blipFill>
            <a:blip r:embed="rId1"/>
            <a:stretch/>
          </p:blipFill>
          <p:spPr>
            <a:xfrm>
              <a:off x="1085760" y="2395440"/>
              <a:ext cx="962280" cy="324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6" name=""/>
            <p:cNvSpPr/>
            <p:nvPr/>
          </p:nvSpPr>
          <p:spPr>
            <a:xfrm>
              <a:off x="1268280" y="2889360"/>
              <a:ext cx="606600" cy="22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Tw Cen MT"/>
                </a:rPr>
                <a:t>At ris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7" name="Oval 4"/>
          <p:cNvSpPr/>
          <p:nvPr/>
        </p:nvSpPr>
        <p:spPr>
          <a:xfrm>
            <a:off x="4286160" y="1857240"/>
            <a:ext cx="714600" cy="714600"/>
          </a:xfrm>
          <a:prstGeom prst="ellipse">
            <a:avLst/>
          </a:prstGeom>
          <a:solidFill>
            <a:srgbClr val="000000"/>
          </a:solidFill>
          <a:ln w="47520">
            <a:solidFill>
              <a:srgbClr val="ffffff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Tw Cen MT"/>
              </a:rPr>
              <a:t>Sudden Dea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Oval 6"/>
          <p:cNvSpPr/>
          <p:nvPr/>
        </p:nvSpPr>
        <p:spPr>
          <a:xfrm>
            <a:off x="2786040" y="5000760"/>
            <a:ext cx="714240" cy="714240"/>
          </a:xfrm>
          <a:prstGeom prst="ellipse">
            <a:avLst/>
          </a:prstGeom>
          <a:solidFill>
            <a:srgbClr val="a5ab81"/>
          </a:solidFill>
          <a:ln w="10080">
            <a:solidFill>
              <a:srgbClr val="a5ab81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Tw Cen MT"/>
              </a:rPr>
              <a:t>Chronic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Tw Cen MT"/>
              </a:rPr>
              <a:t>Angin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Oval 8"/>
          <p:cNvSpPr/>
          <p:nvPr/>
        </p:nvSpPr>
        <p:spPr>
          <a:xfrm>
            <a:off x="2643120" y="3857760"/>
            <a:ext cx="928800" cy="714240"/>
          </a:xfrm>
          <a:prstGeom prst="ellipse">
            <a:avLst/>
          </a:prstGeom>
          <a:solidFill>
            <a:srgbClr val="efcdc1"/>
          </a:solidFill>
          <a:ln w="10080">
            <a:solidFill>
              <a:srgbClr val="dd8047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w Cen MT"/>
              </a:rPr>
              <a:t>Unstable Angin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Oval 7"/>
          <p:cNvSpPr/>
          <p:nvPr/>
        </p:nvSpPr>
        <p:spPr>
          <a:xfrm>
            <a:off x="2643120" y="3289320"/>
            <a:ext cx="928800" cy="714240"/>
          </a:xfrm>
          <a:prstGeom prst="ellipse">
            <a:avLst/>
          </a:prstGeom>
          <a:solidFill>
            <a:srgbClr val="dd8047"/>
          </a:solidFill>
          <a:ln w="47520">
            <a:solidFill>
              <a:srgbClr val="ffffff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Tw Cen MT"/>
              </a:rPr>
              <a:t>Acute Myocardial Infar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1" name="Oval 9"/>
          <p:cNvGrpSpPr/>
          <p:nvPr/>
        </p:nvGrpSpPr>
        <p:grpSpPr>
          <a:xfrm>
            <a:off x="5516640" y="3468600"/>
            <a:ext cx="817560" cy="817560"/>
            <a:chOff x="5516640" y="3468600"/>
            <a:chExt cx="817560" cy="817560"/>
          </a:xfrm>
        </p:grpSpPr>
        <p:pic>
          <p:nvPicPr>
            <p:cNvPr id="372" name="Oval 9" descr=""/>
            <p:cNvPicPr/>
            <p:nvPr/>
          </p:nvPicPr>
          <p:blipFill>
            <a:blip r:embed="rId2"/>
            <a:stretch/>
          </p:blipFill>
          <p:spPr>
            <a:xfrm>
              <a:off x="5516640" y="3468600"/>
              <a:ext cx="817560" cy="8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3" name=""/>
            <p:cNvSpPr/>
            <p:nvPr/>
          </p:nvSpPr>
          <p:spPr>
            <a:xfrm>
              <a:off x="5676840" y="3605040"/>
              <a:ext cx="50472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ffffff"/>
                  </a:solidFill>
                  <a:latin typeface="Tw Cen MT"/>
                </a:rPr>
                <a:t>Heart Failur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" name="Oval 10"/>
          <p:cNvGrpSpPr/>
          <p:nvPr/>
        </p:nvGrpSpPr>
        <p:grpSpPr>
          <a:xfrm>
            <a:off x="6877080" y="3402000"/>
            <a:ext cx="816120" cy="816120"/>
            <a:chOff x="6877080" y="3402000"/>
            <a:chExt cx="816120" cy="816120"/>
          </a:xfrm>
        </p:grpSpPr>
        <p:pic>
          <p:nvPicPr>
            <p:cNvPr id="375" name="Oval 10" descr=""/>
            <p:cNvPicPr/>
            <p:nvPr/>
          </p:nvPicPr>
          <p:blipFill>
            <a:blip r:embed="rId3"/>
            <a:stretch/>
          </p:blipFill>
          <p:spPr>
            <a:xfrm>
              <a:off x="6877080" y="3402000"/>
              <a:ext cx="816120" cy="81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6" name=""/>
            <p:cNvSpPr/>
            <p:nvPr/>
          </p:nvSpPr>
          <p:spPr>
            <a:xfrm>
              <a:off x="7034040" y="3533760"/>
              <a:ext cx="50508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ffffff"/>
                  </a:solidFill>
                  <a:latin typeface="Tw Cen MT"/>
                </a:rPr>
                <a:t>Deat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77" name="Curved Connector 12"/>
          <p:cNvCxnSpPr/>
          <p:nvPr/>
        </p:nvCxnSpPr>
        <p:spPr>
          <a:xfrm flipV="1">
            <a:off x="2000160" y="2214000"/>
            <a:ext cx="2286720" cy="1786680"/>
          </a:xfrm>
          <a:prstGeom prst="curvedConnector5">
            <a:avLst>
              <a:gd name="adj1" fmla="val 11651"/>
              <a:gd name="adj2" fmla="val 50000"/>
              <a:gd name="adj3" fmla="val 11651"/>
            </a:avLst>
          </a:prstGeom>
          <a:ln w="3492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378" name="Curved Connector 16"/>
          <p:cNvCxnSpPr/>
          <p:nvPr/>
        </p:nvCxnSpPr>
        <p:spPr>
          <a:xfrm flipV="1">
            <a:off x="2000160" y="3965040"/>
            <a:ext cx="572400" cy="36000"/>
          </a:xfrm>
          <a:prstGeom prst="curvedConnector5">
            <a:avLst>
              <a:gd name="adj1" fmla="val 49968"/>
              <a:gd name="adj2" fmla="val 49494"/>
              <a:gd name="adj3" fmla="val 49968"/>
            </a:avLst>
          </a:prstGeom>
          <a:ln w="3492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379" name="Curved Connector 20"/>
          <p:cNvCxnSpPr/>
          <p:nvPr/>
        </p:nvCxnSpPr>
        <p:spPr>
          <a:xfrm>
            <a:off x="1999800" y="4000680"/>
            <a:ext cx="786600" cy="1357920"/>
          </a:xfrm>
          <a:prstGeom prst="curvedConnector5">
            <a:avLst>
              <a:gd name="adj1" fmla="val 50000"/>
              <a:gd name="adj2" fmla="val 49986"/>
              <a:gd name="adj3" fmla="val 50000"/>
            </a:avLst>
          </a:prstGeom>
          <a:ln w="3492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380" name="Curved Connector 22"/>
          <p:cNvCxnSpPr>
            <a:stCxn id="368" idx="0"/>
            <a:endCxn id="381" idx="4"/>
          </p:cNvCxnSpPr>
          <p:nvPr/>
        </p:nvCxnSpPr>
        <p:spPr>
          <a:xfrm flipV="1" rot="16200000">
            <a:off x="2981520" y="4839120"/>
            <a:ext cx="286560" cy="37080"/>
          </a:xfrm>
          <a:prstGeom prst="curvedConnector5">
            <a:avLst>
              <a:gd name="adj1" fmla="val 49937"/>
              <a:gd name="adj2" fmla="val 50000"/>
              <a:gd name="adj3" fmla="val 49937"/>
            </a:avLst>
          </a:prstGeom>
          <a:ln w="3492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382" name="Shape 24"/>
          <p:cNvCxnSpPr>
            <a:stCxn id="368" idx="6"/>
          </p:cNvCxnSpPr>
          <p:nvPr/>
        </p:nvCxnSpPr>
        <p:spPr>
          <a:xfrm flipV="1">
            <a:off x="3499920" y="4214160"/>
            <a:ext cx="2429640" cy="1143720"/>
          </a:xfrm>
          <a:prstGeom prst="curvedConnector2">
            <a:avLst/>
          </a:prstGeom>
          <a:ln w="3492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383" name="Shape 26"/>
          <p:cNvCxnSpPr>
            <a:stCxn id="368" idx="6"/>
          </p:cNvCxnSpPr>
          <p:nvPr/>
        </p:nvCxnSpPr>
        <p:spPr>
          <a:xfrm flipV="1">
            <a:off x="3500280" y="4142880"/>
            <a:ext cx="3787200" cy="1215360"/>
          </a:xfrm>
          <a:prstGeom prst="curvedConnector2">
            <a:avLst/>
          </a:prstGeom>
          <a:ln w="3492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384" name="Shape 28"/>
          <p:cNvCxnSpPr>
            <a:stCxn id="367" idx="6"/>
          </p:cNvCxnSpPr>
          <p:nvPr/>
        </p:nvCxnSpPr>
        <p:spPr>
          <a:xfrm>
            <a:off x="5000760" y="2214360"/>
            <a:ext cx="2286720" cy="1215000"/>
          </a:xfrm>
          <a:prstGeom prst="curvedConnector2">
            <a:avLst/>
          </a:prstGeom>
          <a:ln w="3492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385" name="Shape 30"/>
          <p:cNvCxnSpPr/>
          <p:nvPr/>
        </p:nvCxnSpPr>
        <p:spPr>
          <a:xfrm flipV="1">
            <a:off x="3642840" y="3428280"/>
            <a:ext cx="3644280" cy="500760"/>
          </a:xfrm>
          <a:prstGeom prst="curvedConnector5">
            <a:avLst>
              <a:gd name="adj1" fmla="val 17121"/>
              <a:gd name="adj2" fmla="val 94244"/>
              <a:gd name="adj3" fmla="val 17121"/>
            </a:avLst>
          </a:prstGeom>
          <a:ln w="34920">
            <a:solidFill>
              <a:srgbClr val="94b6d2"/>
            </a:solidFill>
            <a:miter/>
            <a:tailEnd len="med" type="arrow" w="med"/>
          </a:ln>
        </p:spPr>
      </p:cxnSp>
      <p:sp>
        <p:nvSpPr>
          <p:cNvPr id="386" name="Oval 33"/>
          <p:cNvSpPr/>
          <p:nvPr/>
        </p:nvSpPr>
        <p:spPr>
          <a:xfrm>
            <a:off x="4286160" y="3646440"/>
            <a:ext cx="857520" cy="714600"/>
          </a:xfrm>
          <a:prstGeom prst="ellipse">
            <a:avLst/>
          </a:prstGeom>
          <a:solidFill>
            <a:srgbClr val="d8b25c"/>
          </a:solidFill>
          <a:ln w="10080">
            <a:solidFill>
              <a:srgbClr val="d8b25c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Tw Cen MT"/>
              </a:rPr>
              <a:t>MI Survivo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7" name="Curved Connector 35"/>
          <p:cNvCxnSpPr>
            <a:stCxn id="381" idx="6"/>
            <a:endCxn id="386" idx="2"/>
          </p:cNvCxnSpPr>
          <p:nvPr/>
        </p:nvCxnSpPr>
        <p:spPr>
          <a:xfrm>
            <a:off x="3643200" y="3965400"/>
            <a:ext cx="643320" cy="38880"/>
          </a:xfrm>
          <a:prstGeom prst="curvedConnector5">
            <a:avLst>
              <a:gd name="adj1" fmla="val 50000"/>
              <a:gd name="adj2" fmla="val 49532"/>
              <a:gd name="adj3" fmla="val 50000"/>
            </a:avLst>
          </a:prstGeom>
          <a:ln w="3492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388" name="Curved Connector 37"/>
          <p:cNvCxnSpPr>
            <a:stCxn id="386" idx="6"/>
          </p:cNvCxnSpPr>
          <p:nvPr/>
        </p:nvCxnSpPr>
        <p:spPr>
          <a:xfrm flipV="1">
            <a:off x="5143680" y="3857040"/>
            <a:ext cx="429120" cy="146520"/>
          </a:xfrm>
          <a:prstGeom prst="curvedConnector5">
            <a:avLst>
              <a:gd name="adj1" fmla="val 49958"/>
              <a:gd name="adj2" fmla="val 50000"/>
              <a:gd name="adj3" fmla="val 49958"/>
            </a:avLst>
          </a:prstGeom>
          <a:ln w="3492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389" name="Curved Connector 39"/>
          <p:cNvCxnSpPr>
            <a:stCxn id="386" idx="0"/>
          </p:cNvCxnSpPr>
          <p:nvPr/>
        </p:nvCxnSpPr>
        <p:spPr>
          <a:xfrm flipH="1" flipV="1" rot="5400000">
            <a:off x="5891760" y="2251440"/>
            <a:ext cx="218160" cy="2572560"/>
          </a:xfrm>
          <a:prstGeom prst="curvedConnector5">
            <a:avLst>
              <a:gd name="adj1" fmla="val 204958"/>
              <a:gd name="adj2" fmla="val 49993"/>
              <a:gd name="adj3" fmla="val 204958"/>
            </a:avLst>
          </a:prstGeom>
          <a:ln w="3492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390" name="Curved Connector 41"/>
          <p:cNvCxnSpPr/>
          <p:nvPr/>
        </p:nvCxnSpPr>
        <p:spPr>
          <a:xfrm flipV="1">
            <a:off x="6286320" y="3785400"/>
            <a:ext cx="643320" cy="7236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34920">
            <a:solidFill>
              <a:srgbClr val="94b6d2"/>
            </a:solidFill>
            <a:miter/>
            <a:tailEnd len="med" type="arrow" w="med"/>
          </a:ln>
        </p:spPr>
      </p:cxnSp>
      <p:sp>
        <p:nvSpPr>
          <p:cNvPr id="381" name="Oval 42"/>
          <p:cNvSpPr/>
          <p:nvPr/>
        </p:nvSpPr>
        <p:spPr>
          <a:xfrm>
            <a:off x="2571840" y="3214800"/>
            <a:ext cx="1071360" cy="1500120"/>
          </a:xfrm>
          <a:prstGeom prst="ellipse">
            <a:avLst/>
          </a:prstGeom>
          <a:solidFill>
            <a:srgbClr val="de3f2e">
              <a:alpha val="38000"/>
            </a:srgbClr>
          </a:solidFill>
          <a:ln w="19080">
            <a:solidFill>
              <a:srgbClr val="c0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1" name="Oval 46"/>
          <p:cNvGrpSpPr/>
          <p:nvPr/>
        </p:nvGrpSpPr>
        <p:grpSpPr>
          <a:xfrm>
            <a:off x="3657600" y="5967360"/>
            <a:ext cx="822240" cy="824040"/>
            <a:chOff x="3657600" y="5967360"/>
            <a:chExt cx="822240" cy="824040"/>
          </a:xfrm>
        </p:grpSpPr>
        <p:pic>
          <p:nvPicPr>
            <p:cNvPr id="392" name="Oval 46" descr=""/>
            <p:cNvPicPr/>
            <p:nvPr/>
          </p:nvPicPr>
          <p:blipFill>
            <a:blip r:embed="rId4"/>
            <a:stretch/>
          </p:blipFill>
          <p:spPr>
            <a:xfrm>
              <a:off x="3657600" y="5967360"/>
              <a:ext cx="822240" cy="82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3" name=""/>
            <p:cNvSpPr/>
            <p:nvPr/>
          </p:nvSpPr>
          <p:spPr>
            <a:xfrm>
              <a:off x="3819600" y="6105600"/>
              <a:ext cx="50472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ffffff"/>
                  </a:solidFill>
                  <a:latin typeface="Tw Cen MT"/>
                </a:rPr>
                <a:t>Strok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94" name="Curved Connector 47"/>
          <p:cNvCxnSpPr/>
          <p:nvPr/>
        </p:nvCxnSpPr>
        <p:spPr>
          <a:xfrm>
            <a:off x="1999800" y="4000680"/>
            <a:ext cx="1715400" cy="2358000"/>
          </a:xfrm>
          <a:prstGeom prst="curvedConnector5">
            <a:avLst>
              <a:gd name="adj1" fmla="val 10537"/>
              <a:gd name="adj2" fmla="val 49992"/>
              <a:gd name="adj3" fmla="val 10537"/>
            </a:avLst>
          </a:prstGeom>
          <a:ln w="3492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395" name="Curved Connector 52"/>
          <p:cNvCxnSpPr/>
          <p:nvPr/>
        </p:nvCxnSpPr>
        <p:spPr>
          <a:xfrm flipV="1">
            <a:off x="4429080" y="4142880"/>
            <a:ext cx="2858400" cy="2215440"/>
          </a:xfrm>
          <a:prstGeom prst="curvedConnector2">
            <a:avLst/>
          </a:prstGeom>
          <a:ln w="3492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396" name="Curved Connector 55"/>
          <p:cNvCxnSpPr>
            <a:endCxn id="381" idx="4"/>
          </p:cNvCxnSpPr>
          <p:nvPr/>
        </p:nvCxnSpPr>
        <p:spPr>
          <a:xfrm flipV="1" rot="16200000">
            <a:off x="2945880" y="4874760"/>
            <a:ext cx="1286640" cy="965880"/>
          </a:xfrm>
          <a:prstGeom prst="curvedConnector5">
            <a:avLst>
              <a:gd name="adj1" fmla="val 81108"/>
              <a:gd name="adj2" fmla="val 50000"/>
              <a:gd name="adj3" fmla="val 81108"/>
            </a:avLst>
          </a:prstGeom>
          <a:ln w="34920">
            <a:solidFill>
              <a:srgbClr val="94b6d2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w Cen MT"/>
              </a:rPr>
              <a:t>Efficacy vs effectiveness: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RCT and SR usually better than real practic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Uptake: those not receiving the drug do not benefit from it.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w Cen MT"/>
              </a:rPr>
              <a:t>Many interventions acting on the same individuals: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Estimation of a common effect: The Mant-Hicks approach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8" name="Object 2"/>
              <p:cNvSpPr txBox="1"/>
              <p:nvPr/>
            </p:nvSpPr>
            <p:spPr>
              <a:xfrm>
                <a:off x="1714680" y="4929120"/>
                <a:ext cx="5500440" cy="28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mmonRRR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RRRa</m:t>
                    </m:r>
                    <m:r>
                      <m:t xml:space="preserve">)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RRRb</m:t>
                    </m:r>
                    <m:r>
                      <m:t xml:space="preserve">)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RRR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775f55"/>
                </a:solidFill>
                <a:latin typeface="Tw Cen MT"/>
              </a:rPr>
              <a:t>Key issues when modelling interventions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75f55"/>
                </a:solidFill>
                <a:latin typeface="Tw Cen MT"/>
              </a:rPr>
              <a:t>Summary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Patients group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Strategie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High quality information on efficacy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AMI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PCI vs thrombolysi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Chronic Angin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CABG vs PCI vs Medical Managemen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Heart Failur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Statin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Key facts in modelling intervention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75f55"/>
                </a:solidFill>
                <a:latin typeface="Tw Cen MT"/>
              </a:rPr>
              <a:t>Key patients group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Acute Coronary Syndrom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Stable Angin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Heart Failur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Strok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Peripheral Arterial diseas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75f55"/>
                </a:solidFill>
                <a:latin typeface="Tw Cen MT"/>
              </a:rPr>
              <a:t>Strategies to Manage CVD Diseas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Aims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Prevent clinical disease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Postpone disease progression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Decrease mortality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Increase Quality of Life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75f55"/>
                </a:solidFill>
                <a:latin typeface="Tw Cen MT"/>
              </a:rPr>
              <a:t>Acute Coronary Syndrome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w Cen MT"/>
              </a:rPr>
              <a:t>Complex situation: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Definitions keep changing for clinical purposes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Epidemiological definitions: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w Cen MT"/>
              </a:rPr>
              <a:t>Circulation. 2003 Nov 18;108(20):2543-9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w Cen MT"/>
              </a:rPr>
              <a:t>EuroCISS: </a:t>
            </a:r>
            <a:r>
              <a:rPr b="0" lang="fr-FR" sz="1800" spc="-1" strike="noStrike" u="sng">
                <a:solidFill>
                  <a:srgbClr val="f7b615"/>
                </a:solidFill>
                <a:uFillTx/>
                <a:latin typeface="Tw Cen MT"/>
                <a:hlinkClick r:id="rId1"/>
              </a:rPr>
              <a:t>http://www.cuore.iss.it/eurociss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Groups (Clinical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Acute Myocardial infarctio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w Cen MT"/>
              </a:rPr>
              <a:t>STEMI (ST elevation Myocardial Infarction)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w Cen MT"/>
              </a:rPr>
              <a:t>NSTEMI (Non ST elevation Myocardial infarction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Unstable angina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75f55"/>
                </a:solidFill>
                <a:latin typeface="Tw Cen MT"/>
              </a:rPr>
              <a:t>Acute myocardial infarctio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15720" indent="-31572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w Cen MT"/>
              </a:rPr>
              <a:t>Atherosclerotic plaque rupture leading to a sudden occlusion of a coronary artery 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w Cen MT"/>
              </a:rPr>
              <a:t>Myocardial muscle loss. 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lvl="1" marL="633240" indent="-27000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w Cen MT"/>
              </a:rPr>
              <a:t>Host of complications:</a:t>
            </a:r>
            <a:endParaRPr b="0" lang="en-US" sz="1500" spc="-1" strike="noStrike">
              <a:solidFill>
                <a:srgbClr val="000000"/>
              </a:solidFill>
              <a:latin typeface="Tw Cen MT"/>
            </a:endParaRPr>
          </a:p>
          <a:p>
            <a:pPr lvl="2" marL="905040" indent="-22608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w Cen MT"/>
              </a:rPr>
              <a:t>Electrical: arryhtmias</a:t>
            </a:r>
            <a:endParaRPr b="0" lang="en-US" sz="1300" spc="-1" strike="noStrike">
              <a:solidFill>
                <a:srgbClr val="000000"/>
              </a:solidFill>
              <a:latin typeface="Tw Cen MT"/>
            </a:endParaRPr>
          </a:p>
          <a:p>
            <a:pPr lvl="2" marL="905040" indent="-22608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w Cen MT"/>
              </a:rPr>
              <a:t>Mechanical: heart failure and cardiogenic shoc</a:t>
            </a:r>
            <a:endParaRPr b="0" lang="en-US" sz="13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w Cen MT"/>
              </a:rPr>
              <a:t>Therapy: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lvl="1" marL="633240" indent="-27000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w Cen MT"/>
              </a:rPr>
              <a:t>Type of AMI (STEMI vs NSTEMI) is critical to guide decisions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lvl="2" marL="905040" indent="-22608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w Cen MT"/>
              </a:rPr>
              <a:t>Decrease size of infarct</a:t>
            </a:r>
            <a:endParaRPr b="0" lang="en-US" sz="1300" spc="-1" strike="noStrike">
              <a:solidFill>
                <a:srgbClr val="000000"/>
              </a:solidFill>
              <a:latin typeface="Tw Cen MT"/>
            </a:endParaRPr>
          </a:p>
          <a:p>
            <a:pPr lvl="2" marL="905040" indent="-22608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w Cen MT"/>
              </a:rPr>
              <a:t>Treat complications</a:t>
            </a:r>
            <a:endParaRPr b="0" lang="en-US" sz="1300" spc="-1" strike="noStrike">
              <a:solidFill>
                <a:srgbClr val="000000"/>
              </a:solidFill>
              <a:latin typeface="Tw Cen MT"/>
            </a:endParaRPr>
          </a:p>
          <a:p>
            <a:pPr lvl="2" marL="905040" indent="-22608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w Cen MT"/>
              </a:rPr>
              <a:t>Stabilize atherosclerotic plaque to prevent further ischemic events</a:t>
            </a:r>
            <a:endParaRPr b="0" lang="en-US" sz="13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Tw Cen MT"/>
              </a:rPr>
              <a:t>Efficacy outcomes:</a:t>
            </a:r>
            <a:r>
              <a:rPr b="0" lang="en-GB" sz="15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w Cen MT"/>
            </a:endParaRPr>
          </a:p>
          <a:p>
            <a:pPr lvl="1" marL="633240" indent="-27000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w Cen MT"/>
              </a:rPr>
              <a:t>Rates of major cardiovascular events:</a:t>
            </a:r>
            <a:endParaRPr b="0" lang="en-US" sz="1300" spc="-1" strike="noStrike">
              <a:solidFill>
                <a:srgbClr val="000000"/>
              </a:solidFill>
              <a:latin typeface="Tw Cen MT"/>
            </a:endParaRPr>
          </a:p>
          <a:p>
            <a:pPr lvl="2" marL="905040" indent="-22608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w Cen MT"/>
              </a:rPr>
              <a:t>Death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lvl="2" marL="905040" indent="-22608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w Cen MT"/>
              </a:rPr>
              <a:t>Recurrent AMI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lvl="2" marL="905040" indent="-22608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w Cen MT"/>
              </a:rPr>
              <a:t>Refractory ischaemia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lvl="2" marL="905040" indent="-22608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w Cen MT"/>
              </a:rPr>
              <a:t>Stroke. 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Tw Cen MT"/>
              </a:rPr>
              <a:t>Safety outcomes:</a:t>
            </a:r>
            <a:r>
              <a:rPr b="0" lang="en-GB" sz="15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w Cen MT"/>
            </a:endParaRPr>
          </a:p>
          <a:p>
            <a:pPr lvl="1" marL="633240" indent="-27000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w Cen MT"/>
              </a:rPr>
              <a:t>Rates of major bleeding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lvl="1" marL="633240" indent="-27000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406" name="Picture 1" descr="Beneficial"/>
          <p:cNvPicPr/>
          <p:nvPr/>
        </p:nvPicPr>
        <p:blipFill>
          <a:blip r:embed="rId1"/>
          <a:stretch/>
        </p:blipFill>
        <p:spPr>
          <a:xfrm>
            <a:off x="0" y="0"/>
            <a:ext cx="228600" cy="15228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2" descr="Likely to be beneficial"/>
          <p:cNvPicPr/>
          <p:nvPr/>
        </p:nvPicPr>
        <p:blipFill>
          <a:blip r:embed="rId2"/>
          <a:stretch/>
        </p:blipFill>
        <p:spPr>
          <a:xfrm>
            <a:off x="0" y="0"/>
            <a:ext cx="228600" cy="15228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3" descr="Trade off between benefits and harms"/>
          <p:cNvPicPr/>
          <p:nvPr/>
        </p:nvPicPr>
        <p:blipFill>
          <a:blip r:embed="rId3"/>
          <a:stretch/>
        </p:blipFill>
        <p:spPr>
          <a:xfrm>
            <a:off x="0" y="0"/>
            <a:ext cx="228600" cy="15228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4" descr="Unlikely to be beneficial"/>
          <p:cNvPicPr/>
          <p:nvPr/>
        </p:nvPicPr>
        <p:blipFill>
          <a:blip r:embed="rId4"/>
          <a:stretch/>
        </p:blipFill>
        <p:spPr>
          <a:xfrm>
            <a:off x="0" y="0"/>
            <a:ext cx="228600" cy="15228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5" descr="Likely to be ineffective or harmful"/>
          <p:cNvPicPr/>
          <p:nvPr/>
        </p:nvPicPr>
        <p:blipFill>
          <a:blip r:embed="rId5"/>
          <a:stretch/>
        </p:blipFill>
        <p:spPr>
          <a:xfrm>
            <a:off x="0" y="0"/>
            <a:ext cx="228600" cy="152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11" name=""/>
          <p:cNvGraphicFramePr/>
          <p:nvPr/>
        </p:nvGraphicFramePr>
        <p:xfrm>
          <a:off x="785880" y="1285920"/>
          <a:ext cx="7500960" cy="3844800"/>
        </p:xfrm>
        <a:graphic>
          <a:graphicData uri="http://schemas.openxmlformats.org/drawingml/2006/table">
            <a:tbl>
              <a:tblPr/>
              <a:tblGrid>
                <a:gridCol w="3166920"/>
                <a:gridCol w="2166840"/>
                <a:gridCol w="21672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Interven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Effect on morta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Type  of evid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ngiotensin Converting Enzyme inhibito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spir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 Block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TEMI: Primary percutaneous coronary intervention (PCI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TEMI: Thrombolys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</a:tbl>
          </a:graphicData>
        </a:graphic>
      </p:graphicFrame>
      <p:sp>
        <p:nvSpPr>
          <p:cNvPr id="412" name="Down Arrow 12"/>
          <p:cNvSpPr/>
          <p:nvPr/>
        </p:nvSpPr>
        <p:spPr>
          <a:xfrm>
            <a:off x="4429080" y="1714680"/>
            <a:ext cx="92880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81875a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w Cen MT"/>
              </a:rPr>
              <a:t>7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Down Arrow 13"/>
          <p:cNvSpPr/>
          <p:nvPr/>
        </p:nvSpPr>
        <p:spPr>
          <a:xfrm>
            <a:off x="4429080" y="2352600"/>
            <a:ext cx="92880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81875a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w Cen MT"/>
              </a:rPr>
              <a:t>1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Down Arrow 14"/>
          <p:cNvSpPr/>
          <p:nvPr/>
        </p:nvSpPr>
        <p:spPr>
          <a:xfrm>
            <a:off x="4429080" y="3000240"/>
            <a:ext cx="92880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81875a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w Cen MT"/>
              </a:rPr>
              <a:t>4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Down Arrow 15"/>
          <p:cNvSpPr/>
          <p:nvPr/>
        </p:nvSpPr>
        <p:spPr>
          <a:xfrm>
            <a:off x="4429080" y="3786120"/>
            <a:ext cx="92880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81875a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w Cen MT"/>
              </a:rPr>
              <a:t>32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Down Arrow 16"/>
          <p:cNvSpPr/>
          <p:nvPr/>
        </p:nvSpPr>
        <p:spPr>
          <a:xfrm>
            <a:off x="4429080" y="4572000"/>
            <a:ext cx="92880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81875a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w Cen MT"/>
              </a:rPr>
              <a:t>31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Box 17"/>
          <p:cNvSpPr/>
          <p:nvPr/>
        </p:nvSpPr>
        <p:spPr>
          <a:xfrm>
            <a:off x="1785960" y="5572080"/>
            <a:ext cx="5929200" cy="916920"/>
          </a:xfrm>
          <a:prstGeom prst="rect">
            <a:avLst/>
          </a:prstGeom>
          <a:gradFill rotWithShape="0">
            <a:gsLst>
              <a:gs pos="0">
                <a:srgbClr val="b7d3ed"/>
              </a:gs>
              <a:gs pos="100000">
                <a:srgbClr val="e9f0f8"/>
              </a:gs>
            </a:gsLst>
            <a:lin ang="5400000"/>
          </a:gradFill>
          <a:ln w="9360">
            <a:solidFill>
              <a:srgbClr val="8fb2c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ngoing deb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CI vs.  thrombo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75f55"/>
                </a:solidFill>
                <a:latin typeface="Tw Cen MT"/>
              </a:rPr>
              <a:t>Unstable Angina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15720" indent="-3157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w Cen MT"/>
              </a:rPr>
              <a:t>Atherosclerotic plaque unstable, producing inflammatory and thrombotic phenomena causing myocardial ischemia but not myocardial muscle death. 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w Cen MT"/>
              </a:rPr>
              <a:t>Definition: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lvl="1" marL="633240" indent="-27000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Tw Cen MT"/>
              </a:rPr>
              <a:t>New  symptoms</a:t>
            </a:r>
            <a:endParaRPr b="0" lang="en-US" sz="900" spc="-1" strike="noStrike">
              <a:solidFill>
                <a:srgbClr val="000000"/>
              </a:solidFill>
              <a:latin typeface="Tw Cen MT"/>
            </a:endParaRPr>
          </a:p>
          <a:p>
            <a:pPr lvl="1" marL="633240" indent="-27000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Tw Cen MT"/>
              </a:rPr>
              <a:t>Recent change in the stable anginal symptoms pattern</a:t>
            </a:r>
            <a:endParaRPr b="0" lang="en-US" sz="900" spc="-1" strike="noStrike">
              <a:solidFill>
                <a:srgbClr val="000000"/>
              </a:solidFill>
              <a:latin typeface="Tw Cen MT"/>
            </a:endParaRPr>
          </a:p>
          <a:p>
            <a:pPr lvl="1" marL="633240" indent="-27000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Tw Cen MT"/>
              </a:rPr>
              <a:t>No evidence of myocardial necrosis. </a:t>
            </a:r>
            <a:endParaRPr b="0" lang="en-US" sz="9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w Cen MT"/>
              </a:rPr>
              <a:t>Therapy: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lvl="2" marL="905040" indent="-22608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w Cen MT"/>
              </a:rPr>
              <a:t>Avoid progression to AMI</a:t>
            </a:r>
            <a:endParaRPr b="0" lang="en-US" sz="1300" spc="-1" strike="noStrike">
              <a:solidFill>
                <a:srgbClr val="000000"/>
              </a:solidFill>
              <a:latin typeface="Tw Cen MT"/>
            </a:endParaRPr>
          </a:p>
          <a:p>
            <a:pPr lvl="2" marL="905040" indent="-22608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w Cen MT"/>
              </a:rPr>
              <a:t>Stabilize atherosclerotic plaque to avoid progression of ischemia (eg: to AMI)</a:t>
            </a:r>
            <a:endParaRPr b="0" lang="en-US" sz="1300" spc="-1" strike="noStrike">
              <a:solidFill>
                <a:srgbClr val="000000"/>
              </a:solidFill>
              <a:latin typeface="Tw Cen MT"/>
            </a:endParaRPr>
          </a:p>
          <a:p>
            <a:pPr lvl="2" marL="905040" indent="-22608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w Cen MT"/>
              </a:rPr>
              <a:t>Revascularization strategies based on risk of future events and anatomy</a:t>
            </a:r>
            <a:endParaRPr b="0" lang="en-US" sz="13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Tw Cen MT"/>
              </a:rPr>
              <a:t>Efficacy outcomes:</a:t>
            </a:r>
            <a:r>
              <a:rPr b="0" lang="en-GB" sz="15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w Cen MT"/>
            </a:endParaRPr>
          </a:p>
          <a:p>
            <a:pPr lvl="1" marL="633240" indent="-27000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w Cen MT"/>
              </a:rPr>
              <a:t>Rates of major cardiovascular events:</a:t>
            </a:r>
            <a:endParaRPr b="0" lang="en-US" sz="1300" spc="-1" strike="noStrike">
              <a:solidFill>
                <a:srgbClr val="000000"/>
              </a:solidFill>
              <a:latin typeface="Tw Cen MT"/>
            </a:endParaRPr>
          </a:p>
          <a:p>
            <a:pPr lvl="2" marL="905040" indent="-22608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w Cen MT"/>
              </a:rPr>
              <a:t>Death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lvl="2" marL="905040" indent="-22608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w Cen MT"/>
              </a:rPr>
              <a:t>AMI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lvl="2" marL="905040" indent="-22608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w Cen MT"/>
              </a:rPr>
              <a:t>Refractory ischaemia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lvl="2" marL="905040" indent="-22608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w Cen MT"/>
              </a:rPr>
              <a:t>Re admission to hospital 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Tw Cen MT"/>
              </a:rPr>
              <a:t>Safety outcomes:</a:t>
            </a:r>
            <a:r>
              <a:rPr b="0" lang="en-GB" sz="15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w Cen MT"/>
            </a:endParaRPr>
          </a:p>
          <a:p>
            <a:pPr lvl="1" marL="633240" indent="-27000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w Cen MT"/>
              </a:rPr>
              <a:t>Rates of major bleeding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lvl="1" marL="633240" indent="-27000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421" name=""/>
          <p:cNvGraphicFramePr/>
          <p:nvPr/>
        </p:nvGraphicFramePr>
        <p:xfrm>
          <a:off x="714240" y="1714680"/>
          <a:ext cx="7500960" cy="4036680"/>
        </p:xfrm>
        <a:graphic>
          <a:graphicData uri="http://schemas.openxmlformats.org/drawingml/2006/table">
            <a:tbl>
              <a:tblPr/>
              <a:tblGrid>
                <a:gridCol w="3167280"/>
                <a:gridCol w="2166840"/>
                <a:gridCol w="21668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Interven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Effect on morta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Type  of evid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spirin and Hepari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gpIIb/IIIa inhibitors/Clopidogr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 Block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Percutaneous coronary intervention (PCI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CAB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</a:tbl>
          </a:graphicData>
        </a:graphic>
      </p:graphicFrame>
      <p:sp>
        <p:nvSpPr>
          <p:cNvPr id="422" name="Down Arrow 4"/>
          <p:cNvSpPr/>
          <p:nvPr/>
        </p:nvSpPr>
        <p:spPr>
          <a:xfrm>
            <a:off x="4429080" y="2143080"/>
            <a:ext cx="92880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81875a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w Cen MT"/>
              </a:rPr>
              <a:t>33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Down Arrow 5"/>
          <p:cNvSpPr/>
          <p:nvPr/>
        </p:nvSpPr>
        <p:spPr>
          <a:xfrm>
            <a:off x="4429080" y="2924280"/>
            <a:ext cx="92880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81875a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w Cen MT"/>
              </a:rPr>
              <a:t>9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Down Arrow 6"/>
          <p:cNvSpPr/>
          <p:nvPr/>
        </p:nvSpPr>
        <p:spPr>
          <a:xfrm>
            <a:off x="4429080" y="3571920"/>
            <a:ext cx="92880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81875a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w Cen MT"/>
              </a:rPr>
              <a:t>32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Down Arrow 7"/>
          <p:cNvSpPr/>
          <p:nvPr/>
        </p:nvSpPr>
        <p:spPr>
          <a:xfrm>
            <a:off x="4429080" y="4357800"/>
            <a:ext cx="92880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81875a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w Cen MT"/>
              </a:rPr>
              <a:t>32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Down Arrow 8"/>
          <p:cNvSpPr/>
          <p:nvPr/>
        </p:nvSpPr>
        <p:spPr>
          <a:xfrm>
            <a:off x="4429080" y="5143680"/>
            <a:ext cx="92880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81875a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w Cen MT"/>
              </a:rPr>
              <a:t>43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9T14:26:09Z</dcterms:created>
  <dc:creator>Martin O'Flaherty</dc:creator>
  <dc:description/>
  <dc:language>en-US</dc:language>
  <cp:lastModifiedBy>Computing Services</cp:lastModifiedBy>
  <dcterms:modified xsi:type="dcterms:W3CDTF">2008-04-09T12:50:59Z</dcterms:modified>
  <cp:revision>40</cp:revision>
  <dc:subject/>
  <dc:title>Slide 1</dc:title>
</cp:coreProperties>
</file>