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25D8-6C5E-4947-B8A8-E231B111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3A9-9AB2-47CF-8A0C-A8E85FFB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EB59-D587-4134-AD93-A3EE6ED3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D14-1255-4806-BCF1-CCDDD6BB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ACB-6B23-4135-888A-F7B20A2A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A2C-FE2C-4E1A-84FF-15ADDD46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83D9-8FE9-4090-831D-606CE365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304-8B2B-48AC-86A6-7FE42123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E6D-01AF-49E1-B601-7FB4B8C0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CBB-51EB-4DB6-808E-E0F36AF1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7EFC-0595-4A9C-9143-11FFA1B4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B9F-353D-4065-BD7C-10D7FCCC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F99A-5E34-4BD5-AE3B-0D1F970BB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ing the effect of thrombolytics for use in a mod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mbolytics: what are the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group has to complete a table by extracting relevant pieces of evidence from publish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have at your disposal the following pap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es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ar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2;87;308-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igent (ISIS-2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MJ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8;316;1337-13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the table, justify any assumption you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data by 10 year age-groups and s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terested in short term mortality (30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1649520"/>
          <a:ext cx="8229600" cy="3558960"/>
        </p:xfrm>
        <a:graphic>
          <a:graphicData uri="http://schemas.openxmlformats.org/drawingml/2006/table">
            <a:tbl>
              <a:tblPr/>
              <a:tblGrid>
                <a:gridCol w="1881360"/>
                <a:gridCol w="1663560"/>
                <a:gridCol w="1550880"/>
                <a:gridCol w="1747800"/>
                <a:gridCol w="138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-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mbolitics, AMI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000080"/>
            <a:ext cx="746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960" y="785880"/>
            <a:ext cx="8126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0"/>
          <a:ext cx="8229600" cy="6594480"/>
        </p:xfrm>
        <a:graphic>
          <a:graphicData uri="http://schemas.openxmlformats.org/drawingml/2006/table">
            <a:tbl>
              <a:tblPr/>
              <a:tblGrid>
                <a:gridCol w="488880"/>
                <a:gridCol w="2198880"/>
                <a:gridCol w="1112760"/>
                <a:gridCol w="2104920"/>
                <a:gridCol w="1214640"/>
                <a:gridCol w="620640"/>
                <a:gridCol w="488880"/>
              </a:tblGrid>
              <a:tr h="2156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DATED NOV 2006 latest treatment effectiveness data from USA model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cute myocardial infarction (ACUTE TREATMENT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ess 2002, updated F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rombolysis , RRR, 30 day mort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i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 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int estim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65 -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65 to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08:52Z</dcterms:created>
  <dc:creator>Martin O'Flaherty</dc:creator>
  <dc:description/>
  <dc:language>en-US</dc:language>
  <cp:lastModifiedBy>Martin O'Flaherty</cp:lastModifiedBy>
  <dcterms:modified xsi:type="dcterms:W3CDTF">2007-06-21T08:55:50Z</dcterms:modified>
  <cp:revision>3</cp:revision>
  <dc:subject/>
  <dc:title>Estimating the effect of thrombolytics for use in a model </dc:title>
</cp:coreProperties>
</file>