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865D-F1A7-4138-85D6-88AFAF31EF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BA1A-3BC0-4914-BBAF-4E3F65D495E4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FC81-C62C-485D-A9BE-FC8D868254F0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7F6B-3AFF-414B-9E4C-FDF9129B29F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2501-50B1-4576-AD9C-F7F4EC59C07A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0EE0-FA82-454C-B90B-00305D7878C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A68A-F768-435A-9DB4-C96820274EA3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B03C-B905-4E26-9A94-BC6B2A3E1FE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BFCF-2CA8-4F50-B019-87DCC9CD47A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1287-7ED4-491B-B3D8-64A5C843C12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B759-0305-4535-AA8C-3FC45155218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F993-3E64-4895-ADB3-E7AB71639934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io factors that get you to attend one hosp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F636-8A06-4D6A-8934-524153C05BE2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B1C5-D8C4-4CDB-A63C-B5E052EC1214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8CA4-5FDF-4D1A-98AB-A8B514099803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C0D0-D2C0-49B8-B8DA-BF33B8951650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D70F-5D5E-461C-893C-E5A1E73057AE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E7A1-CA6E-4880-8672-CD9541432C4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B3B2-0D51-4CEF-AA63-D4DC4D76A134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13ED-31AB-455E-B637-E09647418BF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67E1-C014-470A-9C51-B57ADEFCF8F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4B19-5393-4395-9832-D8316BFB014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72A2-ED4F-4D80-BF74-318E9B52462E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D181-2608-4033-83A0-02C3DA0859D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11F0-B611-4DD7-AC63-0CA7F97268C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9C21-9B8C-4BBB-AEFE-7A138CDBEB0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5C7F-B4BD-4E7C-9E1E-3F336D20C080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068F-3674-4D89-A2A3-9197B621104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4DF0-7973-4482-82B4-147592E3D2F2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3626-BF59-4F4B-9074-5EC9483E8B3C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1069-5FFE-4F5D-B575-A0B38794D1AE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757B-B9FD-49DC-8E6A-46B4E5F8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507E-50F4-47AF-8BFF-221D8CF9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14B1-8D45-422F-B466-570B43D6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1154-DED9-416E-92F3-6F267798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9E6E-A60C-49EB-8292-4BE88650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BA49-BA27-40F9-8DCB-053DF299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8C32-A538-4F65-AEB6-7432CDA2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6E57-8D74-4AD7-8E31-3B47EEB2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67E4-D8D4-4B71-8CE2-BC62E935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6A11-8C5C-4E6B-963B-4DA6D98B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49DF-3995-42F7-902D-5C336EB7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F9B2-59A2-4371-9012-74B74269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CD7A-4FF1-4237-B73C-54EE7732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A862-180A-4452-9A57-62D6F3AB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2691-2048-475F-B651-04407167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3CC7-0805-4921-A6F1-8E13F67E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4F32-14AB-4D93-B2B3-5D1094A6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403-5554-4ED9-AF89-FCEE03CC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D62-E72B-43EB-BF0A-BC755DF6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B27-CC66-4CFF-AF99-7D910D05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7CF9-4C66-452C-B22A-8DA12281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1B9E-1FAF-42AF-9C56-640C25DB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87FF-3221-4E0B-AA15-A43AD58C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7C05-A2B9-43BB-8543-E838A303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027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4E94-8F76-4B5F-9BBC-FC9EFF2586D4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027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EBCD-6571-4CDF-92FE-85EFBFEA6C9E}" type="slidenum">
              <a:rPr b="0" lang="en-GB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se-control stud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r Luis E Cuevas – LST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Julia Critchle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osure to risk factor/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1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219320" y="1752480"/>
            <a:ext cx="7315200" cy="426744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1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 exposure higher/lower in case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1080" y="2057400"/>
            <a:ext cx="1524240" cy="60948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12440" y="965160"/>
            <a:ext cx="63118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hen are these studies most useful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8680" y="2398680"/>
            <a:ext cx="820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imited information on risk factors (some times carried out before cohort studi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idence of the disease is low (rare diseas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udy many risk factors simultaneous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7160" y="112680"/>
            <a:ext cx="86374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Major problem with case-control studies is bias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election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ifferences in people who select themselves for studies compared with those who do no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easurement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ividual measurements of disease or exposure are more likely to be incorr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call bias in case-contro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How might you reduce these biases in practic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uggestion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762120" y="685800"/>
            <a:ext cx="335268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7315200" y="3048120"/>
            <a:ext cx="21337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238880" y="1523880"/>
            <a:ext cx="221004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85800" y="4419720"/>
            <a:ext cx="8458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are the factors that put a person at 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gher risk of suffering from CH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1828800"/>
            <a:ext cx="914400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0" y="3581280"/>
            <a:ext cx="9144000" cy="129564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hysical activity and risk of coronary heart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7238880" y="2819520"/>
            <a:ext cx="190512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191120" y="1828800"/>
            <a:ext cx="380988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 CH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038480" y="4191120"/>
            <a:ext cx="3962520" cy="914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out CH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600200" y="1905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676520" y="4267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1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11480" cy="50691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760680" y="533520"/>
            <a:ext cx="26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 defin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257800" y="2057400"/>
            <a:ext cx="35812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ospit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ealth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ent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ngle poi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erio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agno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5332320" y="609480"/>
            <a:ext cx="29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/s of c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0" y="1143000"/>
            <a:ext cx="9144000" cy="3808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Rectangle 28"/>
          <p:cNvSpPr/>
          <p:nvPr/>
        </p:nvSpPr>
        <p:spPr>
          <a:xfrm>
            <a:off x="5029200" y="5334120"/>
            <a:ext cx="304920" cy="68580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179280" y="4005360"/>
            <a:ext cx="4176720" cy="143964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Rectangle 30"/>
          <p:cNvSpPr/>
          <p:nvPr/>
        </p:nvSpPr>
        <p:spPr>
          <a:xfrm>
            <a:off x="179280" y="2205000"/>
            <a:ext cx="4191120" cy="165564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fficult and critical issu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dividuals who would have been selected as cases if they had the disease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ame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arability to cases essentia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urce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4476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pecial group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iends, neighbors, relativ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ideal control group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nalytical (Observational) Epidemio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im to identify potential associations between ‘risk’ factors and a particular disease or outco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971640" y="476280"/>
            <a:ext cx="33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s of contr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475680" y="190512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spital 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553080" y="2631960"/>
            <a:ext cx="213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limitations of the control group should be taken into account when interpreting findin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762120" y="1676520"/>
            <a:ext cx="5715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62120" y="19810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517680" y="1557360"/>
            <a:ext cx="4005000" cy="41767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539640" y="2492280"/>
            <a:ext cx="3961080" cy="93672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ll by defini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smok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alcoho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lativ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tic 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ocio-economic conditi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ographical situa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illing to collaborat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xie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ot always 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eighbou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aiting to return from wor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hare environm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rally un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reliable (recall bias?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cooperativ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1143000" y="762120"/>
            <a:ext cx="62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ist potential risk facto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457200" y="2168640"/>
            <a:ext cx="4137120" cy="39970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3"/>
          <p:cNvSpPr/>
          <p:nvPr/>
        </p:nvSpPr>
        <p:spPr>
          <a:xfrm>
            <a:off x="395280" y="2997360"/>
            <a:ext cx="4248000" cy="230328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Recap – confound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838080" y="2971800"/>
            <a:ext cx="7562880" cy="3886200"/>
            <a:chOff x="838080" y="2971800"/>
            <a:chExt cx="7562880" cy="3886200"/>
          </a:xfrm>
        </p:grpSpPr>
        <p:sp>
          <p:nvSpPr>
            <p:cNvPr id="208" name="Oval 3"/>
            <p:cNvSpPr/>
            <p:nvPr/>
          </p:nvSpPr>
          <p:spPr>
            <a:xfrm>
              <a:off x="1066680" y="5257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cc"/>
                  </a:solidFill>
                  <a:latin typeface="Tahoma"/>
                </a:rPr>
                <a:t>smoking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Oval 4"/>
            <p:cNvSpPr/>
            <p:nvPr/>
          </p:nvSpPr>
          <p:spPr>
            <a:xfrm>
              <a:off x="838080" y="2971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Physical 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activit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6248520" y="3353040"/>
              <a:ext cx="2152440" cy="703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cc00"/>
                  </a:solidFill>
                  <a:latin typeface="Arial"/>
                </a:rPr>
                <a:t>mortality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24080" y="342900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AutoShape 7"/>
            <p:cNvSpPr/>
            <p:nvPr/>
          </p:nvSpPr>
          <p:spPr>
            <a:xfrm rot="20229600">
              <a:off x="3352680" y="449568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AutoShape 8"/>
            <p:cNvSpPr/>
            <p:nvPr/>
          </p:nvSpPr>
          <p:spPr>
            <a:xfrm>
              <a:off x="1600200" y="4648320"/>
              <a:ext cx="457200" cy="4572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Rectangle 9"/>
          <p:cNvSpPr/>
          <p:nvPr/>
        </p:nvSpPr>
        <p:spPr>
          <a:xfrm>
            <a:off x="4802040" y="502920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confoun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457200" y="129528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A variable is a confounder if it is associated with the outcome of interest (death) and independently with the risk factor of interest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We are interested in the relationship between physical activity and CHD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Infant death. Smoking is also associated with CHD, and smoking and physical activity are associated with each other. Smoking is therefore a confound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of the relationship between physical activity and CHD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1054800" y="609480"/>
            <a:ext cx="2454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onfound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act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600200" y="2209680"/>
            <a:ext cx="3124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estri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c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Stratified anal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Multiple reg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0" name="Picture 4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0"/>
          <p:cNvSpPr/>
          <p:nvPr/>
        </p:nvSpPr>
        <p:spPr>
          <a:xfrm>
            <a:off x="317520" y="720000"/>
            <a:ext cx="86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tching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AutoShape 11"/>
          <p:cNvSpPr/>
          <p:nvPr/>
        </p:nvSpPr>
        <p:spPr>
          <a:xfrm>
            <a:off x="43434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AutoShape 12"/>
          <p:cNvSpPr/>
          <p:nvPr/>
        </p:nvSpPr>
        <p:spPr>
          <a:xfrm>
            <a:off x="586728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75438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 avoid confound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ge and se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difficult to analy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ssible to ‘overmatch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ssessing Causalit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tatistically significant Odds Ratios show that there are associations between the risk factor (physical activity) and the disease (CHD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y don’t prove this relationship is caus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12024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Criteria for assessing causality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(Bradford Hill)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xposure before onset of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Strength of associ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ependence from confound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in different populations with different levels of expos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with different studies in different setting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ose-response relationshi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Biologically plausib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vidence from anima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moval of exposure reduces ris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Strength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Good for study of rare dise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Long latent perio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an look at multiple risk factors for a single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Quicker and cheaper than cohort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7"/>
          <p:cNvSpPr/>
          <p:nvPr/>
        </p:nvSpPr>
        <p:spPr>
          <a:xfrm>
            <a:off x="1984680" y="304920"/>
            <a:ext cx="456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Times New Roman"/>
              </a:rPr>
              <a:t>Case-control studi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- summa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efficient for the evaluation of rare exposur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lection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asurement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all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fficult to interpre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incidence r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‘causation’, only associa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1"/>
          <p:cNvSpPr/>
          <p:nvPr/>
        </p:nvSpPr>
        <p:spPr>
          <a:xfrm>
            <a:off x="1598040" y="2743200"/>
            <a:ext cx="21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th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1294200" y="5486400"/>
            <a:ext cx="267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ithou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Differences between cohort studies and case-contro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s – start with expos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s – start with dise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Rectangle 1028"/>
          <p:cNvSpPr/>
          <p:nvPr/>
        </p:nvSpPr>
        <p:spPr>
          <a:xfrm>
            <a:off x="914400" y="289548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Line 1029"/>
          <p:cNvSpPr/>
          <p:nvPr/>
        </p:nvSpPr>
        <p:spPr>
          <a:xfrm>
            <a:off x="2514600" y="3276720"/>
            <a:ext cx="35053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1030"/>
          <p:cNvSpPr/>
          <p:nvPr/>
        </p:nvSpPr>
        <p:spPr>
          <a:xfrm>
            <a:off x="6172200" y="289548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Rectangle 1031"/>
          <p:cNvSpPr/>
          <p:nvPr/>
        </p:nvSpPr>
        <p:spPr>
          <a:xfrm>
            <a:off x="1066680" y="502920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Rectangle 1033"/>
          <p:cNvSpPr/>
          <p:nvPr/>
        </p:nvSpPr>
        <p:spPr>
          <a:xfrm>
            <a:off x="6172200" y="502920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Line 1034"/>
          <p:cNvSpPr/>
          <p:nvPr/>
        </p:nvSpPr>
        <p:spPr>
          <a:xfrm>
            <a:off x="2590920" y="5486400"/>
            <a:ext cx="35049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art by defining a CA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47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nical definition may be insuffici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of criteri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roducibil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ertainty of diagnosi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ven, very likely, possi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r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ild, Moderate, Seve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UALLY INCIDENT CASES (newly diagnos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27"/>
          <p:cNvSpPr/>
          <p:nvPr/>
        </p:nvSpPr>
        <p:spPr>
          <a:xfrm>
            <a:off x="1295280" y="2057400"/>
            <a:ext cx="2210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How man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Rectangle 1028"/>
          <p:cNvSpPr/>
          <p:nvPr/>
        </p:nvSpPr>
        <p:spPr>
          <a:xfrm>
            <a:off x="1295280" y="4876920"/>
            <a:ext cx="24386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imes New Roman"/>
              </a:rPr>
              <a:t>How many controls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1029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30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34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3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3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4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842760"/>
            <a:ext cx="7683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How many cases and controls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sed o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vailability of cases and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the main risk facto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view the prevalence of the risk factor in the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at would be the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xpecte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valenc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the risk factor in c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pi-Info -  ask a statistici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pected differen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62120" y="2286000"/>
          <a:ext cx="4797360" cy="25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479736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4"/>
          <p:cNvSpPr/>
          <p:nvPr/>
        </p:nvSpPr>
        <p:spPr>
          <a:xfrm>
            <a:off x="5924160" y="1717560"/>
            <a:ext cx="2980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ontro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ational statisti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ious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ey inform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mon sen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0" y="51814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epi-inf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2819520" y="2514600"/>
            <a:ext cx="0" cy="14479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14:35:09Z</dcterms:created>
  <dc:creator>lcuevas</dc:creator>
  <dc:description/>
  <dc:language>en-US</dc:language>
  <cp:lastModifiedBy>Computing Services</cp:lastModifiedBy>
  <cp:lastPrinted>2006-01-24T10:39:16Z</cp:lastPrinted>
  <dcterms:modified xsi:type="dcterms:W3CDTF">2008-04-11T07:33:45Z</dcterms:modified>
  <cp:revision>34</cp:revision>
  <dc:subject/>
  <dc:title>No Slide Title</dc:title>
</cp:coreProperties>
</file>