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10012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1001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927000" y="750600"/>
            <a:ext cx="5004000" cy="375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951048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951048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9E65-1876-48DE-A854-C46BC701CC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078D-F370-4B58-BE10-D05D10F6C2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831F-737F-4F50-856E-4BC3EEB39A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4E72-DC5E-4AB4-909D-E0D0822F39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0028-A572-42A1-BAFB-94030F0988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1185-46E5-4D7A-B919-62A844656F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77A7-E8CE-4CDA-8EF6-7D016A7DF3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78F0-9C17-4CF7-9BB2-3C0D2B4A97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988C-78C6-4FED-B48D-5B95272AE2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EF2B-5D7A-4019-A2F2-702086D74C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560F-C73A-48FC-BD34-0B2B77A60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D95B-E33A-40AE-BD01-5EEF9433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76F5-BCD1-4CF8-9CDE-1E7558E4B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466B-7FD8-460B-899B-DD276454C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8B38-D8A6-4677-A3D1-13C5DCBAF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42B9-F3D3-44CD-A132-C70FDCEE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85273-15DD-4C17-A85F-6F053BE6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74F8D-FE31-44B6-9826-4EF486A8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0D495-1CC6-42B6-A636-2A3DE9C8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C77A9-9E1E-461E-BF4E-AC01E8F0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2CDC-D106-4011-83FC-844BCBD4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5323-A1E5-4220-8EFD-6D5F17F8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BD48-B770-433C-8C9C-59F773F9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7F72-9E76-4EE3-9A11-843E6865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7B54-EEEF-4562-9537-2E9F71CA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870C2-4574-4055-94F1-154CB6E80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B9EC-C56A-4F37-9620-A8EB09C4D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FF6C6A-13FF-4399-A5EB-F9BB592F1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ACCE40-9168-4C1F-9D0D-A6BB6493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20DB51-39A2-4738-A028-852CAA62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9EA0A9-AD52-4258-842F-575FC01F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056325-A866-47B1-A068-914DA725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66FF-F3DF-4DA2-B0A6-C9B405C9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12149F-B72E-4DC7-A79B-37E7ED58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4BC829-18CF-4641-81F7-06675C1E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C22500-C9C6-488F-8383-A17662D0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ABD3C6-FFCB-4A72-B98E-BA44EA2F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9C29BE-35E7-4F50-B3CA-9C1F82F5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2670CC-3B68-439B-A11A-63CC6B8F2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54DE9F-3BE6-4F5D-8915-2725C7EBB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E0BAFE-C8E0-4113-AC04-F58CAC50E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3641B1-3019-4E09-BE05-9DA09978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BDAF2A-AB22-42D0-BD88-B2F6F0BF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D7AF-BFFE-430E-B10F-591201DD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B42199-7AA4-473D-A967-387AB8BD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B58B44-018A-410C-B506-75BB508A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F3342F-8B82-4B3E-A513-486B3EB6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11A039-CEFA-493B-B71F-D7BF4E98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7D6969-FDC3-4911-87DA-E47BD0BD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78235C-5443-4B9D-9A3E-7A98E2DC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2A0571-4147-43BC-A593-F12EE09D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C06474-D983-44D7-8D19-B15A8F40A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AC425B-0797-48C0-9F5C-59A6C2B2E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4D2523-1322-4B3E-B34B-D45592DA2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9899-5DBE-43A6-A7A3-72D3B80A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D38ACF-B12F-4595-BEF5-A6A5B27E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5B69E1-140B-49AF-881C-F391BC0A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FA592B-1B3D-4647-A7DD-A2D298D9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414C95-CC78-4E56-9AB1-420F21C4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9F568F-61DA-4347-9B5A-5D6F6349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51EA78-5EEC-43D3-AF5C-8BE7D991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3D1251-CBCF-422B-8F45-AA09BAFD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EC0C26-266B-4F55-B8D7-064364C8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363AAA-CDD2-4605-AE2A-7D72FD67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70418A-737D-4225-A83B-61346AAB7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12E8-971C-4BB0-B759-6BB9D8ED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538DA0-E911-4BD7-AD60-0F081B15C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E1201-D8ED-4B56-B115-96160D29E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1F94B-9B54-4445-90C9-C7549AF3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DB690-4020-4A6B-B50A-3C5B7CC3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6D520-7938-45AE-B8C8-B4895619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AFF5D-9E0F-4272-B9EC-8DB5EF35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51169-10C6-4C51-85E2-5E9928CD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A8510-EA4A-44BE-BD3E-C3CF0FFE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F1AEF-3371-45C9-92F6-0775021A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7DD91-D3C7-4CBC-9439-0787FF54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14D5-1220-4202-BDC6-384C52CC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9407A-E3CE-490A-B281-B93BA21E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6A169-E6F7-4EB0-9912-B2FED1157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8B585-CEB8-4C42-AD05-3F4837CB6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C8C50F-C3F1-4A6C-98CE-4BD640E5E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58D42F-932A-4745-BDBA-7ECE2C4F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E36E3B-7467-4AA2-BCCC-5EE064E2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D217ED-488A-421E-A041-027C687A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F23E25-572B-4883-BB0A-D721E65E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439889-9AB0-4BAB-AF7C-71BB702F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DE0D1D-FF2C-4008-BC9E-928A9808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A6AE-93AA-44FD-AC14-BC875C26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973DD2-E35E-453F-AB91-6415B34F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0BD3A2-72F1-4112-8A64-65B01500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16DC5F-3576-487D-ADFC-E6F8704D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979691-9426-4253-B45A-FEC63CF95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E2E611-B622-421A-A9D1-2664C7BD2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938C0-8840-4491-8E8B-08CAB7C4C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8D4EF-388C-466D-8A59-C51E8FA4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F401E-EE86-492A-B987-A0318D59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3345D-7D56-4DB0-BB74-FFCF3DA0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DA769-DE44-4D9A-A0E0-835F4A4A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A9BA-16F4-4500-99D0-0D02B438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6E7B8-A8E0-45A8-96F2-ECCA588E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7A5DD2-743D-467C-8832-FF608E64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1435A-3AFB-473E-A405-381CD620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03838-C34C-4B25-81BD-1B42FDE5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42975-7BF3-447F-8AF9-E4184515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1C52A-ABAF-4050-BC8C-6D551CA54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B6CE1-1FFC-4E0E-94B0-875641F0F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6A59-38F8-4E0B-8136-1E9BECB3804B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1BDF-854E-46F1-B191-B74400ED2E30}" type="slidenum">
              <a:rPr b="1" lang="en-GB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8C9D-5301-4412-B21C-3F2FDC7126BD}" type="slidenum">
              <a:rPr b="1" lang="en-GB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AC03-E296-4B25-83B3-A409760B6AC5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BCBB-BC4C-4EC7-A228-1CFC326F8DDC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EC35-1A1F-4905-9E46-545585BDFF28}" type="slidenum">
              <a:rPr b="1" lang="en-GB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1CEB-CAD6-472D-9E8F-C4E1C6DADD6D}" type="slidenum">
              <a:rPr b="1" lang="en-GB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005F-980F-497B-8A5C-E92BADBEAEA1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uropa.eu.int/mariecurie-actions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medicine.tcd.ie/pharmacology_therapeutics/marie_curie_training_programme/index.php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85520" y="164304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dc3"/>
                </a:solidFill>
                <a:latin typeface="Tw Cen MT"/>
              </a:rPr>
              <a:t>DATA NEEDS FOR A MODEL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6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359" name="Group 6"/>
          <p:cNvGrpSpPr/>
          <p:nvPr/>
        </p:nvGrpSpPr>
        <p:grpSpPr>
          <a:xfrm>
            <a:off x="3149640" y="216000"/>
            <a:ext cx="5599080" cy="866520"/>
            <a:chOff x="3149640" y="216000"/>
            <a:chExt cx="5599080" cy="866520"/>
          </a:xfrm>
        </p:grpSpPr>
        <p:pic>
          <p:nvPicPr>
            <p:cNvPr id="360" name="Picture 7" descr="Marie Curies Actions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396200" y="216000"/>
              <a:ext cx="1352520" cy="86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8" descr="Logo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635280" y="274680"/>
              <a:ext cx="364824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Rectangle 9"/>
            <p:cNvSpPr/>
            <p:nvPr/>
          </p:nvSpPr>
          <p:spPr>
            <a:xfrm>
              <a:off x="3149640" y="647640"/>
              <a:ext cx="39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e9d333"/>
                  </a:solidFill>
                  <a:latin typeface="Calibri"/>
                </a:rPr>
                <a:t>Cardiovascular Epidemiology and Epidemiological Modell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Rectangle 5"/>
          <p:cNvSpPr/>
          <p:nvPr/>
        </p:nvSpPr>
        <p:spPr>
          <a:xfrm>
            <a:off x="183528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rtin O’Flah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imon Cape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vision of Public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niversity of Liverp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Model data nee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71680" y="15717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Depend o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Questions to be addresse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Choice of model logic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sired outpu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urpose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Populate the mode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Validate the mode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Key issu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Availabil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1714680" y="5929200"/>
            <a:ext cx="6215040" cy="7858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A modeller’s dilemma: Built your model around your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Build a model and then gather the da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 generic model of a chronic diseas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Oval 5"/>
          <p:cNvSpPr/>
          <p:nvPr/>
        </p:nvSpPr>
        <p:spPr>
          <a:xfrm>
            <a:off x="1571760" y="2214720"/>
            <a:ext cx="164304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Heal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6"/>
          <p:cNvSpPr/>
          <p:nvPr/>
        </p:nvSpPr>
        <p:spPr>
          <a:xfrm>
            <a:off x="4643280" y="2214720"/>
            <a:ext cx="164340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7"/>
          <p:cNvSpPr/>
          <p:nvPr/>
        </p:nvSpPr>
        <p:spPr>
          <a:xfrm>
            <a:off x="3429000" y="4572000"/>
            <a:ext cx="1643040" cy="157176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Straight Arrow Connector 9"/>
          <p:cNvCxnSpPr/>
          <p:nvPr/>
        </p:nvCxnSpPr>
        <p:spPr>
          <a:xfrm>
            <a:off x="3429000" y="2999880"/>
            <a:ext cx="929520" cy="252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72" name="Straight Arrow Connector 10"/>
          <p:cNvCxnSpPr/>
          <p:nvPr/>
        </p:nvCxnSpPr>
        <p:spPr>
          <a:xfrm flipH="1">
            <a:off x="4857480" y="4000320"/>
            <a:ext cx="429120" cy="57204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73" name="Straight Arrow Connector 12"/>
          <p:cNvCxnSpPr/>
          <p:nvPr/>
        </p:nvCxnSpPr>
        <p:spPr>
          <a:xfrm>
            <a:off x="2714760" y="3928680"/>
            <a:ext cx="714960" cy="78660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Oval 14"/>
          <p:cNvSpPr/>
          <p:nvPr/>
        </p:nvSpPr>
        <p:spPr>
          <a:xfrm rot="2412600">
            <a:off x="1318680" y="1006560"/>
            <a:ext cx="2819520" cy="4862520"/>
          </a:xfrm>
          <a:prstGeom prst="ellipse">
            <a:avLst/>
          </a:prstGeom>
          <a:solidFill>
            <a:srgbClr val="94b6d2">
              <a:alpha val="25000"/>
            </a:srgbClr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 generic model addressing a generic public health question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Oval 5"/>
          <p:cNvSpPr/>
          <p:nvPr/>
        </p:nvSpPr>
        <p:spPr>
          <a:xfrm>
            <a:off x="1571760" y="2214720"/>
            <a:ext cx="164304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Heal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6"/>
          <p:cNvSpPr/>
          <p:nvPr/>
        </p:nvSpPr>
        <p:spPr>
          <a:xfrm>
            <a:off x="4643280" y="2214720"/>
            <a:ext cx="164340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7"/>
          <p:cNvSpPr/>
          <p:nvPr/>
        </p:nvSpPr>
        <p:spPr>
          <a:xfrm>
            <a:off x="3429000" y="4572000"/>
            <a:ext cx="1643040" cy="157176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Straight Arrow Connector 9"/>
          <p:cNvCxnSpPr/>
          <p:nvPr/>
        </p:nvCxnSpPr>
        <p:spPr>
          <a:xfrm>
            <a:off x="3429000" y="2999880"/>
            <a:ext cx="929520" cy="252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0" name="Straight Arrow Connector 10"/>
          <p:cNvCxnSpPr/>
          <p:nvPr/>
        </p:nvCxnSpPr>
        <p:spPr>
          <a:xfrm flipH="1">
            <a:off x="4857480" y="4000320"/>
            <a:ext cx="429120" cy="57204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1" name="Straight Arrow Connector 12"/>
          <p:cNvCxnSpPr/>
          <p:nvPr/>
        </p:nvCxnSpPr>
        <p:spPr>
          <a:xfrm>
            <a:off x="2714760" y="3928680"/>
            <a:ext cx="714960" cy="78660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382" name="Oval 15"/>
          <p:cNvSpPr/>
          <p:nvPr/>
        </p:nvSpPr>
        <p:spPr>
          <a:xfrm rot="1558200">
            <a:off x="3634920" y="1670040"/>
            <a:ext cx="2605320" cy="5135400"/>
          </a:xfrm>
          <a:prstGeom prst="ellipse">
            <a:avLst/>
          </a:prstGeom>
          <a:solidFill>
            <a:srgbClr val="ba8f2d">
              <a:alpha val="25000"/>
            </a:srgbClr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6"/>
          <p:cNvSpPr/>
          <p:nvPr/>
        </p:nvSpPr>
        <p:spPr>
          <a:xfrm>
            <a:off x="785880" y="4857840"/>
            <a:ext cx="2000160" cy="3571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Primary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7"/>
          <p:cNvSpPr/>
          <p:nvPr/>
        </p:nvSpPr>
        <p:spPr>
          <a:xfrm>
            <a:off x="2786040" y="6286680"/>
            <a:ext cx="2500200" cy="3571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Secondary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 generic model of a chronic diseas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6" name="Oval 5"/>
          <p:cNvSpPr/>
          <p:nvPr/>
        </p:nvSpPr>
        <p:spPr>
          <a:xfrm>
            <a:off x="1571760" y="2214720"/>
            <a:ext cx="164304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Heal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6"/>
          <p:cNvSpPr/>
          <p:nvPr/>
        </p:nvSpPr>
        <p:spPr>
          <a:xfrm>
            <a:off x="4643280" y="2214720"/>
            <a:ext cx="164340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7"/>
          <p:cNvSpPr/>
          <p:nvPr/>
        </p:nvSpPr>
        <p:spPr>
          <a:xfrm>
            <a:off x="3429000" y="4572000"/>
            <a:ext cx="1643040" cy="157176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Straight Arrow Connector 9"/>
          <p:cNvCxnSpPr/>
          <p:nvPr/>
        </p:nvCxnSpPr>
        <p:spPr>
          <a:xfrm>
            <a:off x="3429000" y="2999880"/>
            <a:ext cx="929520" cy="252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0" name="Straight Arrow Connector 10"/>
          <p:cNvCxnSpPr/>
          <p:nvPr/>
        </p:nvCxnSpPr>
        <p:spPr>
          <a:xfrm flipH="1">
            <a:off x="4857480" y="4000320"/>
            <a:ext cx="429120" cy="57204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1" name="Straight Arrow Connector 12"/>
          <p:cNvCxnSpPr/>
          <p:nvPr/>
        </p:nvCxnSpPr>
        <p:spPr>
          <a:xfrm>
            <a:off x="2714760" y="3928680"/>
            <a:ext cx="714960" cy="78660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392" name="Down Arrow Callout 8"/>
          <p:cNvSpPr/>
          <p:nvPr/>
        </p:nvSpPr>
        <p:spPr>
          <a:xfrm>
            <a:off x="3500280" y="1643040"/>
            <a:ext cx="857520" cy="1071720"/>
          </a:xfrm>
          <a:prstGeom prst="downArrowCallout">
            <a:avLst>
              <a:gd name="adj1" fmla="val 25002"/>
              <a:gd name="adj2" fmla="val 25000"/>
              <a:gd name="adj3" fmla="val 24996"/>
              <a:gd name="adj4" fmla="val 6497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Tw Cen MT"/>
              </a:rPr>
              <a:t>What determi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Tw Cen MT"/>
              </a:rPr>
              <a:t>INCIDE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eft Arrow Callout 11"/>
          <p:cNvSpPr/>
          <p:nvPr/>
        </p:nvSpPr>
        <p:spPr>
          <a:xfrm>
            <a:off x="6000840" y="4214880"/>
            <a:ext cx="1714320" cy="857160"/>
          </a:xfrm>
          <a:prstGeom prst="leftArrowCallout">
            <a:avLst>
              <a:gd name="adj1" fmla="val 25002"/>
              <a:gd name="adj2" fmla="val 25000"/>
              <a:gd name="adj3" fmla="val 25000"/>
              <a:gd name="adj4" fmla="val 64983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What Determines pro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eft Arrow Callout 13"/>
          <p:cNvSpPr/>
          <p:nvPr/>
        </p:nvSpPr>
        <p:spPr>
          <a:xfrm>
            <a:off x="6429240" y="2214720"/>
            <a:ext cx="1214640" cy="785520"/>
          </a:xfrm>
          <a:prstGeom prst="leftArrowCallout">
            <a:avLst>
              <a:gd name="adj1" fmla="val 25002"/>
              <a:gd name="adj2" fmla="val 25000"/>
              <a:gd name="adj3" fmla="val 25013"/>
              <a:gd name="adj4" fmla="val 64983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How large  are th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Straight Arrow Connector 15"/>
          <p:cNvCxnSpPr/>
          <p:nvPr/>
        </p:nvCxnSpPr>
        <p:spPr>
          <a:xfrm>
            <a:off x="1071360" y="4071600"/>
            <a:ext cx="1929240" cy="1857960"/>
          </a:xfrm>
          <a:prstGeom prst="straightConnector1">
            <a:avLst/>
          </a:prstGeom>
          <a:ln w="76320">
            <a:solidFill>
              <a:srgbClr val="94b6d2"/>
            </a:solidFill>
            <a:miter/>
            <a:tailEnd len="med" type="triangle" w="med"/>
          </a:ln>
        </p:spPr>
      </p:cxnSp>
      <p:sp>
        <p:nvSpPr>
          <p:cNvPr id="396" name="Right Arrow Callout 21"/>
          <p:cNvSpPr/>
          <p:nvPr/>
        </p:nvSpPr>
        <p:spPr>
          <a:xfrm>
            <a:off x="857160" y="4786200"/>
            <a:ext cx="1071720" cy="714600"/>
          </a:xfrm>
          <a:prstGeom prst="rightArrowCallout">
            <a:avLst>
              <a:gd name="adj1" fmla="val 25002"/>
              <a:gd name="adj2" fmla="val 25000"/>
              <a:gd name="adj3" fmla="val 24996"/>
              <a:gd name="adj4" fmla="val 6497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A summary of IMPACT data nee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Number of people in each group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n each risk facto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n each disease subgroup (eg: AMI, UA, CA, HF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Number of death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What determines incidenc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isk factors effect measures (RR or b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What determines prognosis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ase fatality rates for each disease group (rates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nterventions that reduce case fatality (RRR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Uptake of those interventions (%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A summary of IMPACT data nee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Take into account tim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Trends of: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Number of people in each group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Levels of risk factor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Levels of uptake of treatment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Data to validate the mod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Observed mortal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ome last (but not least) data nee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Data to support assumptions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Needed to fill gaps in knowledg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They are guesses, but the better the data supporting the guess the better the guess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n example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Tw Cen MT"/>
              </a:rPr>
              <a:t>English</a:t>
            </a: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 fatality rates: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Tw Cen MT"/>
              </a:rPr>
              <a:t>Scottish</a:t>
            </a: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 SLIDE  data adjusted using England/Scotland SMR </a:t>
            </a: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(see http://www.heartstats.org/temp/Tabsp1.6spweb06spup.XLS)”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Data will need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ritical appraisa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dapt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Documented (appendices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The data gathering tas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This phase of a modelling project is critical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fines feasibil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fines the quality of the final product (the principle of “garbage IN, garbage OUT”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It is time consuming: it will take a large amount of the available resources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But as any activity in a modelling exercise, data gathering is an ITERATIO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We start simple, and we add layers of greater complexity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1:13:36Z</dcterms:created>
  <dc:creator>O'Flaherty</dc:creator>
  <dc:description/>
  <dc:language>en-US</dc:language>
  <cp:lastModifiedBy>Computing Services</cp:lastModifiedBy>
  <dcterms:modified xsi:type="dcterms:W3CDTF">2008-04-14T10:12:33Z</dcterms:modified>
  <cp:revision>8</cp:revision>
  <dc:subject/>
  <dc:title>Data Needs for a Model</dc:title>
</cp:coreProperties>
</file>