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362B-4FCE-4141-8C12-7E6A920CB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7B0C-74AC-4C4F-B338-8345B6C2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F860-F19C-43F0-ADBF-68A44215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4FF-C45B-43F2-9B9E-146588E7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81EA-51FC-4FA6-A342-7B13CFD5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A965-45C2-4DCB-9A9B-3D69E0FF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6D0-CC3F-4E08-9FA6-7014E9FE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82EC-D479-4637-801E-AB5D19C5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CD4A-F690-474A-9A0F-7C02E5F4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747B-2EB3-4E51-989B-AE59ADD7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B18F-5B44-424B-958E-9F9E1E01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49F9-B8DB-4EEF-A0F8-EBB5FA14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EE89-C48C-496F-827A-00215FE50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timating the effect of thrombolytics for use in a mode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mbolytics: what are the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group has to complete a table by extracting relevant pieces of evidence from published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will have at your disposal the following pap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ess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Heart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2;87;308-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igent (ISIS-2),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BMJ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98;316;1337-134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lete the table, justify any assumption you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 data by 10 year age-groups and s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are interested in short term mortality (30 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1649520"/>
          <a:ext cx="8229600" cy="3558960"/>
        </p:xfrm>
        <a:graphic>
          <a:graphicData uri="http://schemas.openxmlformats.org/drawingml/2006/table">
            <a:tbl>
              <a:tblPr/>
              <a:tblGrid>
                <a:gridCol w="1881360"/>
                <a:gridCol w="1663560"/>
                <a:gridCol w="1550880"/>
                <a:gridCol w="1747800"/>
                <a:gridCol w="13860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st estim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-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rombolitics, AMI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&lt;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55-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65-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 75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000080"/>
            <a:ext cx="746784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7960" y="785880"/>
            <a:ext cx="8126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0"/>
          <a:ext cx="8229600" cy="6594480"/>
        </p:xfrm>
        <a:graphic>
          <a:graphicData uri="http://schemas.openxmlformats.org/drawingml/2006/table">
            <a:tbl>
              <a:tblPr/>
              <a:tblGrid>
                <a:gridCol w="488880"/>
                <a:gridCol w="2198880"/>
                <a:gridCol w="1112760"/>
                <a:gridCol w="2104920"/>
                <a:gridCol w="1214640"/>
                <a:gridCol w="620640"/>
                <a:gridCol w="488880"/>
              </a:tblGrid>
              <a:tr h="2156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DATED NOV 2006 latest treatment effectiveness data from USA model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cute myocardial infarction (ACUTE TREATMENT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ess 2002, updated FT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rombolysis , RRR, 30 day morta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io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wer 95%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per 95% C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int estim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%CI 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65 -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25 to 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35 to 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45 to 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55 - 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65 to 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2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75-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 85+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1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3:08:52Z</dcterms:created>
  <dc:creator>Martin O'Flaherty</dc:creator>
  <dc:description/>
  <dc:language>en-US</dc:language>
  <cp:lastModifiedBy>Martin O'Flaherty</cp:lastModifiedBy>
  <dcterms:modified xsi:type="dcterms:W3CDTF">2007-06-21T08:55:50Z</dcterms:modified>
  <cp:revision>3</cp:revision>
  <dc:subject/>
  <dc:title>Estimating the effect of thrombolytics for use in a model </dc:title>
</cp:coreProperties>
</file>