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DFA-DFF2-4419-9189-D68D2EE0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03A-C583-4ECB-A413-36F74F25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240-A77B-4EED-BB7D-D57B8A02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E41-BD13-4228-82C7-D61F8F19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8CA-B8D5-455C-8F24-5704A91B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FC2-0969-442D-83A7-5CA6207E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CBE3-E312-42C3-92E4-AFA62D5C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84E-AAD7-41AC-86A5-16CE5341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C86-8731-4212-B2DB-906DBD6B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5810-5375-4F07-A9C6-82B93E4C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217-96F1-4664-88CB-DC6C054C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E71-20A9-4DCE-BAC3-BDFF96B6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81AB-B2EB-4BCA-93BB-66B2D74E3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ing the effect of thrombolytics for use in a mod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mbolytics: what are the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group has to complete a table by extracting relevant pieces of evidence from publishe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have at your disposal the following pap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es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ar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2;87;308-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igent (ISIS-2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MJ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8;316;1337-13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the table, justify any assumption you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data by 10 year age-groups and s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terested in short term mortality (30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1649520"/>
          <a:ext cx="8229600" cy="3558960"/>
        </p:xfrm>
        <a:graphic>
          <a:graphicData uri="http://schemas.openxmlformats.org/drawingml/2006/table">
            <a:tbl>
              <a:tblPr/>
              <a:tblGrid>
                <a:gridCol w="1881360"/>
                <a:gridCol w="1663560"/>
                <a:gridCol w="1550880"/>
                <a:gridCol w="1747800"/>
                <a:gridCol w="138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 est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-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mbolitics, AMI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000080"/>
            <a:ext cx="746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960" y="785880"/>
            <a:ext cx="8126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0"/>
          <a:ext cx="8229600" cy="6594480"/>
        </p:xfrm>
        <a:graphic>
          <a:graphicData uri="http://schemas.openxmlformats.org/drawingml/2006/table">
            <a:tbl>
              <a:tblPr/>
              <a:tblGrid>
                <a:gridCol w="488880"/>
                <a:gridCol w="2198880"/>
                <a:gridCol w="1112760"/>
                <a:gridCol w="2104920"/>
                <a:gridCol w="1214640"/>
                <a:gridCol w="620640"/>
                <a:gridCol w="488880"/>
              </a:tblGrid>
              <a:tr h="2156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DATED NOV 2006 latest treatment effectiveness data from USA model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cute myocardial infarction (ACUTE TREATMENT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ess 2002, updated F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rombolysis , RRR, 30 day mort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i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 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int estim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65 -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65 to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08:52Z</dcterms:created>
  <dc:creator>Martin O'Flaherty</dc:creator>
  <dc:description/>
  <dc:language>en-US</dc:language>
  <cp:lastModifiedBy>Martin O'Flaherty</cp:lastModifiedBy>
  <dcterms:modified xsi:type="dcterms:W3CDTF">2007-06-21T08:55:50Z</dcterms:modified>
  <cp:revision>3</cp:revision>
  <dc:subject/>
  <dc:title>Estimating the effect of thrombolytics for use in a model </dc:title>
</cp:coreProperties>
</file>