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3.png" ContentType="image/png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DCFB-1B48-4889-81FF-4EDFBC38DB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E1BB-3FD9-4701-8EA9-1458AA8D85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0D92-59BF-4F3C-A0E1-0F84AF02A3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71E6-370C-465B-B8F9-51AFDC64FE6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7FBF-BD54-4920-8E80-091332E00C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DE02-5FE1-4732-8376-D732CB89F2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794A-8066-4196-823D-E03995B812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4AFC-BEEA-49C3-A449-B50C664444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D725-46C1-4786-92AE-9549B11A10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77F9-7125-4DB4-87B8-B5CE847C0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2F40-F02F-48D1-96D8-58778D1859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3E10-B36C-46D8-9DEB-7E3D29876C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E1DE6-B400-4393-8141-7036859A14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CB90-9FDE-4B4E-B848-AB918F8246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7128-847B-489F-9A0A-293EFDAAFF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28FE-F4E7-44DD-9071-A343E52356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7BFB-6503-4D63-A19B-32050414BD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F2E7-CACF-4C89-AD79-8121102611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6A444-4AB4-4F70-AC1B-FD440B1E4E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9DB1-ACC1-431E-AF1E-7ED83DECA6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F391-CE47-4486-AC0F-F0FDB4F836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6F00-19DC-486D-B92D-222A35F6A4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E047-A9C1-4401-916B-B310C2A777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D433-C522-4A00-9961-3DC5600DD5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0353-A38D-4377-B1D2-715B9D2157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3B7C-A024-4C12-9969-8C0E9EDD83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1B98-D6E4-4B71-9726-B0688106BA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A3DA-356A-4147-9D1C-F17A45D039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0892-B130-45C3-927F-69666CB2B0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9FC2-D2B1-4885-8CBA-AA28B519B7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751200" y="9318600"/>
            <a:ext cx="2870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E485-EBA9-4F37-B79C-A365184094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F8E-DF5C-48FA-9451-48A45400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8BF-35ED-413D-A132-0B688E1F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4E8-0B29-4E3F-9096-C5586196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45D9-A84E-4740-A02E-778CDF12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AC00-089D-421B-B531-922C3CA7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F39-1B61-4CD8-83F6-E22BCADB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A9B7-692B-4F52-8C04-1870A030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CBF2-5ED2-4DBF-8415-88285CE4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D11-7F5F-4D54-8979-77675D9C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E9A9-B03E-4534-BCEA-B36BFA7A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D8B5-40E7-4720-9CFE-2ED66B73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F59-2565-4BC6-8A44-F5510EC3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27C3-EBD4-4F9E-9B83-B6A9E095253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pcsc.info/Publication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rengths &amp; Limitations of existing data sources</a:t>
            </a: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Julia Critchl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mon Capewell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47c06"/>
                </a:solidFill>
                <a:latin typeface="Arial"/>
              </a:rPr>
              <a:t>Mortality data avai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507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WHO HFA,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0-64, 65+, 25-64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0-14, 15-29, 30-44, 45-59, 60-74, 75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WHO-HF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54800"/>
                </a:solidFill>
                <a:latin typeface="Arial"/>
              </a:rPr>
              <a:t>0-84 by 5-year age groups, 85+, 0-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354800"/>
                </a:solidFill>
                <a:latin typeface="Arial"/>
              </a:rPr>
              <a:t>from EURO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54800"/>
                </a:solidFill>
                <a:latin typeface="Arial"/>
              </a:rPr>
              <a:t>for CHD and STR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1544760"/>
          <a:ext cx="8928000" cy="30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4760"/>
                    <a:ext cx="8928000" cy="30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73240" y="609480"/>
            <a:ext cx="4492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Arial"/>
              </a:rPr>
              <a:t>Participat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-9205920" y="-8736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K. Steinbach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-9205920" y="-76089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-9205920" y="-6481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-9205920" y="7174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-9205920" y="4613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the NETHER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-9205920" y="6624720"/>
            <a:ext cx="91440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. Graff-Ivers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-9205920" y="136191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. Primate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-9205920" y="143208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-9205920" y="155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-9205920" y="15524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-9205920" y="160876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-9212400" y="-9867960"/>
            <a:ext cx="27568800" cy="5965920"/>
            <a:chOff x="-9212400" y="-9867960"/>
            <a:chExt cx="27568800" cy="5965920"/>
          </a:xfrm>
        </p:grpSpPr>
        <p:grpSp>
          <p:nvGrpSpPr>
            <p:cNvPr id="91" name="Group 17"/>
            <p:cNvGrpSpPr/>
            <p:nvPr/>
          </p:nvGrpSpPr>
          <p:grpSpPr>
            <a:xfrm>
              <a:off x="-9208080" y="-9863280"/>
              <a:ext cx="27559800" cy="5956200"/>
              <a:chOff x="-9208080" y="-9863280"/>
              <a:chExt cx="27559800" cy="5956200"/>
            </a:xfrm>
          </p:grpSpPr>
          <p:grpSp>
            <p:nvGrpSpPr>
              <p:cNvPr id="92" name="Group 18"/>
              <p:cNvGrpSpPr/>
              <p:nvPr/>
            </p:nvGrpSpPr>
            <p:grpSpPr>
              <a:xfrm>
                <a:off x="-9208080" y="-9863280"/>
                <a:ext cx="1908000" cy="974880"/>
                <a:chOff x="-9208080" y="-9863280"/>
                <a:chExt cx="1908000" cy="974880"/>
              </a:xfrm>
            </p:grpSpPr>
            <p:sp>
              <p:nvSpPr>
                <p:cNvPr id="93" name="Rectangle 19"/>
                <p:cNvSpPr/>
                <p:nvPr/>
              </p:nvSpPr>
              <p:spPr>
                <a:xfrm>
                  <a:off x="-9168480" y="-9863280"/>
                  <a:ext cx="1828800" cy="97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AUSTRI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20"/>
                <p:cNvSpPr/>
                <p:nvPr/>
              </p:nvSpPr>
              <p:spPr>
                <a:xfrm>
                  <a:off x="-920808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21"/>
              <p:cNvGrpSpPr/>
              <p:nvPr/>
            </p:nvGrpSpPr>
            <p:grpSpPr>
              <a:xfrm>
                <a:off x="-7299720" y="-9863280"/>
                <a:ext cx="1908000" cy="974880"/>
                <a:chOff x="-7299720" y="-9863280"/>
                <a:chExt cx="1908000" cy="974880"/>
              </a:xfrm>
            </p:grpSpPr>
            <p:grpSp>
              <p:nvGrpSpPr>
                <p:cNvPr id="96" name="Group 22"/>
                <p:cNvGrpSpPr/>
                <p:nvPr/>
              </p:nvGrpSpPr>
              <p:grpSpPr>
                <a:xfrm>
                  <a:off x="-7260120" y="-9863280"/>
                  <a:ext cx="1828800" cy="974880"/>
                  <a:chOff x="-7260120" y="-9863280"/>
                  <a:chExt cx="1828800" cy="974880"/>
                </a:xfrm>
              </p:grpSpPr>
              <p:sp>
                <p:nvSpPr>
                  <p:cNvPr id="97" name="Rectangle 23"/>
                  <p:cNvSpPr/>
                  <p:nvPr/>
                </p:nvSpPr>
                <p:spPr>
                  <a:xfrm>
                    <a:off x="-7260120" y="-9863280"/>
                    <a:ext cx="18288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700" spc="-1" strike="noStrike">
                        <a:solidFill>
                          <a:srgbClr val="000000"/>
                        </a:solidFill>
                        <a:latin typeface="Arial"/>
                      </a:rPr>
                      <a:t> 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Rectangle 24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25"/>
                  <p:cNvSpPr/>
                  <p:nvPr/>
                </p:nvSpPr>
                <p:spPr>
                  <a:xfrm>
                    <a:off x="-7260120" y="-9345600"/>
                    <a:ext cx="18288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Rectangle 26"/>
                  <p:cNvSpPr/>
                  <p:nvPr/>
                </p:nvSpPr>
                <p:spPr>
                  <a:xfrm>
                    <a:off x="-7260120" y="-9299520"/>
                    <a:ext cx="1828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pPr>
                      <a:lnSpc>
                        <a:spcPct val="9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" name="Rectangle 27"/>
                <p:cNvSpPr/>
                <p:nvPr/>
              </p:nvSpPr>
              <p:spPr>
                <a:xfrm>
                  <a:off x="-7299720" y="-9863280"/>
                  <a:ext cx="1908000" cy="974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28"/>
              <p:cNvGrpSpPr/>
              <p:nvPr/>
            </p:nvGrpSpPr>
            <p:grpSpPr>
              <a:xfrm>
                <a:off x="-9208080" y="-8888400"/>
                <a:ext cx="1908000" cy="563400"/>
                <a:chOff x="-9208080" y="-8888400"/>
                <a:chExt cx="1908000" cy="563400"/>
              </a:xfrm>
            </p:grpSpPr>
            <p:sp>
              <p:nvSpPr>
                <p:cNvPr id="103" name="Rectangle 29"/>
                <p:cNvSpPr/>
                <p:nvPr/>
              </p:nvSpPr>
              <p:spPr>
                <a:xfrm>
                  <a:off x="-916848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30"/>
                <p:cNvSpPr/>
                <p:nvPr/>
              </p:nvSpPr>
              <p:spPr>
                <a:xfrm>
                  <a:off x="-920808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31"/>
              <p:cNvGrpSpPr/>
              <p:nvPr/>
            </p:nvGrpSpPr>
            <p:grpSpPr>
              <a:xfrm>
                <a:off x="-7299720" y="-8888400"/>
                <a:ext cx="1908000" cy="563400"/>
                <a:chOff x="-7299720" y="-8888400"/>
                <a:chExt cx="1908000" cy="563400"/>
              </a:xfrm>
            </p:grpSpPr>
            <p:sp>
              <p:nvSpPr>
                <p:cNvPr id="106" name="Rectangle 32"/>
                <p:cNvSpPr/>
                <p:nvPr/>
              </p:nvSpPr>
              <p:spPr>
                <a:xfrm>
                  <a:off x="-7260120" y="-88884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Kornitze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33"/>
                <p:cNvSpPr/>
                <p:nvPr/>
              </p:nvSpPr>
              <p:spPr>
                <a:xfrm>
                  <a:off x="-7299720" y="-88884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34"/>
              <p:cNvGrpSpPr/>
              <p:nvPr/>
            </p:nvGrpSpPr>
            <p:grpSpPr>
              <a:xfrm>
                <a:off x="-9208080" y="-8325000"/>
                <a:ext cx="1908000" cy="563400"/>
                <a:chOff x="-9208080" y="-8325000"/>
                <a:chExt cx="1908000" cy="563400"/>
              </a:xfrm>
            </p:grpSpPr>
            <p:sp>
              <p:nvSpPr>
                <p:cNvPr id="109" name="Rectangle 35"/>
                <p:cNvSpPr/>
                <p:nvPr/>
              </p:nvSpPr>
              <p:spPr>
                <a:xfrm>
                  <a:off x="-916848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DENMA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36"/>
                <p:cNvSpPr/>
                <p:nvPr/>
              </p:nvSpPr>
              <p:spPr>
                <a:xfrm>
                  <a:off x="-920808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37"/>
              <p:cNvGrpSpPr/>
              <p:nvPr/>
            </p:nvGrpSpPr>
            <p:grpSpPr>
              <a:xfrm>
                <a:off x="-7299720" y="-8325000"/>
                <a:ext cx="1908000" cy="563400"/>
                <a:chOff x="-7299720" y="-8325000"/>
                <a:chExt cx="1908000" cy="563400"/>
              </a:xfrm>
            </p:grpSpPr>
            <p:sp>
              <p:nvSpPr>
                <p:cNvPr id="112" name="Rectangle 38"/>
                <p:cNvSpPr/>
                <p:nvPr/>
              </p:nvSpPr>
              <p:spPr>
                <a:xfrm>
                  <a:off x="-7260120" y="-832500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Mads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39"/>
                <p:cNvSpPr/>
                <p:nvPr/>
              </p:nvSpPr>
              <p:spPr>
                <a:xfrm>
                  <a:off x="-7299720" y="-832500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40"/>
              <p:cNvGrpSpPr/>
              <p:nvPr/>
            </p:nvGrpSpPr>
            <p:grpSpPr>
              <a:xfrm>
                <a:off x="-9208080" y="-7761600"/>
                <a:ext cx="1908000" cy="563760"/>
                <a:chOff x="-9208080" y="-7761600"/>
                <a:chExt cx="1908000" cy="563760"/>
              </a:xfrm>
            </p:grpSpPr>
            <p:sp>
              <p:nvSpPr>
                <p:cNvPr id="115" name="Rectangle 41"/>
                <p:cNvSpPr/>
                <p:nvPr/>
              </p:nvSpPr>
              <p:spPr>
                <a:xfrm>
                  <a:off x="-916848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IN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42"/>
                <p:cNvSpPr/>
                <p:nvPr/>
              </p:nvSpPr>
              <p:spPr>
                <a:xfrm>
                  <a:off x="-920808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" name="Group 43"/>
              <p:cNvGrpSpPr/>
              <p:nvPr/>
            </p:nvGrpSpPr>
            <p:grpSpPr>
              <a:xfrm>
                <a:off x="-7299720" y="-7761600"/>
                <a:ext cx="1908000" cy="563760"/>
                <a:chOff x="-7299720" y="-7761600"/>
                <a:chExt cx="1908000" cy="563760"/>
              </a:xfrm>
            </p:grpSpPr>
            <p:sp>
              <p:nvSpPr>
                <p:cNvPr id="118" name="Rectangle 44"/>
                <p:cNvSpPr/>
                <p:nvPr/>
              </p:nvSpPr>
              <p:spPr>
                <a:xfrm>
                  <a:off x="-7260120" y="-7761600"/>
                  <a:ext cx="1828800" cy="56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V. Saloma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45"/>
                <p:cNvSpPr/>
                <p:nvPr/>
              </p:nvSpPr>
              <p:spPr>
                <a:xfrm>
                  <a:off x="-7299720" y="-7761600"/>
                  <a:ext cx="1908000" cy="56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" name="Group 46"/>
              <p:cNvGrpSpPr/>
              <p:nvPr/>
            </p:nvGrpSpPr>
            <p:grpSpPr>
              <a:xfrm>
                <a:off x="-9208080" y="-7197840"/>
                <a:ext cx="1908000" cy="563400"/>
                <a:chOff x="-9208080" y="-7197840"/>
                <a:chExt cx="1908000" cy="563400"/>
              </a:xfrm>
            </p:grpSpPr>
            <p:sp>
              <p:nvSpPr>
                <p:cNvPr id="121" name="Rectangle 47"/>
                <p:cNvSpPr/>
                <p:nvPr/>
              </p:nvSpPr>
              <p:spPr>
                <a:xfrm>
                  <a:off x="-916848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fran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48"/>
                <p:cNvSpPr/>
                <p:nvPr/>
              </p:nvSpPr>
              <p:spPr>
                <a:xfrm>
                  <a:off x="-920808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49"/>
              <p:cNvGrpSpPr/>
              <p:nvPr/>
            </p:nvGrpSpPr>
            <p:grpSpPr>
              <a:xfrm>
                <a:off x="-7299720" y="-7197840"/>
                <a:ext cx="1908000" cy="563400"/>
                <a:chOff x="-7299720" y="-7197840"/>
                <a:chExt cx="1908000" cy="563400"/>
              </a:xfrm>
            </p:grpSpPr>
            <p:sp>
              <p:nvSpPr>
                <p:cNvPr id="124" name="Rectangle 50"/>
                <p:cNvSpPr/>
                <p:nvPr/>
              </p:nvSpPr>
              <p:spPr>
                <a:xfrm>
                  <a:off x="-7260120" y="-7197840"/>
                  <a:ext cx="1828800" cy="56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Paterniti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51"/>
                <p:cNvSpPr/>
                <p:nvPr/>
              </p:nvSpPr>
              <p:spPr>
                <a:xfrm>
                  <a:off x="-7299720" y="-7197840"/>
                  <a:ext cx="1908000" cy="563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Group 52"/>
              <p:cNvGrpSpPr/>
              <p:nvPr/>
            </p:nvGrpSpPr>
            <p:grpSpPr>
              <a:xfrm>
                <a:off x="-9208080" y="-6634440"/>
                <a:ext cx="1908000" cy="746280"/>
                <a:chOff x="-9208080" y="-6634440"/>
                <a:chExt cx="1908000" cy="746280"/>
              </a:xfrm>
            </p:grpSpPr>
            <p:sp>
              <p:nvSpPr>
                <p:cNvPr id="127" name="Rectangle 53"/>
                <p:cNvSpPr/>
                <p:nvPr/>
              </p:nvSpPr>
              <p:spPr>
                <a:xfrm>
                  <a:off x="-916848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ERMAN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Rectangle 54"/>
                <p:cNvSpPr/>
                <p:nvPr/>
              </p:nvSpPr>
              <p:spPr>
                <a:xfrm>
                  <a:off x="-920808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55"/>
              <p:cNvGrpSpPr/>
              <p:nvPr/>
            </p:nvGrpSpPr>
            <p:grpSpPr>
              <a:xfrm>
                <a:off x="-7299720" y="-6634440"/>
                <a:ext cx="1908000" cy="746280"/>
                <a:chOff x="-7299720" y="-6634440"/>
                <a:chExt cx="1908000" cy="746280"/>
              </a:xfrm>
            </p:grpSpPr>
            <p:sp>
              <p:nvSpPr>
                <p:cNvPr id="130" name="Rectangle 56"/>
                <p:cNvSpPr/>
                <p:nvPr/>
              </p:nvSpPr>
              <p:spPr>
                <a:xfrm>
                  <a:off x="-7260120" y="-6634440"/>
                  <a:ext cx="1828800" cy="74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A. Doring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57"/>
                <p:cNvSpPr/>
                <p:nvPr/>
              </p:nvSpPr>
              <p:spPr>
                <a:xfrm>
                  <a:off x="-7299720" y="-6634440"/>
                  <a:ext cx="1908000" cy="746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58"/>
              <p:cNvGrpSpPr/>
              <p:nvPr/>
            </p:nvGrpSpPr>
            <p:grpSpPr>
              <a:xfrm>
                <a:off x="-9208080" y="-5888160"/>
                <a:ext cx="1908000" cy="1198440"/>
                <a:chOff x="-9208080" y="-5888160"/>
                <a:chExt cx="1908000" cy="1198440"/>
              </a:xfrm>
            </p:grpSpPr>
            <p:sp>
              <p:nvSpPr>
                <p:cNvPr id="133" name="Rectangle 59"/>
                <p:cNvSpPr/>
                <p:nvPr/>
              </p:nvSpPr>
              <p:spPr>
                <a:xfrm>
                  <a:off x="-916848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TAL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60"/>
                <p:cNvSpPr/>
                <p:nvPr/>
              </p:nvSpPr>
              <p:spPr>
                <a:xfrm>
                  <a:off x="-92080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61"/>
              <p:cNvGrpSpPr/>
              <p:nvPr/>
            </p:nvGrpSpPr>
            <p:grpSpPr>
              <a:xfrm>
                <a:off x="-7299720" y="-5888160"/>
                <a:ext cx="1908000" cy="1198440"/>
                <a:chOff x="-7299720" y="-5888160"/>
                <a:chExt cx="1908000" cy="1198440"/>
              </a:xfrm>
            </p:grpSpPr>
            <p:sp>
              <p:nvSpPr>
                <p:cNvPr id="136" name="Rectangle 62"/>
                <p:cNvSpPr/>
                <p:nvPr/>
              </p:nvSpPr>
              <p:spPr>
                <a:xfrm>
                  <a:off x="-7260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S. Giampaoli, L. Palmieri, S. Panico,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F. Seccareccia, D. Vanuzzo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63"/>
                <p:cNvSpPr/>
                <p:nvPr/>
              </p:nvSpPr>
              <p:spPr>
                <a:xfrm>
                  <a:off x="-7299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64"/>
              <p:cNvGrpSpPr/>
              <p:nvPr/>
            </p:nvGrpSpPr>
            <p:grpSpPr>
              <a:xfrm>
                <a:off x="-5391720" y="-5888160"/>
                <a:ext cx="1908000" cy="1198440"/>
                <a:chOff x="-5391720" y="-5888160"/>
                <a:chExt cx="1908000" cy="1198440"/>
              </a:xfrm>
            </p:grpSpPr>
            <p:sp>
              <p:nvSpPr>
                <p:cNvPr id="139" name="Rectangle 65"/>
                <p:cNvSpPr/>
                <p:nvPr/>
              </p:nvSpPr>
              <p:spPr>
                <a:xfrm>
                  <a:off x="-5352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ICE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66"/>
                <p:cNvSpPr/>
                <p:nvPr/>
              </p:nvSpPr>
              <p:spPr>
                <a:xfrm>
                  <a:off x="-5391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" name="Group 67"/>
              <p:cNvGrpSpPr/>
              <p:nvPr/>
            </p:nvGrpSpPr>
            <p:grpSpPr>
              <a:xfrm>
                <a:off x="-3483720" y="-5888160"/>
                <a:ext cx="1908000" cy="1198440"/>
                <a:chOff x="-3483720" y="-5888160"/>
                <a:chExt cx="1908000" cy="1198440"/>
              </a:xfrm>
            </p:grpSpPr>
            <p:sp>
              <p:nvSpPr>
                <p:cNvPr id="142" name="Rectangle 68"/>
                <p:cNvSpPr/>
                <p:nvPr/>
              </p:nvSpPr>
              <p:spPr>
                <a:xfrm>
                  <a:off x="-34441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V. Gudnaso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69"/>
                <p:cNvSpPr/>
                <p:nvPr/>
              </p:nvSpPr>
              <p:spPr>
                <a:xfrm>
                  <a:off x="-348372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Group 70"/>
              <p:cNvGrpSpPr/>
              <p:nvPr/>
            </p:nvGrpSpPr>
            <p:grpSpPr>
              <a:xfrm>
                <a:off x="-1575360" y="-5888160"/>
                <a:ext cx="1908000" cy="1198440"/>
                <a:chOff x="-1575360" y="-5888160"/>
                <a:chExt cx="1908000" cy="1198440"/>
              </a:xfrm>
            </p:grpSpPr>
            <p:sp>
              <p:nvSpPr>
                <p:cNvPr id="145" name="Rectangle 71"/>
                <p:cNvSpPr/>
                <p:nvPr/>
              </p:nvSpPr>
              <p:spPr>
                <a:xfrm>
                  <a:off x="-153576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GREECE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72"/>
                <p:cNvSpPr/>
                <p:nvPr/>
              </p:nvSpPr>
              <p:spPr>
                <a:xfrm>
                  <a:off x="-157536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73"/>
              <p:cNvGrpSpPr/>
              <p:nvPr/>
            </p:nvGrpSpPr>
            <p:grpSpPr>
              <a:xfrm>
                <a:off x="332280" y="-5888160"/>
                <a:ext cx="1908000" cy="1198440"/>
                <a:chOff x="332280" y="-5888160"/>
                <a:chExt cx="1908000" cy="1198440"/>
              </a:xfrm>
            </p:grpSpPr>
            <p:sp>
              <p:nvSpPr>
                <p:cNvPr id="148" name="Rectangle 74"/>
                <p:cNvSpPr/>
                <p:nvPr/>
              </p:nvSpPr>
              <p:spPr>
                <a:xfrm>
                  <a:off x="371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A. Trichopoulou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75"/>
                <p:cNvSpPr/>
                <p:nvPr/>
              </p:nvSpPr>
              <p:spPr>
                <a:xfrm>
                  <a:off x="332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76"/>
              <p:cNvGrpSpPr/>
              <p:nvPr/>
            </p:nvGrpSpPr>
            <p:grpSpPr>
              <a:xfrm>
                <a:off x="2240280" y="-5888160"/>
                <a:ext cx="1908000" cy="1198440"/>
                <a:chOff x="2240280" y="-5888160"/>
                <a:chExt cx="1908000" cy="1198440"/>
              </a:xfrm>
            </p:grpSpPr>
            <p:sp>
              <p:nvSpPr>
                <p:cNvPr id="151" name="Rectangle 77"/>
                <p:cNvSpPr/>
                <p:nvPr/>
              </p:nvSpPr>
              <p:spPr>
                <a:xfrm>
                  <a:off x="2279520" y="-5888160"/>
                  <a:ext cx="1828800" cy="1198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 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78"/>
                <p:cNvSpPr/>
                <p:nvPr/>
              </p:nvSpPr>
              <p:spPr>
                <a:xfrm>
                  <a:off x="2240280" y="-5888160"/>
                  <a:ext cx="1908000" cy="1198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79"/>
              <p:cNvGrpSpPr/>
              <p:nvPr/>
            </p:nvGrpSpPr>
            <p:grpSpPr>
              <a:xfrm>
                <a:off x="-9208080" y="-4689720"/>
                <a:ext cx="1908000" cy="782640"/>
                <a:chOff x="-9208080" y="-4689720"/>
                <a:chExt cx="1908000" cy="782640"/>
              </a:xfrm>
            </p:grpSpPr>
            <p:sp>
              <p:nvSpPr>
                <p:cNvPr id="154" name="Rectangle 80"/>
                <p:cNvSpPr/>
                <p:nvPr/>
              </p:nvSpPr>
              <p:spPr>
                <a:xfrm>
                  <a:off x="-916848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M. Verschur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81"/>
                <p:cNvSpPr/>
                <p:nvPr/>
              </p:nvSpPr>
              <p:spPr>
                <a:xfrm>
                  <a:off x="-92080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82"/>
              <p:cNvGrpSpPr/>
              <p:nvPr/>
            </p:nvGrpSpPr>
            <p:grpSpPr>
              <a:xfrm>
                <a:off x="-7299720" y="-4689720"/>
                <a:ext cx="1908000" cy="782640"/>
                <a:chOff x="-7299720" y="-4689720"/>
                <a:chExt cx="1908000" cy="782640"/>
              </a:xfrm>
            </p:grpSpPr>
            <p:sp>
              <p:nvSpPr>
                <p:cNvPr id="157" name="Rectangle 83"/>
                <p:cNvSpPr/>
                <p:nvPr/>
              </p:nvSpPr>
              <p:spPr>
                <a:xfrm>
                  <a:off x="-7260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NORWAY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84"/>
                <p:cNvSpPr/>
                <p:nvPr/>
              </p:nvSpPr>
              <p:spPr>
                <a:xfrm>
                  <a:off x="-7299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85"/>
              <p:cNvGrpSpPr/>
              <p:nvPr/>
            </p:nvGrpSpPr>
            <p:grpSpPr>
              <a:xfrm>
                <a:off x="-5391720" y="-4689720"/>
                <a:ext cx="1908000" cy="782640"/>
                <a:chOff x="-5391720" y="-4689720"/>
                <a:chExt cx="1908000" cy="782640"/>
              </a:xfrm>
            </p:grpSpPr>
            <p:sp>
              <p:nvSpPr>
                <p:cNvPr id="160" name="Rectangle 86"/>
                <p:cNvSpPr/>
                <p:nvPr/>
              </p:nvSpPr>
              <p:spPr>
                <a:xfrm>
                  <a:off x="-5352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7"/>
                <p:cNvSpPr/>
                <p:nvPr/>
              </p:nvSpPr>
              <p:spPr>
                <a:xfrm>
                  <a:off x="-5391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88"/>
              <p:cNvGrpSpPr/>
              <p:nvPr/>
            </p:nvGrpSpPr>
            <p:grpSpPr>
              <a:xfrm>
                <a:off x="-3483720" y="-4689720"/>
                <a:ext cx="1908000" cy="782640"/>
                <a:chOff x="-3483720" y="-4689720"/>
                <a:chExt cx="1908000" cy="782640"/>
              </a:xfrm>
            </p:grpSpPr>
            <p:sp>
              <p:nvSpPr>
                <p:cNvPr id="163" name="Rectangle 89"/>
                <p:cNvSpPr/>
                <p:nvPr/>
              </p:nvSpPr>
              <p:spPr>
                <a:xfrm>
                  <a:off x="-34441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LAND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90"/>
                <p:cNvSpPr/>
                <p:nvPr/>
              </p:nvSpPr>
              <p:spPr>
                <a:xfrm>
                  <a:off x="-348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91"/>
              <p:cNvGrpSpPr/>
              <p:nvPr/>
            </p:nvGrpSpPr>
            <p:grpSpPr>
              <a:xfrm>
                <a:off x="-1575360" y="-4689720"/>
                <a:ext cx="1908000" cy="782640"/>
                <a:chOff x="-1575360" y="-4689720"/>
                <a:chExt cx="1908000" cy="782640"/>
              </a:xfrm>
            </p:grpSpPr>
            <p:sp>
              <p:nvSpPr>
                <p:cNvPr id="166" name="Rectangle 92"/>
                <p:cNvSpPr/>
                <p:nvPr/>
              </p:nvSpPr>
              <p:spPr>
                <a:xfrm>
                  <a:off x="-15357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A. Paja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93"/>
                <p:cNvSpPr/>
                <p:nvPr/>
              </p:nvSpPr>
              <p:spPr>
                <a:xfrm>
                  <a:off x="-157536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94"/>
              <p:cNvGrpSpPr/>
              <p:nvPr/>
            </p:nvGrpSpPr>
            <p:grpSpPr>
              <a:xfrm>
                <a:off x="332280" y="-4689720"/>
                <a:ext cx="1908000" cy="782640"/>
                <a:chOff x="332280" y="-4689720"/>
                <a:chExt cx="1908000" cy="782640"/>
              </a:xfrm>
            </p:grpSpPr>
            <p:sp>
              <p:nvSpPr>
                <p:cNvPr id="169" name="Rectangle 95"/>
                <p:cNvSpPr/>
                <p:nvPr/>
              </p:nvSpPr>
              <p:spPr>
                <a:xfrm>
                  <a:off x="371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PORTUGAL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96"/>
                <p:cNvSpPr/>
                <p:nvPr/>
              </p:nvSpPr>
              <p:spPr>
                <a:xfrm>
                  <a:off x="332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97"/>
              <p:cNvGrpSpPr/>
              <p:nvPr/>
            </p:nvGrpSpPr>
            <p:grpSpPr>
              <a:xfrm>
                <a:off x="2240280" y="-4689720"/>
                <a:ext cx="1908000" cy="782640"/>
                <a:chOff x="2240280" y="-4689720"/>
                <a:chExt cx="1908000" cy="782640"/>
              </a:xfrm>
            </p:grpSpPr>
            <p:sp>
              <p:nvSpPr>
                <p:cNvPr id="172" name="Rectangle 98"/>
                <p:cNvSpPr/>
                <p:nvPr/>
              </p:nvSpPr>
              <p:spPr>
                <a:xfrm>
                  <a:off x="22795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E. Roch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99"/>
                <p:cNvSpPr/>
                <p:nvPr/>
              </p:nvSpPr>
              <p:spPr>
                <a:xfrm>
                  <a:off x="224028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100"/>
              <p:cNvGrpSpPr/>
              <p:nvPr/>
            </p:nvGrpSpPr>
            <p:grpSpPr>
              <a:xfrm>
                <a:off x="4148640" y="-4689720"/>
                <a:ext cx="1642680" cy="782640"/>
                <a:chOff x="4148640" y="-4689720"/>
                <a:chExt cx="1642680" cy="782640"/>
              </a:xfrm>
            </p:grpSpPr>
            <p:sp>
              <p:nvSpPr>
                <p:cNvPr id="175" name="Rectangle 101"/>
                <p:cNvSpPr/>
                <p:nvPr/>
              </p:nvSpPr>
              <p:spPr>
                <a:xfrm>
                  <a:off x="418788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PAI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02"/>
                <p:cNvSpPr/>
                <p:nvPr/>
              </p:nvSpPr>
              <p:spPr>
                <a:xfrm>
                  <a:off x="41486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103"/>
              <p:cNvGrpSpPr/>
              <p:nvPr/>
            </p:nvGrpSpPr>
            <p:grpSpPr>
              <a:xfrm>
                <a:off x="5791320" y="-4689720"/>
                <a:ext cx="1907640" cy="782640"/>
                <a:chOff x="5791320" y="-4689720"/>
                <a:chExt cx="1907640" cy="782640"/>
              </a:xfrm>
            </p:grpSpPr>
            <p:sp>
              <p:nvSpPr>
                <p:cNvPr id="178" name="Rectangle 104"/>
                <p:cNvSpPr/>
                <p:nvPr/>
              </p:nvSpPr>
              <p:spPr>
                <a:xfrm>
                  <a:off x="583056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S. Sans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05"/>
                <p:cNvSpPr/>
                <p:nvPr/>
              </p:nvSpPr>
              <p:spPr>
                <a:xfrm>
                  <a:off x="5791320" y="-4689720"/>
                  <a:ext cx="190764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106"/>
              <p:cNvGrpSpPr/>
              <p:nvPr/>
            </p:nvGrpSpPr>
            <p:grpSpPr>
              <a:xfrm>
                <a:off x="7699320" y="-4689720"/>
                <a:ext cx="1642680" cy="782640"/>
                <a:chOff x="7699320" y="-4689720"/>
                <a:chExt cx="1642680" cy="782640"/>
              </a:xfrm>
            </p:grpSpPr>
            <p:sp>
              <p:nvSpPr>
                <p:cNvPr id="181" name="Rectangle 107"/>
                <p:cNvSpPr/>
                <p:nvPr/>
              </p:nvSpPr>
              <p:spPr>
                <a:xfrm>
                  <a:off x="773892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SWEDEN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108"/>
                <p:cNvSpPr/>
                <p:nvPr/>
              </p:nvSpPr>
              <p:spPr>
                <a:xfrm>
                  <a:off x="769932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109"/>
              <p:cNvGrpSpPr/>
              <p:nvPr/>
            </p:nvGrpSpPr>
            <p:grpSpPr>
              <a:xfrm>
                <a:off x="9342000" y="-4689720"/>
                <a:ext cx="1908000" cy="782640"/>
                <a:chOff x="9342000" y="-4689720"/>
                <a:chExt cx="1908000" cy="782640"/>
              </a:xfrm>
            </p:grpSpPr>
            <p:sp>
              <p:nvSpPr>
                <p:cNvPr id="184" name="Rectangle 110"/>
                <p:cNvSpPr/>
                <p:nvPr/>
              </p:nvSpPr>
              <p:spPr>
                <a:xfrm>
                  <a:off x="938160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700" spc="-1" strike="noStrike">
                      <a:solidFill>
                        <a:srgbClr val="000000"/>
                      </a:solidFill>
                      <a:latin typeface="Arial"/>
                    </a:rPr>
                    <a:t>N. Hammar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111"/>
                <p:cNvSpPr/>
                <p:nvPr/>
              </p:nvSpPr>
              <p:spPr>
                <a:xfrm>
                  <a:off x="934200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112"/>
              <p:cNvGrpSpPr/>
              <p:nvPr/>
            </p:nvGrpSpPr>
            <p:grpSpPr>
              <a:xfrm>
                <a:off x="11250000" y="-4689720"/>
                <a:ext cx="1642680" cy="782640"/>
                <a:chOff x="11250000" y="-4689720"/>
                <a:chExt cx="1642680" cy="782640"/>
              </a:xfrm>
            </p:grpSpPr>
            <p:sp>
              <p:nvSpPr>
                <p:cNvPr id="187" name="Rectangle 113"/>
                <p:cNvSpPr/>
                <p:nvPr/>
              </p:nvSpPr>
              <p:spPr>
                <a:xfrm>
                  <a:off x="1128960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U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14"/>
                <p:cNvSpPr/>
                <p:nvPr/>
              </p:nvSpPr>
              <p:spPr>
                <a:xfrm>
                  <a:off x="1125000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115"/>
              <p:cNvGrpSpPr/>
              <p:nvPr/>
            </p:nvGrpSpPr>
            <p:grpSpPr>
              <a:xfrm>
                <a:off x="12893040" y="-4689720"/>
                <a:ext cx="1908000" cy="782640"/>
                <a:chOff x="12893040" y="-4689720"/>
                <a:chExt cx="1908000" cy="782640"/>
              </a:xfrm>
            </p:grpSpPr>
            <p:sp>
              <p:nvSpPr>
                <p:cNvPr id="190" name="Rectangle 116"/>
                <p:cNvSpPr/>
                <p:nvPr/>
              </p:nvSpPr>
              <p:spPr>
                <a:xfrm>
                  <a:off x="1293264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700" spc="-1" strike="noStrike">
                      <a:solidFill>
                        <a:srgbClr val="000000"/>
                      </a:solidFill>
                      <a:latin typeface="Arial"/>
                    </a:rPr>
                    <a:t>P. Primatesta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117"/>
                <p:cNvSpPr/>
                <p:nvPr/>
              </p:nvSpPr>
              <p:spPr>
                <a:xfrm>
                  <a:off x="1289304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118"/>
              <p:cNvGrpSpPr/>
              <p:nvPr/>
            </p:nvGrpSpPr>
            <p:grpSpPr>
              <a:xfrm>
                <a:off x="14801040" y="-4689720"/>
                <a:ext cx="1642680" cy="782640"/>
                <a:chOff x="14801040" y="-4689720"/>
                <a:chExt cx="1642680" cy="782640"/>
              </a:xfrm>
            </p:grpSpPr>
            <p:sp>
              <p:nvSpPr>
                <p:cNvPr id="193" name="Rectangle 119"/>
                <p:cNvSpPr/>
                <p:nvPr/>
              </p:nvSpPr>
              <p:spPr>
                <a:xfrm>
                  <a:off x="14840640" y="-4689720"/>
                  <a:ext cx="156348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spcBef>
                      <a:spcPts val="1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700" spc="-1" strike="noStrike">
                      <a:solidFill>
                        <a:srgbClr val="000000"/>
                      </a:solidFill>
                      <a:latin typeface="Arial"/>
                    </a:rPr>
                    <a:t>EUROPEAN HEART NETWORK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120"/>
                <p:cNvSpPr/>
                <p:nvPr/>
              </p:nvSpPr>
              <p:spPr>
                <a:xfrm>
                  <a:off x="14801040" y="-4689720"/>
                  <a:ext cx="164268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121"/>
              <p:cNvGrpSpPr/>
              <p:nvPr/>
            </p:nvGrpSpPr>
            <p:grpSpPr>
              <a:xfrm>
                <a:off x="16443720" y="-4689720"/>
                <a:ext cx="1908000" cy="782640"/>
                <a:chOff x="16443720" y="-4689720"/>
                <a:chExt cx="1908000" cy="782640"/>
              </a:xfrm>
            </p:grpSpPr>
            <p:sp>
              <p:nvSpPr>
                <p:cNvPr id="196" name="Rectangle 122"/>
                <p:cNvSpPr/>
                <p:nvPr/>
              </p:nvSpPr>
              <p:spPr>
                <a:xfrm>
                  <a:off x="16483320" y="-4689720"/>
                  <a:ext cx="1828800" cy="78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3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123"/>
                <p:cNvSpPr/>
                <p:nvPr/>
              </p:nvSpPr>
              <p:spPr>
                <a:xfrm>
                  <a:off x="16443720" y="-4689720"/>
                  <a:ext cx="1908000" cy="782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8" name="Rectangle 124"/>
            <p:cNvSpPr/>
            <p:nvPr/>
          </p:nvSpPr>
          <p:spPr>
            <a:xfrm>
              <a:off x="-9212400" y="-9867960"/>
              <a:ext cx="27568800" cy="5965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9" name=""/>
          <p:cNvGraphicFramePr/>
          <p:nvPr/>
        </p:nvGraphicFramePr>
        <p:xfrm>
          <a:off x="1258920" y="1838160"/>
          <a:ext cx="6769080" cy="4632480"/>
        </p:xfrm>
        <a:graphic>
          <a:graphicData uri="http://schemas.openxmlformats.org/drawingml/2006/table">
            <a:tbl>
              <a:tblPr/>
              <a:tblGrid>
                <a:gridCol w="2236680"/>
                <a:gridCol w="45324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K. Steinbach – Austrian Hearth Foundation, Wi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Kornitzer – School of Public Health, Brux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ZECH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Holub – Institute of Health Information and Statistics, Pra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DEN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Madsen – National Institute of Public Health, Copenhag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Salomaa – National Public Health Institute, Helsink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J. Bloch, C. Peretti – Institut de Veille Sanitarie, Saint Maur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Doering – Insitute für Epidemiologie GSF, Neuherbe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R. Adany – School of Public Health, Debrec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 (COORDINATO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iampaoli, L. Palmieri, P. Ciccarelli, S. Panico, D. Vanuzzo, R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C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V. Gudnason – Iceland Heart Association, Kopavog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REE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Trichopoulou – School of Medicine, Ath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The 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M. Verschuren – National Institute of Public Health and E. Biltho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Graff-Iversen – Norvegian Insitute of Public Health, Os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A. Pajak – Institut of Public Health, Krak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E. Rocha – Insituto de medicina Preventiva, Lisb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Sans – Institut d'Estudis de la Salut, Barcelo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N. Hammar – Karolinska Institute, Stockhol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P. Primatesta – </a:t>
                      </a:r>
                      <a:r>
                        <a:rPr b="1" lang="en-GB" sz="1000" spc="-1" strike="noStrike">
                          <a:solidFill>
                            <a:srgbClr val="406000"/>
                          </a:solidFill>
                          <a:latin typeface="Comic Sans MS"/>
                          <a:ea typeface="Times New Roman"/>
                        </a:rPr>
                        <a:t>Univ. College London Medical School, Lond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EUROPEAN HEAR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406000"/>
                          </a:solidFill>
                          <a:latin typeface="Comic Sans MS"/>
                        </a:rPr>
                        <a:t>S. Allender – University of Oxford, Oxf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Object 169"/>
          <p:cNvGraphicFramePr/>
          <p:nvPr/>
        </p:nvGraphicFramePr>
        <p:xfrm>
          <a:off x="611280" y="557280"/>
          <a:ext cx="3995640" cy="135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1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57280"/>
                    <a:ext cx="399564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Object 2"/>
          <p:cNvGraphicFramePr/>
          <p:nvPr/>
        </p:nvGraphicFramePr>
        <p:xfrm>
          <a:off x="1979640" y="1512720"/>
          <a:ext cx="5187960" cy="450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12720"/>
                    <a:ext cx="5187960" cy="4508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4" name="Rectangle 3"/>
          <p:cNvSpPr/>
          <p:nvPr/>
        </p:nvSpPr>
        <p:spPr>
          <a:xfrm>
            <a:off x="3407040" y="746280"/>
            <a:ext cx="209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c43f"/>
                </a:solidFill>
                <a:latin typeface="Arial"/>
              </a:rPr>
              <a:t>The map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7380360" y="-27000"/>
          <a:ext cx="1763640" cy="60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-2700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539640" y="606600"/>
            <a:ext cx="806148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381240" algn="ctr">
              <a:lnSpc>
                <a:spcPct val="100000"/>
              </a:lnSpc>
              <a:tabLst>
                <a:tab algn="l" pos="0"/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bbe0e3"/>
                </a:solidFill>
                <a:latin typeface="Arial"/>
                <a:ea typeface="Times New Roman"/>
              </a:rPr>
              <a:t>Main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700"/>
              </a:spcBef>
              <a:buClr>
                <a:srgbClr val="6aa94e"/>
              </a:buClr>
              <a:buFont typeface="Comic Sans MS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ioritise cardiovascular disease of major interest in EU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ovide a list of specific indicators and sources of information for monitoring 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381240">
              <a:lnSpc>
                <a:spcPct val="100000"/>
              </a:lnSpc>
              <a:spcBef>
                <a:spcPts val="601"/>
              </a:spcBef>
              <a:buClr>
                <a:srgbClr val="6aa94e"/>
              </a:buClr>
              <a:buFont typeface="Arial"/>
              <a:buChar char="•"/>
              <a:tabLst>
                <a:tab algn="l" pos="6858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6000"/>
                </a:solidFill>
                <a:latin typeface="Arial"/>
                <a:ea typeface="Times New Roman"/>
              </a:rPr>
              <a:t>To prepare the Manual of Operations for the implementation of population-based registers of acute myocardial infarction/acute coronary syndrome, stroke and of CVD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3"/>
          <p:cNvGraphicFramePr/>
          <p:nvPr/>
        </p:nvGraphicFramePr>
        <p:xfrm>
          <a:off x="7380360" y="0"/>
          <a:ext cx="1763640" cy="60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0"/>
                    <a:ext cx="17636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40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47c06"/>
                </a:solidFill>
                <a:latin typeface="Arial"/>
              </a:rPr>
              <a:t>EUROCISS Recommendations for mortality indica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7848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MI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1 (ICD9: 4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HD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20-I25 (ICD9: 410-4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CVA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s I60-I69 (ICD9: 430-4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Ischaemic STROKE 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ICD10 code I64 (ICD9: 4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Haemorragic STROK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Intracerebral) ICD10 codes I61, I62 (ICD9: 431, 43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(Subarachnoid) ICD10 code I60 (ICD9: 4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54800"/>
                </a:solidFill>
                <a:latin typeface="Arial"/>
              </a:rPr>
              <a:t>Age:</a:t>
            </a:r>
            <a:r>
              <a:rPr b="0" lang="it-IT" sz="2400" spc="-1" strike="noStrike">
                <a:solidFill>
                  <a:srgbClr val="3548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54800"/>
                </a:solidFill>
                <a:latin typeface="Arial"/>
              </a:rPr>
              <a:t>35-44, 45-54, 55-64, 65-74 and 75-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06000"/>
                </a:solidFill>
                <a:latin typeface="Arial"/>
              </a:rPr>
              <a:t>Indicators should be standardised by age and gender using the European standard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3200"/>
            </a:br>
            <a:r>
              <a:rPr b="0" i="1" lang="it-IT" sz="3200" spc="-1" strike="noStrike">
                <a:solidFill>
                  <a:srgbClr val="d67c0e"/>
                </a:solidFill>
                <a:latin typeface="Arial"/>
              </a:rPr>
              <a:t>population characteristics</a:t>
            </a:r>
            <a:r>
              <a:rPr b="0" lang="it-IT" sz="3200" spc="-1" strike="noStrike">
                <a:solidFill>
                  <a:srgbClr val="d67c0e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600200"/>
          <a:ext cx="8229600" cy="4465800"/>
        </p:xfrm>
        <a:graphic>
          <a:graphicData uri="http://schemas.openxmlformats.org/drawingml/2006/table">
            <a:tbl>
              <a:tblPr/>
              <a:tblGrid>
                <a:gridCol w="2111400"/>
                <a:gridCol w="1592280"/>
                <a:gridCol w="1270080"/>
                <a:gridCol w="1671480"/>
                <a:gridCol w="1584360"/>
              </a:tblGrid>
              <a:tr h="547200"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ge r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opul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x 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cces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8046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Charler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h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3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2 (Gh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hool of Public Health/University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 Bru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9-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iv. of Gh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8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arhus  Uni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3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5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ERM U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28980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SF – K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034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98-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,6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538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72-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lth Region 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4172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5-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nstitute of Health Stu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9080"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87-20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5-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76320" rIns="7632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4" name="Picture 77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124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d67c0e"/>
                </a:solidFill>
                <a:latin typeface="Arial"/>
              </a:rPr>
              <a:t>Population-based specific AMI Registers:</a:t>
            </a: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d67c0e"/>
                </a:solidFill>
                <a:latin typeface="Arial"/>
              </a:rPr>
              <a:t> </a:t>
            </a:r>
            <a:r>
              <a:rPr b="0" i="1" lang="it-IT" sz="2800" spc="-1" strike="noStrike">
                <a:solidFill>
                  <a:srgbClr val="d67c0e"/>
                </a:solidFill>
                <a:latin typeface="Arial"/>
              </a:rPr>
              <a:t>case definition</a:t>
            </a:r>
            <a:r>
              <a:rPr b="0" lang="it-IT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971640" y="1171440"/>
          <a:ext cx="7345440" cy="5291280"/>
        </p:xfrm>
        <a:graphic>
          <a:graphicData uri="http://schemas.openxmlformats.org/drawingml/2006/table">
            <a:tbl>
              <a:tblPr/>
              <a:tblGrid>
                <a:gridCol w="1886040"/>
                <a:gridCol w="649080"/>
                <a:gridCol w="1041480"/>
                <a:gridCol w="1166760"/>
                <a:gridCol w="1235160"/>
                <a:gridCol w="1366920"/>
              </a:tblGrid>
              <a:tr h="63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Coun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ver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ICD codes(*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Link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Mortality / HD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Valid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Belgi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CG, enzymes, symptoms,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Den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52560"/>
                          <a:tab algn="l" pos="10414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valid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in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, 428,798, 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, 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Germa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, tropo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Ita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798,7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TCA, CAB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roponin/CKMB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Sp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, 428, 798, 799, oth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-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, date of bi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  <a:tr h="61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Northern Sweden – 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10, 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6d95c"/>
                    </a:solidFill>
                  </a:tcPr>
                </a:tc>
              </a:tr>
            </a:tbl>
          </a:graphicData>
        </a:graphic>
      </p:graphicFrame>
      <p:pic>
        <p:nvPicPr>
          <p:cNvPr id="217" name="Picture 82" descr=""/>
          <p:cNvPicPr/>
          <p:nvPr/>
        </p:nvPicPr>
        <p:blipFill>
          <a:blip r:embed="rId1"/>
          <a:stretch/>
        </p:blipFill>
        <p:spPr>
          <a:xfrm>
            <a:off x="7380360" y="0"/>
            <a:ext cx="1763640" cy="53172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3"/>
          <p:cNvSpPr/>
          <p:nvPr/>
        </p:nvSpPr>
        <p:spPr>
          <a:xfrm>
            <a:off x="1679760" y="6467400"/>
            <a:ext cx="5775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*) all codes are presented in the ICD-9 revision to facilitate the comparison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d47c06"/>
                </a:solidFill>
                <a:latin typeface="Arial"/>
              </a:rPr>
              <a:t>MONICA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mparable and reliab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Hot-cold pursuit to identify suspected events in all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ll events validated during registration period</a:t>
            </a: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verage (only some areas of coun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Age range (35-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800"/>
                </a:solidFill>
                <a:latin typeface="Arial"/>
              </a:rPr>
              <a:t>Dated [1985-199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sources of d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HO Global Info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data warehouse that collects, stores and displays information on chronic diseases and their risk factors for all WHO member sta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903600" y="486900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who.int/infobase/report.as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isk factors included in InfoB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loo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et - Low fruit and veget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verweight &amp; Obe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ysical Activit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ba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jc_1a"/>
          <p:cNvPicPr/>
          <p:nvPr/>
        </p:nvPicPr>
        <p:blipFill>
          <a:blip r:embed="rId1"/>
          <a:stretch/>
        </p:blipFill>
        <p:spPr>
          <a:xfrm>
            <a:off x="468360" y="333360"/>
            <a:ext cx="76374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jc_1b"/>
          <p:cNvPicPr/>
          <p:nvPr/>
        </p:nvPicPr>
        <p:blipFill>
          <a:blip r:embed="rId1"/>
          <a:stretch/>
        </p:blipFill>
        <p:spPr>
          <a:xfrm>
            <a:off x="395280" y="404640"/>
            <a:ext cx="8209080" cy="59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Bar2DHorizontal1222706638199998a1mo_cg_059mo_cc_104_Big"/>
          <p:cNvPicPr/>
          <p:nvPr/>
        </p:nvPicPr>
        <p:blipFill>
          <a:blip r:embed="rId1"/>
          <a:stretch/>
        </p:blipFill>
        <p:spPr>
          <a:xfrm>
            <a:off x="762120" y="549360"/>
            <a:ext cx="76197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Bar2DHorizontal-1356485970199999a17cd_07010_Small"/>
          <p:cNvPicPr/>
          <p:nvPr/>
        </p:nvPicPr>
        <p:blipFill>
          <a:blip r:embed="rId1"/>
          <a:stretch/>
        </p:blipFill>
        <p:spPr>
          <a:xfrm>
            <a:off x="611280" y="333360"/>
            <a:ext cx="79912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APCSC_Map"/>
          <p:cNvPicPr/>
          <p:nvPr/>
        </p:nvPicPr>
        <p:blipFill>
          <a:blip r:embed="rId1"/>
          <a:stretch/>
        </p:blipFill>
        <p:spPr>
          <a:xfrm>
            <a:off x="684360" y="1197000"/>
            <a:ext cx="7775280" cy="51483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1473120" y="40464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sia-Pacific Studies 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sia Pacific Studies Collaboration - APC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patient data meta-analysis from existing longitudinal studies with information on cardiovascular disease in the Asia Pacifi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project's main research themes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ractions between risk factors for cardiovascular dise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valence and attributable risk for five major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lationship of cancer incidence to cardiovascular disease risk fac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ver 650,000 participants, 44 separate cohort studies in mainland China, Hong Kong, Taiwan, Japan, South Korea, Singapore, Thailand, New Zealand and Austral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5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ap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rom the project have been published or are in press in international peer reviewed journals. http://www.apcsc.inf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tional - Global Burdens of Disease Project (GB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O Project, commenced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ld Bank, Harvard School of Public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ehensive and consistent set of estimates of mortality and morbidity by age, sex, region for world for first time for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measure – DALY (Disability Adjusted Life Year) – includes premature deaths and disability, weighted by severity of di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FA 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1352520"/>
            <a:ext cx="86421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B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1/3 estimated 56 million deaths occurring annual are recorded in vital registr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estimates from these plus disease registers, population surveys, epidemiological studies to “fill in the gap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79280" y="723960"/>
            <a:ext cx="878544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-282600" y="1052640"/>
            <a:ext cx="97092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D rates &amp; Life expecta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-282600" y="1700280"/>
            <a:ext cx="97092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d47c06"/>
                </a:solidFill>
                <a:latin typeface="Arial"/>
              </a:rPr>
              <a:t>HFA DB</a:t>
            </a:r>
            <a:br>
              <a:rPr sz="4000"/>
            </a:br>
            <a:r>
              <a:rPr b="1" lang="it-IT" sz="3600" spc="-1" strike="noStrike">
                <a:solidFill>
                  <a:srgbClr val="d47c06"/>
                </a:solidFill>
                <a:latin typeface="Arial"/>
              </a:rPr>
              <a:t>(European Health For All Datab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Advantag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Covers all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User friendly web ac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Nice graphics for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54800"/>
                </a:solidFill>
                <a:latin typeface="Arial"/>
              </a:rPr>
              <a:t>Lim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a not standard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4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54800"/>
                </a:solidFill>
                <a:latin typeface="Arial"/>
              </a:rPr>
              <a:t>Dated (most recent 2001- 20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     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LIMIT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Reliable indicators for monitoring CVD and for which data are available on a comparable basis across EU countries are currently limite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	</a:t>
            </a:r>
            <a:r>
              <a:rPr b="0" lang="en-GB" sz="2100" spc="-1" strike="noStrike">
                <a:solidFill>
                  <a:srgbClr val="354800"/>
                </a:solidFill>
                <a:latin typeface="Arial"/>
              </a:rPr>
              <a:t>Even mortality is scarcely comparable since the diagnostic criteria for coding death certificates are not standardized at international level and diagnostic information is not based on uniform crite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47c06"/>
                </a:solidFill>
                <a:latin typeface="Arial"/>
              </a:rPr>
              <a:t>CVD international sources includ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rt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WHO-M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3548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54800"/>
                </a:solidFill>
                <a:latin typeface="Arial"/>
              </a:rPr>
              <a:t>EUROCISS inventory of population-based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948360" y="115920"/>
            <a:ext cx="201636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4T11:23:38Z</dcterms:created>
  <dc:creator>Julia Critchley</dc:creator>
  <dc:description/>
  <dc:language>en-US</dc:language>
  <cp:lastModifiedBy>Computing Services</cp:lastModifiedBy>
  <dcterms:modified xsi:type="dcterms:W3CDTF">2008-04-14T10:19:54Z</dcterms:modified>
  <cp:revision>12</cp:revision>
  <dc:subject/>
  <dc:title>Slide 1</dc:title>
</cp:coreProperties>
</file>