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568E-8618-456A-B49A-AE07B51B98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C149-C755-41D0-87F0-27CC66A5796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7A29-3C2F-4CE1-811A-1E13A5BF867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D50A-F269-4821-8F2C-7E9CA5E7768F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4E3F-7FD2-4658-838F-840816B6555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72D-108D-4E53-888B-1B93642EBDD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9DB3-2CF9-4CA8-AF01-20180C5D872D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601F-38F6-4424-BDF7-87C02A2D26D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1196A-59A7-4ED7-B3C7-15EC056A83D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A419-3FCF-42AE-BE29-2DFFFB669B5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D5DD-2AE6-4C2C-8363-F48F029B107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E17-BBA9-4280-96F8-B61D51410EF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lectio factors that get you to attend one hosp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082F-76FC-4287-8DEF-81C4EE6791C2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CB99-7894-4100-81E7-F1DBDED80B9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983F-4063-409F-B52F-B65B4EC57C6B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67B6-5AD3-421C-981D-7D84FD065787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7634-782F-4742-8747-DD425357FBCC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E2BE-2915-4B4F-9F43-3B50B1FBFB2E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6CB5-675E-4329-851F-7BF571384AA4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99F4-5FB1-4D40-BA47-9434E23A9FC0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D23D-03DE-4903-98C5-C36663A6813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70E3-3C2F-48C2-9B1E-C3DAF3440F6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3DF6-D38C-4DC4-AFE0-8B9F33885E48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330F-318D-4C2F-8A4F-F6920CC99DA9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A058-CC39-470A-970E-68C76A6D583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3C02-1E3E-4325-95B6-EC63EAD48F9A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E202-D859-4192-B9A7-0D664B93A3C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3767-086C-44F8-B014-24A9E745D013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221-3234-467A-B126-E8B85AE26025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8DC4-71A7-46C7-A8A1-CD5547CFEC26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5E35-BEAA-472D-93B5-07A4E9C5E581}" type="slidenum"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D199-7231-49B5-88F7-2E1C8546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19E-44E7-4171-A46C-1B032DD1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770-0985-4B83-AB01-34531680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60E3-70EF-4142-BA27-8D794499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9D55-67F2-4F91-A99C-303F5D12F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BA9F-DE17-41B0-A9DB-FEF081D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147-CE28-4353-8A67-9E3A1515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2035-D7AA-4111-B7A3-A007A0D7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49E9-97C5-4F62-8E6D-54806AE7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6B38-16F3-425A-A17E-673FBFF7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6BAF-C31B-455E-B479-93C1B9FA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A080-EA80-4AD2-AE56-B75B6FD6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7D8-B24E-4594-8765-163C98E5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8E5-DE2F-49E8-8EF2-ED897486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DEF2-BAE1-4FB3-9C01-81A56E1E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10F5-1BD5-4ECE-BF42-00F8A804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0EA3-A01C-4CE1-B67A-3305829B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EAD-4A18-497E-9A20-7F05F1EE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316-9EE7-4B8E-86B9-ECCD2626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8E3-9478-4D05-B82A-6553567C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AC6-C02B-45B3-88ED-8DFBCBAD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F64-DD2A-4E5B-825B-B2AAB6F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E0A3-FB8E-46F3-8D19-C3CDC5C1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A82-C72B-49C3-B76B-D80856D9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027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F0CB-336C-4E64-A111-B2B7822ED37C}" type="slidenum">
              <a:rPr b="0" lang="en-GB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027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28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AAA3-1E53-43A1-BD0F-2DC7C9656165}" type="slidenum">
              <a:rPr b="0" lang="en-GB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se-control studi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Dr Luis E Cuevas – LSTM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Julia Critchle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6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osure to risk factor/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1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1219320" y="1752480"/>
            <a:ext cx="7315200" cy="4267440"/>
          </a:xfrm>
          <a:prstGeom prst="rect">
            <a:avLst/>
          </a:prstGeom>
          <a:noFill/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6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0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11"/>
          <p:cNvSpPr/>
          <p:nvPr/>
        </p:nvSpPr>
        <p:spPr>
          <a:xfrm>
            <a:off x="2057400" y="3581280"/>
            <a:ext cx="5791320" cy="5335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s exposure higher/lower in case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1981080" y="2057400"/>
            <a:ext cx="1524240" cy="609480"/>
          </a:xfrm>
          <a:prstGeom prst="rect">
            <a:avLst/>
          </a:prstGeom>
          <a:solidFill>
            <a:srgbClr val="ff66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12440" y="965160"/>
            <a:ext cx="6311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hen are these studies most useful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8680" y="2398680"/>
            <a:ext cx="820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imited information on risk factors (some times carried out before cohort studi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cidence of the disease is low (rare diseas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many risk factors simultaneous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7160" y="112680"/>
            <a:ext cx="86374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00"/>
                </a:solidFill>
                <a:latin typeface="Arial"/>
              </a:rPr>
              <a:t>Major problem with case-control studies is bias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election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ifferences in people who select themselves for studies compared with those who do no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Measurement bia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ividual measurements of disease or exposure are more likely to be incorrec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call bias in case-contro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How might you reduce these biases in practice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uggestion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762120" y="685800"/>
            <a:ext cx="3352680" cy="762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7315200" y="3048120"/>
            <a:ext cx="213372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7238880" y="1523880"/>
            <a:ext cx="221004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685800" y="4419720"/>
            <a:ext cx="84582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are the factors that put a person at a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igher risk of suffering from CH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1828800"/>
            <a:ext cx="914400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0" y="3581280"/>
            <a:ext cx="9144000" cy="129564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hysical activity and risk of coronary heart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7238880" y="2819520"/>
            <a:ext cx="1905120" cy="12952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191120" y="1828800"/>
            <a:ext cx="380988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 CH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4038480" y="4191120"/>
            <a:ext cx="3962520" cy="9144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dividuals without CHD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1905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676520" y="4267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1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11480" cy="50691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760680" y="533520"/>
            <a:ext cx="26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 defini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257800" y="2057400"/>
            <a:ext cx="358128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ospit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health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ent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op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ngle poi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period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iagno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New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5332320" y="609480"/>
            <a:ext cx="29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/s of c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0" y="1143000"/>
            <a:ext cx="9144000" cy="38088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Rectangle 28"/>
          <p:cNvSpPr/>
          <p:nvPr/>
        </p:nvSpPr>
        <p:spPr>
          <a:xfrm>
            <a:off x="5029200" y="5334120"/>
            <a:ext cx="304920" cy="685800"/>
          </a:xfrm>
          <a:prstGeom prst="rect">
            <a:avLst/>
          </a:prstGeom>
          <a:solidFill>
            <a:srgbClr val="4d4d4d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Rectangle 29"/>
          <p:cNvSpPr/>
          <p:nvPr/>
        </p:nvSpPr>
        <p:spPr>
          <a:xfrm>
            <a:off x="179280" y="4005360"/>
            <a:ext cx="4176720" cy="143964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Rectangle 30"/>
          <p:cNvSpPr/>
          <p:nvPr/>
        </p:nvSpPr>
        <p:spPr>
          <a:xfrm>
            <a:off x="179280" y="2205000"/>
            <a:ext cx="4191120" cy="165564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ifficult and critical issu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dividuals who would have been selected as cases if they had the disease</a:t>
            </a:r>
            <a:r>
              <a:rPr b="0" i="1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ame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mparability to cases essentia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ource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4476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pecial groups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iends, neighbors, relativ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ideal control group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nalytical (Observational) Epidemiolog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 studi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im to identify potential associations between ‘risk’ factors and a particular disease or outco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"/>
          <p:cNvSpPr/>
          <p:nvPr/>
        </p:nvSpPr>
        <p:spPr>
          <a:xfrm>
            <a:off x="971640" y="476280"/>
            <a:ext cx="33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urces of contr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6475680" y="190512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ospital 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6553080" y="2631960"/>
            <a:ext cx="2133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limitations of the control group should be taken into account when interpreting finding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762120" y="16765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62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9" descr=""/>
          <p:cNvPicPr/>
          <p:nvPr/>
        </p:nvPicPr>
        <p:blipFill>
          <a:blip r:embed="rId1"/>
          <a:stretch/>
        </p:blipFill>
        <p:spPr>
          <a:xfrm>
            <a:off x="517680" y="1557360"/>
            <a:ext cx="4005000" cy="41767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539640" y="2492280"/>
            <a:ext cx="3961080" cy="93672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of control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Hospit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ll by defini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smok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&gt; alcoho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lativ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tic 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ocio-economic condi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ographical situat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illing to collaborat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Anxie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Not always 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eighbou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aiting to return from work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milarity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hare environment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neral populat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generally unavailabl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reliable (recall bias?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uncooperative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143000" y="762120"/>
            <a:ext cx="62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ist potential risk factor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457200" y="2168640"/>
            <a:ext cx="4137120" cy="39970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3"/>
          <p:cNvSpPr/>
          <p:nvPr/>
        </p:nvSpPr>
        <p:spPr>
          <a:xfrm>
            <a:off x="395280" y="2997360"/>
            <a:ext cx="4248000" cy="2303280"/>
          </a:xfrm>
          <a:prstGeom prst="rect">
            <a:avLst/>
          </a:prstGeom>
          <a:noFill/>
          <a:ln w="572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6160" y="2282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Recap – confounding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838080" y="2971800"/>
            <a:ext cx="7562880" cy="3886200"/>
            <a:chOff x="838080" y="2971800"/>
            <a:chExt cx="7562880" cy="3886200"/>
          </a:xfrm>
        </p:grpSpPr>
        <p:sp>
          <p:nvSpPr>
            <p:cNvPr id="208" name="Oval 3"/>
            <p:cNvSpPr/>
            <p:nvPr/>
          </p:nvSpPr>
          <p:spPr>
            <a:xfrm>
              <a:off x="1066680" y="5257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cc"/>
                  </a:solidFill>
                  <a:latin typeface="Tahoma"/>
                </a:rPr>
                <a:t>smoking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Oval 4"/>
            <p:cNvSpPr/>
            <p:nvPr/>
          </p:nvSpPr>
          <p:spPr>
            <a:xfrm>
              <a:off x="838080" y="2971800"/>
              <a:ext cx="1828800" cy="16002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Physical 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6699"/>
                  </a:solidFill>
                  <a:latin typeface="Tahoma"/>
                </a:rPr>
                <a:t>activity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6248520" y="3353040"/>
              <a:ext cx="2152440" cy="703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ffcc00"/>
                  </a:solidFill>
                  <a:latin typeface="Arial"/>
                </a:rPr>
                <a:t>mortality</a:t>
              </a:r>
              <a:endParaRPr b="0" lang="en-US" sz="4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24080" y="342900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AutoShape 7"/>
            <p:cNvSpPr/>
            <p:nvPr/>
          </p:nvSpPr>
          <p:spPr>
            <a:xfrm rot="20229600">
              <a:off x="3352680" y="4495680"/>
              <a:ext cx="2667240" cy="68580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AutoShape 8"/>
            <p:cNvSpPr/>
            <p:nvPr/>
          </p:nvSpPr>
          <p:spPr>
            <a:xfrm>
              <a:off x="1600200" y="4648320"/>
              <a:ext cx="457200" cy="45720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ff00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Rectangle 9"/>
          <p:cNvSpPr/>
          <p:nvPr/>
        </p:nvSpPr>
        <p:spPr>
          <a:xfrm>
            <a:off x="4802040" y="5029200"/>
            <a:ext cx="322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confoun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Rectangle 10"/>
          <p:cNvSpPr/>
          <p:nvPr/>
        </p:nvSpPr>
        <p:spPr>
          <a:xfrm>
            <a:off x="457200" y="1295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A variable is a confounder if it is associated with the outcome of interest (death) and independently with the risk factor of interest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We are interested in the relationship between physical activity and CHD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Infant death. Smoking is also associated with CHD, and smoking and physical activity are associated with each other. Smoking is therefore a confounde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cc00"/>
                </a:solidFill>
                <a:latin typeface="Arial"/>
              </a:rPr>
              <a:t>of the relationship between physical activity and CHD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054800" y="609480"/>
            <a:ext cx="2454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onfoundin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acto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600200" y="2209680"/>
            <a:ext cx="3124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Restri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atch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Stratified analy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969696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ff"/>
                </a:solidFill>
                <a:latin typeface="Tahoma"/>
              </a:rPr>
              <a:t>Multiple regress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20" name="Picture 4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0"/>
          <p:cNvSpPr/>
          <p:nvPr/>
        </p:nvSpPr>
        <p:spPr>
          <a:xfrm>
            <a:off x="317520" y="720000"/>
            <a:ext cx="86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tching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AutoShape 11"/>
          <p:cNvSpPr/>
          <p:nvPr/>
        </p:nvSpPr>
        <p:spPr>
          <a:xfrm>
            <a:off x="43434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586728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7543800" y="365760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 avoid confounding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ge and se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difficult to analy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ossible to ‘overmatch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Assessing Causalit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atistically significant Odds Ratios show that there are associations between the risk factor (physical activity) and the disease (CHD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hey don’t prove this relationship is caus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240" y="120240"/>
            <a:ext cx="863748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Criteria for assessing causality</a:t>
            </a: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4400"/>
            </a:br>
            <a:r>
              <a:rPr b="0" lang="en-GB" sz="3600" spc="-1" strike="noStrike">
                <a:solidFill>
                  <a:srgbClr val="ffcc00"/>
                </a:solidFill>
                <a:latin typeface="Arial"/>
              </a:rPr>
              <a:t>(Bradford Hill)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xposure before onset of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Strength of associ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Independence from confoundi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in different populations with different levels of expos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onsistent with different studies in different setting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Dose-response relationshi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Biologically plausib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Evidence from animal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Removal of exposure reduces risk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Arial"/>
              </a:rPr>
              <a:t>Strength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Good for study of rare dise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Long latent perio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Can look at multiple risk factors for a single diseas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Arial"/>
              </a:rPr>
              <a:t>Quicker and cheaper than cohort studi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7"/>
          <p:cNvSpPr/>
          <p:nvPr/>
        </p:nvSpPr>
        <p:spPr>
          <a:xfrm>
            <a:off x="1984680" y="304920"/>
            <a:ext cx="456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Times New Roman"/>
              </a:rPr>
              <a:t>Case-control studi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imitations - summa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Inefficient for the evaluation of rare exposu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lection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easurement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call bi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ifficult to interpre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incidence rat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oes not provide ‘causation’, only associa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71600" y="205740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1371600" y="4876920"/>
            <a:ext cx="213372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Control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Picture 5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1598040" y="2743200"/>
            <a:ext cx="219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ith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294200" y="5486400"/>
            <a:ext cx="267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Withou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he 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udi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Arial"/>
              </a:rPr>
              <a:t>Differences between cohort studies and case-contro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ohorts – start with exposur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ase-controls – start with dise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Rectangle 1028"/>
          <p:cNvSpPr/>
          <p:nvPr/>
        </p:nvSpPr>
        <p:spPr>
          <a:xfrm>
            <a:off x="914400" y="289548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Line 1029"/>
          <p:cNvSpPr/>
          <p:nvPr/>
        </p:nvSpPr>
        <p:spPr>
          <a:xfrm>
            <a:off x="2514600" y="3276720"/>
            <a:ext cx="350532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030"/>
          <p:cNvSpPr/>
          <p:nvPr/>
        </p:nvSpPr>
        <p:spPr>
          <a:xfrm>
            <a:off x="6172200" y="289548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Rectangle 1031"/>
          <p:cNvSpPr/>
          <p:nvPr/>
        </p:nvSpPr>
        <p:spPr>
          <a:xfrm>
            <a:off x="1066680" y="5029200"/>
            <a:ext cx="137160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SEA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Rectangle 1033"/>
          <p:cNvSpPr/>
          <p:nvPr/>
        </p:nvSpPr>
        <p:spPr>
          <a:xfrm>
            <a:off x="6172200" y="5029200"/>
            <a:ext cx="1676520" cy="76212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POS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Line 1034"/>
          <p:cNvSpPr/>
          <p:nvPr/>
        </p:nvSpPr>
        <p:spPr>
          <a:xfrm>
            <a:off x="2590920" y="5486400"/>
            <a:ext cx="350496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art by defining a CAS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47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linical definition may be insuffici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of criteri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roducibil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ertainty of diagnosi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Proven, very likely, possib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verit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ild, Moderate, Sever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INCIDENT CASES (newly diagnos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27"/>
          <p:cNvSpPr/>
          <p:nvPr/>
        </p:nvSpPr>
        <p:spPr>
          <a:xfrm>
            <a:off x="1295280" y="2057400"/>
            <a:ext cx="22100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00"/>
                </a:solidFill>
                <a:latin typeface="Times New Roman"/>
              </a:rPr>
              <a:t>How man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1028"/>
          <p:cNvSpPr/>
          <p:nvPr/>
        </p:nvSpPr>
        <p:spPr>
          <a:xfrm>
            <a:off x="1295280" y="4876920"/>
            <a:ext cx="243864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00"/>
                </a:solidFill>
                <a:latin typeface="Times New Roman"/>
              </a:rPr>
              <a:t>How many controls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0" name="Picture 1029" descr="pe02719_"/>
          <p:cNvPicPr/>
          <p:nvPr/>
        </p:nvPicPr>
        <p:blipFill>
          <a:blip r:embed="rId1"/>
          <a:stretch/>
        </p:blipFill>
        <p:spPr>
          <a:xfrm>
            <a:off x="6934320" y="1905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30" descr="pe02719_"/>
          <p:cNvPicPr/>
          <p:nvPr/>
        </p:nvPicPr>
        <p:blipFill>
          <a:blip r:embed="rId2"/>
          <a:stretch/>
        </p:blipFill>
        <p:spPr>
          <a:xfrm>
            <a:off x="3733920" y="1981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34" descr="pe02716_"/>
          <p:cNvPicPr/>
          <p:nvPr/>
        </p:nvPicPr>
        <p:blipFill>
          <a:blip r:embed="rId3"/>
          <a:stretch/>
        </p:blipFill>
        <p:spPr>
          <a:xfrm>
            <a:off x="5181480" y="1976400"/>
            <a:ext cx="1744920" cy="1646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38" descr="pe02719_"/>
          <p:cNvPicPr/>
          <p:nvPr/>
        </p:nvPicPr>
        <p:blipFill>
          <a:blip r:embed="rId4"/>
          <a:stretch/>
        </p:blipFill>
        <p:spPr>
          <a:xfrm>
            <a:off x="6934320" y="419112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39" descr="pe02719_"/>
          <p:cNvPicPr/>
          <p:nvPr/>
        </p:nvPicPr>
        <p:blipFill>
          <a:blip r:embed="rId5"/>
          <a:stretch/>
        </p:blipFill>
        <p:spPr>
          <a:xfrm>
            <a:off x="3733920" y="4267080"/>
            <a:ext cx="1433520" cy="1387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40" descr="pe02716_"/>
          <p:cNvPicPr/>
          <p:nvPr/>
        </p:nvPicPr>
        <p:blipFill>
          <a:blip r:embed="rId6"/>
          <a:stretch/>
        </p:blipFill>
        <p:spPr>
          <a:xfrm>
            <a:off x="5181480" y="4262400"/>
            <a:ext cx="17449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842760"/>
            <a:ext cx="7683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How many cases and controls?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sed on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vailability of cases and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st the main risk factor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the prevalence of the risk factor in the contro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hat would be th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xpecte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valenc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of the risk factor in cas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pi-Info -  ask a statisticia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pected differen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762120" y="2286000"/>
          <a:ext cx="4797360" cy="25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479736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4"/>
          <p:cNvSpPr/>
          <p:nvPr/>
        </p:nvSpPr>
        <p:spPr>
          <a:xfrm>
            <a:off x="5924160" y="1717560"/>
            <a:ext cx="29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ontrol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tional statistic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th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alence in c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tera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evious stud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Key inform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mon sen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0" y="518148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Use epi-inf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Line 6"/>
          <p:cNvSpPr/>
          <p:nvPr/>
        </p:nvSpPr>
        <p:spPr>
          <a:xfrm>
            <a:off x="2819520" y="2514600"/>
            <a:ext cx="0" cy="144792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14:35:09Z</dcterms:created>
  <dc:creator>lcuevas</dc:creator>
  <dc:description/>
  <dc:language>en-US</dc:language>
  <cp:lastModifiedBy>Computing Services</cp:lastModifiedBy>
  <cp:lastPrinted>2006-01-24T10:39:16Z</cp:lastPrinted>
  <dcterms:modified xsi:type="dcterms:W3CDTF">2008-04-11T07:33:45Z</dcterms:modified>
  <cp:revision>34</cp:revision>
  <dc:subject/>
  <dc:title>No Slide Title</dc:title>
</cp:coreProperties>
</file>