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611-D56C-42FB-BF8E-A841C0E4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A6C-51ED-42F3-A703-8BD64CD8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5E0-095C-48EE-870F-B2786FFC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9D0-7DC1-4FDE-B6D8-FCB93BCF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07B-8482-47D7-A88A-0F3553AF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CAD-9716-4A9B-B732-15ADC678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F0D-4843-47AE-BF2F-F862C8C6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9C6-6106-442D-BBE6-B7201F69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924-E13E-4B40-B99A-09881AAC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8A8-0A31-4420-85BF-BF56AEF8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357-3D6B-435E-B5E2-CD5BE08C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808-EF70-46ED-84DE-326A323A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5DFF-33CF-4A51-945D-423D2A54A37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hort and longitudinal studies: stat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Kath Benn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logomariecurie"/>
          <p:cNvPicPr/>
          <p:nvPr/>
        </p:nvPicPr>
        <p:blipFill>
          <a:blip r:embed="rId1"/>
          <a:stretch/>
        </p:blipFill>
        <p:spPr>
          <a:xfrm>
            <a:off x="900000" y="47628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Case fatality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expressed as the percentage of persons diagnosed as having a specified disease who die as a result of that illness within a given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ometimes 30-day or 1 year case-fatality rates quo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ase-fatality rate is not the same as mortality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also referred to as fatality rate or case-fatality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tive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is ratio of 2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.e. (rate group 1)/(rate group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known as rate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, rate for CHD in men calculated as 1.76 per 1000 in 1995, and 0.483 per 1000 in wo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=1.76/0.483 =3.6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ortality from lung cancer by </a:t>
            </a:r>
            <a:br>
              <a:rPr sz="4400"/>
            </a:b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5-year age-ba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epimortlungcancer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Standardised 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Arial"/>
              </a:rPr>
              <a:t>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a standard population to which age-specific rates ar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y age-specific rates in pops A &amp;B by standard population then comp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-specific rates for populations 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applying age-specific rates for standard population to population of interest to determine ‘expec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ised Mortality Ratio (SM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Total Observed deaths / Total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-609480" y="1447920"/>
          <a:ext cx="10815480" cy="56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447920"/>
                    <a:ext cx="1081548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-457200" y="1579680"/>
          <a:ext cx="1037916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579680"/>
                    <a:ext cx="103791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-1446120" y="996840"/>
          <a:ext cx="1116324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6120" y="996840"/>
                    <a:ext cx="1116324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served 1781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 = 1781/2032.5 = 0.8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gt;1  more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lt;1 less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multiplied by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s of cohort stu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amingham study. Cohort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,209 men and women  in 1948 between the ages of 30 and 62 from the town of Framingham, Massachusetts, to examine CVD development, returning every two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ritish doctors study. Cohort of male doctors started in 1951 to examine smoking and related mortality (Doll and Hil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llion Women Study. Cohort of 1 million women asked about HRT use and followed up for cancer inc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197000"/>
          <a:ext cx="7127640" cy="54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298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ersons free of 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o not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0"/>
          <p:cNvSpPr/>
          <p:nvPr/>
        </p:nvSpPr>
        <p:spPr>
          <a:xfrm>
            <a:off x="1042920" y="189000"/>
            <a:ext cx="7416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from a cohort study are express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268360" y="7650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llow-up to see wh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7451640" y="2565360"/>
            <a:ext cx="18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exposed (IE)=a/a+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24720" y="400536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unexposed (IO)=c/c+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tatistical metho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valence, 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s, standardised rates, case fatality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lative rates/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ttributable risk and Attributable risk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gression and beta coeffic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ata from cohort studies are analyzed in terms of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Relative risk (RR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cidence rate in the exposed group (IE)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 rate in the non-exposed group (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higher than 1 imply that the factor under study is associated with an increased risk of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lower than 1 imply that the factor is  associated with a decreased risk of disea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gnitude of the relative risk indicates the strength of the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36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ttributable Ris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implies that not all of the disease incidence is due to the exposure, as some nonexposed individuals may develop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 (Incidence in nonexposed group) =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"background incidenc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 (Incidence in exposed group) = ”background incidence”+ Incidence due to the exposu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incidence in the exposed group which is attributable to the exposure can be calculated by subtrac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(AR): AR = IE – 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ttributable risk percent: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1413000"/>
            <a:ext cx="8820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ercentage of the total incidence in the exposed group which is attributable to the exposure can be calcul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E - I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 1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cut also = (RR-1)/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7164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opulation is not all expo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ases per 1000 population are   attributable to the expos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know the Incidence in the total population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(1-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the Prevale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 expo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=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 X 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op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portion of the risk in the total population is attribu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%,PAR%, P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ominator is the risk in the total population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The numerator is the “extra” risk (PAR) whi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)/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/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+1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Example: Cohort study of smoking and coronary heart dis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Verdana"/>
              </a:rPr>
              <a:t>Cohort of initially healthy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n't 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4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916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3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n-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913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Smokers = 84/3000 = 28.0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 = 87/5000 = 17.4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R 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Incidence in 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28.0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1.6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17.4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Example: Attributable ri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(incidence in exposed group attributable to the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Incidence in Smokers - Incidence in Non-Smo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8.0 - 17.4 = 10.6/1000/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%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% total incidence in exposed grp attributable to expo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cidence in Smokers - 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x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 in Sm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(28.0 - 17.4)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10.6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 = 37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7.9% of the morbidity from CHD among smokers may be attributable to smo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: Population AR (PAR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 X 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prevalence of smoking in the population is 4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alculat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-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= 21.6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6/1000 – 17.4/1000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= AR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(10.6/1000)X 0.4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[(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(21.6-17.4)/21.6 = 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R%=(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 /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+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.4*(1.6-1)/[0.4*(1.6-1)+1]=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ethods to account for varying lengths of follow-up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participants may enter or leave the study at various times due to death, emmigration or loss to follow-up, the time of observation is usually not uniform. This is accounted for by mai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Person - years of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Life - tabl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urvival analysis, Cox proportion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evalence is the </a:t>
            </a:r>
            <a:r>
              <a:rPr b="0" i="1" lang="en-IE" sz="3200" spc="-1" strike="noStrike">
                <a:solidFill>
                  <a:srgbClr val="ffffff"/>
                </a:solidFill>
                <a:latin typeface="Arial"/>
              </a:rPr>
              <a:t>proportion of a population that are cases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existing cases with disease/on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population in same tim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.g birth defect prevalence rat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births with given abnor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number of live bir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447920" y="38862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295280" y="59436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Is the linear relationship reason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broad terms, regression can be thought of as a statistical model which is used to help us get the ‘best gues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ormally, we assume that there is an underlying linear relationship between the variables, and our observations lie scattered about tha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actual value of ‘Y’ is ‘scattered’ about the expected or predicted value of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Linear Mode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345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Line is ‘best’ fit in statistical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catter is called 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idual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vari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648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equation of a line can be writte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E[Y] = a + b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 = intercept (where line cuts Y ax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b = slope of the line (can be +ve or –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oftware fits the ‘best guess’ for a and 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4437000"/>
            <a:ext cx="867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egression Analysis: Leaving versus 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eaving = </a:t>
            </a:r>
            <a:r>
              <a:rPr b="1" lang="en-GB" sz="1800" spc="-1" strike="noStrike">
                <a:solidFill>
                  <a:srgbClr val="00cc99"/>
                </a:solidFill>
                <a:latin typeface="Courier New"/>
              </a:rPr>
              <a:t>7.75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GB" sz="1800" spc="-1" strike="noStrike">
                <a:solidFill>
                  <a:srgbClr val="ff7c80"/>
                </a:solidFill>
                <a:latin typeface="Courier New"/>
              </a:rPr>
              <a:t>0.817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edictor        Coef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S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      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Constant        7.749       3.122       2.48    0.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          0.81749     0.04284      19.08    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s there an effect of ge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at is can one consider different lines for red and bl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hould these lines be parallel or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hat about ‘adjusting’ for other covariates such as age or ‘intelligence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ore than one variable = multiple linear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cidence is the 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rate at which new cases occur in a population during a specified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new cases/starting on therapy i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tion at risk in give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Bacteremia among OC users in study of 482 using OC, 27 developed bacte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= (27/482)*100=5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3357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ter-relation between incidence and preval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alence = incidence* average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 commonly used in epidem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ccff"/>
                </a:solidFill>
                <a:latin typeface="Arial"/>
              </a:rPr>
              <a:t>Crud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ntire population eg. Total deaths/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Category specif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age-specific, gender-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Cancer rates by age-category, 35-44, 45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Age-adjus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tandardis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for appropriate comparison when differing populations being studies. Reduces distortions in comparison due to age differences in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to quantify the risk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ator is numb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ominato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at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-years at risk or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ually presented as per 1000 persons or 1000 person-years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d the disease/event occurs randomly and independently, reasonable to assume follow Poiss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imated standard error of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(rate)=number of events /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number events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+1)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e number of deaths from CHD in Scottish men in 1995 was 1080, total population of men 61295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 of CHD deaths per 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80/612955)*1000 = 1.7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number of death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0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16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1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14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rate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16.55/612955 , 1146.4/6129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.66, 1.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4:33:02Z</dcterms:created>
  <dc:creator>bmaguire</dc:creator>
  <dc:description/>
  <dc:language>en-US</dc:language>
  <cp:lastModifiedBy>Computing Services</cp:lastModifiedBy>
  <dcterms:modified xsi:type="dcterms:W3CDTF">2008-04-10T12:31:18Z</dcterms:modified>
  <cp:revision>77</cp:revision>
  <dc:subject/>
  <dc:title>Trial design</dc:title>
</cp:coreProperties>
</file>