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6ABD-FE98-4E0A-BBBD-7D8A319F41C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04FF-E0D0-43C3-BB26-7E07734E3E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B076-047F-4EE3-9A02-7C4922F55D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70E0A-59CA-47F9-BC13-D801C46DE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C993A-BACE-4BE6-9B97-6144BA353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131E3-E7B3-4324-A19F-6C8281CA8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98336-AC9B-4C92-84B7-E35B427FC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5E3AE-8705-4112-BC8E-8C7D6A884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DB3C-D87C-452C-A1D5-0FB8670A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3F1C2-EFEE-4BC1-982B-F1B1300FB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EE995-E19B-42B5-ADF4-430ADB34B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97C74-7A63-471E-ADA1-69B36D490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998C-F3BF-4F57-89A9-B19290247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F4D69-6A69-4087-B98C-A22429945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C65B9-0499-4E4D-9717-422ABD340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DB4C-A2A3-4939-AF3E-FC866074CA03}" type="datetime">
              <a:rPr b="0" lang="en-US" sz="1200" spc="-1" strike="noStrike">
                <a:solidFill>
                  <a:srgbClr val="ffffff"/>
                </a:solidFill>
                <a:latin typeface="Times New Roman"/>
              </a:rPr>
              <a:t>07/28/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10AF-FD36-4056-BF2A-7EFFBD11C33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