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E25D-9D7A-422D-A1EB-5B84C449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DBB-A636-4F75-970C-CD691AD9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9CE7-C5E5-4C8C-ABFD-D2221F04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66F-FB63-40F1-971E-68861D5C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9341-2464-41BC-9209-1E8D1E85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EE38-9241-430B-BFB0-57085052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B68F-41F1-425F-B549-C24BA603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ED24-80AB-487F-BDF7-658D5799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3EA4-4FFC-455D-A79A-58BA71E9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524B-3905-4629-8F4B-AEF70903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F40C-F6A7-4AB8-B277-F91A334C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637-BC4C-40CD-939D-057E016C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A4E8-133E-465F-B4CF-4FE7F447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DF25-E3FE-4C90-A193-054A5B3D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4B69-59BE-4EB6-89F0-F7697E19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5418-EA34-4497-AD6F-1EC54DD2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EB18-6B6B-46BC-8D70-68BA34CC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2B72-40EE-42A4-99A2-AF569118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0A4F-F8D0-4589-9AA5-E4A721E1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6111-B62E-4716-AC50-AA4ECA84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D8F-BC02-41FC-AEEC-2B3CC79A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74FE-2D5A-4A86-9D57-D952A3CB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1BC-C4FC-43B3-ABF2-8B0CA704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41A9-8545-410C-A0C2-ADDD1D8D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2C9A-FF0D-4B57-9CA6-58106773E9A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F122-0235-4F96-90B6-824C646D81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-6480" y="566640"/>
            <a:ext cx="9156960" cy="5919840"/>
            <a:chOff x="-6480" y="566640"/>
            <a:chExt cx="9156960" cy="591984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-6480" y="56664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" name="Picture 7" descr="EMRM-042"/>
          <p:cNvPicPr/>
          <p:nvPr/>
        </p:nvPicPr>
        <p:blipFill>
          <a:blip r:embed="rId4"/>
          <a:stretch/>
        </p:blipFill>
        <p:spPr>
          <a:xfrm>
            <a:off x="7162920" y="5835600"/>
            <a:ext cx="1981080" cy="10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Line 9"/>
          <p:cNvSpPr/>
          <p:nvPr/>
        </p:nvSpPr>
        <p:spPr>
          <a:xfrm>
            <a:off x="2209680" y="6324480"/>
            <a:ext cx="4953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0" descr="LogoE"/>
          <p:cNvPicPr/>
          <p:nvPr/>
        </p:nvPicPr>
        <p:blipFill>
          <a:blip r:embed="rId5">
            <a:lum bright="100000"/>
          </a:blip>
          <a:stretch/>
        </p:blipFill>
        <p:spPr>
          <a:xfrm>
            <a:off x="0" y="5927760"/>
            <a:ext cx="2209680" cy="85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438E-BF17-4DCC-9DFC-FFC698A9D3E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D7A8-EE34-48E3-832D-1F5523D99B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le 1"/>
          <p:cNvSpPr/>
          <p:nvPr/>
        </p:nvSpPr>
        <p:spPr>
          <a:xfrm>
            <a:off x="304920" y="114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pacity Building Work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 with Special Application to Non-Communicable Diseas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44197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O – EM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iro, Egypt, 16-18 December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orkshop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the Workshop is to build national research capacities in the area of Economic Evaluation of health program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the end of the workshop, you will be able 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fundamenta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guish the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yp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ble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Evaluation results to aid priorit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914400"/>
          <a:ext cx="9144000" cy="6188040"/>
        </p:xfrm>
        <a:graphic>
          <a:graphicData uri="http://schemas.openxmlformats.org/drawingml/2006/table">
            <a:tbl>
              <a:tblPr/>
              <a:tblGrid>
                <a:gridCol w="1392120"/>
                <a:gridCol w="3484800"/>
                <a:gridCol w="2133360"/>
                <a:gridCol w="93960"/>
                <a:gridCol w="2039760"/>
              </a:tblGrid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8:30-10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eneral introduction to Health Economic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E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B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0:30-11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1:00-13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ntroduction to Economic Evalu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E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B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3:00-14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ch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4:00-15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U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lenary Discuss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&amp;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los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5:30-16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6:00-17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 on 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U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4" name="Rectangle 7"/>
          <p:cNvSpPr/>
          <p:nvPr/>
        </p:nvSpPr>
        <p:spPr>
          <a:xfrm>
            <a:off x="0" y="914400"/>
            <a:ext cx="9144000" cy="6019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matariaa</cp:lastModifiedBy>
  <dcterms:modified xsi:type="dcterms:W3CDTF">2012-12-16T05:57:58Z</dcterms:modified>
  <cp:revision>535</cp:revision>
  <dc:subject/>
  <dc:title>Slide 1</dc:title>
</cp:coreProperties>
</file>