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C6C-413D-4804-A207-776515BA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AD3-3C3D-4327-A952-625D17A2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ADC0-3CDD-42B7-A455-2A476A6C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CF7-A27B-4BC9-88B5-4B8A6D18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8654-A2A0-44DB-8622-0434B809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7467-9B12-42C2-9FA9-979937C7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34A7-C367-40B3-9864-654D7D44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7508-E0AA-4B4B-B422-80CCCA1E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E3DA-72EA-432B-A2BB-F50FC641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E864-52D7-4A86-88E1-240843EA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AD4C-5578-46AF-B804-896EB022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5732-F586-43A8-9103-0A240F05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D1E9-CE39-44AC-9767-86DF6CEA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EAF4-DD6D-4E52-864B-287C750C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280C-A5DD-4CAB-AC6C-B7CA4926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236E-8C09-431D-AD34-C1A1AE71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AC06-1546-4F90-A465-B8F668BC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A03-A59C-4C94-A0D3-0E4A243B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AEE0-1314-4901-A0C8-6D057E21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BED-ECB8-4E5C-9270-B8506F1A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72D9-3AC1-42CC-A6D1-80976980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9E3-58F1-40BD-B02A-7B08A8E0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8604-524C-4852-A6DD-DAF13930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5E7-7892-4930-A2AD-A07526A6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17E5-90EF-4BF9-B828-CEAA46A20C9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083F-9298-4CD7-9B3A-17AB2788F7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-6480" y="566640"/>
            <a:ext cx="9156960" cy="5919840"/>
            <a:chOff x="-6480" y="566640"/>
            <a:chExt cx="9156960" cy="591984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-6480" y="56664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" name="Picture 7" descr="EMRM-042"/>
          <p:cNvPicPr/>
          <p:nvPr/>
        </p:nvPicPr>
        <p:blipFill>
          <a:blip r:embed="rId4"/>
          <a:stretch/>
        </p:blipFill>
        <p:spPr>
          <a:xfrm>
            <a:off x="7162920" y="5835600"/>
            <a:ext cx="1981080" cy="10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Line 9"/>
          <p:cNvSpPr/>
          <p:nvPr/>
        </p:nvSpPr>
        <p:spPr>
          <a:xfrm>
            <a:off x="2209680" y="6324480"/>
            <a:ext cx="4953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0" descr="LogoE"/>
          <p:cNvPicPr/>
          <p:nvPr/>
        </p:nvPicPr>
        <p:blipFill>
          <a:blip r:embed="rId5">
            <a:lum bright="100000"/>
          </a:blip>
          <a:stretch/>
        </p:blipFill>
        <p:spPr>
          <a:xfrm>
            <a:off x="0" y="5927760"/>
            <a:ext cx="2209680" cy="85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26B0-13EB-4BDC-B705-8B936DE8B0F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9390-509B-4780-B3D2-82BF659878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le 1"/>
          <p:cNvSpPr/>
          <p:nvPr/>
        </p:nvSpPr>
        <p:spPr>
          <a:xfrm>
            <a:off x="304920" y="114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pacity Building Work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 with Special Application to Non-Communicable Diseas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44197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O – EM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iro, Egypt, 16-18 December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orkshop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the Workshop is to build national research capacities in the area of Economic Evaluation of health program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the end of the workshop, you will be able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fundamenta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 the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yp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ble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Evaluation results to aid priorit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914400"/>
          <a:ext cx="9144000" cy="6188040"/>
        </p:xfrm>
        <a:graphic>
          <a:graphicData uri="http://schemas.openxmlformats.org/drawingml/2006/table">
            <a:tbl>
              <a:tblPr/>
              <a:tblGrid>
                <a:gridCol w="1392120"/>
                <a:gridCol w="3484800"/>
                <a:gridCol w="2133360"/>
                <a:gridCol w="93960"/>
                <a:gridCol w="2039760"/>
              </a:tblGrid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8:30-10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eneral introduction to Health Economic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E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B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0:30-11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1:00-13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ntroduction to Economic Evalu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E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B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3:00-14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ch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4:00-15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U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lenary Discuss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&amp;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los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5:30-16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6:00-17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 on 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U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4" name="Rectangle 7"/>
          <p:cNvSpPr/>
          <p:nvPr/>
        </p:nvSpPr>
        <p:spPr>
          <a:xfrm>
            <a:off x="0" y="914400"/>
            <a:ext cx="9144000" cy="6019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matariaa</cp:lastModifiedBy>
  <dcterms:modified xsi:type="dcterms:W3CDTF">2012-12-16T05:57:58Z</dcterms:modified>
  <cp:revision>535</cp:revision>
  <dc:subject/>
  <dc:title>Slide 1</dc:title>
</cp:coreProperties>
</file>