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CDE3-E24C-423B-B658-F5826DB4B3C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E7F3-DCD2-4275-8D6D-4E7668BD23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3E7E-AAF0-47CD-95AC-4497D9B986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89E8-BD0C-414E-A8B0-D22B6AF9B4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0996-0BB1-4C76-AE4E-5E5771C422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6A33-80F1-4331-98B2-094BD638A0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8205-BC92-49DF-9BC4-A4454684CD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07B2-917C-40AF-85B8-6D701316B2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302D-3E7E-4233-A4B5-CA0FE04661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611C-1F6B-4545-AFF5-59DFCE57CE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7DC9-FDEF-44F6-BC22-166D1A60BD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6BF7-5767-44E3-AEA3-AD076DA0F7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ACE5-3D72-4BBB-8572-08A400979B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E598-E2C2-4B95-81C8-01D3AB332E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6213-CDB4-4347-8253-4F88099DC1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E1DC-4C3A-48EA-8B1D-3614B26E77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22FC-8524-423D-AE2C-B163EAD157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1E2B-7EF2-4F39-B0B3-3AC7A64189D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F1DE-7539-4A88-A1E9-8208EF2BE8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CF81-92FE-4249-91AA-66471BA805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B3F1-B4F2-4E7D-8062-FF711AB241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F24F-4685-4683-A056-08006F216F5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30B1-8191-4EFD-B158-1DBCA07C7F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59A5-CB6D-49E3-A231-83EF28271B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874A-B82A-4FED-9313-F1E39F71625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963D-36BE-4013-AC21-CA5DA693721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B376-6576-4DFA-A0B4-5CDEB700F1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E42B-ECCA-464C-9B8C-A25AA08AA9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3C95B-ED07-41C0-B25F-A956CF817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1F6EE-A89F-431A-9918-F7F4514F4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046C8-AFE8-4C20-9E99-5F41BA57D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F3E66-E451-404E-A010-72B96FD71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49E30-EB3A-4D79-AB1B-D6F69E61B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42B2E-52DB-4CC2-B0C3-BFA163D97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30BC2-2A1B-436B-A865-2B32E31FF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E26E8-4414-4D6C-BFE4-2E3AFD245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9FD27-65B6-4A17-950C-B1D773F48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BCE80-37BB-443F-9095-DE3B5E718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05236-E2C5-4579-ABBD-A85B702DD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15060-2FAF-4B42-A367-AABF599C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C0C21-0A35-4889-93FD-76E4D5779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EF450-A050-487D-AEEE-62E63B206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88137-EC48-45CC-A242-499866ABD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32E94-E921-48DF-8DD8-9B8D8C5BD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1C694-3073-435A-87E0-F0A6ECBC1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01C714-BB62-4FE4-9215-AD8278AF44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08901537-A160-4903-B6F5-E47787BFD6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602FFCC4-F814-47D2-AA3C-272D243F1D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EB08CFB0-D676-4095-8275-048356F603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66C54BE0-EFC7-47BF-A417-0C1DE2DA5C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5CECB-AB94-4382-9487-B5F2AA0E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095BCBF3-786B-4A29-9ECB-FA40737C07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995ED61A-BC87-4610-993C-5C9F45254F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60693C82-C741-4A13-889C-8478B00EAB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E016F015-DD0A-4326-A9D4-2411DDCA3D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AE439932-700E-4951-830A-3E6BFE7FE5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7E4E69DB-9699-4E91-83BC-BACD01F3FA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78B1F831-7A60-4864-8AAD-CB4274F31C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76840DF-3D29-4666-8723-34F133D1420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37EBE5A-CAC6-4C56-85D2-095EAD2708B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E931616-9F98-4CB2-9978-1D9528DF46F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61004-6FD2-43B2-8DBD-0DF22767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CBA480A-9910-4809-9E6D-CB5912197D8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9EE9668-2BC6-4A29-9765-C97BF5064EA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28233A6-E5F1-4898-AF0B-775B3924426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53C2A6-E63F-4FEA-9A64-DC6ACDE1577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F551F5-1B83-45E1-960C-22CBC20B1C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00C181-B70D-4459-A156-7736A5491FE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7329C57-CC2B-4672-A0E2-6E43FD8BD9C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2455056-4967-4999-B1C8-C925E6C3FBF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7934D47-5460-4E43-B39A-009EAF649CB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3B8BB98-378C-4D92-A0A6-2F41C6A86D4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EAB7D-CD71-415D-B82A-26C15532A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BA31887-B3FA-4CFB-BA54-699D987B4A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1DFA7A-BDE6-4D36-A15C-38CC18F280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5242016-6670-48A6-97FA-C185648EE9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D429D7-00DB-4F4F-8B54-01F9A1D0935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0325761-8805-49BA-B896-8C0F74CC7BD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34FEECB-996A-4753-9D38-3C2D10D6AC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5F589F-DBC5-4BE2-A239-383988D768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85ED4C-36DE-49FF-BF3C-E1CF1C4F74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BB311F3-9D82-4192-A0F7-02F23635EF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6EEA260-F053-49C0-8F3E-12A7B0FD909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D847F-42D7-4C6C-8EAF-49D8C5D7E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5DA2F41-D462-4363-894D-05F247DBC6D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A392-EC0F-4CEE-833A-C10A3F890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17B8-C588-476C-BF62-74E133FD7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877A-F08E-46B5-B79C-728D9F231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13FA-9216-45E5-9757-B15D840438E3}"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B54D-94AF-421E-9033-BDF319CBA87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1B97-C391-4104-AEA3-9071ECBAE7C6}" type="datetime">
              <a:rPr b="0" lang="en-US" sz="1200" spc="-1" strike="noStrike">
                <a:solidFill>
                  <a:srgbClr val="ffffff"/>
                </a:solidFill>
                <a:latin typeface="Times New Roman"/>
              </a:rPr>
              <a:t>07/30/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1290-CDD7-4450-BD22-6E7F79FE619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EC4B-3C54-45DE-8D62-3AED2A20FB5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3485-3CBE-4123-9B8A-D74FC7A94E2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FBDD-EF73-4973-AE92-64C22F3E22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CDB7-921A-4E7F-9CEE-41A2870932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D649-AF39-46FA-A218-6B707437C1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0422-5F36-42F0-909D-D0DE5BC56E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4219-3101-4FCF-8D0A-848D0DA60C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DA2C-C7BB-45F6-8698-0CAB41010F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AF6C-6B23-46B9-B2F1-A06FE0B1E9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4C6E-EA81-4A88-9BF4-BF03628B71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