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ED79-5121-489D-A0E4-7315061BA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114F-C399-43CB-BE09-19CF963C0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47B0-6214-47FA-853E-E0EE6BE28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C957-D438-4A91-B04E-C44A9CA31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A35D8-9F20-4A9E-971B-0C3EDBFEE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ACF49-4415-4E82-8C1B-F59AF1B12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66848-B6CB-4E8C-AA86-2DEC784EC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16F52-3E7B-4C7A-8A9E-CD7B2493E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688FF-8629-43B5-A509-271EB785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152B5-F3DE-473D-9709-95E80FA43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7A2E5-E9B0-467D-9779-705E42BA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70E4-1146-44A6-867E-9A018D55E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62120-FDCF-4017-AD0C-30A6002F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8A263-5B1F-43A8-B78E-040BEB9E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BABEB-BA3E-4978-B99D-27909B5D6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1FB70-E734-477F-8A8A-444A0FECF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97984-7AE0-4C37-B773-1CF800721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9B60-02E3-4F68-B346-B15CD2929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3B82-B91C-4C21-A0C1-C8477AB2E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2D27-D1EB-44BC-97E7-6C1BF869E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8F64-7BC7-4E76-9680-F4CF34D33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C917-E88C-4454-B47E-DC23C7E1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5B49-BDA9-4E60-9E1B-1F580F98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48DF-A217-4919-9AFE-18F571F9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B127A-E536-40D7-8BE1-969D937AA692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ategic directions to improve health care financing in the Reg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573F3-1BAE-42FB-A289-75F10A88163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Flowchart: Document 6"/>
          <p:cNvGrpSpPr/>
          <p:nvPr/>
        </p:nvGrpSpPr>
        <p:grpSpPr>
          <a:xfrm>
            <a:off x="-6480" y="566640"/>
            <a:ext cx="9156960" cy="5919840"/>
            <a:chOff x="-6480" y="566640"/>
            <a:chExt cx="9156960" cy="5919840"/>
          </a:xfrm>
        </p:grpSpPr>
        <p:pic>
          <p:nvPicPr>
            <p:cNvPr id="42" name="Flowchart: Document 6" descr=""/>
            <p:cNvPicPr/>
            <p:nvPr/>
          </p:nvPicPr>
          <p:blipFill>
            <a:blip r:embed="rId2"/>
            <a:stretch/>
          </p:blipFill>
          <p:spPr>
            <a:xfrm>
              <a:off x="-6480" y="566640"/>
              <a:ext cx="9156960" cy="591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 rot="10800000">
              <a:off x="0" y="914040"/>
              <a:ext cx="914400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" name="Flowchart: Document 7"/>
          <p:cNvGrpSpPr/>
          <p:nvPr/>
        </p:nvGrpSpPr>
        <p:grpSpPr>
          <a:xfrm>
            <a:off x="-6480" y="981000"/>
            <a:ext cx="9156960" cy="4846680"/>
            <a:chOff x="-6480" y="981000"/>
            <a:chExt cx="9156960" cy="4846680"/>
          </a:xfrm>
        </p:grpSpPr>
        <p:pic>
          <p:nvPicPr>
            <p:cNvPr id="45" name="Flowchart: Document 7" descr=""/>
            <p:cNvPicPr/>
            <p:nvPr/>
          </p:nvPicPr>
          <p:blipFill>
            <a:blip r:embed="rId3"/>
            <a:stretch/>
          </p:blipFill>
          <p:spPr>
            <a:xfrm>
              <a:off x="-6480" y="981000"/>
              <a:ext cx="9156960" cy="484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 rot="10800000">
              <a:off x="0" y="1341000"/>
              <a:ext cx="9144000" cy="44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7" name="Picture 7" descr="EMRM-042"/>
          <p:cNvPicPr/>
          <p:nvPr/>
        </p:nvPicPr>
        <p:blipFill>
          <a:blip r:embed="rId4"/>
          <a:stretch/>
        </p:blipFill>
        <p:spPr>
          <a:xfrm>
            <a:off x="7162920" y="5835600"/>
            <a:ext cx="1981080" cy="10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8" name="Line 9"/>
          <p:cNvSpPr/>
          <p:nvPr/>
        </p:nvSpPr>
        <p:spPr>
          <a:xfrm>
            <a:off x="2209680" y="6324480"/>
            <a:ext cx="4953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10" descr="LogoE"/>
          <p:cNvPicPr/>
          <p:nvPr/>
        </p:nvPicPr>
        <p:blipFill>
          <a:blip r:embed="rId5">
            <a:lum bright="100000"/>
          </a:blip>
          <a:stretch/>
        </p:blipFill>
        <p:spPr>
          <a:xfrm>
            <a:off x="0" y="5927760"/>
            <a:ext cx="2209680" cy="853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41280-3A52-49AB-97FF-11CBADA51C2F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ategic directions to improve health care financing in the Reg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0DF77-7D87-4D32-BC46-6C94B8E9BBA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itle 1"/>
          <p:cNvSpPr/>
          <p:nvPr/>
        </p:nvSpPr>
        <p:spPr>
          <a:xfrm>
            <a:off x="304920" y="114300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apacity Building Worksho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Introduction to Economic Evaluation with Special Application to Non-Communicable Diseases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228600" y="441972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HO – EMR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airo, Egypt, 16-18 December 201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orkshop Objectiv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urpos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of the Workshop is to build national research capacities in the area of Economic Evaluation of health programs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y the end of the workshop, you will be able to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00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the fundamental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purpos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economic evaluatio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00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inguish the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types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Economic Evaluatio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00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able to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us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onomic Evaluation results to aid priority se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0" y="914400"/>
          <a:ext cx="9144000" cy="6188040"/>
        </p:xfrm>
        <a:graphic>
          <a:graphicData uri="http://schemas.openxmlformats.org/drawingml/2006/table">
            <a:tbl>
              <a:tblPr/>
              <a:tblGrid>
                <a:gridCol w="1392120"/>
                <a:gridCol w="3484800"/>
                <a:gridCol w="2133360"/>
                <a:gridCol w="93960"/>
                <a:gridCol w="2039760"/>
              </a:tblGrid>
              <a:tr h="560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Tim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ay 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ay 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ay 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19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8:30-10: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General introduction to Health Economics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E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B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1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0:30-11: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ffee Break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9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1:00-13: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Introduction to Economic Evaluation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Exercis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on CE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Exercis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on CB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0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3:00-14: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unch Break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8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4:00-15: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ost Analysis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U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Plenary Discussion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&amp;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losur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5:30-16: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ffee Break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5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6:00-17: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Exercise on Cost Analysis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Exercis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on CU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4" name="Rectangle 7"/>
          <p:cNvSpPr/>
          <p:nvPr/>
        </p:nvSpPr>
        <p:spPr>
          <a:xfrm>
            <a:off x="0" y="914400"/>
            <a:ext cx="9144000" cy="60199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gend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5T06:14:48Z</dcterms:created>
  <dc:creator>awahabs</dc:creator>
  <dc:description/>
  <dc:language>en-US</dc:language>
  <cp:lastModifiedBy>matariaa</cp:lastModifiedBy>
  <dcterms:modified xsi:type="dcterms:W3CDTF">2012-12-16T05:57:58Z</dcterms:modified>
  <cp:revision>535</cp:revision>
  <dc:subject/>
  <dc:title>Slide 1</dc:title>
</cp:coreProperties>
</file>