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80C3-A092-4AD9-B785-A4E52367A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C09D-0E12-46C3-BAA6-2B69F1B1A0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AF06-469A-4F98-AF7F-DCA8C8ADD4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7964-8BA2-4A8C-8C66-2B431E93B2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5FC0-C650-4859-8104-5E3DCEB09A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32E6-38FC-4411-8D26-3A7DF8CD3B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9E4F-3439-4013-B5E0-A62F88126F9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05CD-E837-467C-8142-C82D74754E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1FDC-70DC-4D8B-83C1-8C4A72FE74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ECB9-7C89-4AD9-81CE-B70661FF84B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95F5-8B14-4162-A085-22B103A0A0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9C77-25C3-4094-AF36-E75A031E02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D281-53A6-4F91-B4D6-DEA6891962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E8FF-E9B6-4D39-99DF-1E125EC1DB8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C74C-60E6-41C0-8462-DC68A247E66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2A88-56CB-4FCD-BF1A-FD546610FA5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795C-9E6B-4BD0-AEEB-9DA335876D2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36CD-BC47-4318-A6DE-D71843DE95D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3E91-BF28-45CC-84A2-BEFC36D47F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6350-736F-4C19-9AD9-42C776A437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8AB3-94FA-42DE-899F-5E857169A3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27F2-9C06-4770-A8FB-8A51E0ABFAD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DB21-9259-4ABB-8D6F-F8149F11E9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3984-CF10-4554-94B0-5EA7799BD5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40D7-F0DD-407B-93B5-6D1CFECCAC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6FD2-9323-45EA-878F-D79263D4B7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892A-5F26-4AFB-9CC1-1435C035A2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8161-9673-4B59-B159-337E04A889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432F-702E-43F2-9566-5A24AD8CF6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9226-5498-4992-B6EB-FF93A40185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5103-9F24-4D61-8BB0-FB9B3F7E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7015-ED4E-41C5-BF4C-5DB5F429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9337-0E04-4100-9CD7-FFC73828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2A3D-EA21-40D3-94F6-96C6D82B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CF48-BB08-401A-B954-1360638F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1C2-27D0-49F5-9B99-14EDAD9A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996-49A0-4084-8992-C251DD28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F84-F794-4986-AD77-00B59783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BF94-D9C4-4B86-8D66-B9AFDC4B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3B02-2F8A-479D-9274-06FD78AC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956C-4F1A-46EE-A90A-3F0C0EF5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24A8-F336-4075-AD87-1D574B96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4588-BA3C-4CA3-8A99-A244F04E042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216E-404B-4565-ACE9-0BEB1E1D33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26668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eighing Costs &amp; Consequences!!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cale can compare apples and oranges because both are measured by the same unit (e.g., K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icult to find a common unit to measure health consequences and cost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bs01997_"/>
          <p:cNvPicPr/>
          <p:nvPr/>
        </p:nvPicPr>
        <p:blipFill>
          <a:blip r:embed="rId1"/>
          <a:stretch/>
        </p:blipFill>
        <p:spPr>
          <a:xfrm>
            <a:off x="457200" y="1814400"/>
            <a:ext cx="40356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69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1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2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3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80880" y="14479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6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0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7162920" y="32004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Y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QAL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olla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7"/>
          <p:cNvSpPr/>
          <p:nvPr/>
        </p:nvSpPr>
        <p:spPr>
          <a:xfrm>
            <a:off x="2590920" y="32767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TINGI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8"/>
          <p:cNvSpPr/>
          <p:nvPr/>
        </p:nvSpPr>
        <p:spPr>
          <a:xfrm>
            <a:off x="7162920" y="3200400"/>
            <a:ext cx="106668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9"/>
          <p:cNvSpPr/>
          <p:nvPr/>
        </p:nvSpPr>
        <p:spPr>
          <a:xfrm>
            <a:off x="2514600" y="3276720"/>
            <a:ext cx="16002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60"/>
          <p:cNvSpPr/>
          <p:nvPr/>
        </p:nvSpPr>
        <p:spPr>
          <a:xfrm rot="2851200">
            <a:off x="2971440" y="281916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61"/>
          <p:cNvSpPr/>
          <p:nvPr/>
        </p:nvSpPr>
        <p:spPr>
          <a:xfrm rot="18975000">
            <a:off x="2895480" y="4267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62"/>
          <p:cNvSpPr/>
          <p:nvPr/>
        </p:nvSpPr>
        <p:spPr>
          <a:xfrm rot="10800000">
            <a:off x="7543800" y="42667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63"/>
          <p:cNvSpPr/>
          <p:nvPr/>
        </p:nvSpPr>
        <p:spPr>
          <a:xfrm>
            <a:off x="7467480" y="2209680"/>
            <a:ext cx="381240" cy="7621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sic task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320" y="2895480"/>
          <a:ext cx="8991360" cy="1295640"/>
        </p:xfrm>
        <a:graphic>
          <a:graphicData uri="http://schemas.openxmlformats.org/drawingml/2006/table">
            <a:tbl>
              <a:tblPr/>
              <a:tblGrid>
                <a:gridCol w="1523880"/>
                <a:gridCol w="1012680"/>
                <a:gridCol w="1578240"/>
                <a:gridCol w="1033200"/>
                <a:gridCol w="1306800"/>
                <a:gridCol w="784080"/>
                <a:gridCol w="1752480"/>
              </a:tblGrid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91" name="AutoShape 33"/>
          <p:cNvCxnSpPr/>
          <p:nvPr/>
        </p:nvCxnSpPr>
        <p:spPr>
          <a:xfrm>
            <a:off x="1599840" y="3543120"/>
            <a:ext cx="1013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2" name="AutoShape 34"/>
          <p:cNvCxnSpPr/>
          <p:nvPr/>
        </p:nvCxnSpPr>
        <p:spPr>
          <a:xfrm>
            <a:off x="4191120" y="3543120"/>
            <a:ext cx="103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3" name="AutoShape 35"/>
          <p:cNvCxnSpPr/>
          <p:nvPr/>
        </p:nvCxnSpPr>
        <p:spPr>
          <a:xfrm>
            <a:off x="6531120" y="3543120"/>
            <a:ext cx="7848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does FULL economic evaluation mean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wo features of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deals with both INPUTS and OUTPUTS (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st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nsequence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compares the “program of interest” to one or multiple “comparators”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Definition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: A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 is the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comparative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alysis of alternative courses of action in terms of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both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their costs and consequenc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ology of Economic Evalua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762120" y="1143000"/>
          <a:ext cx="7848360" cy="4962600"/>
        </p:xfrm>
        <a:graphic>
          <a:graphicData uri="http://schemas.openxmlformats.org/drawingml/2006/table">
            <a:tbl>
              <a:tblPr/>
              <a:tblGrid>
                <a:gridCol w="701640"/>
                <a:gridCol w="2547720"/>
                <a:gridCol w="2262240"/>
                <a:gridCol w="2336760"/>
              </a:tblGrid>
              <a:tr h="39672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A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PARTIAL EVALUATION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RTIAL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A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AL EVALUATION   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 ECONOMIC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 or effectiveness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analy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A, CEA, CUA, C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41"/>
          <p:cNvSpPr/>
          <p:nvPr/>
        </p:nvSpPr>
        <p:spPr>
          <a:xfrm>
            <a:off x="304920" y="762120"/>
            <a:ext cx="9524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Are both costs (inputs) and consequences (outputs) of the alternatives examine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42"/>
          <p:cNvSpPr/>
          <p:nvPr/>
        </p:nvSpPr>
        <p:spPr>
          <a:xfrm rot="10800000">
            <a:off x="-1440" y="837720"/>
            <a:ext cx="759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Is there comparison of two or more alternative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ll Economic Evaluation Technique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much can be compared varies with the meth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st-benefit analy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st-utility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-effectivenes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alys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-minimization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685800" y="1981080"/>
            <a:ext cx="7772400" cy="4038840"/>
          </a:xfrm>
          <a:custGeom>
            <a:avLst/>
            <a:gdLst>
              <a:gd name="textAreaLeft" fmla="*/ 1619280 w 7772400"/>
              <a:gd name="textAreaRight" fmla="*/ 6153120 w 7772400"/>
              <a:gd name="textAreaTop" fmla="*/ 841320 h 4038840"/>
              <a:gd name="textAreaBottom" fmla="*/ 31975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4343400" y="51055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Minimization Analysis (CM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programs of minor 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accomplish the outcome of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requires at least one night of hospitalization and the other is done in day-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outcome of interest? = “Operations successfully completed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valent outcome; i.e., identical number of surgeries but presumably differen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option with the lowes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Effectiveness Analysis (CE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merly most common type of E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: Prolongation of life after renal fail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spital dialysis versus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on outcome = life-years gained, with differential success and differential cos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 would prefer the option with the lower cost if and only if it also gives the higher outco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We calculate the cost per life-year gained from applying one program and not the other (ICER)            $ per Y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2286000" y="5715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-49320" y="109440"/>
            <a:ext cx="9193320" cy="15112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1219320" y="2590920"/>
            <a:ext cx="678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990720" y="1523880"/>
            <a:ext cx="71625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ER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ffective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5"/>
          <p:cNvSpPr/>
          <p:nvPr/>
        </p:nvSpPr>
        <p:spPr>
          <a:xfrm>
            <a:off x="4267080" y="3429000"/>
            <a:ext cx="37339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cognize the purpose of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dentify the types of Economic Eval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come familiar with the process of conducting an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now how to use Economic Evaluation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4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7620120" y="27432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3548a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7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9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45"/>
          <p:cNvGrpSpPr/>
          <p:nvPr/>
        </p:nvGrpSpPr>
        <p:grpSpPr>
          <a:xfrm>
            <a:off x="759600" y="1600200"/>
            <a:ext cx="8114400" cy="4648320"/>
            <a:chOff x="759600" y="1600200"/>
            <a:chExt cx="8114400" cy="4648320"/>
          </a:xfrm>
        </p:grpSpPr>
        <p:sp>
          <p:nvSpPr>
            <p:cNvPr id="318" name="Text Box 15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3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3433680" y="1600200"/>
              <a:ext cx="1608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6019920" y="4038480"/>
              <a:ext cx="2854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6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28"/>
            <p:cNvSpPr/>
            <p:nvPr/>
          </p:nvSpPr>
          <p:spPr>
            <a:xfrm>
              <a:off x="7620120" y="2743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30"/>
            <p:cNvSpPr/>
            <p:nvPr/>
          </p:nvSpPr>
          <p:spPr>
            <a:xfrm flipV="1">
              <a:off x="4267080" y="3429000"/>
              <a:ext cx="342900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22"/>
          <p:cNvGrpSpPr/>
          <p:nvPr/>
        </p:nvGrpSpPr>
        <p:grpSpPr>
          <a:xfrm>
            <a:off x="457200" y="1676520"/>
            <a:ext cx="8264520" cy="4572000"/>
            <a:chOff x="457200" y="1676520"/>
            <a:chExt cx="8264520" cy="4572000"/>
          </a:xfrm>
        </p:grpSpPr>
        <p:sp>
          <p:nvSpPr>
            <p:cNvPr id="33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15"/>
            <p:cNvSpPr/>
            <p:nvPr/>
          </p:nvSpPr>
          <p:spPr>
            <a:xfrm>
              <a:off x="369108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16"/>
            <p:cNvSpPr/>
            <p:nvPr/>
          </p:nvSpPr>
          <p:spPr>
            <a:xfrm>
              <a:off x="586728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19"/>
            <p:cNvSpPr/>
            <p:nvPr/>
          </p:nvSpPr>
          <p:spPr>
            <a:xfrm>
              <a:off x="457200" y="304812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533520" y="304812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21"/>
            <p:cNvSpPr/>
            <p:nvPr/>
          </p:nvSpPr>
          <p:spPr>
            <a:xfrm flipH="1" flipV="1">
              <a:off x="990360" y="3505320"/>
              <a:ext cx="327636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22"/>
          <p:cNvGrpSpPr/>
          <p:nvPr/>
        </p:nvGrpSpPr>
        <p:grpSpPr>
          <a:xfrm>
            <a:off x="609480" y="1600200"/>
            <a:ext cx="8188560" cy="4648320"/>
            <a:chOff x="609480" y="1600200"/>
            <a:chExt cx="8188560" cy="4648320"/>
          </a:xfrm>
        </p:grpSpPr>
        <p:sp>
          <p:nvSpPr>
            <p:cNvPr id="35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5"/>
            <p:cNvSpPr/>
            <p:nvPr/>
          </p:nvSpPr>
          <p:spPr>
            <a:xfrm>
              <a:off x="3614760" y="160020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6"/>
            <p:cNvSpPr/>
            <p:nvPr/>
          </p:nvSpPr>
          <p:spPr>
            <a:xfrm>
              <a:off x="594360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Text Box 19"/>
            <p:cNvSpPr/>
            <p:nvPr/>
          </p:nvSpPr>
          <p:spPr>
            <a:xfrm>
              <a:off x="609480" y="403848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20"/>
            <p:cNvSpPr/>
            <p:nvPr/>
          </p:nvSpPr>
          <p:spPr>
            <a:xfrm>
              <a:off x="685800" y="403848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"/>
            <p:cNvSpPr/>
            <p:nvPr/>
          </p:nvSpPr>
          <p:spPr>
            <a:xfrm flipH="1">
              <a:off x="1066680" y="3962520"/>
              <a:ext cx="32004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22"/>
          <p:cNvGrpSpPr/>
          <p:nvPr/>
        </p:nvGrpSpPr>
        <p:grpSpPr>
          <a:xfrm>
            <a:off x="759600" y="1676520"/>
            <a:ext cx="8384400" cy="4572000"/>
            <a:chOff x="759600" y="1676520"/>
            <a:chExt cx="8384400" cy="4572000"/>
          </a:xfrm>
        </p:grpSpPr>
        <p:sp>
          <p:nvSpPr>
            <p:cNvPr id="37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15"/>
            <p:cNvSpPr/>
            <p:nvPr/>
          </p:nvSpPr>
          <p:spPr>
            <a:xfrm>
              <a:off x="361476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Rectangle 16"/>
            <p:cNvSpPr/>
            <p:nvPr/>
          </p:nvSpPr>
          <p:spPr>
            <a:xfrm>
              <a:off x="6289560" y="35812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Text Box 19"/>
            <p:cNvSpPr/>
            <p:nvPr/>
          </p:nvSpPr>
          <p:spPr>
            <a:xfrm>
              <a:off x="7543800" y="434340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20"/>
            <p:cNvSpPr/>
            <p:nvPr/>
          </p:nvSpPr>
          <p:spPr>
            <a:xfrm>
              <a:off x="7620120" y="434340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1"/>
            <p:cNvSpPr/>
            <p:nvPr/>
          </p:nvSpPr>
          <p:spPr>
            <a:xfrm>
              <a:off x="4191120" y="3962520"/>
              <a:ext cx="335268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759600" y="2209680"/>
            <a:ext cx="179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6627600" y="5334120"/>
            <a:ext cx="191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1144440" y="27432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4556160" y="440388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5867280" y="19051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25"/>
          <p:cNvSpPr/>
          <p:nvPr/>
        </p:nvSpPr>
        <p:spPr>
          <a:xfrm flipH="1">
            <a:off x="4038120" y="2209680"/>
            <a:ext cx="175284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6"/>
          <p:cNvSpPr/>
          <p:nvPr/>
        </p:nvSpPr>
        <p:spPr>
          <a:xfrm flipH="1">
            <a:off x="5334120" y="2209680"/>
            <a:ext cx="45720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6474960" y="2133720"/>
            <a:ext cx="171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3"/>
          <p:cNvSpPr/>
          <p:nvPr/>
        </p:nvSpPr>
        <p:spPr>
          <a:xfrm>
            <a:off x="834840" y="5334120"/>
            <a:ext cx="188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4573440" y="259092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7"/>
          <p:cNvSpPr/>
          <p:nvPr/>
        </p:nvSpPr>
        <p:spPr>
          <a:xfrm>
            <a:off x="1144440" y="43434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228600" y="22860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NON-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5"/>
          <p:cNvSpPr/>
          <p:nvPr/>
        </p:nvSpPr>
        <p:spPr>
          <a:xfrm>
            <a:off x="2743200" y="2743200"/>
            <a:ext cx="17524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6"/>
          <p:cNvSpPr/>
          <p:nvPr/>
        </p:nvSpPr>
        <p:spPr>
          <a:xfrm>
            <a:off x="2743200" y="2743200"/>
            <a:ext cx="76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.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times we hav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 that are common to both alternatives but are multip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, single or multiple consequence(s) that is/are not common to both alternativ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s:………………………………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1)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me dialysis / hospital dialysis /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-years gai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of Life (i.e., occurrence of marital disrup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s of medical complic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..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to do from a CEA perspectiv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 ICERs for the three consequ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one alternative superior on all thre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80880" y="3429000"/>
            <a:ext cx="3810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problem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4267080" y="3276720"/>
            <a:ext cx="4876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icitly or explicitly choose a primary effect and base the comparison on i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191800">
            <a:off x="2285640" y="2666520"/>
            <a:ext cx="593640" cy="812880"/>
          </a:xfrm>
          <a:prstGeom prst="downArrow">
            <a:avLst>
              <a:gd name="adj1" fmla="val 50000"/>
              <a:gd name="adj2" fmla="val 3423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 rot="18839400">
            <a:off x="5599800" y="2553480"/>
            <a:ext cx="594000" cy="820800"/>
          </a:xfrm>
          <a:prstGeom prst="downArrow">
            <a:avLst>
              <a:gd name="adj1" fmla="val 50000"/>
              <a:gd name="adj2" fmla="val 3454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8"/>
          <p:cNvSpPr/>
          <p:nvPr/>
        </p:nvSpPr>
        <p:spPr>
          <a:xfrm>
            <a:off x="2133720" y="40384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9"/>
          <p:cNvSpPr/>
          <p:nvPr/>
        </p:nvSpPr>
        <p:spPr>
          <a:xfrm>
            <a:off x="61722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2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arison of a hypertension screening program aimed at preventing premature death, with an influenza immunization program aimed at preventing disability day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come of interest differs! And a meaningful CEA comparison is impossi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clinicians check the blood pressure of each adult who walks into their office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planners launch an iron deficiency screening program in secondary school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individuals be encouraged to request annual check-ups for common NCD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local health departments free scarce nursing personnel from well-baby clinics so that they can carry out home visits on lapsed hypertensive patient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hospital administrators procure a new diagnostic equipment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a new expensive medicine to manage hyperglycemia be listed on the essential medicine list of Ministries of Health in the Eastern-Mediterranean Region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. To find a method whereby the multiple common effects could be combined into one common denominato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go beyond the measurement of consequences to attach a value to the set of effec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measure of valu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he most common measure of value i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DOLLARS!!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6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038480" cy="3047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isability day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Life-years gain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edical complication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arital disruption avoided…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4952880" y="1600200"/>
            <a:ext cx="3886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o “DOLLAR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illingness to pay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762120" y="1066680"/>
            <a:ext cx="7619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means to translate:…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0" y="441972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ot always easy but sometimes both appropriate and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0" y="52578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nalysis that measures Costs &amp; Consequences in $ is called CB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6629400" y="28195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67af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ight Arrow 11"/>
          <p:cNvSpPr/>
          <p:nvPr/>
        </p:nvSpPr>
        <p:spPr>
          <a:xfrm>
            <a:off x="5105520" y="228600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7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SB: the net benefit of the project = B - 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atio of costs divided by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(8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ld Standard for EE …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for economic comparison of widely disparate publicly funded programs in such areas as health, education, and the environ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: valuing a life in monetary ter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85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other measure of value is </a:t>
            </a:r>
            <a:r>
              <a:rPr b="1" i="1" lang="en-US" sz="3400" spc="-1" strike="noStrike">
                <a:solidFill>
                  <a:srgbClr val="ffff00"/>
                </a:solidFill>
                <a:latin typeface="Arial"/>
              </a:rPr>
              <a:t>Utilit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ition: the preferences that the individuals or the society may have for any particular set of health outcomes (a given health state or a profile of states through tim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102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st Utility Analysis (CUA) …. 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coming the most common form of analysi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dely used in Britain and Canad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comparison of many projects with health-related outcom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ften called cost-effectiveness analysis; closely rela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tility analysis is useful in adjusting prolongation of life on quality of life. It allows for more than one disease or health problem to be compar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ic outcome measures: Quality-Adjusted Life-Years (QALYs) or Healthy Years Equivalent (HY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measures result from adjusting health outcome by the utility value (on a scale of 0 to 1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is a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QAL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Quality Adjusted Life Years is the number of years at full health that would be valued equivalently to a given number of years of life experienced with a disease or disabilit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Incremental Cost Utility Ration (ICUR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utpu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$ per QALY (= LY in excellent health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E671-AC3D-4E64-951B-6D8CD83179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s with QALY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jective and difficult to measu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ose QALYs should count?  A representative sample of the population or the affected group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scales will differ depending upon factors such as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g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Health Stat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64FC-CF90-4113-95B5-F7090EDE46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19076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3"/>
          <p:cNvSpPr/>
          <p:nvPr/>
        </p:nvSpPr>
        <p:spPr>
          <a:xfrm>
            <a:off x="228600" y="304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…. (6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57200" y="4572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 summary…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should d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and with what health car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CER/ICUR and decision making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991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ULL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economic evaluation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04920" y="914400"/>
          <a:ext cx="8458200" cy="5411880"/>
        </p:xfrm>
        <a:graphic>
          <a:graphicData uri="http://schemas.openxmlformats.org/drawingml/2006/table">
            <a:tbl>
              <a:tblPr/>
              <a:tblGrid>
                <a:gridCol w="1985760"/>
                <a:gridCol w="1986120"/>
                <a:gridCol w="2352600"/>
                <a:gridCol w="2133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ype of st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of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dentific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/ valu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minimization analysi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cal in all relevant respec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analysis (CE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effect of interest, common to both alternatives, but achieved to different degre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units (e.g., life-years gained, disability-days saved, points of blood pressure reduction, etc.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utility analysis (CU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y years or (more often) quality adjusted life-ye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benefit analysis (CB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ta bona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be meaningful Economic Evaluation should be preceded by three other types of evaluation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t work?.……………………..……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ICA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it work?.........................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ECTIVENES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it reaching those who need it?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VAILABILIT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t is worth to note that…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many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icacio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ectiv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rograms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howeve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ne cannot implement them all … even those identified as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orthwhi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!...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scarce resour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 is which programs to implement and how we should allocate our limited funds among those implemented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swer: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291960"/>
            <a:ext cx="876312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is Economic Evaluation important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people, time, facilities, equipment, and knowledge – are sca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CHOI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ust be – and will be – made concerning their de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METH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ch as: ‘what we did last time’ and even ‘educated guesses’ are not always better than an organized decision-mak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Economic Evaluation (EE)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an analytical approach that examines the costs and consequences of alternative programs in order to inform decisions about the allocation of scarce resources. It uses an established set of economic too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ed to weigh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st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Inputs) and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nsequenc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Output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6629400" y="3505320"/>
            <a:ext cx="1981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sts (In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28600" y="4191120"/>
            <a:ext cx="28195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nsequences (Out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bs01997_"/>
          <p:cNvPicPr/>
          <p:nvPr/>
        </p:nvPicPr>
        <p:blipFill>
          <a:blip r:embed="rId1"/>
          <a:stretch/>
        </p:blipFill>
        <p:spPr>
          <a:xfrm>
            <a:off x="2743200" y="2514600"/>
            <a:ext cx="3691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6T14:52:01Z</dcterms:modified>
  <cp:revision>548</cp:revision>
  <dc:subject/>
  <dc:title>Slide 1</dc:title>
</cp:coreProperties>
</file>