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067D-7BB6-44FC-BBDC-754161B7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E3A-9FD4-40F0-9D34-C3FA35A6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BA6-FFC2-458B-83D7-86F89487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4AC-33C6-484F-9F65-099D8BD5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DB14-BBE7-4993-992F-A632699A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5130-B0AD-4060-9A7B-F4AEBAAA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BD07-9BBD-447E-97B7-D64C070A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80AE-EB7D-49E5-8480-18C7556B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00BC-CED6-4AF9-A3CF-72CE9F28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F498-55F2-4CD0-BDBF-A2A78145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5F36-8B58-4283-AE17-7406671E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0645-E40C-47E0-9B39-B765368A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5914-FE43-45B4-BD6C-07430B87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6B63-5634-46E9-A3DA-BD50021B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F4E5-5DA0-49B6-B251-3E7EDFDA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EBD7-8457-48A0-AF68-CA43D084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B67E-F0FC-4672-A4E1-0470C6A6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87B1-31A7-4D1B-8934-B58BCE52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64E0-C50D-4C0C-B2A8-522F3313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09DE-2FFD-48CD-8254-4A214F3E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BAC-B51E-4FA7-87B5-FFF7F663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F50-B37F-4B83-861C-96FA006D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1785-BF37-4AEB-826F-375660A5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6D0-F898-4C9F-A840-A01E0109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9DFF-15EC-4C51-8153-68C5D7709E0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6B22-0FF6-46EF-AC0E-27C5167196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-6480" y="566640"/>
            <a:ext cx="9156960" cy="5919840"/>
            <a:chOff x="-6480" y="566640"/>
            <a:chExt cx="9156960" cy="591984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-6480" y="56664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" name="Picture 7" descr="EMRM-042"/>
          <p:cNvPicPr/>
          <p:nvPr/>
        </p:nvPicPr>
        <p:blipFill>
          <a:blip r:embed="rId4"/>
          <a:stretch/>
        </p:blipFill>
        <p:spPr>
          <a:xfrm>
            <a:off x="7162920" y="5835600"/>
            <a:ext cx="1981080" cy="10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Line 9"/>
          <p:cNvSpPr/>
          <p:nvPr/>
        </p:nvSpPr>
        <p:spPr>
          <a:xfrm>
            <a:off x="2209680" y="6324480"/>
            <a:ext cx="4953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0" descr="LogoE"/>
          <p:cNvPicPr/>
          <p:nvPr/>
        </p:nvPicPr>
        <p:blipFill>
          <a:blip r:embed="rId5">
            <a:lum bright="100000"/>
          </a:blip>
          <a:stretch/>
        </p:blipFill>
        <p:spPr>
          <a:xfrm>
            <a:off x="0" y="5927760"/>
            <a:ext cx="2209680" cy="85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6CA1-3A28-42B7-8E82-A6099A1DDB4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5EC9-3D73-487E-B0E9-4274DD9E80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le 1"/>
          <p:cNvSpPr/>
          <p:nvPr/>
        </p:nvSpPr>
        <p:spPr>
          <a:xfrm>
            <a:off x="304920" y="114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pacity Building Work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 with Special Application to Non-Communicable Diseas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44197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O – EM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iro, Egypt, 16-18 December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orkshop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the Workshop is to build national research capacities in the area of Economic Evaluation of health program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the end of the workshop, you will be able 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fundamenta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guish the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yp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ble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Evaluation results to aid priorit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914400"/>
          <a:ext cx="9144000" cy="6188040"/>
        </p:xfrm>
        <a:graphic>
          <a:graphicData uri="http://schemas.openxmlformats.org/drawingml/2006/table">
            <a:tbl>
              <a:tblPr/>
              <a:tblGrid>
                <a:gridCol w="1392120"/>
                <a:gridCol w="3484800"/>
                <a:gridCol w="2133360"/>
                <a:gridCol w="93960"/>
                <a:gridCol w="2039760"/>
              </a:tblGrid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8:30-10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eneral introduction to Health Economic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E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B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0:30-11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1:00-13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ntroduction to Economic Evalu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E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B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3:00-14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ch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4:00-15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U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lenary Discuss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&amp;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los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5:30-16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6:00-17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 on 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U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4" name="Rectangle 7"/>
          <p:cNvSpPr/>
          <p:nvPr/>
        </p:nvSpPr>
        <p:spPr>
          <a:xfrm>
            <a:off x="0" y="914400"/>
            <a:ext cx="9144000" cy="6019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matariaa</cp:lastModifiedBy>
  <dcterms:modified xsi:type="dcterms:W3CDTF">2012-12-16T05:57:58Z</dcterms:modified>
  <cp:revision>535</cp:revision>
  <dc:subject/>
  <dc:title>Slide 1</dc:title>
</cp:coreProperties>
</file>