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BF0C-E144-41EE-AF59-7E3AA7B05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BA3-B00A-404F-8720-05878E3B1F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4F97-8A14-400D-9092-AAA5247BE4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4A13-7E69-4EAC-9952-1C9FAE8F3A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740D-8F2D-4D82-A3E9-886C25AD93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DE4D-E0C9-4EFD-92E2-5FA7EE2DEB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AF70-7572-4CAC-A07A-36407BF867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ED5E-7570-457E-BD84-A66B1CED41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C5AE-420A-4A9E-9C82-8AEB287F63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47A-CF78-44FD-AD8A-438CBCFA69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954-F69A-4C08-B33B-AD0DD1F4A7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35B8-C706-4891-AD54-2EB1323E3C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C931-38AE-45C5-94F6-1F841B956B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25DD-EC39-48B4-9239-25DB21CE2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A80-7B02-4BEE-9D2B-D046038391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967F-74F1-4479-A562-881AF151D89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177-EC64-416B-BA6D-02B8B94358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CAAC-DDE6-4EB4-A033-7DE349C938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8046-726D-40C4-89AC-72288A090E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6C7-D990-48EB-A300-24392EE3FB9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249D-17B1-48B8-80AD-8BD3E784A1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9E9-A685-4033-844B-B05F8492EA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929-11C1-4A48-BE22-AD4F1A3606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F351-40AA-4BD2-A5D0-10287CE281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55600" y="693720"/>
            <a:ext cx="4546800" cy="3411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2960" y="4339800"/>
            <a:ext cx="503064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BF7-5077-486C-9487-B301EA37F2B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0577-EF87-4F2B-9E23-74672ED4D89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6BE9-BA93-42DA-8E6D-ED7A857209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925C-C632-4384-9ADB-0C6AC65CAF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FFCB-E8C1-428C-AF9E-666B255048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BA12-261A-4959-8D04-784BABBA00A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46F-43A8-473D-AF24-53736C1D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9C8A-FCE6-490E-8FE3-6C698D45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C3F5-53A1-4B0A-84A0-6707D5D8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E71-A485-4553-9547-27FE061F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B59-2DEA-4FEC-9411-A3EB11D1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031-8DE9-4A2A-B0B6-F5EC5DC5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3F4-FEF5-4F89-97F1-2C9BFD80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917-15C4-4335-B54A-44209711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488-689A-44B9-B625-D68FC300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3EC-F022-4E7B-B679-58140F6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104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104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7C3E-2753-4D1A-BFB5-19A1E276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104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2F3-999F-494F-86AB-5BA2DA2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D834-6DF6-466F-A787-46F4AE2F865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egic directions to improve health care financing in the Reg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C057-E698-4E65-BEA3-16B471A25D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lowchart: Document 6"/>
          <p:cNvGrpSpPr/>
          <p:nvPr/>
        </p:nvGrpSpPr>
        <p:grpSpPr>
          <a:xfrm>
            <a:off x="0" y="573120"/>
            <a:ext cx="9144000" cy="5906880"/>
            <a:chOff x="0" y="573120"/>
            <a:chExt cx="9144000" cy="5906880"/>
          </a:xfrm>
        </p:grpSpPr>
        <p:pic>
          <p:nvPicPr>
            <p:cNvPr id="42" name="Flowchart: Document 6" descr=""/>
            <p:cNvPicPr/>
            <p:nvPr/>
          </p:nvPicPr>
          <p:blipFill>
            <a:blip r:embed="rId2"/>
            <a:stretch/>
          </p:blipFill>
          <p:spPr>
            <a:xfrm>
              <a:off x="0" y="573120"/>
              <a:ext cx="9144000" cy="59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10800000">
              <a:off x="0" y="9140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5" name="Flowchart: Document 7" descr=""/>
            <p:cNvPicPr/>
            <p:nvPr/>
          </p:nvPicPr>
          <p:blipFill>
            <a:blip r:embed="rId3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tle 1"/>
          <p:cNvSpPr/>
          <p:nvPr/>
        </p:nvSpPr>
        <p:spPr>
          <a:xfrm>
            <a:off x="304920" y="11430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noAutofit/>
          </a:bodyPr>
          <a:p>
            <a:pPr algn="ctr">
              <a:tabLst>
                <a:tab algn="l" pos="0"/>
                <a:tab algn="l" pos="1322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 to Economic Eval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6668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wad MATARIA, Ph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Health Economis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HEC/DHS/WHO-EM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roduction to Economic Evaluation with Special Application to NC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iro-Egypt, 16-18 December 201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eighing Costs &amp; Consequences!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cale can compare apples and oranges because both are measured by the same unit (e.g., Kg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icult to find a common unit to measure health consequences and cos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bs01997_"/>
          <p:cNvPicPr/>
          <p:nvPr/>
        </p:nvPicPr>
        <p:blipFill>
          <a:blip r:embed="rId1"/>
          <a:stretch/>
        </p:blipFill>
        <p:spPr>
          <a:xfrm>
            <a:off x="457200" y="1814400"/>
            <a:ext cx="40356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80880" y="12193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69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1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2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3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1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ponent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80880" y="1447920"/>
          <a:ext cx="8382240" cy="4684680"/>
        </p:xfrm>
        <a:graphic>
          <a:graphicData uri="http://schemas.openxmlformats.org/drawingml/2006/table">
            <a:tbl>
              <a:tblPr/>
              <a:tblGrid>
                <a:gridCol w="1676520"/>
                <a:gridCol w="2031840"/>
                <a:gridCol w="2235240"/>
                <a:gridCol w="2438640"/>
              </a:tblGrid>
              <a:tr h="14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of interest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ic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 </a:t>
                      </a:r>
                      <a:r>
                        <a:rPr b="1" lang="en-US" sz="1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or”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76" name="AutoShape 51"/>
          <p:cNvCxnSpPr/>
          <p:nvPr/>
        </p:nvCxnSpPr>
        <p:spPr>
          <a:xfrm flipV="1">
            <a:off x="2057400" y="1980720"/>
            <a:ext cx="2032200" cy="140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AutoShape 52"/>
          <p:cNvCxnSpPr/>
          <p:nvPr/>
        </p:nvCxnSpPr>
        <p:spPr>
          <a:xfrm>
            <a:off x="2057400" y="4150800"/>
            <a:ext cx="2032200" cy="1313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8" name="AutoShape 53"/>
          <p:cNvCxnSpPr/>
          <p:nvPr/>
        </p:nvCxnSpPr>
        <p:spPr>
          <a:xfrm>
            <a:off x="6324480" y="1980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9" name="AutoShape 54"/>
          <p:cNvCxnSpPr/>
          <p:nvPr/>
        </p:nvCxnSpPr>
        <p:spPr>
          <a:xfrm>
            <a:off x="6324480" y="5463720"/>
            <a:ext cx="2439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80" name="Text Box 55"/>
          <p:cNvSpPr/>
          <p:nvPr/>
        </p:nvSpPr>
        <p:spPr>
          <a:xfrm>
            <a:off x="6095880" y="5029200"/>
            <a:ext cx="28195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onsequences </a:t>
            </a:r>
            <a:r>
              <a:rPr b="0" lang="en-US" sz="17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7162920" y="320040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Y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QAL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olla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57"/>
          <p:cNvSpPr/>
          <p:nvPr/>
        </p:nvSpPr>
        <p:spPr>
          <a:xfrm>
            <a:off x="2590920" y="327672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DIR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INTINGIB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7162920" y="3200400"/>
            <a:ext cx="10666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9"/>
          <p:cNvSpPr/>
          <p:nvPr/>
        </p:nvSpPr>
        <p:spPr>
          <a:xfrm>
            <a:off x="2514600" y="3276720"/>
            <a:ext cx="16002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60"/>
          <p:cNvSpPr/>
          <p:nvPr/>
        </p:nvSpPr>
        <p:spPr>
          <a:xfrm rot="2851200">
            <a:off x="2971440" y="281916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1"/>
          <p:cNvSpPr/>
          <p:nvPr/>
        </p:nvSpPr>
        <p:spPr>
          <a:xfrm rot="18975000">
            <a:off x="2895480" y="4267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62"/>
          <p:cNvSpPr/>
          <p:nvPr/>
        </p:nvSpPr>
        <p:spPr>
          <a:xfrm rot="10800000">
            <a:off x="7543800" y="42667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63"/>
          <p:cNvSpPr/>
          <p:nvPr/>
        </p:nvSpPr>
        <p:spPr>
          <a:xfrm>
            <a:off x="7467480" y="220968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asic tasks of Economic Evalu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6320" y="2895480"/>
          <a:ext cx="8991360" cy="1295640"/>
        </p:xfrm>
        <a:graphic>
          <a:graphicData uri="http://schemas.openxmlformats.org/drawingml/2006/table">
            <a:tbl>
              <a:tblPr/>
              <a:tblGrid>
                <a:gridCol w="1523880"/>
                <a:gridCol w="1012680"/>
                <a:gridCol w="1578240"/>
                <a:gridCol w="1033200"/>
                <a:gridCol w="1306800"/>
                <a:gridCol w="784080"/>
                <a:gridCol w="1752480"/>
              </a:tblGrid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fy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91" name="AutoShape 33"/>
          <p:cNvCxnSpPr/>
          <p:nvPr/>
        </p:nvCxnSpPr>
        <p:spPr>
          <a:xfrm>
            <a:off x="1599840" y="3543120"/>
            <a:ext cx="1013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2" name="AutoShape 34"/>
          <p:cNvCxnSpPr/>
          <p:nvPr/>
        </p:nvCxnSpPr>
        <p:spPr>
          <a:xfrm>
            <a:off x="4191120" y="3543120"/>
            <a:ext cx="103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93" name="AutoShape 35"/>
          <p:cNvCxnSpPr/>
          <p:nvPr/>
        </p:nvCxnSpPr>
        <p:spPr>
          <a:xfrm>
            <a:off x="6531120" y="3543120"/>
            <a:ext cx="7848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does FULL economic evaluation mean?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wo features of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deals with both INPUTS and OUTPUTS (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st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consequences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26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compares the “program of interest” to one or multiple “comparators”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00"/>
                </a:solidFill>
                <a:latin typeface="Arial"/>
              </a:rPr>
              <a:t>Definition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: A “</a:t>
            </a:r>
            <a:r>
              <a:rPr b="0" i="1" lang="en-US" sz="2900" spc="-1" strike="noStrike">
                <a:solidFill>
                  <a:srgbClr val="ffffff"/>
                </a:solidFill>
                <a:latin typeface="Arial"/>
              </a:rPr>
              <a:t>Full”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Economic Evaluation is the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comparative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analysis of alternative courses of action in terms of </a:t>
            </a:r>
            <a:r>
              <a:rPr b="0" i="1" lang="en-US" sz="29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their costs and consequence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ology of Economic Evalua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762120" y="1143000"/>
          <a:ext cx="7848360" cy="4962600"/>
        </p:xfrm>
        <a:graphic>
          <a:graphicData uri="http://schemas.openxmlformats.org/drawingml/2006/table">
            <a:tbl>
              <a:tblPr/>
              <a:tblGrid>
                <a:gridCol w="701640"/>
                <a:gridCol w="2547720"/>
                <a:gridCol w="2262240"/>
                <a:gridCol w="2336760"/>
              </a:tblGrid>
              <a:tr h="3967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amines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A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PARTIAL EVALUATION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RTIAL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outcome descrip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A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AL EVALUATION        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 ECONOMIC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acy or effectiveness evalu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analy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MA, CEA, CUA, CB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 Box 41"/>
          <p:cNvSpPr/>
          <p:nvPr/>
        </p:nvSpPr>
        <p:spPr>
          <a:xfrm>
            <a:off x="304920" y="762120"/>
            <a:ext cx="9524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Are both costs (inputs) and consequences (outputs) of the alternatives examine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42"/>
          <p:cNvSpPr/>
          <p:nvPr/>
        </p:nvSpPr>
        <p:spPr>
          <a:xfrm rot="10800000">
            <a:off x="-1440" y="837720"/>
            <a:ext cx="759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Tahoma"/>
              </a:rPr>
              <a:t>Is there comparison of two or more alternative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ll Economic Evaluation Technique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49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much can be compared varies with the meth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st-benefi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st-ut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effectiveness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analysi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-minimization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685800" y="1981080"/>
            <a:ext cx="7772400" cy="4038840"/>
          </a:xfrm>
          <a:custGeom>
            <a:avLst/>
            <a:gdLst>
              <a:gd name="textAreaLeft" fmla="*/ 1619280 w 7772400"/>
              <a:gd name="textAreaRight" fmla="*/ 6153120 w 7772400"/>
              <a:gd name="textAreaTop" fmla="*/ 841320 h 4038840"/>
              <a:gd name="textAreaBottom" fmla="*/ 3197520 h 403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4343400" y="51055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Minimization Analysis (CM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ograms of minor 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accomplish the outcome of inte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requires at least one night of hospitalization and the other is done in day-surg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outcome of interest? = “Operations successfully complete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 outcome; i.e., identical number of surgeries but presumably differen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option with the lowest co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Effectiveness Analysis (CEA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merly most common type of E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: Prolongation of life after renal failu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spital dialysis versus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mon outcome = life-years gained, with differential success and differential co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 would prefer the option with the lower cost if and only if it also gives the higher outcom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: We calculate the cost per life-year gained from applying one program and not the other (ICER)            $ per Y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2286000" y="5715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Rectangle 2" descr=""/>
          <p:cNvPicPr/>
          <p:nvPr/>
        </p:nvPicPr>
        <p:blipFill>
          <a:blip r:embed="rId1"/>
          <a:stretch/>
        </p:blipFill>
        <p:spPr>
          <a:xfrm>
            <a:off x="-49320" y="109440"/>
            <a:ext cx="9193320" cy="15112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3"/>
          <p:cNvSpPr/>
          <p:nvPr/>
        </p:nvSpPr>
        <p:spPr>
          <a:xfrm>
            <a:off x="1219320" y="25909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90720" y="1523880"/>
            <a:ext cx="71625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ER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cremental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ffectiven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4267080" y="3429000"/>
            <a:ext cx="37339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recognize the purpose of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identify the types of Economic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come familiar with the process of conducting an Economic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know how to use Economic Evaluation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4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7620120" y="2743200"/>
            <a:ext cx="5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3548a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696080" y="2743200"/>
            <a:ext cx="38124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Group 45"/>
          <p:cNvGrpSpPr/>
          <p:nvPr/>
        </p:nvGrpSpPr>
        <p:grpSpPr>
          <a:xfrm>
            <a:off x="759600" y="1600200"/>
            <a:ext cx="8114400" cy="4648320"/>
            <a:chOff x="759600" y="1600200"/>
            <a:chExt cx="8114400" cy="4648320"/>
          </a:xfrm>
        </p:grpSpPr>
        <p:sp>
          <p:nvSpPr>
            <p:cNvPr id="318" name="Text Box 15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3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4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9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2"/>
            <p:cNvSpPr/>
            <p:nvPr/>
          </p:nvSpPr>
          <p:spPr>
            <a:xfrm>
              <a:off x="3433680" y="1600200"/>
              <a:ext cx="16084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3"/>
            <p:cNvSpPr/>
            <p:nvPr/>
          </p:nvSpPr>
          <p:spPr>
            <a:xfrm>
              <a:off x="6019920" y="4038480"/>
              <a:ext cx="2854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6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7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28"/>
            <p:cNvSpPr/>
            <p:nvPr/>
          </p:nvSpPr>
          <p:spPr>
            <a:xfrm>
              <a:off x="7620120" y="274320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30"/>
            <p:cNvSpPr/>
            <p:nvPr/>
          </p:nvSpPr>
          <p:spPr>
            <a:xfrm flipV="1">
              <a:off x="4267080" y="3429000"/>
              <a:ext cx="3429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22"/>
          <p:cNvGrpSpPr/>
          <p:nvPr/>
        </p:nvGrpSpPr>
        <p:grpSpPr>
          <a:xfrm>
            <a:off x="457200" y="1676520"/>
            <a:ext cx="8264520" cy="4572000"/>
            <a:chOff x="457200" y="1676520"/>
            <a:chExt cx="8264520" cy="4572000"/>
          </a:xfrm>
        </p:grpSpPr>
        <p:sp>
          <p:nvSpPr>
            <p:cNvPr id="33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15"/>
            <p:cNvSpPr/>
            <p:nvPr/>
          </p:nvSpPr>
          <p:spPr>
            <a:xfrm>
              <a:off x="369108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16"/>
            <p:cNvSpPr/>
            <p:nvPr/>
          </p:nvSpPr>
          <p:spPr>
            <a:xfrm>
              <a:off x="586728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Text Box 19"/>
            <p:cNvSpPr/>
            <p:nvPr/>
          </p:nvSpPr>
          <p:spPr>
            <a:xfrm>
              <a:off x="457200" y="304812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20"/>
            <p:cNvSpPr/>
            <p:nvPr/>
          </p:nvSpPr>
          <p:spPr>
            <a:xfrm>
              <a:off x="533520" y="304812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 flipH="1" flipV="1">
              <a:off x="990360" y="3505320"/>
              <a:ext cx="327636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Group 22"/>
          <p:cNvGrpSpPr/>
          <p:nvPr/>
        </p:nvGrpSpPr>
        <p:grpSpPr>
          <a:xfrm>
            <a:off x="609480" y="1600200"/>
            <a:ext cx="8188560" cy="4648320"/>
            <a:chOff x="609480" y="1600200"/>
            <a:chExt cx="8188560" cy="4648320"/>
          </a:xfrm>
        </p:grpSpPr>
        <p:sp>
          <p:nvSpPr>
            <p:cNvPr id="35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5"/>
            <p:cNvSpPr/>
            <p:nvPr/>
          </p:nvSpPr>
          <p:spPr>
            <a:xfrm>
              <a:off x="3614760" y="160020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6"/>
            <p:cNvSpPr/>
            <p:nvPr/>
          </p:nvSpPr>
          <p:spPr>
            <a:xfrm>
              <a:off x="5943600" y="40384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Text Box 19"/>
            <p:cNvSpPr/>
            <p:nvPr/>
          </p:nvSpPr>
          <p:spPr>
            <a:xfrm>
              <a:off x="609480" y="403848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685800" y="403848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1"/>
            <p:cNvSpPr/>
            <p:nvPr/>
          </p:nvSpPr>
          <p:spPr>
            <a:xfrm flipH="1">
              <a:off x="1066680" y="3962520"/>
              <a:ext cx="32004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22"/>
          <p:cNvGrpSpPr/>
          <p:nvPr/>
        </p:nvGrpSpPr>
        <p:grpSpPr>
          <a:xfrm>
            <a:off x="759600" y="1676520"/>
            <a:ext cx="8384400" cy="4572000"/>
            <a:chOff x="759600" y="1676520"/>
            <a:chExt cx="8384400" cy="4572000"/>
          </a:xfrm>
        </p:grpSpPr>
        <p:sp>
          <p:nvSpPr>
            <p:cNvPr id="377" name="Text Box 3"/>
            <p:cNvSpPr/>
            <p:nvPr/>
          </p:nvSpPr>
          <p:spPr>
            <a:xfrm>
              <a:off x="3505320" y="3505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Comparato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4267080" y="2135160"/>
              <a:ext cx="0" cy="411336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990720" y="3962520"/>
              <a:ext cx="5867280" cy="0"/>
            </a:xfrm>
            <a:prstGeom prst="line">
              <a:avLst/>
            </a:prstGeom>
            <a:ln w="12600">
              <a:solidFill>
                <a:srgbClr val="dede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759600" y="2209680"/>
              <a:ext cx="179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6474960" y="2133720"/>
              <a:ext cx="171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Rectangle 9"/>
            <p:cNvSpPr/>
            <p:nvPr/>
          </p:nvSpPr>
          <p:spPr>
            <a:xfrm>
              <a:off x="6627600" y="5334120"/>
              <a:ext cx="191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10"/>
            <p:cNvSpPr/>
            <p:nvPr/>
          </p:nvSpPr>
          <p:spPr>
            <a:xfrm>
              <a:off x="834840" y="5334120"/>
              <a:ext cx="1881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edede"/>
                  </a:solidFill>
                  <a:latin typeface="Arial"/>
                </a:rPr>
                <a:t>Quadrant II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1144440" y="27432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4573440" y="259092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st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Rectangle 13"/>
            <p:cNvSpPr/>
            <p:nvPr/>
          </p:nvSpPr>
          <p:spPr>
            <a:xfrm>
              <a:off x="4556160" y="4403880"/>
              <a:ext cx="29113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mprove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ectangle 14"/>
            <p:cNvSpPr/>
            <p:nvPr/>
          </p:nvSpPr>
          <p:spPr>
            <a:xfrm>
              <a:off x="1144440" y="4343400"/>
              <a:ext cx="283212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aves money,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Worsens health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15"/>
            <p:cNvSpPr/>
            <p:nvPr/>
          </p:nvSpPr>
          <p:spPr>
            <a:xfrm>
              <a:off x="3614760" y="1676520"/>
              <a:ext cx="1515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Cos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Rectangle 16"/>
            <p:cNvSpPr/>
            <p:nvPr/>
          </p:nvSpPr>
          <p:spPr>
            <a:xfrm>
              <a:off x="6289560" y="3581280"/>
              <a:ext cx="2854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edede"/>
                  </a:solidFill>
                  <a:latin typeface="Arial"/>
                </a:rPr>
                <a:t>Aggregate Health Benefi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7"/>
            <p:cNvSpPr/>
            <p:nvPr/>
          </p:nvSpPr>
          <p:spPr>
            <a:xfrm>
              <a:off x="419112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8"/>
            <p:cNvSpPr/>
            <p:nvPr/>
          </p:nvSpPr>
          <p:spPr>
            <a:xfrm flipH="1">
              <a:off x="4190760" y="388620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Text Box 19"/>
            <p:cNvSpPr/>
            <p:nvPr/>
          </p:nvSpPr>
          <p:spPr>
            <a:xfrm>
              <a:off x="7543800" y="4343400"/>
              <a:ext cx="533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Rectangle 20"/>
            <p:cNvSpPr/>
            <p:nvPr/>
          </p:nvSpPr>
          <p:spPr>
            <a:xfrm>
              <a:off x="7620120" y="4343400"/>
              <a:ext cx="380880" cy="685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1"/>
            <p:cNvSpPr/>
            <p:nvPr/>
          </p:nvSpPr>
          <p:spPr>
            <a:xfrm>
              <a:off x="4191120" y="3962520"/>
              <a:ext cx="335268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759600" y="2209680"/>
            <a:ext cx="17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6627600" y="5334120"/>
            <a:ext cx="191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144440" y="27432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4556160" y="440388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5867280" y="19051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Line 25"/>
          <p:cNvSpPr/>
          <p:nvPr/>
        </p:nvSpPr>
        <p:spPr>
          <a:xfrm flipH="1">
            <a:off x="4038120" y="2209680"/>
            <a:ext cx="175284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6"/>
          <p:cNvSpPr/>
          <p:nvPr/>
        </p:nvSpPr>
        <p:spPr>
          <a:xfrm flipH="1">
            <a:off x="5334120" y="2209680"/>
            <a:ext cx="45720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62120" y="38088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ssible outcomes of C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5053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Compa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8"/>
          <p:cNvSpPr/>
          <p:nvPr/>
        </p:nvSpPr>
        <p:spPr>
          <a:xfrm>
            <a:off x="4267080" y="2135160"/>
            <a:ext cx="0" cy="411336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9"/>
          <p:cNvSpPr/>
          <p:nvPr/>
        </p:nvSpPr>
        <p:spPr>
          <a:xfrm>
            <a:off x="990720" y="3962520"/>
            <a:ext cx="5867280" cy="0"/>
          </a:xfrm>
          <a:prstGeom prst="line">
            <a:avLst/>
          </a:prstGeom>
          <a:ln w="1260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6474960" y="2133720"/>
            <a:ext cx="171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3"/>
          <p:cNvSpPr/>
          <p:nvPr/>
        </p:nvSpPr>
        <p:spPr>
          <a:xfrm>
            <a:off x="834840" y="533412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edede"/>
                </a:solidFill>
                <a:latin typeface="Arial"/>
              </a:rPr>
              <a:t>Quadrant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573440" y="2590920"/>
            <a:ext cx="2911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st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mprove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7"/>
          <p:cNvSpPr/>
          <p:nvPr/>
        </p:nvSpPr>
        <p:spPr>
          <a:xfrm>
            <a:off x="1144440" y="4343400"/>
            <a:ext cx="2832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ves mone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orsens h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8"/>
          <p:cNvSpPr/>
          <p:nvPr/>
        </p:nvSpPr>
        <p:spPr>
          <a:xfrm>
            <a:off x="3614760" y="1600200"/>
            <a:ext cx="1515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Cos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6019920" y="4038480"/>
            <a:ext cx="2854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dede"/>
                </a:solidFill>
                <a:latin typeface="Arial"/>
              </a:rPr>
              <a:t>Aggregate Health Benefi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20"/>
          <p:cNvSpPr/>
          <p:nvPr/>
        </p:nvSpPr>
        <p:spPr>
          <a:xfrm>
            <a:off x="419112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21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4"/>
          <p:cNvSpPr/>
          <p:nvPr/>
        </p:nvSpPr>
        <p:spPr>
          <a:xfrm>
            <a:off x="228600" y="22860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dedede"/>
                </a:solidFill>
                <a:uFillTx/>
                <a:latin typeface="Arial"/>
              </a:rPr>
              <a:t>Concept of NON-Dominance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5"/>
          <p:cNvSpPr/>
          <p:nvPr/>
        </p:nvSpPr>
        <p:spPr>
          <a:xfrm>
            <a:off x="2743200" y="2743200"/>
            <a:ext cx="1752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6"/>
          <p:cNvSpPr/>
          <p:nvPr/>
        </p:nvSpPr>
        <p:spPr>
          <a:xfrm>
            <a:off x="2743200" y="2743200"/>
            <a:ext cx="76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.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any times we hav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 that are common to both alternatives but are multiple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, single or multiple consequence(s) that is/are not common to both alternativ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amples:………………………………(2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1)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ons: home dialysis / hospital dialysis / kidney transplanta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sequences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-years gai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y of Life (i.e., occurrence of marital disru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22320" indent="-272880">
              <a:spcBef>
                <a:spcPts val="60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s of medical compli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..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o do from a CEA perspecti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 ICERs for the three consequenc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one alternative superior on all three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80880" y="3429000"/>
            <a:ext cx="38102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 problem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4267080" y="3276720"/>
            <a:ext cx="4876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icitly or explicitly choose a primary effect and base the comparison on i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191800">
            <a:off x="2285640" y="2666520"/>
            <a:ext cx="593640" cy="812880"/>
          </a:xfrm>
          <a:prstGeom prst="downArrow">
            <a:avLst>
              <a:gd name="adj1" fmla="val 50000"/>
              <a:gd name="adj2" fmla="val 3423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 rot="18839400">
            <a:off x="5599800" y="2553480"/>
            <a:ext cx="594000" cy="820800"/>
          </a:xfrm>
          <a:prstGeom prst="downArrow">
            <a:avLst>
              <a:gd name="adj1" fmla="val 50000"/>
              <a:gd name="adj2" fmla="val 345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213372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6172200" y="38862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ample (2)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arison of a hypertension screening program aimed at preventing premature death, with an influenza immunization program aimed at preventing disability day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come of interest differs! And a meaningful CEA comparison is impossibl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y other alternatives?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troduction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clinicians check the blood pressure of each adult who walks into their office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planners launch an iron deficiency screening program in secondary school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individuals be encouraged to request annual check-ups for common NCD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local health departments free scarce nursing personnel from well-baby clinics so that they can carry out home visits on lapsed hypertensive patients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hospital administrators procure a new diagnostic equipment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Should a new expensive medicine to manage hyperglycemia be listed on the essential medicine list of Ministries of Health in the Eastern-Mediterranean Region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333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Yes. To find a method whereby the multiple common effects could be combined into one common denominato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go beyond the measurement of consequences to attach a value to the set of effect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measure of valu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The most common measure of value i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DOLLARS!!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6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Disability day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Life-years gain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edical complications avoid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rital disruption avoided…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4952880" y="1600200"/>
            <a:ext cx="3886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buClr>
                <a:srgbClr val="53548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o “DOLLAR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53548a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illingness to p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762120" y="1066680"/>
            <a:ext cx="7619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s means to translate:…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0" y="441972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ot always easy but sometimes both appropriate and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0" y="52578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nalysis that measures Costs &amp; Consequences in $ is called CB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6629400" y="281952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67af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ight Arrow 11"/>
          <p:cNvSpPr/>
          <p:nvPr/>
        </p:nvSpPr>
        <p:spPr>
          <a:xfrm>
            <a:off x="5105520" y="228600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ff00"/>
          </a:solidFill>
          <a:ln w="2556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….(7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SB: the net benefit of the project = B - 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atio of costs divided by benefi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Benefit Analysis (CBA)…….(8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ld Standard for EE …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s it worth it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for economic comparison of widely disparate publicly funded programs in such areas as health, education, and the environ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: valuing a life in monetary te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1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850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other measure of value is </a:t>
            </a:r>
            <a:r>
              <a:rPr b="1" i="1" lang="en-US" sz="3400" spc="-1" strike="noStrike">
                <a:solidFill>
                  <a:srgbClr val="ffff00"/>
                </a:solidFill>
                <a:latin typeface="Arial"/>
              </a:rPr>
              <a:t>Utility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finition: the preferences that the individuals or the society may have for any particular set of health outcomes (a given health state or a profile of states through tim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102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st Utility Analysis (CUA) …. (2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coming the most common form of analysi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dely used in Britain and Canad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lows comparison of many projects with health-related outcom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ften called cost-effectiveness analysis; closely relat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3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tility analysis is useful in adjusting prolongation of life on quality of life. It allows for more than one disease or health problem to be compare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eneric outcome measures: Quality-Adjusted Life-Years (QALYs) or Healthy Years Equivalent (HYE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measures result from adjusting health outcome by the utility value (on a scale of 0 to 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4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is a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QALY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Quality Adjusted Life Years is the number of years at full health that would be valued equivalently to a given number of years of life experienced with a disease or disabili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cision criterion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Incremental Cost Utility Ration (ICUR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pu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$ per QALY (= LY in excellent health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Date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6B06-44DC-45BD-AAA0-16E5AB783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. (5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blems with QALY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bjective and difficult to measur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73240">
              <a:spcBef>
                <a:spcPts val="649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ose QALYs should count?  A representative sample of the population or the affected group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ALY scales will differ depending upon factors such as: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g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Health Stat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wad MATARIA, Ph.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nomic Evaluation – Jul. 20th,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A8D1-360D-49EC-B092-DA1471A6E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1907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228600" y="304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st Utility Analysis (CUA) ……. (6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457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 summary…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should d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and with what health care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CER/ICUR and decision making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culate the ICER/ICUR for having the program of interest and not the comparato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pare the calculated ICER to an pre-establishe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threshold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f acceptance or to a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league t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ncluding the ICERs/ICURs of socially accepted and socially unaccepted health progra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ggested cut-offs of $30,000 - $50,000 per QAL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991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FULL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economic evaluations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04920" y="914400"/>
          <a:ext cx="8458200" cy="5411880"/>
        </p:xfrm>
        <a:graphic>
          <a:graphicData uri="http://schemas.openxmlformats.org/drawingml/2006/table">
            <a:tbl>
              <a:tblPr/>
              <a:tblGrid>
                <a:gridCol w="1985760"/>
                <a:gridCol w="1986120"/>
                <a:gridCol w="23526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 of stu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of cos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dentific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asurement / valuation of consequenc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minimization analysi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in all relevant respect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 analysis (CE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effect of interest, common to both alternatives, but achieved to different degree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units (e.g., life-years gained, disability-days saved, points of blood pressure reduction, etc.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utility analysis (CU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y years or (more often) quality adjusted life-ye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benefit analysis (CBA)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le or multiple effect, not necessarily common to both alternativ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llars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0880" y="1600200"/>
            <a:ext cx="8382240" cy="44496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ota bona: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 meaningful Economic Evaluation should be preceded by three other types of evaluation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n it work?.……………………..……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ICAC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 it work?.........................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FFECTIVENES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 it reaching those who need it?... “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VAILABILIT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t is worth to note that…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are many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icaciou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effectiv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grams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however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e cannot implement them all … even those identified as “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worthwhi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”!...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scarce resour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question is which programs to implement and how we should allocate our limited funds among those implemented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swer: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29196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y is Economic Evaluation importan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RESOUR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people, time, facilities, equipment, and knowledge – are sca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CHOIC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ust be – and will be – made concerning their de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METHO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ch as: ‘what we did last time’ and even ‘educated guesses’ are not always better than an organized decision-making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Economic Evaluation (EE)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ffffff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Economic Evaluatio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s an analytical approach that examines the costs and consequences of alternative programs in order to inform decisions about the allocation of scarce resources. It uses an established set of economic tool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eed to weigh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st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Inputs) and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Consequences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(Outputs)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629400" y="3505320"/>
            <a:ext cx="1981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sts (In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28600" y="4191120"/>
            <a:ext cx="28195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Consequences (Output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5" descr="bs01997_"/>
          <p:cNvPicPr/>
          <p:nvPr/>
        </p:nvPicPr>
        <p:blipFill>
          <a:blip r:embed="rId1"/>
          <a:stretch/>
        </p:blipFill>
        <p:spPr>
          <a:xfrm>
            <a:off x="2743200" y="2514600"/>
            <a:ext cx="3691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06:14:48Z</dcterms:created>
  <dc:creator>awahabs</dc:creator>
  <dc:description/>
  <dc:language>en-US</dc:language>
  <cp:lastModifiedBy>emro</cp:lastModifiedBy>
  <dcterms:modified xsi:type="dcterms:W3CDTF">2012-12-16T14:52:01Z</dcterms:modified>
  <cp:revision>548</cp:revision>
  <dc:subject/>
  <dc:title>Slide 1</dc:title>
</cp:coreProperties>
</file>