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D38-6548-4C0B-A42C-D6ED2157B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7CA9-C1EA-4AD0-87AA-4E2336CC51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the three analysts p.18 (Drummon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re are different perspectives it is useful to view costs and consequences as building blocks, which can be assembled in the different eval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A41-EE0B-4596-9259-A91C487DFC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2F65-EC96-482C-9BEF-5174146AB5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 * relevant Unit p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890-1052-40BD-A460-F948FD0300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D59F-D119-4C05-AFC4-426EAB3E3B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E98-07D7-4C8D-9122-79EA537B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A30-8D1B-4E33-919D-D93C774E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C5F-19DE-48E5-906A-F05A1A12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13AC-EB8E-4D41-B28C-81543D5F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B462-8F61-4511-A130-D56D4D1F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192-77D2-4A6E-B7E2-D69B05B0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651-965D-4263-B996-DDAC21B0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C88-FF33-466C-82FD-004959FA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ABD-AF09-4395-871E-E474F955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9FBD-19FA-40D0-A343-A6A067FF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EF44-A9FD-4519-8564-A5E72BCD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BE2F-7BA4-4311-B190-ECF7ABF3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69B6-CB39-466A-BCEE-43C1108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9608-A2CF-47DA-AB6C-A836088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18B5-040F-42EA-A1B6-004D34A0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D199-36B7-4ECD-9CF5-7F097368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7320-82F0-4989-8288-EA72C3E0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2257-DA16-458B-AF86-7F4DEE23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A0FB-964B-475C-B659-9CA10BF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A014-A4FB-4EC8-8367-5FB0051E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4139-EDFD-41E4-B996-3F99CF9F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25E4-E379-44A0-85C2-461261D8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73E-98C9-4F53-9FCF-552F770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0F4-5ED7-46F1-B957-260E297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F502-A694-48B4-A1B5-6EF86552D8A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E548-9135-4E1F-8E7E-8DA1B3FC5F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850C-3B2A-44DE-AAA2-49E3533028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-Benefi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4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Object 2"/>
          <p:cNvGraphicFramePr/>
          <p:nvPr/>
        </p:nvGraphicFramePr>
        <p:xfrm>
          <a:off x="0" y="1600200"/>
          <a:ext cx="9144000" cy="36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 6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2693880" y="0"/>
          <a:ext cx="4237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3880" y="0"/>
                    <a:ext cx="4237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Rectangle 2" descr=""/>
          <p:cNvPicPr/>
          <p:nvPr/>
        </p:nvPicPr>
        <p:blipFill>
          <a:blip r:embed="rId1"/>
          <a:stretch/>
        </p:blipFill>
        <p:spPr>
          <a:xfrm>
            <a:off x="-19080" y="12600"/>
            <a:ext cx="9010800" cy="13399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depends 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blem tackl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itutional framework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actical measurement challeng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erspective the analyst takes on the role of the economic evalu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7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0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1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74040" cy="1341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WHO-CHOICE and GCE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552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League Tabl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95280" y="1143000"/>
          <a:ext cx="6477120" cy="5257800"/>
        </p:xfrm>
        <a:graphic>
          <a:graphicData uri="http://schemas.openxmlformats.org/drawingml/2006/table">
            <a:tbl>
              <a:tblPr/>
              <a:tblGrid>
                <a:gridCol w="2692440"/>
                <a:gridCol w="378468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rat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1      c2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        Very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2      b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2      c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1      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3      c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0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.5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2      a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.3      Not-C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ea547b"/>
                    </a:solidFill>
                  </a:tcPr>
                </a:tc>
              </a:tr>
            </a:tbl>
          </a:graphicData>
        </a:graphic>
      </p:graphicFrame>
      <p:sp>
        <p:nvSpPr>
          <p:cNvPr id="288" name="Rectangle 3"/>
          <p:cNvSpPr/>
          <p:nvPr/>
        </p:nvSpPr>
        <p:spPr>
          <a:xfrm>
            <a:off x="838080" y="990720"/>
            <a:ext cx="7315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1905120" y="3200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190512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1905120" y="4343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1905120" y="4952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1905120" y="60958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ere to go to know mo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3807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Journals With an EE Focu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European Journal of Health Economi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st Effectiveness and Resource Allocation (online journ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Kim J, Leung G, Woo P, and Goldie S (2004).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st-effectiveness of organized versus opportunistic cervical cytology screening in Hong Ko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. Journal of Public Health, 26(2):130–137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evidence on the cost-effectiveness of alternative cervical cancer screening strateg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109440" y="195120"/>
            <a:ext cx="8577360" cy="1219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etal perspec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an. 22nd, 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BC67-3B0E-4B9B-9061-2F59178F4E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369360" cy="1224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109440" y="231840"/>
            <a:ext cx="8577360" cy="121896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quid-based cytology dominates conventional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shold from the US: $100 000 per YLS is quite commo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 HK no clear threshold but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5 000/YLS, the optimal screening frequency with liquid-based cytology would be every 3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f the threshold is $10 000 per YLS, the optimal screening frequency would be every 4 year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use of constant dollar value (US$ 2000), to deflate all the cos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ture costs and life years were discounted at an annual rate of 3 per c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46160" y="281160"/>
            <a:ext cx="8839080" cy="12128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nsitivity and specificity of screening strategi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per age limit: no upper age limit, 55 and 65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3270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is more worthwhile to implement an organized rather than opportunistic strategy for the screening of cervical cancer, using liquid-based cytolog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conomic evaluation is the comparison of costs and consequences to determine the most efficient allocation of scarce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everal challenges: methodological issu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evaluation will be increasingly used, especially in times of limited public health resourc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4" descr=""/>
          <p:cNvPicPr/>
          <p:nvPr/>
        </p:nvPicPr>
        <p:blipFill>
          <a:blip r:embed="rId1"/>
          <a:stretch/>
        </p:blipFill>
        <p:spPr>
          <a:xfrm>
            <a:off x="-115920" y="171360"/>
            <a:ext cx="90345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2"/>
          <p:cNvGraphicFramePr/>
          <p:nvPr/>
        </p:nvGraphicFramePr>
        <p:xfrm>
          <a:off x="609480" y="1371600"/>
          <a:ext cx="7925040" cy="497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371600"/>
                    <a:ext cx="7925040" cy="49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ull economic evaluation with consequences being valued in monetary uni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rect comparison of costs &amp; consequences in the same unit of measur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BA: an approach or an analysi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 Social Benefit (NSB)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cision rule depends on the budget constrai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io of benefits to cos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ig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2"/>
          <p:cNvGraphicFramePr/>
          <p:nvPr/>
        </p:nvGraphicFramePr>
        <p:xfrm>
          <a:off x="609480" y="928800"/>
          <a:ext cx="8001000" cy="558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28800"/>
                    <a:ext cx="80010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A/CUA useful to allocate a fixed budget to maximize a selected effectiveness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o so we ne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and comparable data on all alterna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l periodic budget allocation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difference from CEA/CU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A/CUA gives the price to achieve an incremental goal, but not whether a goal is worth achieving. Hence, invoke some external criterion of value: League tables and thresholds (arbitr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on maker implicitly or explicitly do the monetary 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455040" cy="1224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nce both do involve monetary valuations, are they equivalen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ilosophical difference: ‘decision-making philosophy versus welfare economics and consumer sovereignt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BA has a broader scope: transportation and environmen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Production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allocative efficien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cess utility’, ‘reassurance value’ and non-health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EA/CUA are client-focused (patients), not possible to directly include externalit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Rectangle 2" descr=""/>
          <p:cNvPicPr/>
          <p:nvPr/>
        </p:nvPicPr>
        <p:blipFill>
          <a:blip r:embed="rId1"/>
          <a:stretch/>
        </p:blipFill>
        <p:spPr>
          <a:xfrm>
            <a:off x="-115920" y="92160"/>
            <a:ext cx="9107640" cy="1224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ree approach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uman capital approa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veal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ed prefer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8T08:16:56Z</dcterms:modified>
  <cp:revision>557</cp:revision>
  <dc:subject/>
  <dc:title>Slide 1</dc:title>
</cp:coreProperties>
</file>