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900-0DCD-46D7-B0BC-2F509B96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0167-A62F-4A99-8002-6B5B925F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C3F-352A-427C-B2F5-CC0E8702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4AC9-DA80-49E7-A2FA-12026B05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34D4-32A5-432D-A8FE-52A245D7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99AA-C18B-42F4-A7E5-C0A2056F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C4FB-EFFE-49C3-9749-EDE322B3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E7D3-331E-4E68-BA6A-5F39D898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6822-B2E5-4CEC-99D8-979D0C65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5534-F3A4-44A0-A714-54F7A5C4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830B-02B5-4557-AA6D-8717C22B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772-1F26-4A2E-B9B1-78B09DDD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F9D7-649D-4BA1-BEB9-F429CD48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D35E-4863-4E4B-8000-E5BE85C8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F0C2-8762-4A81-9BDC-32862BBB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110D-484E-4E6D-828D-29FA5FDE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7A73-5F9F-4C86-AE75-E625BC54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C2A5-46C7-4053-B235-CA74518D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817-0D19-423F-A63E-0262B68F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5AE-EAA4-4FE1-922F-582B69EE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353-CFAE-4EE2-8415-9EF43F9C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513-72A7-4039-B21D-9DD31B3E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4B21-90AA-4285-BDE2-C692AE51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5141-BF95-4FBC-96DF-BDD7F11A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40F2-7067-4624-A7F7-6EF90C76028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E513-0CB2-4D0F-AE01-389A8FA82B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-6480" y="566640"/>
            <a:ext cx="9156960" cy="5919840"/>
            <a:chOff x="-6480" y="566640"/>
            <a:chExt cx="9156960" cy="591984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-6480" y="56664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" name="Picture 7" descr="EMRM-042"/>
          <p:cNvPicPr/>
          <p:nvPr/>
        </p:nvPicPr>
        <p:blipFill>
          <a:blip r:embed="rId4"/>
          <a:stretch/>
        </p:blipFill>
        <p:spPr>
          <a:xfrm>
            <a:off x="7162920" y="5835600"/>
            <a:ext cx="1981080" cy="10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" name="Line 9"/>
          <p:cNvSpPr/>
          <p:nvPr/>
        </p:nvSpPr>
        <p:spPr>
          <a:xfrm>
            <a:off x="2209680" y="6324480"/>
            <a:ext cx="4953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0" descr="LogoE"/>
          <p:cNvPicPr/>
          <p:nvPr/>
        </p:nvPicPr>
        <p:blipFill>
          <a:blip r:embed="rId5">
            <a:lum bright="100000"/>
          </a:blip>
          <a:stretch/>
        </p:blipFill>
        <p:spPr>
          <a:xfrm>
            <a:off x="0" y="5927760"/>
            <a:ext cx="2209680" cy="85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DDF9-F245-48E9-915E-702D799970A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58DF-B2E4-4996-A2DC-7036F02A7D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le 1"/>
          <p:cNvSpPr/>
          <p:nvPr/>
        </p:nvSpPr>
        <p:spPr>
          <a:xfrm>
            <a:off x="304920" y="114300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pacity Building Worksh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 with Special Application to Non-Communicable Diseas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44197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WHO – EMR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airo, Egypt, 16-18 December 201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orkshop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the Workshop is to build national research capacities in the area of Economic Evaluation of health program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y the end of the workshop, you will be able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fundamental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purpo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 the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ypes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Economic Evaluati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00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able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Evaluation results to aid priority se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914400"/>
          <a:ext cx="9144000" cy="6188040"/>
        </p:xfrm>
        <a:graphic>
          <a:graphicData uri="http://schemas.openxmlformats.org/drawingml/2006/table">
            <a:tbl>
              <a:tblPr/>
              <a:tblGrid>
                <a:gridCol w="1392120"/>
                <a:gridCol w="3484800"/>
                <a:gridCol w="2133360"/>
                <a:gridCol w="93960"/>
                <a:gridCol w="2039760"/>
              </a:tblGrid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im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ay 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9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8:30-10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eneral introduction to Health Economic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E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B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0:30-11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1:00-13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ntroduction to Economic Evalua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E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B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3:00-14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ch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4:00-15: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U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lenary Discuss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&amp;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losur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5:30-16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ffee Brea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6:00-17: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 on Cost Analysis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xercise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n CU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4" name="Rectangle 7"/>
          <p:cNvSpPr/>
          <p:nvPr/>
        </p:nvSpPr>
        <p:spPr>
          <a:xfrm>
            <a:off x="0" y="914400"/>
            <a:ext cx="9144000" cy="6019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matariaa</cp:lastModifiedBy>
  <dcterms:modified xsi:type="dcterms:W3CDTF">2012-12-16T05:57:58Z</dcterms:modified>
  <cp:revision>535</cp:revision>
  <dc:subject/>
  <dc:title>Slide 1</dc:title>
</cp:coreProperties>
</file>