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E641B-C23E-46E2-82BC-30FD218A9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9B3E-2FAD-4A1E-BA0A-B5E675047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2EA5-029C-47F8-9DFD-774AE8A3D96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9BB7F-3167-4298-BA94-D9E3055129D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4308C-90CB-40A3-A4A1-3FDB2EA322F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1A33B-E28A-492C-A392-6A9268D879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37A0-B0CD-40BF-91C4-88D9C672D49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18C1C-96C8-40FE-BAEF-BF0CEC547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F96D-B665-44A5-95F0-147BF89C4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108B17-9C3F-4BAD-BA37-D81D576039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D84E9-DC6F-44C7-BF16-032C52BD1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7181F5-F673-4037-B0AC-639C0BD6D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D4DCD-11F3-49FB-BE38-AC630A0A5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520EE-ACAC-4D48-8CF8-92281D1A1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14A136-471C-47FC-B622-8687C4E9F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48B575-EAE0-4CE6-8FE6-2177D3F9A5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39510D-EE11-4677-A155-193CB0D333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7EB881-3AFF-46D8-B8ED-0CBF3D9C73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447D3-FDBB-4EB6-901B-501B27AAD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89A0F-3CEE-4EF8-B569-A14C811D0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3D747-7F57-47E6-AA6D-5C8C3BCCB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6AB7C-22EE-4D94-AAD3-0C4B4EF7A9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5207D-182A-430A-BDC4-A7DD10621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607F0-0419-435F-9CF4-9FF7272B9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D593F-7C0B-4401-A0F1-B2532F37B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B45EB-8594-4638-974F-146B79AC7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1179-CD38-4265-B410-5F5C5A57E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E0B32-D621-435B-B648-2EDA15DC9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EAEE-82A3-4C04-8F7C-2F4F06137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45F8D-4903-426B-A728-EDB782049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2C708-9005-4A17-BA33-89D51FD49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2B250-8ADB-4B48-93DA-1AE13AFD4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2BF47-6229-44BD-8BF1-AC76C17C11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76F608-E2DF-4198-A79E-EB5D2351D0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4C9C02-ACCF-46C5-905F-6CB41AE3C2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3EFF5F-EA84-439C-8606-466B1ACB5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642B47-531C-4E04-A657-41E0A2C25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A1CDC2-691E-478B-B032-958ADA9DB1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C158E-D49C-4592-9970-A2DB7BA6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7E736-5F8C-4EAF-B53E-4D3CB7759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1BCD0-5B13-439E-810E-4DDF3EAD6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6288F2-D4F1-412B-9A5B-3FA71C7E5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530F4-C511-482A-A006-0BA3F3AF3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EC7B7-22A3-4192-B24A-56F983CFF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D60587-D3AE-4B4A-89DA-DEA7C963D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E2D59C-550E-4BEF-A563-17E91D680E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7C34EB-A79F-4DAF-89FC-E584B978C3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4EEEA8-3A03-4F3B-911D-270615DCE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A37DAF-C982-43BE-A5C9-B16ADC7EDF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54A20-8D57-4E56-B88D-02E1F67C4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FA60B-03AB-40E5-AB64-F21719B81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18754-D84A-448C-A5ED-9264A60EFF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7BDA4-A9DE-423F-999C-D3A5E4DEAB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C4F38-43A7-444B-A603-E690B5E50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DBFE0-B27E-4009-8AFB-75D41C6229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3B991A-9E6E-446E-8F42-362982471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E8A898-841A-4324-9075-7E64E3A03C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4B00D7-E53E-4B3F-82A7-A722D57DEA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555E1D-55F5-46B3-B9CC-FA8C589899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98F9C6-8F9D-4A83-8CCA-2F9E67A9EE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A38A-272B-4C3D-86CC-B3E76B2F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6C7C7-C28A-44B6-BAB4-692385B7FA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D47D9-FF8A-4CA6-AFAC-116A78EA1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D8966D-2AB1-487D-8308-0261EE4F4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23723E-C592-4E08-A23A-85937BA5E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92603E-0E83-46E8-B3EB-1E9A180135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295FE-77D6-4AA7-B7BE-124ED82F2E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901C20-64C5-43AD-ABD4-A02DB7747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4AA8FA-8F3B-460C-A43F-997F1C75E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EDC0F-13CF-43A2-82EC-20794CC4FA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23379E-E033-4A83-A4ED-0F65C5E13F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495D4-EF1D-4775-A31B-AD3123BF8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D96403-1666-4801-A95D-6A3D479291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FDB9C2-9DBA-40C7-B139-C16633F852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F6065A-8C6B-468C-ACAD-97954CC303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696CFF-9ADC-4E62-B273-C2A3CF9228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7C1BDD-00EB-4104-A4C6-E4CE4AC5B1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73CA7-B365-416B-ADE2-9A48BB9CDE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A5DD9-3EBA-4E8E-986B-6E8EBE10A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8F3E0-69F4-4D74-9E86-60ED85CC7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A6BF9-9CA9-49AA-992D-384DE28439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87A7A-BE47-43F5-8DE2-D440F65D65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DB96F-44B4-46D4-957D-6F1098188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2610F1-6FB9-40FB-975C-31FEB12403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20C5E8-A7A3-4674-BAE2-CA097AC5D6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AE56E-AB4D-433F-A844-24820860AE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75BA7-150E-4D70-B1DC-7E383AA764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3FC485-AB23-4917-B084-6F6D52B420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B405BD-CC15-4320-AD5E-A8E78ED784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CAD1B-4F0C-4E68-9A49-7D92567C3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EB086-3F3D-4083-8D78-B598A97A3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A4464-C238-4B09-A76B-5C6633049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AE94EE-86F4-483C-B9F0-BA94619FB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7CE89-0F0C-44D4-A709-CD846B67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35C40-E4FC-4C24-96C8-8FB5B1744E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ED5436-8DB2-4370-8FE4-C55F42256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B6694-ABA8-4FF8-8749-6B447824F3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2D42E-8555-4D41-A4A6-C3ED569521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321EB0-DC8D-4336-A840-0613C83987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B64398-0D0D-4B99-8534-B6FC907BA4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821FB7-36E7-4816-9CD2-B1ABCB078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A403D3-7587-4B75-9F2A-8C5678610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DF96FD-AA4C-488F-A4AC-86EF39EA5A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71C05-499E-4C50-9D46-66AAA26E0F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75C6-9A8C-4223-BCF1-2DB4D54F7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6B73B-F997-45F2-8A12-15D3C64B5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9ECE0B-03F7-4B5D-BFDD-1089D7954A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C07BD-636C-4D29-B7F7-E614D42F89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C05A6-6A82-4198-9291-B5C279759C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356E19-4439-49E2-AC65-699AFE4BF6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77D0EE-3930-47D0-9A1E-4A8BE48011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B17BB-7D01-4B13-8A75-0AF6FE7B6C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A3BA7B-18FE-4E49-A49D-005AB60786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38D67-EDF2-4601-91B1-B3F4857B1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C1363-E7C0-4DA2-B122-A36DD77796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6B5B9-2461-4A0D-ACC0-91E47AFA6C0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D837-BE74-44CE-9DD3-F81687444D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E32D-C716-42FA-95E5-1024956D65AA}"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9658-1D20-4AB0-A0E1-261491516BF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DE8A-C21C-41F3-8248-4D41B32B9B0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F3B18-3C88-4509-B69F-97BBA54462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5B71-55A1-432A-B09A-4255B16D875D}"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E21D-A808-41D4-9460-85E166EBE3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80CC-8525-406E-8F91-9A6D3484A794}"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36EA2-5B34-4452-948D-D288FCCE44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2AA5-EEC4-4CB9-9336-9EBD46D671E9}"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D0CD-9BBF-4771-94E1-4776A077BA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C362-B3CC-4AFC-91B1-0AE46838896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CCEB-193F-4EFA-8F60-A550D6F7B7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AC07-B955-4721-93A6-87E580454B4C}"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01B9-2CDC-422E-8C80-9C3323D29B6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BAF9-A82E-44A6-9543-6D2BEF4CACC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7EB2-0A02-41CA-8057-E51CF54CFB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38917EDC-98B7-4B90-BEB9-F30C3BC2254D}" type="slidenum">
              <a:t>1</a:t>
            </a:fld>
          </a:p>
        </p:txBody>
      </p:sp>
      <p:sp>
        <p:nvSpPr>
          <p:cNvPr id="5" name="PlaceHolder 4"/>
          <p:cNvSpPr>
            <a:spLocks noGrp="1"/>
          </p:cNvSpPr>
          <p:nvPr>
            <p:ph type="dt" idx="4"/>
          </p:nvPr>
        </p:nvSpPr>
        <p:spPr/>
        <p:txBody>
          <a:bodyPr/>
          <a:p>
            <a:fld id="{247ED48D-661C-4F22-8A5E-4563D434055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C672-9798-4A70-803D-37BD55B29DF2}"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0975-B82F-4FB0-BEEF-1BE8CF43A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5E2E391-E69E-4047-8DAF-7AEC6546BAF3}" type="slidenum">
              <a:t>10</a:t>
            </a:fld>
          </a:p>
        </p:txBody>
      </p:sp>
      <p:sp>
        <p:nvSpPr>
          <p:cNvPr id="5" name="PlaceHolder 4"/>
          <p:cNvSpPr>
            <a:spLocks noGrp="1"/>
          </p:cNvSpPr>
          <p:nvPr>
            <p:ph type="dt" idx="1"/>
          </p:nvPr>
        </p:nvSpPr>
        <p:spPr/>
        <p:txBody>
          <a:bodyPr/>
          <a:p>
            <a:fld id="{88EA3563-EF52-4E6E-8967-F4A202F0560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DFCB6751-AA89-488D-AF68-764D5940F10F}" type="slidenum">
              <a:t>11</a:t>
            </a:fld>
          </a:p>
        </p:txBody>
      </p:sp>
      <p:sp>
        <p:nvSpPr>
          <p:cNvPr id="3" name="PlaceHolder 2"/>
          <p:cNvSpPr>
            <a:spLocks noGrp="1"/>
          </p:cNvSpPr>
          <p:nvPr>
            <p:ph type="dt" idx="1"/>
          </p:nvPr>
        </p:nvSpPr>
        <p:spPr/>
        <p:txBody>
          <a:bodyPr/>
          <a:p>
            <a:fld id="{6400EA28-9CB5-4C29-ABAD-C5E23F071D7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B2157C4-82B6-4B48-B7E4-6563201EF5A9}" type="slidenum">
              <a:t>12</a:t>
            </a:fld>
          </a:p>
        </p:txBody>
      </p:sp>
      <p:sp>
        <p:nvSpPr>
          <p:cNvPr id="4" name="PlaceHolder 3"/>
          <p:cNvSpPr>
            <a:spLocks noGrp="1"/>
          </p:cNvSpPr>
          <p:nvPr>
            <p:ph type="dt" idx="1"/>
          </p:nvPr>
        </p:nvSpPr>
        <p:spPr/>
        <p:txBody>
          <a:bodyPr/>
          <a:p>
            <a:fld id="{B7F4FDD6-62F6-4369-853B-B55AE51EC80E}"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60465FBE-0FC9-483E-B2E7-0AA2FD44E737}" type="slidenum">
              <a:t>13</a:t>
            </a:fld>
          </a:p>
        </p:txBody>
      </p:sp>
      <p:sp>
        <p:nvSpPr>
          <p:cNvPr id="4" name="PlaceHolder 3"/>
          <p:cNvSpPr>
            <a:spLocks noGrp="1"/>
          </p:cNvSpPr>
          <p:nvPr>
            <p:ph type="dt" idx="1"/>
          </p:nvPr>
        </p:nvSpPr>
        <p:spPr/>
        <p:txBody>
          <a:bodyPr/>
          <a:p>
            <a:fld id="{B16CD6BC-6747-40D1-80CE-6D902175B49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1CFD2A8E-C519-4FE2-89BE-FB6A3AC0F32B}" type="slidenum">
              <a:t>14</a:t>
            </a:fld>
          </a:p>
        </p:txBody>
      </p:sp>
      <p:sp>
        <p:nvSpPr>
          <p:cNvPr id="4" name="PlaceHolder 3"/>
          <p:cNvSpPr>
            <a:spLocks noGrp="1"/>
          </p:cNvSpPr>
          <p:nvPr>
            <p:ph type="dt" idx="1"/>
          </p:nvPr>
        </p:nvSpPr>
        <p:spPr/>
        <p:txBody>
          <a:bodyPr/>
          <a:p>
            <a:fld id="{763EDB8B-6F1F-4D85-90D1-4467FDDEB74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ED5C32D5-F2F4-4DF2-9858-8E8069EC5447}" type="slidenum">
              <a:t>15</a:t>
            </a:fld>
          </a:p>
        </p:txBody>
      </p:sp>
      <p:sp>
        <p:nvSpPr>
          <p:cNvPr id="3" name="PlaceHolder 2"/>
          <p:cNvSpPr>
            <a:spLocks noGrp="1"/>
          </p:cNvSpPr>
          <p:nvPr>
            <p:ph type="dt" idx="1"/>
          </p:nvPr>
        </p:nvSpPr>
        <p:spPr/>
        <p:txBody>
          <a:bodyPr/>
          <a:p>
            <a:fld id="{04D89F2E-0DBD-45DB-A243-E184991627F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CCD2573-5A1D-46B1-A4E8-B7A0F0B94609}" type="slidenum">
              <a:t>16</a:t>
            </a:fld>
          </a:p>
        </p:txBody>
      </p:sp>
      <p:sp>
        <p:nvSpPr>
          <p:cNvPr id="4" name="PlaceHolder 3"/>
          <p:cNvSpPr>
            <a:spLocks noGrp="1"/>
          </p:cNvSpPr>
          <p:nvPr>
            <p:ph type="dt" idx="1"/>
          </p:nvPr>
        </p:nvSpPr>
        <p:spPr/>
        <p:txBody>
          <a:bodyPr/>
          <a:p>
            <a:fld id="{5D4E1DA0-E339-452C-BFBD-CB24848D815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AD7756BE-5271-485D-AC5A-9C589A6F2B3D}" type="slidenum">
              <a:t>17</a:t>
            </a:fld>
          </a:p>
        </p:txBody>
      </p:sp>
      <p:sp>
        <p:nvSpPr>
          <p:cNvPr id="4" name="PlaceHolder 3"/>
          <p:cNvSpPr>
            <a:spLocks noGrp="1"/>
          </p:cNvSpPr>
          <p:nvPr>
            <p:ph type="dt" idx="4"/>
          </p:nvPr>
        </p:nvSpPr>
        <p:spPr/>
        <p:txBody>
          <a:bodyPr/>
          <a:p>
            <a:fld id="{F365041C-AA46-42A8-82D3-B9A40BCDE4D7}"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62814D-E30D-4734-8EE4-38CC61A87823}" type="slidenum">
              <a:t>18</a:t>
            </a:fld>
          </a:p>
        </p:txBody>
      </p:sp>
      <p:sp>
        <p:nvSpPr>
          <p:cNvPr id="5" name="PlaceHolder 4"/>
          <p:cNvSpPr>
            <a:spLocks noGrp="1"/>
          </p:cNvSpPr>
          <p:nvPr>
            <p:ph type="dt" idx="1"/>
          </p:nvPr>
        </p:nvSpPr>
        <p:spPr/>
        <p:txBody>
          <a:bodyPr/>
          <a:p>
            <a:fld id="{6846FF41-AC3C-4F7C-ACEF-8FF7C06A5461}"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2D26125-1595-4147-B2BD-5A1C4875FF18}" type="slidenum">
              <a:t>19</a:t>
            </a:fld>
          </a:p>
        </p:txBody>
      </p:sp>
      <p:sp>
        <p:nvSpPr>
          <p:cNvPr id="3" name="PlaceHolder 2"/>
          <p:cNvSpPr>
            <a:spLocks noGrp="1"/>
          </p:cNvSpPr>
          <p:nvPr>
            <p:ph type="dt" idx="1"/>
          </p:nvPr>
        </p:nvSpPr>
        <p:spPr/>
        <p:txBody>
          <a:bodyPr/>
          <a:p>
            <a:fld id="{1F057E80-AAC8-4342-A616-862C90B6506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B0BFDC6C-4729-4291-AE20-68B2166F1023}" type="slidenum">
              <a:t>2</a:t>
            </a:fld>
          </a:p>
        </p:txBody>
      </p:sp>
      <p:sp>
        <p:nvSpPr>
          <p:cNvPr id="4" name="PlaceHolder 3"/>
          <p:cNvSpPr>
            <a:spLocks noGrp="1"/>
          </p:cNvSpPr>
          <p:nvPr>
            <p:ph type="dt" idx="1"/>
          </p:nvPr>
        </p:nvSpPr>
        <p:spPr/>
        <p:txBody>
          <a:bodyPr/>
          <a:p>
            <a:fld id="{B447DEC3-546F-429A-8C66-553CBE671A67}"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C4D24F-2DA1-4663-9FD4-19E19BD576F2}" type="slidenum">
              <a:t>20</a:t>
            </a:fld>
          </a:p>
        </p:txBody>
      </p:sp>
      <p:sp>
        <p:nvSpPr>
          <p:cNvPr id="3" name="PlaceHolder 2"/>
          <p:cNvSpPr>
            <a:spLocks noGrp="1"/>
          </p:cNvSpPr>
          <p:nvPr>
            <p:ph type="dt" idx="1"/>
          </p:nvPr>
        </p:nvSpPr>
        <p:spPr/>
        <p:txBody>
          <a:bodyPr/>
          <a:p>
            <a:fld id="{36E728A1-9B86-4111-989F-6A71E156BDC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1EE69F7-665B-490A-A773-053F9175D347}" type="slidenum">
              <a:t>21</a:t>
            </a:fld>
          </a:p>
        </p:txBody>
      </p:sp>
      <p:sp>
        <p:nvSpPr>
          <p:cNvPr id="4" name="PlaceHolder 3"/>
          <p:cNvSpPr>
            <a:spLocks noGrp="1"/>
          </p:cNvSpPr>
          <p:nvPr>
            <p:ph type="dt" idx="1"/>
          </p:nvPr>
        </p:nvSpPr>
        <p:spPr/>
        <p:txBody>
          <a:bodyPr/>
          <a:p>
            <a:fld id="{26990F3D-C9EF-43A0-AB14-CDA714428BC8}"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2AB4064-4255-4D71-9AF7-7AC5F0441530}" type="slidenum">
              <a:t>22</a:t>
            </a:fld>
          </a:p>
        </p:txBody>
      </p:sp>
      <p:sp>
        <p:nvSpPr>
          <p:cNvPr id="3" name="PlaceHolder 2"/>
          <p:cNvSpPr>
            <a:spLocks noGrp="1"/>
          </p:cNvSpPr>
          <p:nvPr>
            <p:ph type="dt" idx="1"/>
          </p:nvPr>
        </p:nvSpPr>
        <p:spPr/>
        <p:txBody>
          <a:bodyPr/>
          <a:p>
            <a:fld id="{6CA63C3B-8360-4B79-A5AF-F56D7C871228}"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5557764-DA09-4110-8FDC-BB177DF9AE21}" type="slidenum">
              <a:t>23</a:t>
            </a:fld>
          </a:p>
        </p:txBody>
      </p:sp>
      <p:sp>
        <p:nvSpPr>
          <p:cNvPr id="3" name="PlaceHolder 2"/>
          <p:cNvSpPr>
            <a:spLocks noGrp="1"/>
          </p:cNvSpPr>
          <p:nvPr>
            <p:ph type="dt" idx="1"/>
          </p:nvPr>
        </p:nvSpPr>
        <p:spPr/>
        <p:txBody>
          <a:bodyPr/>
          <a:p>
            <a:fld id="{50C2155C-80EE-4EF8-AA86-EBFEB3C41C02}"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1583FC0-26C2-4D52-8011-7805D7B660D8}" type="slidenum">
              <a:t>24</a:t>
            </a:fld>
          </a:p>
        </p:txBody>
      </p:sp>
      <p:sp>
        <p:nvSpPr>
          <p:cNvPr id="3" name="PlaceHolder 2"/>
          <p:cNvSpPr>
            <a:spLocks noGrp="1"/>
          </p:cNvSpPr>
          <p:nvPr>
            <p:ph type="dt" idx="1"/>
          </p:nvPr>
        </p:nvSpPr>
        <p:spPr/>
        <p:txBody>
          <a:bodyPr/>
          <a:p>
            <a:fld id="{74124BEC-8B2D-4B2C-8C3B-5C43F6EC2184}"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6F755EF-647E-464C-8B3B-1B36C9048F9D}" type="slidenum">
              <a:t>25</a:t>
            </a:fld>
          </a:p>
        </p:txBody>
      </p:sp>
      <p:sp>
        <p:nvSpPr>
          <p:cNvPr id="3" name="PlaceHolder 2"/>
          <p:cNvSpPr>
            <a:spLocks noGrp="1"/>
          </p:cNvSpPr>
          <p:nvPr>
            <p:ph type="dt" idx="1"/>
          </p:nvPr>
        </p:nvSpPr>
        <p:spPr/>
        <p:txBody>
          <a:bodyPr/>
          <a:p>
            <a:fld id="{548C9AEB-FF65-4B74-A137-691092452DB5}"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865DC1E-5B99-4D05-8F7B-CEC1765D9DAA}" type="slidenum">
              <a:t>26</a:t>
            </a:fld>
          </a:p>
        </p:txBody>
      </p:sp>
      <p:sp>
        <p:nvSpPr>
          <p:cNvPr id="3" name="PlaceHolder 2"/>
          <p:cNvSpPr>
            <a:spLocks noGrp="1"/>
          </p:cNvSpPr>
          <p:nvPr>
            <p:ph type="dt" idx="1"/>
          </p:nvPr>
        </p:nvSpPr>
        <p:spPr/>
        <p:txBody>
          <a:bodyPr/>
          <a:p>
            <a:fld id="{84E0AED1-5102-41AB-AC6F-1C615BCE2335}"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E4E358-31B0-42B1-A6E8-5A6F0227C032}" type="slidenum">
              <a:t>27</a:t>
            </a:fld>
          </a:p>
        </p:txBody>
      </p:sp>
      <p:sp>
        <p:nvSpPr>
          <p:cNvPr id="3" name="PlaceHolder 2"/>
          <p:cNvSpPr>
            <a:spLocks noGrp="1"/>
          </p:cNvSpPr>
          <p:nvPr>
            <p:ph type="dt" idx="1"/>
          </p:nvPr>
        </p:nvSpPr>
        <p:spPr/>
        <p:txBody>
          <a:bodyPr/>
          <a:p>
            <a:fld id="{523FAC22-125F-45AA-97F9-20F7B6B82D7E}"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C559-D319-4CDD-8CAE-D0619F23ED96}" type="datetime">
              <a:rPr b="0" lang="en-US" sz="1200" spc="-1" strike="noStrike">
                <a:solidFill>
                  <a:srgbClr val="000000"/>
                </a:solidFill>
                <a:latin typeface="Verdana"/>
              </a:rPr>
              <a:t>07/28/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5E1DF70-D3AE-482B-81AC-4DA18ED58986}" type="slidenum">
              <a:t>28</a:t>
            </a:fld>
          </a:p>
        </p:txBody>
      </p:sp>
      <p:sp>
        <p:nvSpPr>
          <p:cNvPr id="4" name="PlaceHolder 3"/>
          <p:cNvSpPr>
            <a:spLocks noGrp="1"/>
          </p:cNvSpPr>
          <p:nvPr>
            <p:ph type="dt" idx="4"/>
          </p:nvPr>
        </p:nvSpPr>
        <p:spPr/>
        <p:txBody>
          <a:bodyPr/>
          <a:p>
            <a:fld id="{CDBBF379-35E6-4536-8627-95FBD3FAD39C}"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FE43FAEA-58DA-4B42-BD33-11DCBC822544}" type="slidenum">
              <a:t>29</a:t>
            </a:fld>
          </a:p>
        </p:txBody>
      </p:sp>
      <p:sp>
        <p:nvSpPr>
          <p:cNvPr id="5" name="PlaceHolder 4"/>
          <p:cNvSpPr>
            <a:spLocks noGrp="1"/>
          </p:cNvSpPr>
          <p:nvPr>
            <p:ph type="dt" idx="4"/>
          </p:nvPr>
        </p:nvSpPr>
        <p:spPr/>
        <p:txBody>
          <a:bodyPr/>
          <a:p>
            <a:fld id="{CF6EDA8B-43BA-4042-872A-D3EFC4E7931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40AB2C0C-61C3-466B-9398-83A77038C1A2}" type="slidenum">
              <a:t>3</a:t>
            </a:fld>
          </a:p>
        </p:txBody>
      </p:sp>
      <p:sp>
        <p:nvSpPr>
          <p:cNvPr id="3" name="PlaceHolder 2"/>
          <p:cNvSpPr>
            <a:spLocks noGrp="1"/>
          </p:cNvSpPr>
          <p:nvPr>
            <p:ph type="dt" idx="1"/>
          </p:nvPr>
        </p:nvSpPr>
        <p:spPr/>
        <p:txBody>
          <a:bodyPr/>
          <a:p>
            <a:fld id="{4A7063F2-8B8D-4F54-AA92-648C5F8E1417}"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F8240B1F-9AB5-42F3-966F-97475A801BBF}" type="slidenum">
              <a:t>30</a:t>
            </a:fld>
          </a:p>
        </p:txBody>
      </p:sp>
      <p:sp>
        <p:nvSpPr>
          <p:cNvPr id="5" name="PlaceHolder 4"/>
          <p:cNvSpPr>
            <a:spLocks noGrp="1"/>
          </p:cNvSpPr>
          <p:nvPr>
            <p:ph type="dt" idx="4"/>
          </p:nvPr>
        </p:nvSpPr>
        <p:spPr/>
        <p:txBody>
          <a:bodyPr/>
          <a:p>
            <a:fld id="{E058FC26-F7DA-4EFF-B10C-7681189C6AD7}"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C1D4B12-4756-4BF8-B63A-5D091F16D178}" type="slidenum">
              <a:t>31</a:t>
            </a:fld>
          </a:p>
        </p:txBody>
      </p:sp>
      <p:sp>
        <p:nvSpPr>
          <p:cNvPr id="5" name="PlaceHolder 4"/>
          <p:cNvSpPr>
            <a:spLocks noGrp="1"/>
          </p:cNvSpPr>
          <p:nvPr>
            <p:ph type="dt" idx="4"/>
          </p:nvPr>
        </p:nvSpPr>
        <p:spPr/>
        <p:txBody>
          <a:bodyPr/>
          <a:p>
            <a:fld id="{462BD578-5B40-47DC-B6D6-60C9753A1325}"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72B030DB-B012-40DF-BB53-9DFA31539EF2}" type="slidenum">
              <a:t>32</a:t>
            </a:fld>
          </a:p>
        </p:txBody>
      </p:sp>
      <p:sp>
        <p:nvSpPr>
          <p:cNvPr id="5" name="PlaceHolder 4"/>
          <p:cNvSpPr>
            <a:spLocks noGrp="1"/>
          </p:cNvSpPr>
          <p:nvPr>
            <p:ph type="dt" idx="4"/>
          </p:nvPr>
        </p:nvSpPr>
        <p:spPr/>
        <p:txBody>
          <a:bodyPr/>
          <a:p>
            <a:fld id="{D54BE2E8-DFB6-4726-B75B-B048ACD2E1AE}"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57AC771B-46A9-430D-9127-1B280A86AD96}" type="slidenum">
              <a:t>33</a:t>
            </a:fld>
          </a:p>
        </p:txBody>
      </p:sp>
      <p:sp>
        <p:nvSpPr>
          <p:cNvPr id="5" name="PlaceHolder 4"/>
          <p:cNvSpPr>
            <a:spLocks noGrp="1"/>
          </p:cNvSpPr>
          <p:nvPr>
            <p:ph type="dt" idx="4"/>
          </p:nvPr>
        </p:nvSpPr>
        <p:spPr/>
        <p:txBody>
          <a:bodyPr/>
          <a:p>
            <a:fld id="{FDC98E68-A6B5-4802-8CA1-BE6AA8108B9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A02133D-11F6-491E-B370-F093A9BEED6D}" type="slidenum">
              <a:t>34</a:t>
            </a:fld>
          </a:p>
        </p:txBody>
      </p:sp>
      <p:sp>
        <p:nvSpPr>
          <p:cNvPr id="3" name="PlaceHolder 2"/>
          <p:cNvSpPr>
            <a:spLocks noGrp="1"/>
          </p:cNvSpPr>
          <p:nvPr>
            <p:ph type="dt" idx="4"/>
          </p:nvPr>
        </p:nvSpPr>
        <p:spPr/>
        <p:txBody>
          <a:bodyPr/>
          <a:p>
            <a:fld id="{F95238CE-DA35-466D-8FCA-1DB67B35156B}"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154704BF-D4C0-4849-9594-0593539BCB95}" type="slidenum">
              <a:t>35</a:t>
            </a:fld>
          </a:p>
        </p:txBody>
      </p:sp>
      <p:sp>
        <p:nvSpPr>
          <p:cNvPr id="5" name="PlaceHolder 4"/>
          <p:cNvSpPr>
            <a:spLocks noGrp="1"/>
          </p:cNvSpPr>
          <p:nvPr>
            <p:ph type="dt" idx="4"/>
          </p:nvPr>
        </p:nvSpPr>
        <p:spPr/>
        <p:txBody>
          <a:bodyPr/>
          <a:p>
            <a:fld id="{1B17AE5C-B551-41BF-B2B7-3F502A8315DD}"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4C1DF08C-3B20-4E7C-AFED-72DBBB82DAE0}" type="slidenum">
              <a:t>36</a:t>
            </a:fld>
          </a:p>
        </p:txBody>
      </p:sp>
      <p:sp>
        <p:nvSpPr>
          <p:cNvPr id="4" name="PlaceHolder 3"/>
          <p:cNvSpPr>
            <a:spLocks noGrp="1"/>
          </p:cNvSpPr>
          <p:nvPr>
            <p:ph type="dt" idx="4"/>
          </p:nvPr>
        </p:nvSpPr>
        <p:spPr/>
        <p:txBody>
          <a:bodyPr/>
          <a:p>
            <a:fld id="{283D9884-2B59-4C3D-9FE6-AE1A592703A4}"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39691F8D-2777-4B82-B776-EEF077C0F8AA}" type="slidenum">
              <a:t>37</a:t>
            </a:fld>
          </a:p>
        </p:txBody>
      </p:sp>
      <p:sp>
        <p:nvSpPr>
          <p:cNvPr id="5" name="PlaceHolder 4"/>
          <p:cNvSpPr>
            <a:spLocks noGrp="1"/>
          </p:cNvSpPr>
          <p:nvPr>
            <p:ph type="dt" idx="4"/>
          </p:nvPr>
        </p:nvSpPr>
        <p:spPr/>
        <p:txBody>
          <a:bodyPr/>
          <a:p>
            <a:fld id="{A123C532-87A4-4857-A514-1BCD8B9BA399}"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2025A77F-D542-4D4F-ACEE-FF74B924E6CE}" type="slidenum">
              <a:t>38</a:t>
            </a:fld>
          </a:p>
        </p:txBody>
      </p:sp>
      <p:sp>
        <p:nvSpPr>
          <p:cNvPr id="4" name="PlaceHolder 3"/>
          <p:cNvSpPr>
            <a:spLocks noGrp="1"/>
          </p:cNvSpPr>
          <p:nvPr>
            <p:ph type="dt" idx="4"/>
          </p:nvPr>
        </p:nvSpPr>
        <p:spPr/>
        <p:txBody>
          <a:bodyPr/>
          <a:p>
            <a:fld id="{0C41C615-E599-4B4A-943B-D53C86B9D33C}"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4020741-43CC-43CD-954E-91D21A8E5AA4}" type="slidenum">
              <a:t>39</a:t>
            </a:fld>
          </a:p>
        </p:txBody>
      </p:sp>
      <p:sp>
        <p:nvSpPr>
          <p:cNvPr id="4" name="PlaceHolder 3"/>
          <p:cNvSpPr>
            <a:spLocks noGrp="1"/>
          </p:cNvSpPr>
          <p:nvPr>
            <p:ph type="dt" idx="4"/>
          </p:nvPr>
        </p:nvSpPr>
        <p:spPr/>
        <p:txBody>
          <a:bodyPr/>
          <a:p>
            <a:fld id="{B457BF5E-32A6-43E1-B180-609C4629E90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EDD4D801-FCB8-4F35-A1CB-156B783DE578}" type="slidenum">
              <a:t>4</a:t>
            </a:fld>
          </a:p>
        </p:txBody>
      </p:sp>
      <p:sp>
        <p:nvSpPr>
          <p:cNvPr id="5" name="PlaceHolder 4"/>
          <p:cNvSpPr>
            <a:spLocks noGrp="1"/>
          </p:cNvSpPr>
          <p:nvPr>
            <p:ph type="dt" idx="1"/>
          </p:nvPr>
        </p:nvSpPr>
        <p:spPr/>
        <p:txBody>
          <a:bodyPr/>
          <a:p>
            <a:fld id="{17D12648-0A57-4BE4-BB6A-25D8D73442F3}"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CCC8B2FC-7CEB-48B0-BBD5-5D884CDBCB92}" type="slidenum">
              <a:t>40</a:t>
            </a:fld>
          </a:p>
        </p:txBody>
      </p:sp>
      <p:sp>
        <p:nvSpPr>
          <p:cNvPr id="4" name="PlaceHolder 3"/>
          <p:cNvSpPr>
            <a:spLocks noGrp="1"/>
          </p:cNvSpPr>
          <p:nvPr>
            <p:ph type="dt" idx="4"/>
          </p:nvPr>
        </p:nvSpPr>
        <p:spPr/>
        <p:txBody>
          <a:bodyPr/>
          <a:p>
            <a:fld id="{9DD87586-1704-4736-9998-DC8E6FB856C5}"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C55A1D24-C71C-4E53-B018-9300CF9B42F7}" type="slidenum">
              <a:t>41</a:t>
            </a:fld>
          </a:p>
        </p:txBody>
      </p:sp>
      <p:sp>
        <p:nvSpPr>
          <p:cNvPr id="3" name="PlaceHolder 2"/>
          <p:cNvSpPr>
            <a:spLocks noGrp="1"/>
          </p:cNvSpPr>
          <p:nvPr>
            <p:ph type="dt" idx="4"/>
          </p:nvPr>
        </p:nvSpPr>
        <p:spPr/>
        <p:txBody>
          <a:bodyPr/>
          <a:p>
            <a:fld id="{B407155D-0804-4BFA-B084-ED90F6DFB61F}"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925FADBE-D1A5-4563-942D-D3B19DB17D0E}" type="slidenum">
              <a:t>42</a:t>
            </a:fld>
          </a:p>
        </p:txBody>
      </p:sp>
      <p:sp>
        <p:nvSpPr>
          <p:cNvPr id="5" name="PlaceHolder 4"/>
          <p:cNvSpPr>
            <a:spLocks noGrp="1"/>
          </p:cNvSpPr>
          <p:nvPr>
            <p:ph type="dt" idx="4"/>
          </p:nvPr>
        </p:nvSpPr>
        <p:spPr/>
        <p:txBody>
          <a:bodyPr/>
          <a:p>
            <a:fld id="{42C17BE5-3E17-4253-966F-FC0BEEB4F50F}"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240B7159-1036-4A5C-A124-6B625B814267}" type="slidenum">
              <a:t>43</a:t>
            </a:fld>
          </a:p>
        </p:txBody>
      </p:sp>
      <p:sp>
        <p:nvSpPr>
          <p:cNvPr id="5" name="PlaceHolder 4"/>
          <p:cNvSpPr>
            <a:spLocks noGrp="1"/>
          </p:cNvSpPr>
          <p:nvPr>
            <p:ph type="dt" idx="4"/>
          </p:nvPr>
        </p:nvSpPr>
        <p:spPr/>
        <p:txBody>
          <a:bodyPr/>
          <a:p>
            <a:fld id="{82743EF4-6C7A-4A6A-8755-C2EEA3FEE110}"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10CC973-BD88-4BD3-AF9A-8247AD6CA964}" type="slidenum">
              <a:t>44</a:t>
            </a:fld>
          </a:p>
        </p:txBody>
      </p:sp>
      <p:sp>
        <p:nvSpPr>
          <p:cNvPr id="5" name="PlaceHolder 4"/>
          <p:cNvSpPr>
            <a:spLocks noGrp="1"/>
          </p:cNvSpPr>
          <p:nvPr>
            <p:ph type="dt" idx="4"/>
          </p:nvPr>
        </p:nvSpPr>
        <p:spPr/>
        <p:txBody>
          <a:bodyPr/>
          <a:p>
            <a:fld id="{75A39C51-407E-454F-AC21-03B5D1BAD06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2AC8E477-0588-4FF9-A6BE-316F2FF3D585}" type="slidenum">
              <a:t>45</a:t>
            </a:fld>
          </a:p>
        </p:txBody>
      </p:sp>
      <p:sp>
        <p:nvSpPr>
          <p:cNvPr id="4" name="PlaceHolder 3"/>
          <p:cNvSpPr>
            <a:spLocks noGrp="1"/>
          </p:cNvSpPr>
          <p:nvPr>
            <p:ph type="dt" idx="4"/>
          </p:nvPr>
        </p:nvSpPr>
        <p:spPr/>
        <p:txBody>
          <a:bodyPr/>
          <a:p>
            <a:fld id="{B02FB7DC-9597-4863-8D5B-289BEBCEFFAA}"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6C8DA6F9-8204-4473-9D1B-1A4564A14F8A}" type="slidenum">
              <a:t>46</a:t>
            </a:fld>
          </a:p>
        </p:txBody>
      </p:sp>
      <p:sp>
        <p:nvSpPr>
          <p:cNvPr id="5" name="PlaceHolder 4"/>
          <p:cNvSpPr>
            <a:spLocks noGrp="1"/>
          </p:cNvSpPr>
          <p:nvPr>
            <p:ph type="dt" idx="4"/>
          </p:nvPr>
        </p:nvSpPr>
        <p:spPr/>
        <p:txBody>
          <a:bodyPr/>
          <a:p>
            <a:fld id="{9C582AE7-FAE9-4FFD-8303-8CED615F7DB9}"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D423-6CFE-4590-A2CC-086753517A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728F-C568-4523-8525-9C87CF4253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1C7C53F7-590D-4C6A-8D96-62F2588E5D01}" type="slidenum">
              <a:t>47</a:t>
            </a:fld>
          </a:p>
        </p:txBody>
      </p:sp>
      <p:sp>
        <p:nvSpPr>
          <p:cNvPr id="4" name="PlaceHolder 3"/>
          <p:cNvSpPr>
            <a:spLocks noGrp="1"/>
          </p:cNvSpPr>
          <p:nvPr>
            <p:ph type="dt" idx="4"/>
          </p:nvPr>
        </p:nvSpPr>
        <p:spPr/>
        <p:txBody>
          <a:bodyPr/>
          <a:p>
            <a:fld id="{5A8201DC-261F-47D8-B4EA-2FEA321FE7C0}"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78EB9BE6-AEE0-43E7-9212-19C479870FF0}" type="slidenum">
              <a:t>48</a:t>
            </a:fld>
          </a:p>
        </p:txBody>
      </p:sp>
      <p:sp>
        <p:nvSpPr>
          <p:cNvPr id="5" name="PlaceHolder 4"/>
          <p:cNvSpPr>
            <a:spLocks noGrp="1"/>
          </p:cNvSpPr>
          <p:nvPr>
            <p:ph type="dt" idx="4"/>
          </p:nvPr>
        </p:nvSpPr>
        <p:spPr/>
        <p:txBody>
          <a:bodyPr/>
          <a:p>
            <a:fld id="{0406284F-CA42-4F91-A810-E47DE0AB65BB}"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E767146B-EE90-4F84-8149-AC47C15276A0}" type="slidenum">
              <a:t>49</a:t>
            </a:fld>
          </a:p>
        </p:txBody>
      </p:sp>
      <p:sp>
        <p:nvSpPr>
          <p:cNvPr id="5" name="PlaceHolder 4"/>
          <p:cNvSpPr>
            <a:spLocks noGrp="1"/>
          </p:cNvSpPr>
          <p:nvPr>
            <p:ph type="dt" idx="4"/>
          </p:nvPr>
        </p:nvSpPr>
        <p:spPr/>
        <p:txBody>
          <a:bodyPr/>
          <a:p>
            <a:fld id="{5FA841A0-2132-44D9-AD05-587E7E3F352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81BF0AC-CA56-43DF-9147-F8BE71CD7B74}" type="slidenum">
              <a:t>5</a:t>
            </a:fld>
          </a:p>
        </p:txBody>
      </p:sp>
      <p:sp>
        <p:nvSpPr>
          <p:cNvPr id="5" name="PlaceHolder 4"/>
          <p:cNvSpPr>
            <a:spLocks noGrp="1"/>
          </p:cNvSpPr>
          <p:nvPr>
            <p:ph type="dt" idx="1"/>
          </p:nvPr>
        </p:nvSpPr>
        <p:spPr/>
        <p:txBody>
          <a:bodyPr/>
          <a:p>
            <a:fld id="{F88BFF69-2E9D-4553-9F01-2C1D513C59C9}"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CA0531B5-873B-48BF-A104-D22C3B32BFAD}" type="slidenum">
              <a:t>50</a:t>
            </a:fld>
          </a:p>
        </p:txBody>
      </p:sp>
      <p:sp>
        <p:nvSpPr>
          <p:cNvPr id="5" name="PlaceHolder 4"/>
          <p:cNvSpPr>
            <a:spLocks noGrp="1"/>
          </p:cNvSpPr>
          <p:nvPr>
            <p:ph type="dt" idx="4"/>
          </p:nvPr>
        </p:nvSpPr>
        <p:spPr/>
        <p:txBody>
          <a:bodyPr/>
          <a:p>
            <a:fld id="{C4A4FE77-F843-46F0-9513-51148962FC8F}"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BEE942B3-F2BD-4C47-94D6-CF487A89178B}" type="slidenum">
              <a:t>51</a:t>
            </a:fld>
          </a:p>
        </p:txBody>
      </p:sp>
      <p:sp>
        <p:nvSpPr>
          <p:cNvPr id="5" name="PlaceHolder 4"/>
          <p:cNvSpPr>
            <a:spLocks noGrp="1"/>
          </p:cNvSpPr>
          <p:nvPr>
            <p:ph type="dt" idx="4"/>
          </p:nvPr>
        </p:nvSpPr>
        <p:spPr/>
        <p:txBody>
          <a:bodyPr/>
          <a:p>
            <a:fld id="{D92D3ABF-5978-4346-8706-BBD10C0765C0}"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31B0E15-B424-46B3-BC71-37F06BDACA4A}" type="slidenum">
              <a:t>52</a:t>
            </a:fld>
          </a:p>
        </p:txBody>
      </p:sp>
      <p:sp>
        <p:nvSpPr>
          <p:cNvPr id="5" name="PlaceHolder 4"/>
          <p:cNvSpPr>
            <a:spLocks noGrp="1"/>
          </p:cNvSpPr>
          <p:nvPr>
            <p:ph type="dt" idx="4"/>
          </p:nvPr>
        </p:nvSpPr>
        <p:spPr/>
        <p:txBody>
          <a:bodyPr/>
          <a:p>
            <a:fld id="{5F4106DD-2B3A-49D6-95D6-98814D84638A}"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839F6B67-7DC0-4C98-9A2D-AC645D3C29AF}" type="slidenum">
              <a:t>53</a:t>
            </a:fld>
          </a:p>
        </p:txBody>
      </p:sp>
      <p:sp>
        <p:nvSpPr>
          <p:cNvPr id="5" name="PlaceHolder 4"/>
          <p:cNvSpPr>
            <a:spLocks noGrp="1"/>
          </p:cNvSpPr>
          <p:nvPr>
            <p:ph type="dt" idx="4"/>
          </p:nvPr>
        </p:nvSpPr>
        <p:spPr/>
        <p:txBody>
          <a:bodyPr/>
          <a:p>
            <a:fld id="{152E4895-F574-48DC-B821-36B36CB0A30C}"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6E46ADA5-24F1-450D-9A93-AB3C1F573C57}" type="slidenum">
              <a:t>54</a:t>
            </a:fld>
          </a:p>
        </p:txBody>
      </p:sp>
      <p:sp>
        <p:nvSpPr>
          <p:cNvPr id="5" name="PlaceHolder 4"/>
          <p:cNvSpPr>
            <a:spLocks noGrp="1"/>
          </p:cNvSpPr>
          <p:nvPr>
            <p:ph type="dt" idx="4"/>
          </p:nvPr>
        </p:nvSpPr>
        <p:spPr/>
        <p:txBody>
          <a:bodyPr/>
          <a:p>
            <a:fld id="{BFA6708E-9F3F-4214-BE52-4C62EC9067FE}"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B705D0A0-5601-4CB7-BC66-1C0B72F2BFCC}" type="slidenum">
              <a:t>55</a:t>
            </a:fld>
          </a:p>
        </p:txBody>
      </p:sp>
      <p:sp>
        <p:nvSpPr>
          <p:cNvPr id="5" name="PlaceHolder 4"/>
          <p:cNvSpPr>
            <a:spLocks noGrp="1"/>
          </p:cNvSpPr>
          <p:nvPr>
            <p:ph type="dt" idx="4"/>
          </p:nvPr>
        </p:nvSpPr>
        <p:spPr/>
        <p:txBody>
          <a:bodyPr/>
          <a:p>
            <a:fld id="{8A8C196E-D917-45B2-9DB6-2FE7CF75E76F}"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F123420D-CC7A-493F-B1A1-8295F4096127}" type="slidenum">
              <a:t>56</a:t>
            </a:fld>
          </a:p>
        </p:txBody>
      </p:sp>
      <p:sp>
        <p:nvSpPr>
          <p:cNvPr id="5" name="PlaceHolder 4"/>
          <p:cNvSpPr>
            <a:spLocks noGrp="1"/>
          </p:cNvSpPr>
          <p:nvPr>
            <p:ph type="dt" idx="4"/>
          </p:nvPr>
        </p:nvSpPr>
        <p:spPr/>
        <p:txBody>
          <a:bodyPr/>
          <a:p>
            <a:fld id="{D8E5C937-5516-4B8D-81A3-9511991220D3}"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D197A540-8033-4530-BE9B-8447E6658699}" type="slidenum">
              <a:t>57</a:t>
            </a:fld>
          </a:p>
        </p:txBody>
      </p:sp>
      <p:sp>
        <p:nvSpPr>
          <p:cNvPr id="5" name="PlaceHolder 4"/>
          <p:cNvSpPr>
            <a:spLocks noGrp="1"/>
          </p:cNvSpPr>
          <p:nvPr>
            <p:ph type="dt" idx="4"/>
          </p:nvPr>
        </p:nvSpPr>
        <p:spPr/>
        <p:txBody>
          <a:bodyPr/>
          <a:p>
            <a:fld id="{1A44CDFD-B1B5-45EE-AFFA-229667165855}"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0B5C33C-6983-41AC-8120-CC5AB32D8136}" type="slidenum">
              <a:t>58</a:t>
            </a:fld>
          </a:p>
        </p:txBody>
      </p:sp>
      <p:sp>
        <p:nvSpPr>
          <p:cNvPr id="3" name="PlaceHolder 2"/>
          <p:cNvSpPr>
            <a:spLocks noGrp="1"/>
          </p:cNvSpPr>
          <p:nvPr>
            <p:ph type="dt" idx="4"/>
          </p:nvPr>
        </p:nvSpPr>
        <p:spPr/>
        <p:txBody>
          <a:bodyPr/>
          <a:p>
            <a:fld id="{AF0BF121-7AC7-4511-B302-947CD9AC89A3}"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2FABAEB5-71CF-4111-9525-D7B3FA6B8895}" type="slidenum">
              <a:t>59</a:t>
            </a:fld>
          </a:p>
        </p:txBody>
      </p:sp>
      <p:sp>
        <p:nvSpPr>
          <p:cNvPr id="5" name="PlaceHolder 4"/>
          <p:cNvSpPr>
            <a:spLocks noGrp="1"/>
          </p:cNvSpPr>
          <p:nvPr>
            <p:ph type="dt" idx="4"/>
          </p:nvPr>
        </p:nvSpPr>
        <p:spPr/>
        <p:txBody>
          <a:bodyPr/>
          <a:p>
            <a:fld id="{2891B86D-78EB-45C3-9FDE-83AC2D5C19C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9825203A-F183-4DFD-9654-00F066D32198}" type="slidenum">
              <a:t>6</a:t>
            </a:fld>
          </a:p>
        </p:txBody>
      </p:sp>
      <p:sp>
        <p:nvSpPr>
          <p:cNvPr id="3" name="PlaceHolder 2"/>
          <p:cNvSpPr>
            <a:spLocks noGrp="1"/>
          </p:cNvSpPr>
          <p:nvPr>
            <p:ph type="dt" idx="1"/>
          </p:nvPr>
        </p:nvSpPr>
        <p:spPr/>
        <p:txBody>
          <a:bodyPr/>
          <a:p>
            <a:fld id="{53167B28-F755-4939-87F1-0629E3CC93BB}"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6E1BC414-531E-4316-A93B-ABB65AC0EA0B}" type="slidenum">
              <a:t>60</a:t>
            </a:fld>
          </a:p>
        </p:txBody>
      </p:sp>
      <p:sp>
        <p:nvSpPr>
          <p:cNvPr id="4" name="PlaceHolder 3"/>
          <p:cNvSpPr>
            <a:spLocks noGrp="1"/>
          </p:cNvSpPr>
          <p:nvPr>
            <p:ph type="dt" idx="4"/>
          </p:nvPr>
        </p:nvSpPr>
        <p:spPr/>
        <p:txBody>
          <a:bodyPr/>
          <a:p>
            <a:fld id="{312BE17D-AEB8-4D51-9BBD-03E31E8A0D32}"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891A4E71-923A-4673-B32A-832B316A1E1B}" type="slidenum">
              <a:t>61</a:t>
            </a:fld>
          </a:p>
        </p:txBody>
      </p:sp>
      <p:sp>
        <p:nvSpPr>
          <p:cNvPr id="4" name="PlaceHolder 3"/>
          <p:cNvSpPr>
            <a:spLocks noGrp="1"/>
          </p:cNvSpPr>
          <p:nvPr>
            <p:ph type="dt" idx="1"/>
          </p:nvPr>
        </p:nvSpPr>
        <p:spPr/>
        <p:txBody>
          <a:bodyPr/>
          <a:p>
            <a:fld id="{7D8D2984-8C6B-4E55-A75B-B301A16F987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BEEC532-48CC-459E-9E5B-5045977B925F}" type="slidenum">
              <a:t>7</a:t>
            </a:fld>
          </a:p>
        </p:txBody>
      </p:sp>
      <p:sp>
        <p:nvSpPr>
          <p:cNvPr id="4" name="PlaceHolder 3"/>
          <p:cNvSpPr>
            <a:spLocks noGrp="1"/>
          </p:cNvSpPr>
          <p:nvPr>
            <p:ph type="dt" idx="1"/>
          </p:nvPr>
        </p:nvSpPr>
        <p:spPr/>
        <p:txBody>
          <a:bodyPr/>
          <a:p>
            <a:fld id="{7E0902F9-2C84-4879-890F-DA878B3C026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418AFE9-43B8-42B2-B5B7-372933323C92}" type="slidenum">
              <a:t>8</a:t>
            </a:fld>
          </a:p>
        </p:txBody>
      </p:sp>
      <p:sp>
        <p:nvSpPr>
          <p:cNvPr id="4" name="PlaceHolder 3"/>
          <p:cNvSpPr>
            <a:spLocks noGrp="1"/>
          </p:cNvSpPr>
          <p:nvPr>
            <p:ph type="dt" idx="1"/>
          </p:nvPr>
        </p:nvSpPr>
        <p:spPr/>
        <p:txBody>
          <a:bodyPr/>
          <a:p>
            <a:fld id="{868AE938-2EFD-4D00-885C-D423BA7D12C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A9811F-D6F5-4F70-9140-C8AF170A25C2}" type="slidenum">
              <a:t>9</a:t>
            </a:fld>
          </a:p>
        </p:txBody>
      </p:sp>
      <p:sp>
        <p:nvSpPr>
          <p:cNvPr id="5" name="PlaceHolder 4"/>
          <p:cNvSpPr>
            <a:spLocks noGrp="1"/>
          </p:cNvSpPr>
          <p:nvPr>
            <p:ph type="dt" idx="1"/>
          </p:nvPr>
        </p:nvSpPr>
        <p:spPr/>
        <p:txBody>
          <a:bodyPr/>
          <a:p>
            <a:fld id="{4036081F-3A85-40DF-9496-923EB1E130A4}"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