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DFF2-D95F-4B84-840E-E33B726B74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icture: Birzeit University, Pal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 beliefs: how patients access services, participate in treatment decisions and their social context all influence the management of chronic conditions and are important for health outcomes (Saks &amp; Allsop 200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review of the relevant literature is also being undertaken, to set the context for this piece of work re: the health policy, health interventions and epidemiological work in the 4 partner countries plus Egypt, Jordan, Algeria and Moro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9B92-440C-4A84-9601-65B1117C4D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12D0-FC71-40AE-8273-7442C2D45A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8A0-D8F8-451A-B248-1C62F32A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B09-220C-4D04-87CA-563C5B95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D243-C21C-4800-A17B-5F00DFC3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509D-967E-432F-8B80-0081DD5E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DF22-590A-4406-9742-C2F4E4D3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9575-2154-4D7E-92DE-CBD2E3F8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1BBB-FEDC-44C9-B91B-59485E1A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1DA2-D3CC-4672-9AF7-1BA3BC69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7534-4572-48FF-B8CF-7F35542C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A18B-0C87-450C-82C5-63AD10BB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D92B-AA53-4CBA-B7DC-1B790BFA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2CC-4F3F-41FA-9CF5-CB3EBE43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9A7E-5306-44BD-A10D-6DDFC645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41EA-BE60-43CA-9278-2C634922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0079-C1DB-474E-82C9-506BFC2A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A2BF-5077-42D4-87D6-FF0447B6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A117-3DF3-496E-AC78-C8D6A8A5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E5147-CEB7-45E6-B480-72EB1014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0098E-B0C6-441D-AE2D-AA15BCB6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FC736-ACE3-474A-8FCA-0254233F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708CB-DC0A-4DE7-AE2A-14941DE7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D2F3B-8B76-4F27-8221-247983C8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D88-5F28-425F-874B-25D5684B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D8F85-6867-4C2B-A449-585E31F6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5F158-B2D0-4B6B-B08A-4679270F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51456-60FE-4A32-BD3B-F0792188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511BD-757F-4C09-854F-8A3FBAB6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9C329-650B-4B6C-8DA3-83157BFF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CFE8C-DB9F-42E2-A87D-69504100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307BF-3407-46AD-8F02-8B050A9C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C6ECC-C9D5-4EA9-B0BA-17AEC371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4CD60-DB90-4734-8D5D-CD45CEC3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7F005-2757-4F87-84D6-42A6898E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4DE-DD15-42EA-9133-483740B4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8300B-8DED-4570-AA04-769B890E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7A02A-5D45-4C92-8FB4-88CF27D6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7804A-7089-41BF-BC79-226202B1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CC9FD-D79B-4408-8909-9148D22A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5D26F-EA56-41EE-A87A-B7D4CA43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C00A3-D269-4C60-87CD-9B1C66BE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5CB5C-2BF2-45DA-86DB-FB67AB3C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08572-1B6E-4E90-8DD6-5F084C2F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0A9D8-1A66-45D0-8E2C-48A3CDFF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2D2BC-DBF9-43A6-965A-BA44137B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49C7-E0B9-453C-90C1-C968F9EA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ECD7D-5B1D-4A08-84DC-EAB59D48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C64DF-2BB6-4545-BED6-D90CA91F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E8A85-985F-44B3-8A93-0BDC8F66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79D3B-FC43-4675-BD98-37646A4C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48469-AEDC-4A58-BAEC-FF459AB1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FFD89-DFBB-452E-9829-8C6B139A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87178-2C47-4E32-8448-9D71DCB4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59C0B-0F5B-47E9-BD59-10113B8C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A47C4-ADE7-4117-969E-5E984D6B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7CEC0-FC61-43C5-A74B-909E7370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82E8-718F-491B-8C56-07752E18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46A3F-3454-44E1-A94C-0B161821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C5D5F-8474-428A-BBDC-60FE6799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B9F02-4665-4927-A291-0EC1B436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7DD8E-C530-48C2-9FBE-02B6E4B7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F04C4-586B-4BD8-8A3B-98557EAA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DC288-E55B-4BAD-ADEC-20EC8892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66805-9F0F-4E68-978A-C104A5F8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D616E-5E2E-412E-975B-F0604B6D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EF4F5-5E3D-42F5-B353-1101E512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027FE-4CAF-4B7B-ACE9-CDDE9672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AB3-D4EA-4BA6-8426-01247AE6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DA038-C40D-4CF2-B9CA-5ECC2866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64726-84A4-4232-848A-E45B7E83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F984D-7121-460D-A712-B1DC6F8F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65273-ACB5-4934-9455-3E0EDC93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21309-F8FA-4B0E-B02F-5C2E3986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7D699-F62C-4544-828A-79DA9A40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B7CE2-97DD-479D-9167-08C97B38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39D75-4907-4B55-815B-148A0455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5C3B8-72AF-4531-8BC4-F004C5F7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87E0B-7FF2-40CE-B33E-6192D572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B19-7101-4067-99DA-A1C040C5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CFBFC-C743-4AF6-B72A-2EEE068D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E98CA-BE4F-4792-9D27-0892AC8C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01349-84D2-4816-A0AA-BBB4320E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DEE00-E686-4CEC-B988-4EACF901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A389C-A42E-44E3-BB0F-58A7D940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EDA-9E0F-4DEA-B7C7-706DC8DF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17E4-E733-4E6B-B8C5-209E221F33E1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B6E6-B679-44B6-BBE5-DCFCE3EB217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5DA3-38D1-415C-8383-24FB6CE0AB9C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252D-99B5-4895-A0D7-A6D7AB4B5379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024A-8ECA-4110-A1C5-8BAAB4CB6241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485D-26E2-44E6-97AD-EA0DF48DA54D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3F15-8AA6-4357-A9F1-0AE0FC6235ED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Health Policy Analysis Conceptual Framewor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Diagram 1" descr=""/>
          <p:cNvPicPr/>
          <p:nvPr/>
        </p:nvPicPr>
        <p:blipFill>
          <a:blip r:embed="rId1"/>
          <a:stretch/>
        </p:blipFill>
        <p:spPr>
          <a:xfrm>
            <a:off x="0" y="109440"/>
            <a:ext cx="903456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Diagram 1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Diagram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6439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Diagram 1" descr=""/>
          <p:cNvPicPr/>
          <p:nvPr/>
        </p:nvPicPr>
        <p:blipFill>
          <a:blip r:embed="rId1"/>
          <a:stretch/>
        </p:blipFill>
        <p:spPr>
          <a:xfrm>
            <a:off x="2376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 Example of using Policy triangle framework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editerranean studies of Cardiovascular diseases and Hyperglycaemia: analytical Modelling of Population Socio-economic transitions </a:t>
            </a:r>
            <a:r>
              <a:rPr b="0" i="1" lang="en-GB" sz="2400" spc="-1" strike="noStrike">
                <a:solidFill>
                  <a:srgbClr val="ff0000"/>
                </a:solidFill>
                <a:latin typeface="Candara"/>
              </a:rPr>
              <a:t>(MEDCHAMPS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veloping a CVD and diabetes model for use within the project countries, in order to explain trends and predict likely future impact of diseas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fining the national policy context and characterising the health system for developing  policy options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MEDCHAMPS objective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ttp://www.birzeit.edu/files/la/17240/pic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25280" y="-200160"/>
            <a:ext cx="9262800" cy="7058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ituation analysis (1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5334120" y="406872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Barr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160020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1600200" y="4383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belie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5181480" y="2279520"/>
            <a:ext cx="190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3581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3352680" y="3800520"/>
            <a:ext cx="1600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Qualitative data from key stakehol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5334120" y="342900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1600200" y="247824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poli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5334120" y="4724280"/>
            <a:ext cx="167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Opportunities for implementing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7391520" y="3790800"/>
            <a:ext cx="1523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orms policy 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5228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Analysis o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eft Brace 15"/>
          <p:cNvSpPr/>
          <p:nvPr/>
        </p:nvSpPr>
        <p:spPr>
          <a:xfrm>
            <a:off x="1295280" y="2819520"/>
            <a:ext cx="304920" cy="1904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904760"/>
              <a:gd name="textAreaBottom" fmla="*/ 18968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5400" y="10800"/>
                  <a:pt x="0" y="10800"/>
                </a:cubicBezTo>
                <a:cubicBezTo>
                  <a:pt x="54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3" name="Straight Arrow Connector 17"/>
          <p:cNvCxnSpPr>
            <a:endCxn id="375" idx="1"/>
          </p:cNvCxnSpPr>
          <p:nvPr/>
        </p:nvCxnSpPr>
        <p:spPr>
          <a:xfrm flipV="1">
            <a:off x="3047760" y="2469600"/>
            <a:ext cx="533880" cy="425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84" name="Straight Arrow Connector 20"/>
          <p:cNvCxnSpPr>
            <a:stCxn id="375" idx="3"/>
            <a:endCxn id="374" idx="1"/>
          </p:cNvCxnSpPr>
          <p:nvPr/>
        </p:nvCxnSpPr>
        <p:spPr>
          <a:xfrm flipV="1">
            <a:off x="4724280" y="2463480"/>
            <a:ext cx="457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5" name="Elbow Connector 25"/>
          <p:cNvCxnSpPr>
            <a:stCxn id="376" idx="3"/>
            <a:endCxn id="379" idx="1"/>
          </p:cNvCxnSpPr>
          <p:nvPr/>
        </p:nvCxnSpPr>
        <p:spPr>
          <a:xfrm>
            <a:off x="4952520" y="4262400"/>
            <a:ext cx="381960" cy="106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6" name="Elbow Connector 28"/>
          <p:cNvCxnSpPr>
            <a:stCxn id="376" idx="3"/>
            <a:endCxn id="377" idx="1"/>
          </p:cNvCxnSpPr>
          <p:nvPr/>
        </p:nvCxnSpPr>
        <p:spPr>
          <a:xfrm flipV="1">
            <a:off x="4952520" y="3612600"/>
            <a:ext cx="381960" cy="649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7" name="Elbow Connector 31"/>
          <p:cNvCxnSpPr/>
          <p:nvPr/>
        </p:nvCxnSpPr>
        <p:spPr>
          <a:xfrm flipV="1">
            <a:off x="4952520" y="4242600"/>
            <a:ext cx="38196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Elbow Connector 34"/>
          <p:cNvCxnSpPr>
            <a:stCxn id="377" idx="3"/>
            <a:endCxn id="380" idx="1"/>
          </p:cNvCxnSpPr>
          <p:nvPr/>
        </p:nvCxnSpPr>
        <p:spPr>
          <a:xfrm>
            <a:off x="7009920" y="3612960"/>
            <a:ext cx="381960" cy="64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Elbow Connector 37"/>
          <p:cNvCxnSpPr>
            <a:stCxn id="379" idx="3"/>
            <a:endCxn id="380" idx="1"/>
          </p:cNvCxnSpPr>
          <p:nvPr/>
        </p:nvCxnSpPr>
        <p:spPr>
          <a:xfrm flipV="1">
            <a:off x="7009920" y="4252680"/>
            <a:ext cx="381960" cy="1072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Elbow Connector 40"/>
          <p:cNvCxnSpPr>
            <a:stCxn id="371" idx="3"/>
            <a:endCxn id="380" idx="1"/>
          </p:cNvCxnSpPr>
          <p:nvPr/>
        </p:nvCxnSpPr>
        <p:spPr>
          <a:xfrm flipV="1">
            <a:off x="7009920" y="4252320"/>
            <a:ext cx="38196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Elbow Connector 46"/>
          <p:cNvCxnSpPr>
            <a:stCxn id="378" idx="3"/>
            <a:endCxn id="376" idx="1"/>
          </p:cNvCxnSpPr>
          <p:nvPr/>
        </p:nvCxnSpPr>
        <p:spPr>
          <a:xfrm>
            <a:off x="2742840" y="2800080"/>
            <a:ext cx="610200" cy="1462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Elbow Connector 49"/>
          <p:cNvCxnSpPr>
            <a:stCxn id="373" idx="3"/>
            <a:endCxn id="376" idx="1"/>
          </p:cNvCxnSpPr>
          <p:nvPr/>
        </p:nvCxnSpPr>
        <p:spPr>
          <a:xfrm flipV="1">
            <a:off x="2742840" y="4262040"/>
            <a:ext cx="610200" cy="44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Elbow Connector 53"/>
          <p:cNvCxnSpPr>
            <a:stCxn id="372" idx="3"/>
            <a:endCxn id="376" idx="1"/>
          </p:cNvCxnSpPr>
          <p:nvPr/>
        </p:nvCxnSpPr>
        <p:spPr>
          <a:xfrm>
            <a:off x="2742840" y="3752640"/>
            <a:ext cx="610200" cy="51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4" name="Title 1"/>
          <p:cNvSpPr/>
          <p:nvPr/>
        </p:nvSpPr>
        <p:spPr>
          <a:xfrm>
            <a:off x="4572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Translating recommended interventions to different cultural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bjectiv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Using established schematic frameworks of potentially effective policy measures and health system interventions for the prevention of CVD and Type 2 diabetes in order to guide data collection and analysi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Identify, collating and systematically reviewing all relevant documentary materials on policies and health services provis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National situation analysis of current policy and health systems contex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perception and knowledge of relevant national policies through interviews with key informant from relevant organisations, including government, the health sector, private sector and non governmental organizations (including patient group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health beliefs with potential target groups, and determining whether these differ by population group.  Including by gender and socio economic group. 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Content Placeholder 3" descr=""/>
          <p:cNvPicPr/>
          <p:nvPr/>
        </p:nvPicPr>
        <p:blipFill>
          <a:blip r:embed="rId1"/>
          <a:stretch/>
        </p:blipFill>
        <p:spPr>
          <a:xfrm>
            <a:off x="324000" y="2676600"/>
            <a:ext cx="8648640" cy="344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Candara"/>
              </a:rPr>
              <a:t>What does a health policy analysis involve?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. Situation analyses of current policy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National/Regional/District overview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B. Health system contexts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Local orientation alongside the national orientat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Two focuse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andara"/>
              </a:rPr>
              <a:t>The project therefore envisages appraising existing situations in partner countries on three different levels: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3" name="Diagram 2" descr=""/>
          <p:cNvPicPr/>
          <p:nvPr/>
        </p:nvPicPr>
        <p:blipFill>
          <a:blip r:embed="rId1"/>
          <a:stretch/>
        </p:blipFill>
        <p:spPr>
          <a:xfrm>
            <a:off x="66600" y="1395360"/>
            <a:ext cx="90838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48156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1: Situation on the level of conceptualiz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Diagram 1" descr=""/>
          <p:cNvPicPr/>
          <p:nvPr/>
        </p:nvPicPr>
        <p:blipFill>
          <a:blip r:embed="rId1"/>
          <a:stretch/>
        </p:blipFill>
        <p:spPr>
          <a:xfrm>
            <a:off x="249120" y="1908000"/>
            <a:ext cx="87235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71560" y="2349360"/>
            <a:ext cx="7408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national policies, strategies, health systems and  financing concerning CVD and diabetes, including policy relevant to smoking, diet, physical activity and alcohol use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Relevant documents on pricing and taxation, agricultural and transport policies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policies regarding national and local health service provisions, prescribing , prevention and risk factor management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National and international guidelines on policy measures and health care structures and interventions developed by WHO, World Bank, World Heart Foundation, International Diabetes Care Interventions. 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Document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547040" cy="34750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2: Situation on the level of Awareness and Commitmen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Implementers and practitioners from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Government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rivate sector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NGOs at national, regional, provincial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ommunity level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Key informant interview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5370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3: Situation on the level of practi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atient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are givers, medical practitioner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ccessed through sample of health care facilities in (a) urban and (b) rural setting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 : In depth interviews, Illness narratives, Observations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Merson, M., Black, R., Mills, A. (Eds) (2012) Global Health: Diseases, Programs, Systems and Policies.  London: Jones &amp; Bartlett Publisher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Ostrom, E. (2007) Institutional rational choice: as assessment of the institutional analysis and development framework. In Sabatier PA (ed)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Theories of the policy process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. Boulder, CO Westview Press pp 21-64.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Walt, G. et al.  (2008) Doing’ health policy analysis: methodological and conceptual reflections and challenges. 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Health Policy and Planning 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23:308–317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Referen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Diagram 1" descr=""/>
          <p:cNvPicPr/>
          <p:nvPr/>
        </p:nvPicPr>
        <p:blipFill>
          <a:blip r:embed="rId1"/>
          <a:stretch/>
        </p:blipFill>
        <p:spPr>
          <a:xfrm>
            <a:off x="12600" y="115920"/>
            <a:ext cx="903456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Content Placeholder 3" descr=""/>
          <p:cNvPicPr/>
          <p:nvPr/>
        </p:nvPicPr>
        <p:blipFill>
          <a:blip r:embed="rId1"/>
          <a:stretch/>
        </p:blipFill>
        <p:spPr>
          <a:xfrm>
            <a:off x="865080" y="1914480"/>
            <a:ext cx="7425000" cy="42116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onceptual frameworks provide a particular perspective, or lens, through which to examine a topic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Frameworks organize inquiry by identifying elements and relationships among elements that needs to be considered for theory building. </a:t>
            </a:r>
            <a:r>
              <a:rPr b="0" i="1" lang="en-GB" sz="2400" spc="-1" strike="noStrike">
                <a:solidFill>
                  <a:srgbClr val="073e87"/>
                </a:solidFill>
                <a:latin typeface="Candara"/>
              </a:rPr>
              <a:t>( Ostrom 2007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framework helps to contextualize the ‘</a:t>
            </a:r>
            <a:r>
              <a:rPr b="0" lang="en-GB" sz="2400" spc="-1" strike="noStrike">
                <a:solidFill>
                  <a:srgbClr val="ff0000"/>
                </a:solidFill>
                <a:latin typeface="Candara"/>
              </a:rPr>
              <a:t>health policy environment.’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Content Placeholder 4" descr=""/>
          <p:cNvPicPr/>
          <p:nvPr/>
        </p:nvPicPr>
        <p:blipFill>
          <a:blip r:embed="rId1"/>
          <a:stretch/>
        </p:blipFill>
        <p:spPr>
          <a:xfrm>
            <a:off x="450720" y="1116000"/>
            <a:ext cx="8248680" cy="55659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Three major health policy analysis framework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Content Placeholder 3" descr=""/>
          <p:cNvPicPr/>
          <p:nvPr/>
        </p:nvPicPr>
        <p:blipFill>
          <a:blip r:embed="rId1"/>
          <a:stretch/>
        </p:blipFill>
        <p:spPr>
          <a:xfrm>
            <a:off x="914400" y="1407960"/>
            <a:ext cx="7772400" cy="4707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Policy Triangle Framework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4:26:51Z</dcterms:created>
  <dc:creator>nsz4</dc:creator>
  <dc:description/>
  <dc:language>en-US</dc:language>
  <cp:lastModifiedBy>User</cp:lastModifiedBy>
  <cp:lastPrinted>2013-05-28T10:45:51Z</cp:lastPrinted>
  <dcterms:modified xsi:type="dcterms:W3CDTF">2013-05-31T23:38:47Z</dcterms:modified>
  <cp:revision>21</cp:revision>
  <dc:subject/>
  <dc:title>Health Policy Analysis Framework</dc:title>
</cp:coreProperties>
</file>