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58F19-FA5F-426B-8257-56E62DA7C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26F34-F203-4D65-A998-59695C023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9835B-6FF0-486C-ACBE-2D46ECAA5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5B810-84EC-419D-95BC-7FD4C43E2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02DF7-460C-46AD-92A5-397D53168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CE484-F4AE-4682-869D-C1373EC69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F21BA-2647-43E6-BE9D-15434065D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57EEA-6F4B-485F-925F-934AC69B4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418C4-EFCE-4632-AD13-66AA6E6C1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76824-03AD-4A12-AF5F-46B67E5B5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BD555-B108-4047-B9B2-85D6A0B88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BAEAC-F484-4564-90C4-1F2981686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FB861-AA59-49BA-9742-491FDCE8B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EB37F-CF7D-4B0C-9B61-5D75CB176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3CC74-27A6-40E1-9E39-8ECB2219B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D3B80-DD64-475F-8F59-A3B372DC2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10CBE-815B-4533-82E4-6DCBF0488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F795A5-38CD-43FA-ABCB-4E9A1FADA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6C0385-1341-4879-9223-DCAB639D3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BF2697-70D7-44E1-AB5D-5AC022207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013713-730A-48EE-9988-2183DC95A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C5F16B-A5AD-4B92-91A9-3B0EA0343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74CF9-1EB4-43EA-AF1D-B08369DF4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3A61BA-5CE4-4331-BA14-AA678401E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57B0D6-53E2-43C7-9B40-CEE28B767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1B8104-F57C-48D8-84B6-402A418B0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5485AE-5708-4220-82E5-8EA42410B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A273BA-1445-4719-9A92-C6F62B9E4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CFCAE3-97C5-44E3-A3C6-364210CB8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37E12C-C301-476D-9100-8F8969BE4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B6ACAA-D6AE-41C0-BD01-831181722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FAD2ED-403A-4991-96DA-B9D18C7AA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F64678-D57B-4E40-B90B-6084BF477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19330-5272-4CC5-ADF6-03A41B973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30DA56-3536-4436-A97D-0FAAA737C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B19D1E-8631-4C8B-8219-C134877EC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12D6C8-9154-47F2-A7E2-C6601A265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393567-3CE0-4C9D-BCB3-3AF7A2390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FF2C49-B8CC-4173-8A6C-5E05E8A6E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49FFF3-5FA4-4202-BEC1-379E80C11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87F9A9-53A6-48CC-95D4-846DFE06E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4BC554-7789-4C70-8CAC-76192D7A2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33AAA1-53A6-4E8E-BB98-02AE4901C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C981A1-40F9-461F-B284-93BA229DB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F6072-079D-4ED3-9EEC-386326875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35DE7E-49F8-45B9-8D1B-6C411E909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354F56-97DC-417D-874B-5C789E7DD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7D69A2-0585-442E-AFB3-E82C36F48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DC7FFA-C14E-4EC1-B1EE-572C51677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40871C-36F3-4AA2-B11B-AA1B9FAEB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31A9B5-CD34-4436-9B23-503D8E8B3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2F2AC2-03F6-41DB-82F8-61A79F6F1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6F51D3-235D-47DA-97F6-8CAE486DC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0E107B-4DCE-4414-8DDE-621F94496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29E52F-A703-47DA-8C04-F9D0192F1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93E6F-ACDF-436D-8E75-1856386C6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8E578C-FF9B-45E9-8745-3D4AE20F7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3B8B93-5243-4E1A-AE16-C4F8A8B87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2B3E0A-6AB4-4A38-A55B-18F963086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FE99CF-0E89-400E-8EDA-DABB2FC19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6C575A-F501-406B-81F7-79724EF33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3C8D4C-D438-4C6C-B38E-A4A3FE580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76C29D-A7AE-4B51-8F98-56B55B210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EAE698-318D-4736-A9EB-1D18C1244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0AF871-909C-44CB-A52D-ABC3434B6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199E47-C25D-4D56-B725-8C466E05A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C107F-CE6D-48CE-A6B4-FF5C72B85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7A0FC4-5105-4E23-826A-45FDB2186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8EAC7C-D193-4AC8-8273-0F6757C62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6BBA10-C844-4DF1-91B0-18B247EC0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7B39EA-548D-47E9-8532-4CFD7A92E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976D9C-EBD6-4F55-9D56-5CB21DDF2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4A033B-E6EC-42AD-9E2C-6AF727E58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8D02BB-88DB-44E0-B006-5DA764688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553B55-A2C1-46CA-9845-34B21CAA5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30BEA2-023C-4783-8990-58CBE8BBA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6D353A-A66E-427D-A4FB-CA2A4576C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1B101-5F24-483B-802D-7CE073184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DA5098-4743-4912-9C5E-0DA648083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2237FF-E981-4F2E-BFE7-2C570E525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066ED9-3E30-491A-89B7-F2692974B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9D05C1-A59D-4EE5-A692-D556704B2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6707E9-1E78-477C-9309-0DBB324FA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01B92-8CA6-4630-935B-49A9F6FEB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31D25-C138-452D-9A0E-E94723ADD708}" type="slidenum">
              <a:rPr b="0" lang="en-GB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7D85E-EF25-4D90-8F8B-6D8943DB45C7}" type="slidenum">
              <a:rPr b="0" lang="en-GB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4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64191-28E3-48C2-8678-C41CAC0A5045}" type="slidenum">
              <a:rPr b="0" lang="en-GB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144" name="Group 1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9" name="Freeform 25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22414-4BC3-4B51-B5A9-3790B7E0C414}" type="slidenum">
              <a:rPr b="0" lang="en-GB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7" name="Freeform 25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D3EC5-039E-471A-A656-27B58494E1EA}" type="slidenum">
              <a:rPr b="0" lang="en-GB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240" name="Group 15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5" name="Freeform 2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119B7-CD47-4579-A1F8-BB5ED636E08E}" type="slidenum">
              <a:rPr b="0" lang="en-GB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288" name="Group 15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3" name="Freeform 25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D8ADF-0367-49F1-A7CB-087B7E93AA9E}" type="slidenum">
              <a:rPr b="0" lang="en-GB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55560" y="1484280"/>
            <a:ext cx="7772400" cy="1873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en-GB" sz="2000" spc="-1" strike="noStrike">
                <a:solidFill>
                  <a:srgbClr val="ffffff"/>
                </a:solidFill>
                <a:latin typeface="Candara"/>
              </a:rPr>
              <a:t>RESCAP-MED Capacity Development Workshop</a:t>
            </a:r>
            <a:br>
              <a:rPr sz="2000"/>
            </a:br>
            <a:r>
              <a:rPr b="1" lang="en-GB" sz="2000" spc="-1" strike="noStrike">
                <a:solidFill>
                  <a:srgbClr val="ffffff"/>
                </a:solidFill>
                <a:latin typeface="Candara"/>
              </a:rPr>
              <a:t>Health Policy Evaluation</a:t>
            </a:r>
            <a:br>
              <a:rPr sz="2000"/>
            </a:br>
            <a:r>
              <a:rPr b="1" lang="en-GB" sz="2000" spc="-1" strike="noStrike">
                <a:solidFill>
                  <a:srgbClr val="ffffff"/>
                </a:solidFill>
                <a:latin typeface="Candara"/>
              </a:rPr>
              <a:t>Amman, Jordan</a:t>
            </a:r>
            <a:br>
              <a:rPr sz="2000"/>
            </a:br>
            <a:r>
              <a:rPr b="1" lang="en-GB" sz="2000" spc="-1" strike="noStrike">
                <a:solidFill>
                  <a:srgbClr val="ffffff"/>
                </a:solidFill>
                <a:latin typeface="Candara"/>
              </a:rPr>
              <a:t>3-6 June 2013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655560" y="3933360"/>
            <a:ext cx="7772400" cy="13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andara"/>
              </a:rPr>
              <a:t>Shahaduz Zaman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andara"/>
              </a:rPr>
              <a:t>Newcastle  University, UK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337" name="Picture 5" descr="http://research.ncl.ac.uk/media/sites/researchwebsites/rescapmed/EUlogo.jpg"/>
          <p:cNvPicPr/>
          <p:nvPr/>
        </p:nvPicPr>
        <p:blipFill>
          <a:blip r:embed="rId1"/>
          <a:stretch/>
        </p:blipFill>
        <p:spPr>
          <a:xfrm>
            <a:off x="262080" y="244440"/>
            <a:ext cx="811080" cy="53028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7" descr="http://research.ncl.ac.uk/media/sites/researchwebsites/rescapmed/FP7logo2.jpg"/>
          <p:cNvPicPr/>
          <p:nvPr/>
        </p:nvPicPr>
        <p:blipFill>
          <a:blip r:embed="rId2"/>
          <a:stretch/>
        </p:blipFill>
        <p:spPr>
          <a:xfrm>
            <a:off x="1073160" y="243000"/>
            <a:ext cx="695160" cy="53028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1" descr=""/>
          <p:cNvPicPr/>
          <p:nvPr/>
        </p:nvPicPr>
        <p:blipFill>
          <a:blip r:embed="rId3"/>
          <a:stretch/>
        </p:blipFill>
        <p:spPr>
          <a:xfrm>
            <a:off x="6732720" y="243000"/>
            <a:ext cx="2187360" cy="87156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6" descr="newcastle_master_col"/>
          <p:cNvPicPr/>
          <p:nvPr/>
        </p:nvPicPr>
        <p:blipFill>
          <a:blip r:embed="rId4"/>
          <a:stretch/>
        </p:blipFill>
        <p:spPr>
          <a:xfrm>
            <a:off x="365040" y="5732640"/>
            <a:ext cx="28069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lnSpc>
                <a:spcPct val="9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73e87"/>
                </a:solidFill>
                <a:latin typeface="Candara"/>
              </a:rPr>
              <a:t>To understand the basic concepts of health policy making and implementation process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>
              <a:lnSpc>
                <a:spcPct val="9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73e87"/>
                </a:solidFill>
                <a:latin typeface="Candara"/>
              </a:rPr>
              <a:t>To identify and analyse different stakeholders in policy making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>
              <a:lnSpc>
                <a:spcPct val="9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73e87"/>
                </a:solidFill>
                <a:latin typeface="Candara"/>
              </a:rPr>
              <a:t>To understand health policy making in the globalizing world and the role of national and international players in the process.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>
              <a:lnSpc>
                <a:spcPct val="9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73e87"/>
                </a:solidFill>
                <a:latin typeface="Candara"/>
              </a:rPr>
              <a:t>To understand the cultural aspects of health and health policy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>
              <a:lnSpc>
                <a:spcPct val="9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73e87"/>
                </a:solidFill>
                <a:latin typeface="Candara"/>
              </a:rPr>
              <a:t>To describe the health policy analysis framework.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>
              <a:lnSpc>
                <a:spcPct val="9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73e87"/>
                </a:solidFill>
                <a:latin typeface="Candara"/>
              </a:rPr>
              <a:t>Understand the challenges of health policy implementation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>
              <a:lnSpc>
                <a:spcPct val="9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73e87"/>
                </a:solidFill>
                <a:latin typeface="Candara"/>
              </a:rPr>
              <a:t>Compare health policy situation between different developing countries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>
              <a:lnSpc>
                <a:spcPct val="9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andara"/>
              </a:rPr>
              <a:t>Learning objectives of the workshop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Health Policy: Basic Concepts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Health policy making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Agenda setting process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Stakeholder analysis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ndara"/>
              </a:rPr>
              <a:t>1</a:t>
            </a:r>
            <a:r>
              <a:rPr b="0" lang="en-GB" sz="3200" spc="-1" strike="noStrike" baseline="30000">
                <a:solidFill>
                  <a:srgbClr val="ffffff"/>
                </a:solidFill>
                <a:latin typeface="Candara"/>
              </a:rPr>
              <a:t>st</a:t>
            </a:r>
            <a:r>
              <a:rPr b="0" lang="en-GB" sz="3200" spc="-1" strike="noStrike">
                <a:solidFill>
                  <a:srgbClr val="ffffff"/>
                </a:solidFill>
                <a:latin typeface="Candara"/>
              </a:rPr>
              <a:t>  Day 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Health policy in the globalizing world   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Culturally competent health policy: Developing country contex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Health Policy in the context of political crisis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Role of research in health policy making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ndara"/>
              </a:rPr>
              <a:t>2</a:t>
            </a:r>
            <a:r>
              <a:rPr b="0" lang="en-GB" sz="3200" spc="-1" strike="noStrike" baseline="30000">
                <a:solidFill>
                  <a:srgbClr val="ffffff"/>
                </a:solidFill>
                <a:latin typeface="Candara"/>
              </a:rPr>
              <a:t>nd</a:t>
            </a:r>
            <a:r>
              <a:rPr b="0" lang="en-GB" sz="3200" spc="-1" strike="noStrike">
                <a:solidFill>
                  <a:srgbClr val="ffffff"/>
                </a:solidFill>
                <a:latin typeface="Candara"/>
              </a:rPr>
              <a:t> Day 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Health Policy Analysis Framework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Case Studies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73e87"/>
                </a:solidFill>
                <a:latin typeface="Candara"/>
              </a:rPr>
              <a:t>Health Policy Situation: Palestine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73e87"/>
                </a:solidFill>
                <a:latin typeface="Candara"/>
              </a:rPr>
              <a:t>Health Policy Situation: Syria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73e87"/>
                </a:solidFill>
                <a:latin typeface="Candara"/>
              </a:rPr>
              <a:t>Health Policy Situation: Jordan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Policy Implementation: Experiences from Jordan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Policy brief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Panel Discussion and Q &amp; A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ndara"/>
              </a:rPr>
              <a:t>3</a:t>
            </a:r>
            <a:r>
              <a:rPr b="0" lang="en-GB" sz="3200" spc="-1" strike="noStrike" baseline="30000">
                <a:solidFill>
                  <a:srgbClr val="ffffff"/>
                </a:solidFill>
                <a:latin typeface="Candara"/>
              </a:rPr>
              <a:t>rd</a:t>
            </a:r>
            <a:r>
              <a:rPr b="0" lang="en-GB" sz="3200" spc="-1" strike="noStrike">
                <a:solidFill>
                  <a:srgbClr val="ffffff"/>
                </a:solidFill>
                <a:latin typeface="Candara"/>
              </a:rPr>
              <a:t> Day 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Group reading of selected health policy evaluation papers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Presentations of the group reading and Q&amp;A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Closing remarks and Evaluation of the workshop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ndara"/>
              </a:rPr>
              <a:t>4</a:t>
            </a:r>
            <a:r>
              <a:rPr b="0" lang="en-GB" sz="3200" spc="-1" strike="noStrike" baseline="30000">
                <a:solidFill>
                  <a:srgbClr val="ffffff"/>
                </a:solidFill>
                <a:latin typeface="Candara"/>
              </a:rPr>
              <a:t>th</a:t>
            </a:r>
            <a:r>
              <a:rPr b="0" lang="en-GB" sz="3200" spc="-1" strike="noStrike">
                <a:solidFill>
                  <a:srgbClr val="ffffff"/>
                </a:solidFill>
                <a:latin typeface="Candara"/>
              </a:rPr>
              <a:t> Day 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 txBox="1"/>
          <p:nvPr/>
        </p:nvSpPr>
        <p:spPr>
          <a:xfrm>
            <a:off x="457200" y="2421000"/>
            <a:ext cx="822960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3e87"/>
                </a:solidFill>
                <a:latin typeface="Candara"/>
              </a:rPr>
              <a:t>Shahaduz Zaman, Newcastle University, UK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3e87"/>
                </a:solidFill>
                <a:latin typeface="Candara"/>
              </a:rPr>
              <a:t>Motasem Hamdan, Palestine, Al-Quds University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3e87"/>
                </a:solidFill>
                <a:latin typeface="Candara"/>
              </a:rPr>
              <a:t>Abdullatif Husseini, Palestine, Birzeit University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3e87"/>
                </a:solidFill>
                <a:latin typeface="Candara"/>
              </a:rPr>
              <a:t>Fouad Fouad, Syria, American University of Beirut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73e87"/>
                </a:solidFill>
                <a:latin typeface="Candara"/>
              </a:rPr>
              <a:t>Yousef Khader</a:t>
            </a:r>
            <a:r>
              <a:rPr b="0" lang="en-GB" sz="2000" spc="-1" strike="noStrike">
                <a:solidFill>
                  <a:srgbClr val="073e87"/>
                </a:solidFill>
                <a:latin typeface="Candara"/>
              </a:rPr>
              <a:t>, Jordan, Jordan University of Science and Technology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3e87"/>
                </a:solidFill>
                <a:latin typeface="Candara"/>
              </a:rPr>
              <a:t>Musa Ajlouni, </a:t>
            </a:r>
            <a:r>
              <a:rPr b="0" lang="en-GB" sz="2000" spc="-1" strike="noStrike">
                <a:solidFill>
                  <a:srgbClr val="073e87"/>
                </a:solidFill>
                <a:latin typeface="Candara"/>
              </a:rPr>
              <a:t>Jordan, Jordan University of Science and Technology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3e87"/>
                </a:solidFill>
                <a:latin typeface="Candara"/>
              </a:rPr>
              <a:t>Riyad Amin Okour, Jordan, Ministry of Health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3e87"/>
                </a:solidFill>
                <a:latin typeface="Candara"/>
              </a:rPr>
              <a:t>Jamal Abu Saif, Jordan, Ministry of Health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andara"/>
              </a:rPr>
              <a:t>Facilitators 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Start on time—End on time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Maintain a flexible, responsive schedule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Only one person talks at a time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Any question is a good question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Cell phones are turned off during sessions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andara"/>
              </a:rPr>
              <a:t>Some group norms 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Enjoy the workshop </a:t>
            </a: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	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21T10:17:01Z</dcterms:created>
  <dc:creator>nsz4</dc:creator>
  <dc:description/>
  <dc:language>en-US</dc:language>
  <cp:lastModifiedBy>User</cp:lastModifiedBy>
  <dcterms:modified xsi:type="dcterms:W3CDTF">2013-05-31T23:41:13Z</dcterms:modified>
  <cp:revision>8</cp:revision>
  <dc:subject/>
  <dc:title>PowerPoint Presentation</dc:title>
</cp:coreProperties>
</file>