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49D8B-F2B7-4896-8743-88CE3D2C5C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DEB2-B960-4000-ABB7-516EAEF90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26BA-C000-4524-8C41-54EDD2ECDCB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4B01-58A0-465C-94CF-3B479DA06DC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3A7F-5CCF-4069-A17D-D2159A5142E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060D-D902-4606-80DE-8D61642872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FAAE-AF85-43E1-9507-5EB6EC5773C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6511F-9CE7-40D4-894E-5C5DA4C44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74A86-4127-48E8-B8A9-0CA6F4A99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F62A93-744D-42DB-A725-E2C2A193F3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548826-803D-4941-9062-C3EA28BB4A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E567E5-6216-4C0D-9AB6-2FA0705F9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A911A1-D768-4A0B-A772-8463EEAE2B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7EB757-B372-4E83-B0CF-C286C3539C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623675-C865-4DCB-9C06-34B3EB1967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3C9154-2D0A-44CE-B68F-A8D9D6EF12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B1A5F6-DD42-47D7-9DA1-4671C38C3B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0D121F-D2CC-4654-87CD-3E755342EC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1FFBC-4298-4351-AEAC-01D1BEEE7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C0722-0596-4890-87A4-6B5E1ED5B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2DC74-81B8-4ABB-AABB-F8CF14ECB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17196-3429-430A-A2BC-EC047395C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6C845-76DC-42B1-B100-1F02F7E44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7A112-A7FF-4A90-86FB-16841F677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03D70-8A55-47FD-9864-4E17EA31A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615D9-70C7-4022-BF87-A6C1EFD07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4A639-70D9-46DB-8DF9-4F2A8BDCD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81129-2AB8-411F-8D16-EEE24F9AA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106CD-1F13-4958-A500-58B18FEFB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655F5-184C-4AE2-84BC-2D76F71EC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69EA0-FEBD-4A29-96DB-52FA784BF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C3738-3F82-4703-B050-DE769758C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4BD7B-7E4E-4F02-A0BA-7470B964F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13C15E-FD2D-4262-8E7C-0328C0EC7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D6CE8-5255-43B0-82AE-AD5E0CE9B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7631CF-8709-4DEC-9850-A90B221CE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C35E4C-7FE7-4F3F-9A3D-4F25DC3520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1AB56B-9590-4F99-B0FE-972C335E4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7807A-C269-4041-A273-9ACB99B30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ED120-85E4-4509-90AC-2397CCC328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D1216A-186B-4BA7-B68F-5A0E66C06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AD07A-7584-4288-A158-691D84E05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2EE08-460D-4AA3-AF58-979906402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78427-7F52-4385-BCFB-21E3F92A2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09C343-3BA6-4398-ACA3-F068B3095B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539A9B-FB68-40A1-AAEA-0EC3EB3390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C5FBFB-9BAB-4EB2-94C9-49E793260E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54FE8D-09AD-4C49-A15F-9675ED53D3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61726-DACF-403B-9AE8-2267EA45B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E332-1CD6-48DB-8DF2-7109D68CC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ACFCE6-6558-4B9F-881F-BE291CFDDD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CD7DD-8C49-4202-B86A-8398D8CC56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909DE-D870-4FEF-A244-E42A068709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C1C91-FED6-4E94-9ABF-C2453E057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4078A-1CBD-4201-8D9A-7DCB77F57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2EFD4-F037-400E-BC71-BF89E2D9C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563ED7-5C8C-4549-A61A-76176561E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951895-32C1-4F7D-89F3-B2DCC857D3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FA9588-B5E8-4882-BA0E-F6A5EA5A45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4E6793-1593-4B66-A7DE-32EC9EA7B8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11CB5-423C-4BC3-88B6-ACC7E7AB0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FB6DAF-C4A9-48C0-8982-6AC7524A5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9871E7-22DA-450F-B381-3A3C8B132A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82541-A490-4682-B35F-4BAD0BC6F3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4DDC4-8BBE-4438-92DF-242BA2A93F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B834C-A7A7-4DDA-8948-D38FD88B7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C1DDA-E63C-40EE-944E-AAEC7BD0C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A40221-B402-4238-9EDF-F684984AEE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D6104D-1F8F-4476-8B62-B4E063FC5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D091AB-8E0D-4EF7-9D7E-D7BDB0E9F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E042B1-BBF1-4A5F-A6EF-7BAE2C074C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9A901-E76A-4CCE-BF63-172909739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F3D9B0-ED9C-42C2-8EBC-5365BECBE3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394AE0-B31B-4265-9116-BDDEFF6F4D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81DF45-F1B8-4E2E-8D1E-1D76B40091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08378-6BA5-4441-958E-D58EFCAF44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DF1F36-89D2-4A7D-92B9-6B743970AF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F53FC0-41B4-4B29-A9EA-AC4AA2B5ED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00377F-F892-49B9-B126-C37C18DDA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5BC36A-B47A-48E0-9542-D4812C79F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668469-33E4-40AC-9E21-46963E14A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7B04F-5C6F-499C-B1EC-2DF3D6479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6D335-A2A0-4041-868E-3A9CBCA22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B7263A-3315-481E-812E-C1A8584EB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A0D944-DB64-46F5-9147-7C2AA2665A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DAC13C-2621-407D-9251-D26FFADEB4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0D1A3F-4F0A-492B-9876-51D0454008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E414EC-15B3-4038-9333-F021D2E82B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FE55FF-41B2-479C-9780-DC10BB7A2D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BFC35-1B8C-4EF5-9AC3-021D082CA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7BC688-E5BD-482E-B16F-32510B8CDD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509D7D-7AC2-4B9C-8408-7A95DF6A0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D052AF-086D-482C-8BB9-C802B1E10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B91FF-0DB6-453E-B9F3-80BB57EE5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09528-2167-46E8-9737-9E30608931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E27CE-41CA-41BF-B783-1E10A318C7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AFB734-5EB0-45B1-A0F1-F42C5F822E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2A30A4-3B38-4E2E-BB20-85F37C8C93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447C96-D555-4832-92AF-9D3C8D0BDD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8DB45E-7F22-4185-BDBF-8223E54473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05C1E6-B505-4625-92CC-0EFA7E081F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8A1D23-C978-4055-A336-B1335A1D4C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B95177-9F86-4FE1-92E6-5181823D4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20CB6-0791-4E66-8114-B216956A28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B907-A202-4F27-92B7-9C177BEC0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0060C6-B96E-45C5-AB64-1594493A13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8EC3C-E8AE-4C95-A00B-2010B425F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219822-8933-45A5-BC62-5A93C0D9A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74C8A6-FE6E-49BB-AB6D-F9B43DAFB0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F9FA2D-1681-41BA-BA4D-3B16A9D35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853907-2184-4F0D-B5C6-3FE754419D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CE2BA5-3FC0-48FB-85CF-730F239E59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9CE5C9-69EB-4264-85A3-C93DD4F62B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EA44A8-8D5A-4582-8F10-A067B3CC9B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6D6B36-5303-4E1C-8121-036574D338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9736-95B4-451F-AB76-F3F0262A11F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5D75-4FFE-4E01-A33E-E31521A8F5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7612-CD5C-4A64-A698-1E82764B9E42}"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87E0-3417-498C-AD0D-EF8F814A338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E1F4-30E7-4C8F-9648-7C2453AADC6A}"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11D6-272F-4600-915C-6F7F52A3D3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7D27-316D-468D-B236-283E4C8EAC06}"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DB0E-D38C-4AF1-B046-9F2281B92A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F292-8454-4519-B415-36C47F912DDD}"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55DF-17E8-41C4-B95F-BD05442229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26CA-829E-4DD8-A309-9BAA6072A69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B55E-9851-4E10-96CD-CE16D4E5B6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49D9-0CD2-4B21-AA53-D5FBE4F5D805}"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C480-158A-4303-8D3B-6B2F2C7CD7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71A0-DFB0-4645-835B-BE31496D7DA4}"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29F8-BF52-4EC7-9865-E23173867B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7375-0848-4050-9A66-1532E25E9310}"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8747-07B9-4372-9EBB-B26C976615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714EC6BF-3C56-496B-A108-75A06CB48F3D}" type="slidenum">
              <a:t>1</a:t>
            </a:fld>
          </a:p>
        </p:txBody>
      </p:sp>
      <p:sp>
        <p:nvSpPr>
          <p:cNvPr id="5" name="PlaceHolder 4"/>
          <p:cNvSpPr>
            <a:spLocks noGrp="1"/>
          </p:cNvSpPr>
          <p:nvPr>
            <p:ph type="dt" idx="4"/>
          </p:nvPr>
        </p:nvSpPr>
        <p:spPr/>
        <p:txBody>
          <a:bodyPr/>
          <a:p>
            <a:fld id="{30745475-9EC5-4D79-8CA6-CCB275BC687A}"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6009-DD62-461F-92A3-00B7F7535DBC}"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BD46-8BB4-4B60-9EFB-2BF564AB7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A695855-128A-4561-B925-1D9285BAA96F}" type="slidenum">
              <a:t>10</a:t>
            </a:fld>
          </a:p>
        </p:txBody>
      </p:sp>
      <p:sp>
        <p:nvSpPr>
          <p:cNvPr id="5" name="PlaceHolder 4"/>
          <p:cNvSpPr>
            <a:spLocks noGrp="1"/>
          </p:cNvSpPr>
          <p:nvPr>
            <p:ph type="dt" idx="1"/>
          </p:nvPr>
        </p:nvSpPr>
        <p:spPr/>
        <p:txBody>
          <a:bodyPr/>
          <a:p>
            <a:fld id="{B8949E8F-C97F-4A84-91A9-8584EBB3FE5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C9C47521-742D-4F6A-810D-9D3AEA478637}" type="slidenum">
              <a:t>11</a:t>
            </a:fld>
          </a:p>
        </p:txBody>
      </p:sp>
      <p:sp>
        <p:nvSpPr>
          <p:cNvPr id="3" name="PlaceHolder 2"/>
          <p:cNvSpPr>
            <a:spLocks noGrp="1"/>
          </p:cNvSpPr>
          <p:nvPr>
            <p:ph type="dt" idx="1"/>
          </p:nvPr>
        </p:nvSpPr>
        <p:spPr/>
        <p:txBody>
          <a:bodyPr/>
          <a:p>
            <a:fld id="{85FA6AA8-EEF4-40B2-91C9-DEC03AA26E2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DCC4387-48E9-4C6E-AA5E-7A8B9A9A6A5A}" type="slidenum">
              <a:t>12</a:t>
            </a:fld>
          </a:p>
        </p:txBody>
      </p:sp>
      <p:sp>
        <p:nvSpPr>
          <p:cNvPr id="4" name="PlaceHolder 3"/>
          <p:cNvSpPr>
            <a:spLocks noGrp="1"/>
          </p:cNvSpPr>
          <p:nvPr>
            <p:ph type="dt" idx="1"/>
          </p:nvPr>
        </p:nvSpPr>
        <p:spPr/>
        <p:txBody>
          <a:bodyPr/>
          <a:p>
            <a:fld id="{1ADCFD9F-75D4-4887-BF8C-8E6A3858C9A3}"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9D411AA7-5CCD-4090-BAAA-19422BB8FDCE}" type="slidenum">
              <a:t>13</a:t>
            </a:fld>
          </a:p>
        </p:txBody>
      </p:sp>
      <p:sp>
        <p:nvSpPr>
          <p:cNvPr id="4" name="PlaceHolder 3"/>
          <p:cNvSpPr>
            <a:spLocks noGrp="1"/>
          </p:cNvSpPr>
          <p:nvPr>
            <p:ph type="dt" idx="1"/>
          </p:nvPr>
        </p:nvSpPr>
        <p:spPr/>
        <p:txBody>
          <a:bodyPr/>
          <a:p>
            <a:fld id="{36ABB2D7-B3C4-44A3-BCF7-A31509EAC92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11B08611-9BE5-40B9-83EB-26F9943074C6}" type="slidenum">
              <a:t>14</a:t>
            </a:fld>
          </a:p>
        </p:txBody>
      </p:sp>
      <p:sp>
        <p:nvSpPr>
          <p:cNvPr id="4" name="PlaceHolder 3"/>
          <p:cNvSpPr>
            <a:spLocks noGrp="1"/>
          </p:cNvSpPr>
          <p:nvPr>
            <p:ph type="dt" idx="1"/>
          </p:nvPr>
        </p:nvSpPr>
        <p:spPr/>
        <p:txBody>
          <a:bodyPr/>
          <a:p>
            <a:fld id="{07DC2B39-EF9A-4080-891D-83D821138386}"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76BE4A18-1338-4554-BA4E-27025E960AC9}" type="slidenum">
              <a:t>15</a:t>
            </a:fld>
          </a:p>
        </p:txBody>
      </p:sp>
      <p:sp>
        <p:nvSpPr>
          <p:cNvPr id="3" name="PlaceHolder 2"/>
          <p:cNvSpPr>
            <a:spLocks noGrp="1"/>
          </p:cNvSpPr>
          <p:nvPr>
            <p:ph type="dt" idx="1"/>
          </p:nvPr>
        </p:nvSpPr>
        <p:spPr/>
        <p:txBody>
          <a:bodyPr/>
          <a:p>
            <a:fld id="{279EE8EF-A3CA-46BE-9681-1C99D7D4646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98E2B41-2E06-406A-B8D0-8A18AD0E22E8}" type="slidenum">
              <a:t>16</a:t>
            </a:fld>
          </a:p>
        </p:txBody>
      </p:sp>
      <p:sp>
        <p:nvSpPr>
          <p:cNvPr id="4" name="PlaceHolder 3"/>
          <p:cNvSpPr>
            <a:spLocks noGrp="1"/>
          </p:cNvSpPr>
          <p:nvPr>
            <p:ph type="dt" idx="1"/>
          </p:nvPr>
        </p:nvSpPr>
        <p:spPr/>
        <p:txBody>
          <a:bodyPr/>
          <a:p>
            <a:fld id="{F8764462-4B16-4485-B9DA-A4A622DF6E3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AFEDB94D-A013-4DB3-B8AC-ACD8B5F0DB2C}" type="slidenum">
              <a:t>17</a:t>
            </a:fld>
          </a:p>
        </p:txBody>
      </p:sp>
      <p:sp>
        <p:nvSpPr>
          <p:cNvPr id="4" name="PlaceHolder 3"/>
          <p:cNvSpPr>
            <a:spLocks noGrp="1"/>
          </p:cNvSpPr>
          <p:nvPr>
            <p:ph type="dt" idx="4"/>
          </p:nvPr>
        </p:nvSpPr>
        <p:spPr/>
        <p:txBody>
          <a:bodyPr/>
          <a:p>
            <a:fld id="{3FF50B09-788B-4699-9A08-E1BA91CC063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8B91ED-8DF5-4CF1-9F6A-9004ADD2BB3A}" type="slidenum">
              <a:t>18</a:t>
            </a:fld>
          </a:p>
        </p:txBody>
      </p:sp>
      <p:sp>
        <p:nvSpPr>
          <p:cNvPr id="5" name="PlaceHolder 4"/>
          <p:cNvSpPr>
            <a:spLocks noGrp="1"/>
          </p:cNvSpPr>
          <p:nvPr>
            <p:ph type="dt" idx="1"/>
          </p:nvPr>
        </p:nvSpPr>
        <p:spPr/>
        <p:txBody>
          <a:bodyPr/>
          <a:p>
            <a:fld id="{0A762329-D7E1-4E78-96D5-5AAD4867A57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B214F3E-9A4A-45BA-9287-4FD58D943AD5}" type="slidenum">
              <a:t>19</a:t>
            </a:fld>
          </a:p>
        </p:txBody>
      </p:sp>
      <p:sp>
        <p:nvSpPr>
          <p:cNvPr id="3" name="PlaceHolder 2"/>
          <p:cNvSpPr>
            <a:spLocks noGrp="1"/>
          </p:cNvSpPr>
          <p:nvPr>
            <p:ph type="dt" idx="1"/>
          </p:nvPr>
        </p:nvSpPr>
        <p:spPr/>
        <p:txBody>
          <a:bodyPr/>
          <a:p>
            <a:fld id="{5515A276-36DD-49EC-AFA3-185B30DA2BF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98FF9C2F-1D49-4235-A93F-38F6D4C9E8C5}" type="slidenum">
              <a:t>2</a:t>
            </a:fld>
          </a:p>
        </p:txBody>
      </p:sp>
      <p:sp>
        <p:nvSpPr>
          <p:cNvPr id="4" name="PlaceHolder 3"/>
          <p:cNvSpPr>
            <a:spLocks noGrp="1"/>
          </p:cNvSpPr>
          <p:nvPr>
            <p:ph type="dt" idx="1"/>
          </p:nvPr>
        </p:nvSpPr>
        <p:spPr/>
        <p:txBody>
          <a:bodyPr/>
          <a:p>
            <a:fld id="{ED764F42-B22A-4097-954B-A7E232E6924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4813395-C820-48B9-BDC5-95A45D81A70E}" type="slidenum">
              <a:t>20</a:t>
            </a:fld>
          </a:p>
        </p:txBody>
      </p:sp>
      <p:sp>
        <p:nvSpPr>
          <p:cNvPr id="3" name="PlaceHolder 2"/>
          <p:cNvSpPr>
            <a:spLocks noGrp="1"/>
          </p:cNvSpPr>
          <p:nvPr>
            <p:ph type="dt" idx="1"/>
          </p:nvPr>
        </p:nvSpPr>
        <p:spPr/>
        <p:txBody>
          <a:bodyPr/>
          <a:p>
            <a:fld id="{27B5269A-2BD1-49E3-9AC5-2190C954F61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28EC1AA-0F04-4567-AF2C-730B5219AEBB}" type="slidenum">
              <a:t>21</a:t>
            </a:fld>
          </a:p>
        </p:txBody>
      </p:sp>
      <p:sp>
        <p:nvSpPr>
          <p:cNvPr id="4" name="PlaceHolder 3"/>
          <p:cNvSpPr>
            <a:spLocks noGrp="1"/>
          </p:cNvSpPr>
          <p:nvPr>
            <p:ph type="dt" idx="1"/>
          </p:nvPr>
        </p:nvSpPr>
        <p:spPr/>
        <p:txBody>
          <a:bodyPr/>
          <a:p>
            <a:fld id="{72F84818-6AFC-454F-A02D-0D9E5C65FA45}"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513CFD-7880-4596-BB21-E5A68C36CEDF}" type="slidenum">
              <a:t>22</a:t>
            </a:fld>
          </a:p>
        </p:txBody>
      </p:sp>
      <p:sp>
        <p:nvSpPr>
          <p:cNvPr id="3" name="PlaceHolder 2"/>
          <p:cNvSpPr>
            <a:spLocks noGrp="1"/>
          </p:cNvSpPr>
          <p:nvPr>
            <p:ph type="dt" idx="1"/>
          </p:nvPr>
        </p:nvSpPr>
        <p:spPr/>
        <p:txBody>
          <a:bodyPr/>
          <a:p>
            <a:fld id="{7D550459-7297-4F98-93E8-30553B1AF357}"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D664FFA-9B60-435F-9DB9-9E7C17EA375E}" type="slidenum">
              <a:t>23</a:t>
            </a:fld>
          </a:p>
        </p:txBody>
      </p:sp>
      <p:sp>
        <p:nvSpPr>
          <p:cNvPr id="3" name="PlaceHolder 2"/>
          <p:cNvSpPr>
            <a:spLocks noGrp="1"/>
          </p:cNvSpPr>
          <p:nvPr>
            <p:ph type="dt" idx="1"/>
          </p:nvPr>
        </p:nvSpPr>
        <p:spPr/>
        <p:txBody>
          <a:bodyPr/>
          <a:p>
            <a:fld id="{85B1D74D-2DA0-4BB9-8992-A03EBA790E88}"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D4FB35-0B5E-4E89-98D4-314047CCCC3F}" type="slidenum">
              <a:t>24</a:t>
            </a:fld>
          </a:p>
        </p:txBody>
      </p:sp>
      <p:sp>
        <p:nvSpPr>
          <p:cNvPr id="3" name="PlaceHolder 2"/>
          <p:cNvSpPr>
            <a:spLocks noGrp="1"/>
          </p:cNvSpPr>
          <p:nvPr>
            <p:ph type="dt" idx="1"/>
          </p:nvPr>
        </p:nvSpPr>
        <p:spPr/>
        <p:txBody>
          <a:bodyPr/>
          <a:p>
            <a:fld id="{0397C8AD-DD07-4CB6-BE7B-60C10776D1A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7280B5-F3FF-402B-B3E7-F9C67419F96A}" type="slidenum">
              <a:t>25</a:t>
            </a:fld>
          </a:p>
        </p:txBody>
      </p:sp>
      <p:sp>
        <p:nvSpPr>
          <p:cNvPr id="3" name="PlaceHolder 2"/>
          <p:cNvSpPr>
            <a:spLocks noGrp="1"/>
          </p:cNvSpPr>
          <p:nvPr>
            <p:ph type="dt" idx="1"/>
          </p:nvPr>
        </p:nvSpPr>
        <p:spPr/>
        <p:txBody>
          <a:bodyPr/>
          <a:p>
            <a:fld id="{95E8ED29-5B4F-4A6F-9C27-C1A123E3DE3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0D4385E-3644-4419-919B-A6D3B18473C2}" type="slidenum">
              <a:t>26</a:t>
            </a:fld>
          </a:p>
        </p:txBody>
      </p:sp>
      <p:sp>
        <p:nvSpPr>
          <p:cNvPr id="3" name="PlaceHolder 2"/>
          <p:cNvSpPr>
            <a:spLocks noGrp="1"/>
          </p:cNvSpPr>
          <p:nvPr>
            <p:ph type="dt" idx="1"/>
          </p:nvPr>
        </p:nvSpPr>
        <p:spPr/>
        <p:txBody>
          <a:bodyPr/>
          <a:p>
            <a:fld id="{395F113E-3E80-4B48-88C7-FAEC22DB2E14}"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837CB1A-BBEC-490A-B4E4-11773AFAE256}" type="slidenum">
              <a:t>27</a:t>
            </a:fld>
          </a:p>
        </p:txBody>
      </p:sp>
      <p:sp>
        <p:nvSpPr>
          <p:cNvPr id="3" name="PlaceHolder 2"/>
          <p:cNvSpPr>
            <a:spLocks noGrp="1"/>
          </p:cNvSpPr>
          <p:nvPr>
            <p:ph type="dt" idx="1"/>
          </p:nvPr>
        </p:nvSpPr>
        <p:spPr/>
        <p:txBody>
          <a:bodyPr/>
          <a:p>
            <a:fld id="{3979C324-D80E-4831-83E8-200F883FDBF6}"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7E7A-EC4B-4C65-B961-AC9E713A0A68}" type="datetime">
              <a:rPr b="0" lang="en-US" sz="1200" spc="-1" strike="noStrike">
                <a:solidFill>
                  <a:srgbClr val="000000"/>
                </a:solidFill>
                <a:latin typeface="Verdana"/>
              </a:rPr>
              <a:t>07/29/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B8A72024-6EC8-4B63-A80B-4636DB4C22A1}" type="slidenum">
              <a:t>28</a:t>
            </a:fld>
          </a:p>
        </p:txBody>
      </p:sp>
      <p:sp>
        <p:nvSpPr>
          <p:cNvPr id="4" name="PlaceHolder 3"/>
          <p:cNvSpPr>
            <a:spLocks noGrp="1"/>
          </p:cNvSpPr>
          <p:nvPr>
            <p:ph type="dt" idx="4"/>
          </p:nvPr>
        </p:nvSpPr>
        <p:spPr/>
        <p:txBody>
          <a:bodyPr/>
          <a:p>
            <a:fld id="{65A044BF-65B8-45F0-B258-C664DEA9A024}"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9ADDD821-BE07-46C8-9ABA-CBB607ABBD10}" type="slidenum">
              <a:t>29</a:t>
            </a:fld>
          </a:p>
        </p:txBody>
      </p:sp>
      <p:sp>
        <p:nvSpPr>
          <p:cNvPr id="5" name="PlaceHolder 4"/>
          <p:cNvSpPr>
            <a:spLocks noGrp="1"/>
          </p:cNvSpPr>
          <p:nvPr>
            <p:ph type="dt" idx="4"/>
          </p:nvPr>
        </p:nvSpPr>
        <p:spPr/>
        <p:txBody>
          <a:bodyPr/>
          <a:p>
            <a:fld id="{50DDD062-49BD-461F-805A-D5D2A385212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C7379F37-4610-4760-88DF-5CE2C0A985B7}" type="slidenum">
              <a:t>3</a:t>
            </a:fld>
          </a:p>
        </p:txBody>
      </p:sp>
      <p:sp>
        <p:nvSpPr>
          <p:cNvPr id="3" name="PlaceHolder 2"/>
          <p:cNvSpPr>
            <a:spLocks noGrp="1"/>
          </p:cNvSpPr>
          <p:nvPr>
            <p:ph type="dt" idx="1"/>
          </p:nvPr>
        </p:nvSpPr>
        <p:spPr/>
        <p:txBody>
          <a:bodyPr/>
          <a:p>
            <a:fld id="{2174882F-F33D-4B9C-9362-3A2BC20D1A9D}"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1F226C0-CC20-4240-86DF-6E775EA05FD8}" type="slidenum">
              <a:t>30</a:t>
            </a:fld>
          </a:p>
        </p:txBody>
      </p:sp>
      <p:sp>
        <p:nvSpPr>
          <p:cNvPr id="5" name="PlaceHolder 4"/>
          <p:cNvSpPr>
            <a:spLocks noGrp="1"/>
          </p:cNvSpPr>
          <p:nvPr>
            <p:ph type="dt" idx="4"/>
          </p:nvPr>
        </p:nvSpPr>
        <p:spPr/>
        <p:txBody>
          <a:bodyPr/>
          <a:p>
            <a:fld id="{B28767CB-6B75-4808-A560-5EB573B75694}"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CF3FC104-CAE2-48B3-9BD5-E9703B8B1CDB}" type="slidenum">
              <a:t>31</a:t>
            </a:fld>
          </a:p>
        </p:txBody>
      </p:sp>
      <p:sp>
        <p:nvSpPr>
          <p:cNvPr id="5" name="PlaceHolder 4"/>
          <p:cNvSpPr>
            <a:spLocks noGrp="1"/>
          </p:cNvSpPr>
          <p:nvPr>
            <p:ph type="dt" idx="4"/>
          </p:nvPr>
        </p:nvSpPr>
        <p:spPr/>
        <p:txBody>
          <a:bodyPr/>
          <a:p>
            <a:fld id="{CB84300A-1806-48AE-A0F1-420F468EDFF8}"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DFF33540-94FE-4FEE-BAA5-0E48FF13DB54}" type="slidenum">
              <a:t>32</a:t>
            </a:fld>
          </a:p>
        </p:txBody>
      </p:sp>
      <p:sp>
        <p:nvSpPr>
          <p:cNvPr id="5" name="PlaceHolder 4"/>
          <p:cNvSpPr>
            <a:spLocks noGrp="1"/>
          </p:cNvSpPr>
          <p:nvPr>
            <p:ph type="dt" idx="4"/>
          </p:nvPr>
        </p:nvSpPr>
        <p:spPr/>
        <p:txBody>
          <a:bodyPr/>
          <a:p>
            <a:fld id="{F144458A-BCAA-4E3F-B40F-CD2F80D71DED}"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D76E805C-9E89-41C3-A590-F7189EFEB0DE}" type="slidenum">
              <a:t>33</a:t>
            </a:fld>
          </a:p>
        </p:txBody>
      </p:sp>
      <p:sp>
        <p:nvSpPr>
          <p:cNvPr id="5" name="PlaceHolder 4"/>
          <p:cNvSpPr>
            <a:spLocks noGrp="1"/>
          </p:cNvSpPr>
          <p:nvPr>
            <p:ph type="dt" idx="4"/>
          </p:nvPr>
        </p:nvSpPr>
        <p:spPr/>
        <p:txBody>
          <a:bodyPr/>
          <a:p>
            <a:fld id="{6F169C8A-CE43-4AC8-B457-9F03800DA0EB}"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9AEDE508-F3E0-4150-9C19-767A5B93EC41}" type="slidenum">
              <a:t>34</a:t>
            </a:fld>
          </a:p>
        </p:txBody>
      </p:sp>
      <p:sp>
        <p:nvSpPr>
          <p:cNvPr id="3" name="PlaceHolder 2"/>
          <p:cNvSpPr>
            <a:spLocks noGrp="1"/>
          </p:cNvSpPr>
          <p:nvPr>
            <p:ph type="dt" idx="4"/>
          </p:nvPr>
        </p:nvSpPr>
        <p:spPr/>
        <p:txBody>
          <a:bodyPr/>
          <a:p>
            <a:fld id="{F197947C-D522-4759-8C50-4C48743B2F8B}"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619F5205-066A-4713-AC5B-23BBBDCF3153}" type="slidenum">
              <a:t>35</a:t>
            </a:fld>
          </a:p>
        </p:txBody>
      </p:sp>
      <p:sp>
        <p:nvSpPr>
          <p:cNvPr id="5" name="PlaceHolder 4"/>
          <p:cNvSpPr>
            <a:spLocks noGrp="1"/>
          </p:cNvSpPr>
          <p:nvPr>
            <p:ph type="dt" idx="4"/>
          </p:nvPr>
        </p:nvSpPr>
        <p:spPr/>
        <p:txBody>
          <a:bodyPr/>
          <a:p>
            <a:fld id="{2DA430F2-72F0-4287-9B7E-63E7C33FAF6B}"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FEBFF3E1-2A2E-4343-A0F9-68D485758B05}" type="slidenum">
              <a:t>36</a:t>
            </a:fld>
          </a:p>
        </p:txBody>
      </p:sp>
      <p:sp>
        <p:nvSpPr>
          <p:cNvPr id="4" name="PlaceHolder 3"/>
          <p:cNvSpPr>
            <a:spLocks noGrp="1"/>
          </p:cNvSpPr>
          <p:nvPr>
            <p:ph type="dt" idx="4"/>
          </p:nvPr>
        </p:nvSpPr>
        <p:spPr/>
        <p:txBody>
          <a:bodyPr/>
          <a:p>
            <a:fld id="{39D0D6AA-D636-4AD4-B723-CCB8D5CF1F0D}"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63188166-6EE7-4118-BA16-D73E529DD40A}" type="slidenum">
              <a:t>37</a:t>
            </a:fld>
          </a:p>
        </p:txBody>
      </p:sp>
      <p:sp>
        <p:nvSpPr>
          <p:cNvPr id="5" name="PlaceHolder 4"/>
          <p:cNvSpPr>
            <a:spLocks noGrp="1"/>
          </p:cNvSpPr>
          <p:nvPr>
            <p:ph type="dt" idx="4"/>
          </p:nvPr>
        </p:nvSpPr>
        <p:spPr/>
        <p:txBody>
          <a:bodyPr/>
          <a:p>
            <a:fld id="{7D6E5D49-A2A4-4256-8496-35A72D1307A9}"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89878CD1-FB4E-4371-8956-9322C332C7AE}" type="slidenum">
              <a:t>38</a:t>
            </a:fld>
          </a:p>
        </p:txBody>
      </p:sp>
      <p:sp>
        <p:nvSpPr>
          <p:cNvPr id="4" name="PlaceHolder 3"/>
          <p:cNvSpPr>
            <a:spLocks noGrp="1"/>
          </p:cNvSpPr>
          <p:nvPr>
            <p:ph type="dt" idx="4"/>
          </p:nvPr>
        </p:nvSpPr>
        <p:spPr/>
        <p:txBody>
          <a:bodyPr/>
          <a:p>
            <a:fld id="{B7D61919-5F3E-4152-8241-64F23399019D}"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2112DAD3-FD6B-4141-80F5-3E5D7E9682AB}" type="slidenum">
              <a:t>39</a:t>
            </a:fld>
          </a:p>
        </p:txBody>
      </p:sp>
      <p:sp>
        <p:nvSpPr>
          <p:cNvPr id="4" name="PlaceHolder 3"/>
          <p:cNvSpPr>
            <a:spLocks noGrp="1"/>
          </p:cNvSpPr>
          <p:nvPr>
            <p:ph type="dt" idx="4"/>
          </p:nvPr>
        </p:nvSpPr>
        <p:spPr/>
        <p:txBody>
          <a:bodyPr/>
          <a:p>
            <a:fld id="{3170BEA6-6205-47B7-AA8F-B7FEC31BC90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AB6EB416-1D87-40A1-9CBA-316912C156FC}" type="slidenum">
              <a:t>4</a:t>
            </a:fld>
          </a:p>
        </p:txBody>
      </p:sp>
      <p:sp>
        <p:nvSpPr>
          <p:cNvPr id="5" name="PlaceHolder 4"/>
          <p:cNvSpPr>
            <a:spLocks noGrp="1"/>
          </p:cNvSpPr>
          <p:nvPr>
            <p:ph type="dt" idx="1"/>
          </p:nvPr>
        </p:nvSpPr>
        <p:spPr/>
        <p:txBody>
          <a:bodyPr/>
          <a:p>
            <a:fld id="{EACF5057-D342-4EF9-903D-3ACF076FEEDB}"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CF1F2315-7366-477A-8250-2D715155F34A}" type="slidenum">
              <a:t>40</a:t>
            </a:fld>
          </a:p>
        </p:txBody>
      </p:sp>
      <p:sp>
        <p:nvSpPr>
          <p:cNvPr id="4" name="PlaceHolder 3"/>
          <p:cNvSpPr>
            <a:spLocks noGrp="1"/>
          </p:cNvSpPr>
          <p:nvPr>
            <p:ph type="dt" idx="4"/>
          </p:nvPr>
        </p:nvSpPr>
        <p:spPr/>
        <p:txBody>
          <a:bodyPr/>
          <a:p>
            <a:fld id="{51B4C797-DB0C-4644-ADB1-078877814349}"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D19265DD-1A79-4CAB-B8F3-ED4C24DCAF2E}" type="slidenum">
              <a:t>41</a:t>
            </a:fld>
          </a:p>
        </p:txBody>
      </p:sp>
      <p:sp>
        <p:nvSpPr>
          <p:cNvPr id="3" name="PlaceHolder 2"/>
          <p:cNvSpPr>
            <a:spLocks noGrp="1"/>
          </p:cNvSpPr>
          <p:nvPr>
            <p:ph type="dt" idx="4"/>
          </p:nvPr>
        </p:nvSpPr>
        <p:spPr/>
        <p:txBody>
          <a:bodyPr/>
          <a:p>
            <a:fld id="{E023A139-D51A-46F5-8CE9-F7BBB6D07777}"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20C3D887-0D15-49D4-9462-B9B15F322536}" type="slidenum">
              <a:t>42</a:t>
            </a:fld>
          </a:p>
        </p:txBody>
      </p:sp>
      <p:sp>
        <p:nvSpPr>
          <p:cNvPr id="5" name="PlaceHolder 4"/>
          <p:cNvSpPr>
            <a:spLocks noGrp="1"/>
          </p:cNvSpPr>
          <p:nvPr>
            <p:ph type="dt" idx="4"/>
          </p:nvPr>
        </p:nvSpPr>
        <p:spPr/>
        <p:txBody>
          <a:bodyPr/>
          <a:p>
            <a:fld id="{831D8C12-B982-4293-89F1-CC28FDF1EB79}"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65E373A7-F709-4E82-B0FE-BC955076DAFD}" type="slidenum">
              <a:t>43</a:t>
            </a:fld>
          </a:p>
        </p:txBody>
      </p:sp>
      <p:sp>
        <p:nvSpPr>
          <p:cNvPr id="5" name="PlaceHolder 4"/>
          <p:cNvSpPr>
            <a:spLocks noGrp="1"/>
          </p:cNvSpPr>
          <p:nvPr>
            <p:ph type="dt" idx="4"/>
          </p:nvPr>
        </p:nvSpPr>
        <p:spPr/>
        <p:txBody>
          <a:bodyPr/>
          <a:p>
            <a:fld id="{CE442BBE-EB29-4C0A-9B5E-4F2841EA2946}"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03AB1967-EE3C-400B-A052-15B38430EA86}" type="slidenum">
              <a:t>44</a:t>
            </a:fld>
          </a:p>
        </p:txBody>
      </p:sp>
      <p:sp>
        <p:nvSpPr>
          <p:cNvPr id="5" name="PlaceHolder 4"/>
          <p:cNvSpPr>
            <a:spLocks noGrp="1"/>
          </p:cNvSpPr>
          <p:nvPr>
            <p:ph type="dt" idx="4"/>
          </p:nvPr>
        </p:nvSpPr>
        <p:spPr/>
        <p:txBody>
          <a:bodyPr/>
          <a:p>
            <a:fld id="{0A99CEBB-6803-4E7B-9752-1034E32FE50C}"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FB455D67-7C39-4628-9040-372FF15452EC}" type="slidenum">
              <a:t>45</a:t>
            </a:fld>
          </a:p>
        </p:txBody>
      </p:sp>
      <p:sp>
        <p:nvSpPr>
          <p:cNvPr id="4" name="PlaceHolder 3"/>
          <p:cNvSpPr>
            <a:spLocks noGrp="1"/>
          </p:cNvSpPr>
          <p:nvPr>
            <p:ph type="dt" idx="4"/>
          </p:nvPr>
        </p:nvSpPr>
        <p:spPr/>
        <p:txBody>
          <a:bodyPr/>
          <a:p>
            <a:fld id="{190A9436-4334-405B-A88B-B0C41021266C}"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9DA79938-DE22-4243-8DCA-698CF7BC8DE2}" type="slidenum">
              <a:t>46</a:t>
            </a:fld>
          </a:p>
        </p:txBody>
      </p:sp>
      <p:sp>
        <p:nvSpPr>
          <p:cNvPr id="5" name="PlaceHolder 4"/>
          <p:cNvSpPr>
            <a:spLocks noGrp="1"/>
          </p:cNvSpPr>
          <p:nvPr>
            <p:ph type="dt" idx="4"/>
          </p:nvPr>
        </p:nvSpPr>
        <p:spPr/>
        <p:txBody>
          <a:bodyPr/>
          <a:p>
            <a:fld id="{744F6BFC-C660-4E4E-B2D9-A27E69581536}"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7A82-2287-4A5C-B04E-1CE25811E1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B906-8E2C-4AD3-A6EF-1ED3B68C4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9643B28D-0288-44B8-BF3F-8E689C442C11}" type="slidenum">
              <a:t>47</a:t>
            </a:fld>
          </a:p>
        </p:txBody>
      </p:sp>
      <p:sp>
        <p:nvSpPr>
          <p:cNvPr id="4" name="PlaceHolder 3"/>
          <p:cNvSpPr>
            <a:spLocks noGrp="1"/>
          </p:cNvSpPr>
          <p:nvPr>
            <p:ph type="dt" idx="4"/>
          </p:nvPr>
        </p:nvSpPr>
        <p:spPr/>
        <p:txBody>
          <a:bodyPr/>
          <a:p>
            <a:fld id="{BFC358C1-BDE3-4F8C-A720-8C3C83953877}"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7FF01D0C-CBF6-461A-8C51-C42CC1B49435}" type="slidenum">
              <a:t>48</a:t>
            </a:fld>
          </a:p>
        </p:txBody>
      </p:sp>
      <p:sp>
        <p:nvSpPr>
          <p:cNvPr id="5" name="PlaceHolder 4"/>
          <p:cNvSpPr>
            <a:spLocks noGrp="1"/>
          </p:cNvSpPr>
          <p:nvPr>
            <p:ph type="dt" idx="4"/>
          </p:nvPr>
        </p:nvSpPr>
        <p:spPr/>
        <p:txBody>
          <a:bodyPr/>
          <a:p>
            <a:fld id="{439E52CB-2E47-4D40-B5ED-229CF4770EC7}"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33FDFFA5-2D0C-4072-AB54-CF325CF4DCF8}" type="slidenum">
              <a:t>49</a:t>
            </a:fld>
          </a:p>
        </p:txBody>
      </p:sp>
      <p:sp>
        <p:nvSpPr>
          <p:cNvPr id="5" name="PlaceHolder 4"/>
          <p:cNvSpPr>
            <a:spLocks noGrp="1"/>
          </p:cNvSpPr>
          <p:nvPr>
            <p:ph type="dt" idx="4"/>
          </p:nvPr>
        </p:nvSpPr>
        <p:spPr/>
        <p:txBody>
          <a:bodyPr/>
          <a:p>
            <a:fld id="{4512BF31-4F6F-4628-A599-A2E3F94E0A4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E0265AF-FDE5-4CB2-AA0F-C75722B45E3E}" type="slidenum">
              <a:t>5</a:t>
            </a:fld>
          </a:p>
        </p:txBody>
      </p:sp>
      <p:sp>
        <p:nvSpPr>
          <p:cNvPr id="5" name="PlaceHolder 4"/>
          <p:cNvSpPr>
            <a:spLocks noGrp="1"/>
          </p:cNvSpPr>
          <p:nvPr>
            <p:ph type="dt" idx="1"/>
          </p:nvPr>
        </p:nvSpPr>
        <p:spPr/>
        <p:txBody>
          <a:bodyPr/>
          <a:p>
            <a:fld id="{176FAC4B-69E1-4D2B-B3D2-D64922F19DED}"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4A639714-27DF-4352-B88F-6FB3378B7C85}" type="slidenum">
              <a:t>50</a:t>
            </a:fld>
          </a:p>
        </p:txBody>
      </p:sp>
      <p:sp>
        <p:nvSpPr>
          <p:cNvPr id="5" name="PlaceHolder 4"/>
          <p:cNvSpPr>
            <a:spLocks noGrp="1"/>
          </p:cNvSpPr>
          <p:nvPr>
            <p:ph type="dt" idx="4"/>
          </p:nvPr>
        </p:nvSpPr>
        <p:spPr/>
        <p:txBody>
          <a:bodyPr/>
          <a:p>
            <a:fld id="{21EEF54E-43D0-417E-BA57-510E087B3C23}"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3165B1C2-852C-497E-AE93-BCBD5DBD389F}" type="slidenum">
              <a:t>51</a:t>
            </a:fld>
          </a:p>
        </p:txBody>
      </p:sp>
      <p:sp>
        <p:nvSpPr>
          <p:cNvPr id="5" name="PlaceHolder 4"/>
          <p:cNvSpPr>
            <a:spLocks noGrp="1"/>
          </p:cNvSpPr>
          <p:nvPr>
            <p:ph type="dt" idx="4"/>
          </p:nvPr>
        </p:nvSpPr>
        <p:spPr/>
        <p:txBody>
          <a:bodyPr/>
          <a:p>
            <a:fld id="{9BEBCC3F-4040-4AC4-A343-1BC96F5E6293}"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0A8FEBD9-A193-49E6-92D5-8FCE9A930974}" type="slidenum">
              <a:t>52</a:t>
            </a:fld>
          </a:p>
        </p:txBody>
      </p:sp>
      <p:sp>
        <p:nvSpPr>
          <p:cNvPr id="5" name="PlaceHolder 4"/>
          <p:cNvSpPr>
            <a:spLocks noGrp="1"/>
          </p:cNvSpPr>
          <p:nvPr>
            <p:ph type="dt" idx="4"/>
          </p:nvPr>
        </p:nvSpPr>
        <p:spPr/>
        <p:txBody>
          <a:bodyPr/>
          <a:p>
            <a:fld id="{5EE9A3BF-092B-447E-A649-1DDE54682388}"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01294F6B-90E7-48B3-8E31-021C7386AE53}" type="slidenum">
              <a:t>53</a:t>
            </a:fld>
          </a:p>
        </p:txBody>
      </p:sp>
      <p:sp>
        <p:nvSpPr>
          <p:cNvPr id="5" name="PlaceHolder 4"/>
          <p:cNvSpPr>
            <a:spLocks noGrp="1"/>
          </p:cNvSpPr>
          <p:nvPr>
            <p:ph type="dt" idx="4"/>
          </p:nvPr>
        </p:nvSpPr>
        <p:spPr/>
        <p:txBody>
          <a:bodyPr/>
          <a:p>
            <a:fld id="{071C7D0B-5F1F-48A6-B01A-17278110C279}"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396A3D67-E222-4D87-B90B-400CC6FEB773}" type="slidenum">
              <a:t>54</a:t>
            </a:fld>
          </a:p>
        </p:txBody>
      </p:sp>
      <p:sp>
        <p:nvSpPr>
          <p:cNvPr id="5" name="PlaceHolder 4"/>
          <p:cNvSpPr>
            <a:spLocks noGrp="1"/>
          </p:cNvSpPr>
          <p:nvPr>
            <p:ph type="dt" idx="4"/>
          </p:nvPr>
        </p:nvSpPr>
        <p:spPr/>
        <p:txBody>
          <a:bodyPr/>
          <a:p>
            <a:fld id="{68DE799C-0603-4B89-825C-0ABCE5BC70D1}"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670DB60C-BD94-45CD-B8F8-7D84AFDED0B7}" type="slidenum">
              <a:t>55</a:t>
            </a:fld>
          </a:p>
        </p:txBody>
      </p:sp>
      <p:sp>
        <p:nvSpPr>
          <p:cNvPr id="5" name="PlaceHolder 4"/>
          <p:cNvSpPr>
            <a:spLocks noGrp="1"/>
          </p:cNvSpPr>
          <p:nvPr>
            <p:ph type="dt" idx="4"/>
          </p:nvPr>
        </p:nvSpPr>
        <p:spPr/>
        <p:txBody>
          <a:bodyPr/>
          <a:p>
            <a:fld id="{DAC23F63-ED8F-4457-A8D5-3F752D6C9BE0}"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C4EF1F40-EBF2-40D2-8E63-70B7798FDFFC}" type="slidenum">
              <a:t>56</a:t>
            </a:fld>
          </a:p>
        </p:txBody>
      </p:sp>
      <p:sp>
        <p:nvSpPr>
          <p:cNvPr id="5" name="PlaceHolder 4"/>
          <p:cNvSpPr>
            <a:spLocks noGrp="1"/>
          </p:cNvSpPr>
          <p:nvPr>
            <p:ph type="dt" idx="4"/>
          </p:nvPr>
        </p:nvSpPr>
        <p:spPr/>
        <p:txBody>
          <a:bodyPr/>
          <a:p>
            <a:fld id="{62078F77-43C5-4855-B6AF-2FF35D9AF035}"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F8636101-BC19-4433-B7CB-B48E37C88450}" type="slidenum">
              <a:t>57</a:t>
            </a:fld>
          </a:p>
        </p:txBody>
      </p:sp>
      <p:sp>
        <p:nvSpPr>
          <p:cNvPr id="5" name="PlaceHolder 4"/>
          <p:cNvSpPr>
            <a:spLocks noGrp="1"/>
          </p:cNvSpPr>
          <p:nvPr>
            <p:ph type="dt" idx="4"/>
          </p:nvPr>
        </p:nvSpPr>
        <p:spPr/>
        <p:txBody>
          <a:bodyPr/>
          <a:p>
            <a:fld id="{543AA6C0-F4EA-465B-BBF7-D9D1B4E4EA39}"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5D75B366-6180-412C-BE97-36B3F6249A7E}" type="slidenum">
              <a:t>58</a:t>
            </a:fld>
          </a:p>
        </p:txBody>
      </p:sp>
      <p:sp>
        <p:nvSpPr>
          <p:cNvPr id="3" name="PlaceHolder 2"/>
          <p:cNvSpPr>
            <a:spLocks noGrp="1"/>
          </p:cNvSpPr>
          <p:nvPr>
            <p:ph type="dt" idx="4"/>
          </p:nvPr>
        </p:nvSpPr>
        <p:spPr/>
        <p:txBody>
          <a:bodyPr/>
          <a:p>
            <a:fld id="{38ED4C5C-C656-4E7B-A631-228E8E7D7ABC}"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31536182-DAF6-4A0A-AE65-7E3063A3B2CA}" type="slidenum">
              <a:t>59</a:t>
            </a:fld>
          </a:p>
        </p:txBody>
      </p:sp>
      <p:sp>
        <p:nvSpPr>
          <p:cNvPr id="5" name="PlaceHolder 4"/>
          <p:cNvSpPr>
            <a:spLocks noGrp="1"/>
          </p:cNvSpPr>
          <p:nvPr>
            <p:ph type="dt" idx="4"/>
          </p:nvPr>
        </p:nvSpPr>
        <p:spPr/>
        <p:txBody>
          <a:bodyPr/>
          <a:p>
            <a:fld id="{4AF6AD06-15F4-4535-AD86-1FFFFD61BCA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B5B8427-4D6E-440D-8F00-3D195EE08234}" type="slidenum">
              <a:t>6</a:t>
            </a:fld>
          </a:p>
        </p:txBody>
      </p:sp>
      <p:sp>
        <p:nvSpPr>
          <p:cNvPr id="3" name="PlaceHolder 2"/>
          <p:cNvSpPr>
            <a:spLocks noGrp="1"/>
          </p:cNvSpPr>
          <p:nvPr>
            <p:ph type="dt" idx="1"/>
          </p:nvPr>
        </p:nvSpPr>
        <p:spPr/>
        <p:txBody>
          <a:bodyPr/>
          <a:p>
            <a:fld id="{EB96242D-307D-4EB1-96F3-B9FD80B4F5BD}"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9A44D0A9-D9FC-4DB6-887C-BB50B2616F66}" type="slidenum">
              <a:t>60</a:t>
            </a:fld>
          </a:p>
        </p:txBody>
      </p:sp>
      <p:sp>
        <p:nvSpPr>
          <p:cNvPr id="4" name="PlaceHolder 3"/>
          <p:cNvSpPr>
            <a:spLocks noGrp="1"/>
          </p:cNvSpPr>
          <p:nvPr>
            <p:ph type="dt" idx="4"/>
          </p:nvPr>
        </p:nvSpPr>
        <p:spPr/>
        <p:txBody>
          <a:bodyPr/>
          <a:p>
            <a:fld id="{436BEDA8-4B88-4B4A-B063-6F725E2A1AE9}"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2C50B61B-D676-49E8-9763-01AEB04E4555}" type="slidenum">
              <a:t>61</a:t>
            </a:fld>
          </a:p>
        </p:txBody>
      </p:sp>
      <p:sp>
        <p:nvSpPr>
          <p:cNvPr id="4" name="PlaceHolder 3"/>
          <p:cNvSpPr>
            <a:spLocks noGrp="1"/>
          </p:cNvSpPr>
          <p:nvPr>
            <p:ph type="dt" idx="1"/>
          </p:nvPr>
        </p:nvSpPr>
        <p:spPr/>
        <p:txBody>
          <a:bodyPr/>
          <a:p>
            <a:fld id="{B3870311-C5C5-4695-8C26-C55D26C57291}"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DB84E9D-597C-4F13-91C2-CFCD27E7B773}" type="slidenum">
              <a:t>7</a:t>
            </a:fld>
          </a:p>
        </p:txBody>
      </p:sp>
      <p:sp>
        <p:nvSpPr>
          <p:cNvPr id="4" name="PlaceHolder 3"/>
          <p:cNvSpPr>
            <a:spLocks noGrp="1"/>
          </p:cNvSpPr>
          <p:nvPr>
            <p:ph type="dt" idx="1"/>
          </p:nvPr>
        </p:nvSpPr>
        <p:spPr/>
        <p:txBody>
          <a:bodyPr/>
          <a:p>
            <a:fld id="{52CFFBD6-DF14-493A-BCF2-ED084E2D1BD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C310F23-0FE2-4637-A512-195750729825}" type="slidenum">
              <a:t>8</a:t>
            </a:fld>
          </a:p>
        </p:txBody>
      </p:sp>
      <p:sp>
        <p:nvSpPr>
          <p:cNvPr id="4" name="PlaceHolder 3"/>
          <p:cNvSpPr>
            <a:spLocks noGrp="1"/>
          </p:cNvSpPr>
          <p:nvPr>
            <p:ph type="dt" idx="1"/>
          </p:nvPr>
        </p:nvSpPr>
        <p:spPr/>
        <p:txBody>
          <a:bodyPr/>
          <a:p>
            <a:fld id="{9E8A3EEB-E48D-492C-AC0B-CC70C7475DC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2461D6-B84F-4071-BB7C-A7308FE238DC}" type="slidenum">
              <a:t>9</a:t>
            </a:fld>
          </a:p>
        </p:txBody>
      </p:sp>
      <p:sp>
        <p:nvSpPr>
          <p:cNvPr id="5" name="PlaceHolder 4"/>
          <p:cNvSpPr>
            <a:spLocks noGrp="1"/>
          </p:cNvSpPr>
          <p:nvPr>
            <p:ph type="dt" idx="1"/>
          </p:nvPr>
        </p:nvSpPr>
        <p:spPr/>
        <p:txBody>
          <a:bodyPr/>
          <a:p>
            <a:fld id="{16E7687F-536C-462E-83D7-F67D1FC9A3D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