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C91A-A9A3-4196-A5A0-0BC84125B6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2B90-3328-4167-911A-EC6C1BB42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964B-DEC1-4A03-8E5C-5961F0E8F2D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AB3B-7C1F-46E6-8107-3D97F54EDE2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9C29-35C4-406A-B004-7B4C460A4C3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1CF5-D447-4886-8820-61C7C14EC4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7FAD-BBB6-4F36-8DF0-4B9E9C9F528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F748F-35EB-4BF6-B773-43212B818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064F5-8529-4844-A154-29355B185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DEA284-71FC-480D-A198-98C5E4C334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E791E7-4670-46D5-BE4A-9E4C7EEE61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B22411-DD61-48FF-A25D-1278CFFCBF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DF800D-DA18-4883-ADC3-5A5A8A5FA9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19B77-C549-4FB9-A5C4-904383C6BD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FAE6C8-D702-453E-8407-786FD6B403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F90E04-256A-4359-9283-66403788D4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5F0E30-7F5D-4050-9F92-6256270CE7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16268C-188F-4479-AF0F-6CFE905D2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E41B1-532C-4801-A2EF-7823E8138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6BC78-B2DE-4360-BBF1-A5BDF77B3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793F5-C921-430F-9D30-041993B38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25845-686B-4262-BF34-55C7E8EA0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153DB-80FD-4644-9A4B-06AAC5510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2631D-3586-4F10-B6AA-BD2C6FAF6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5F01D-8220-452C-95EB-7C0404119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0B581-9E9B-43DD-8943-65EA859EA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64383-4259-4509-B720-0021679A1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25D8E-6E6C-4C8C-A0FC-366BEDB1D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D9065-184D-447A-A637-120AD9C2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1A101-0375-415A-B262-A91DEE366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2E60A-9636-4F05-9C3C-22A79867D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1735F-74B3-480D-A3DE-C0F21C121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3D826-5CFA-4D69-A78B-9063AC105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0B9001-1448-439F-9CA6-AC41E44FF7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A71B0-DB62-4D09-831D-18380DA13D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D764C0-A43E-4E64-9D90-3F9699063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FDC24-C15E-44A7-B970-1AD2BDA44A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F9F1F-0C93-4B17-B8CD-5550C7F3B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FCBAD-9416-4A90-9898-31BA01EBA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E5A45-CC4F-4309-88A6-2A152C5BF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337CC-7563-4424-ABED-46F50B3F1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E9B08-53D7-4F10-A050-E29675FA3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B4EA9-FC01-40F3-AB54-F7657D817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0875D-9232-427D-8481-12A1ADA0E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7E824B-6653-4C60-9511-33EBBE3E44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62509C-5F5B-4AE6-8CDC-40FA0164BD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5DD140-99B4-481D-8970-8717F62D79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56791-F310-422D-9E79-38B712687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27270-B889-42D6-8DE8-BE9AEB8CC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7F3EA-1809-45EF-B178-3FBD493BC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EE49D-2977-4C94-B7A3-791E801DC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5F8D3-5792-440F-9E25-D01916D10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116E03-00BF-4A6F-980C-087B15EBCF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C494B-566D-4281-B174-BF83E9BE6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98714-EBC9-4F4C-8B88-3A979B762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3D905-EA49-46CB-A97E-0642569C9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8E353-94D3-42B7-8F47-EE47FCF2E6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C8DD6C-6AA2-4706-96B7-8DAD8AC70C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09D0A3-F0E0-42E3-9F38-BF649D37F8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3BC69B-A753-466D-9C30-85FE717E09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AA121-FCE4-4C4F-ABD3-8570B8CC9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621997-94DC-407E-8427-04ECA83C4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B6105B-3100-4099-BAD2-02375D04E6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627424-6F39-4BCC-8937-E8CC4D5E6A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A2C25-4816-4C20-A8DE-1477CBA360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5861E-F795-44A0-B4B0-2303020248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91843C-4204-476D-AC65-192A5C678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038700-76F9-4EBD-9A99-2101472DD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5BD7E-8032-4E25-9202-1DCF31561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02B4A8-26C9-43A9-8908-82BD67DFF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89F4A9-D575-4E66-9B83-D18AC5D422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8CBD0-D5AE-42DB-884D-753EFD2C6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DDD756-1DBE-4E06-A51E-7D1CEF163D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4B7F8C-5B2C-4B25-8C0D-49C49405F5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EA32C6-692E-4E24-B62E-0C2548F924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8E39A4-C627-430F-BA12-47DB24E1F6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16B0ED-4E64-49E1-B780-0BE2CA5021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BED022-8E60-43A5-81C3-F47CB7BCBA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CBEEC-BC5C-4B16-8E0F-3D6374507E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E1F5E-2DE7-4EBF-9A0F-591E261D0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08425-5F65-4BBC-B472-3D7225536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F23DF4-957E-44EA-A6DD-AEBCEC279F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D18CD-28BF-4B78-BF31-278CD841B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8AFE9-5C52-47D4-A111-4CB0A2F3F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3BFD65-66AC-47FD-A8CD-EB68C915E0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C5AD9D-6114-4C9E-8E26-A1A09D90B6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F23A4C-7F7A-4F9C-B830-3A3635ACCF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ED4BE7-263F-44C0-B986-D796780874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4E7FAF-3095-46B2-983A-08BD9F75F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95D78D-591B-48CB-9C7F-D16B5628E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D4E03D-DE86-4F2F-9314-476F9D9E07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BAA8E-4721-49A8-8172-8EDF93554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4A15C-6B48-489C-A6D2-665BBE912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0A59-E963-46D6-BA13-9758EFD42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5A4B2-8F8E-4C2F-A25D-F18E9071C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A2FBE4-E4CE-43F8-B3F0-40DE47DA21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39808B-44A3-40DA-AE18-A948E4CD65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6829C0-7867-48E9-888C-FC3575ABC9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D2F431-FD15-4AA3-8157-96B62BC4C2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C99FFE-90B7-47B8-A199-BB587C463F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8D600C-AAD1-47A9-991C-CB82014F8A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DF5BF1-7428-49C1-B0A0-A01820D89B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17A74D-54BD-42C0-B305-E58F1130A5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66985-9A54-46C1-A567-686BE92A3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88DCB-17CF-4BA1-AEB4-5961A3994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CD7F4-2C3C-4DAD-B766-A4063C8740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4D1C3-90F6-4385-BDBE-DE64296B04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51BF0-AFCE-45C2-A2AD-D770189B05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EA6368-0A71-4AF6-BDE5-1FAEFDD62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AFB0BC-0193-41C7-9DBF-CD37535CC2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252C30-E27D-4625-A516-8556866006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3BD3BC-E306-4D6C-BB2E-8C645121E9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96011C-F24E-413C-9A7C-89D25A5170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232C7B-5B5B-472E-8C10-6F954BA33F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31B75-4516-4DF8-9444-0239C25E063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52AB-E2B5-4DEE-AC1C-3FFB6DE9618A}"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8600-C483-4C5F-89FA-C929AA2E55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E21D-676A-4178-9CAA-DA138ECA88E3}"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411E-48EE-43E6-857C-0B2BEE89CCB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4705-ECE2-42EE-B85B-CEB0E600E3D6}"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4AC9-E889-4D1D-869B-396F27AB4F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0184-87B7-48F3-8AE1-A1E12EDA90BD}"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95B4-1A70-4433-B747-1D65A0BE58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88F3-590B-4EC2-B5D5-D2F87E8FE44F}"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F55E-F346-4EE5-81F7-69E4B02F4FC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E003-ABC2-41B8-A65A-78991F8A4B61}"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1619-FB99-470D-A509-D3EF698BFD3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C334-D1C8-4480-A68A-B45D9D059B52}"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BD08-F988-4D1E-AA5E-2B8545A122B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A803-E27E-4C9F-9FFD-B484466A3444}"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1306-6B00-49C8-99C4-0237BADDE3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24B4-A25E-432C-B1CE-C4BACAA32FEE}"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CB54-6A1B-476B-A662-FFB583F0CBD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8845128F-004F-45F8-BAAA-CBD0260651A9}" type="slidenum">
              <a:t>1</a:t>
            </a:fld>
          </a:p>
        </p:txBody>
      </p:sp>
      <p:sp>
        <p:nvSpPr>
          <p:cNvPr id="5" name="PlaceHolder 4"/>
          <p:cNvSpPr>
            <a:spLocks noGrp="1"/>
          </p:cNvSpPr>
          <p:nvPr>
            <p:ph type="dt" idx="4"/>
          </p:nvPr>
        </p:nvSpPr>
        <p:spPr/>
        <p:txBody>
          <a:bodyPr/>
          <a:p>
            <a:fld id="{0AC7DD7C-1428-4DFE-A9A3-4D6704FA4935}"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B965-89DF-4B31-85AB-35F829EEB4F0}"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2414-CD4F-4662-87EA-AA7E0790E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1407A50-3281-4CBD-8FD4-9FBB65DFAABC}" type="slidenum">
              <a:t>10</a:t>
            </a:fld>
          </a:p>
        </p:txBody>
      </p:sp>
      <p:sp>
        <p:nvSpPr>
          <p:cNvPr id="5" name="PlaceHolder 4"/>
          <p:cNvSpPr>
            <a:spLocks noGrp="1"/>
          </p:cNvSpPr>
          <p:nvPr>
            <p:ph type="dt" idx="1"/>
          </p:nvPr>
        </p:nvSpPr>
        <p:spPr/>
        <p:txBody>
          <a:bodyPr/>
          <a:p>
            <a:fld id="{5E21954C-175E-4C9D-9E63-E45768192FE2}"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9C73B379-4468-4144-8E55-BBCCD8B127D3}" type="slidenum">
              <a:t>11</a:t>
            </a:fld>
          </a:p>
        </p:txBody>
      </p:sp>
      <p:sp>
        <p:nvSpPr>
          <p:cNvPr id="3" name="PlaceHolder 2"/>
          <p:cNvSpPr>
            <a:spLocks noGrp="1"/>
          </p:cNvSpPr>
          <p:nvPr>
            <p:ph type="dt" idx="1"/>
          </p:nvPr>
        </p:nvSpPr>
        <p:spPr/>
        <p:txBody>
          <a:bodyPr/>
          <a:p>
            <a:fld id="{61E17DDC-F4DA-462F-96DE-3DBEEE22221D}"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9DE5C2-F0C7-438E-88E0-E32BFC1EB1BD}" type="slidenum">
              <a:t>12</a:t>
            </a:fld>
          </a:p>
        </p:txBody>
      </p:sp>
      <p:sp>
        <p:nvSpPr>
          <p:cNvPr id="4" name="PlaceHolder 3"/>
          <p:cNvSpPr>
            <a:spLocks noGrp="1"/>
          </p:cNvSpPr>
          <p:nvPr>
            <p:ph type="dt" idx="1"/>
          </p:nvPr>
        </p:nvSpPr>
        <p:spPr/>
        <p:txBody>
          <a:bodyPr/>
          <a:p>
            <a:fld id="{80E1891D-56EB-4E4C-BB44-155AD4921F0A}"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F2347862-9A2D-4F6A-A409-B133142FC300}" type="slidenum">
              <a:t>13</a:t>
            </a:fld>
          </a:p>
        </p:txBody>
      </p:sp>
      <p:sp>
        <p:nvSpPr>
          <p:cNvPr id="4" name="PlaceHolder 3"/>
          <p:cNvSpPr>
            <a:spLocks noGrp="1"/>
          </p:cNvSpPr>
          <p:nvPr>
            <p:ph type="dt" idx="1"/>
          </p:nvPr>
        </p:nvSpPr>
        <p:spPr/>
        <p:txBody>
          <a:bodyPr/>
          <a:p>
            <a:fld id="{DA09B5B7-099D-48F6-B813-96E140FF7B59}"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F6C9B081-550E-4DB0-8D67-5772567B05B2}" type="slidenum">
              <a:t>14</a:t>
            </a:fld>
          </a:p>
        </p:txBody>
      </p:sp>
      <p:sp>
        <p:nvSpPr>
          <p:cNvPr id="4" name="PlaceHolder 3"/>
          <p:cNvSpPr>
            <a:spLocks noGrp="1"/>
          </p:cNvSpPr>
          <p:nvPr>
            <p:ph type="dt" idx="1"/>
          </p:nvPr>
        </p:nvSpPr>
        <p:spPr/>
        <p:txBody>
          <a:bodyPr/>
          <a:p>
            <a:fld id="{80CEF978-C3B5-4259-B6FE-EE1CE035C5C4}"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B02EACE0-69C7-4449-99C0-F957F3B79002}" type="slidenum">
              <a:t>15</a:t>
            </a:fld>
          </a:p>
        </p:txBody>
      </p:sp>
      <p:sp>
        <p:nvSpPr>
          <p:cNvPr id="3" name="PlaceHolder 2"/>
          <p:cNvSpPr>
            <a:spLocks noGrp="1"/>
          </p:cNvSpPr>
          <p:nvPr>
            <p:ph type="dt" idx="1"/>
          </p:nvPr>
        </p:nvSpPr>
        <p:spPr/>
        <p:txBody>
          <a:bodyPr/>
          <a:p>
            <a:fld id="{43ACD3CA-FCA5-4982-9D93-C9B077BCCB7C}"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F539D9F-3660-4F8D-AC05-6E5C105157EA}" type="slidenum">
              <a:t>16</a:t>
            </a:fld>
          </a:p>
        </p:txBody>
      </p:sp>
      <p:sp>
        <p:nvSpPr>
          <p:cNvPr id="4" name="PlaceHolder 3"/>
          <p:cNvSpPr>
            <a:spLocks noGrp="1"/>
          </p:cNvSpPr>
          <p:nvPr>
            <p:ph type="dt" idx="1"/>
          </p:nvPr>
        </p:nvSpPr>
        <p:spPr/>
        <p:txBody>
          <a:bodyPr/>
          <a:p>
            <a:fld id="{A427DC2A-7B25-4B44-9F21-0A1CCB08BE34}"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556B2CD9-AFD4-428E-ABEA-64F22EC145C6}" type="slidenum">
              <a:t>17</a:t>
            </a:fld>
          </a:p>
        </p:txBody>
      </p:sp>
      <p:sp>
        <p:nvSpPr>
          <p:cNvPr id="4" name="PlaceHolder 3"/>
          <p:cNvSpPr>
            <a:spLocks noGrp="1"/>
          </p:cNvSpPr>
          <p:nvPr>
            <p:ph type="dt" idx="4"/>
          </p:nvPr>
        </p:nvSpPr>
        <p:spPr/>
        <p:txBody>
          <a:bodyPr/>
          <a:p>
            <a:fld id="{1C25879A-B032-4B46-9260-2FFBACB5A99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43D921-0719-4173-9C55-56BAC4F6E39E}" type="slidenum">
              <a:t>18</a:t>
            </a:fld>
          </a:p>
        </p:txBody>
      </p:sp>
      <p:sp>
        <p:nvSpPr>
          <p:cNvPr id="5" name="PlaceHolder 4"/>
          <p:cNvSpPr>
            <a:spLocks noGrp="1"/>
          </p:cNvSpPr>
          <p:nvPr>
            <p:ph type="dt" idx="1"/>
          </p:nvPr>
        </p:nvSpPr>
        <p:spPr/>
        <p:txBody>
          <a:bodyPr/>
          <a:p>
            <a:fld id="{48C12469-32EF-4314-9847-B14019EE8D35}"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8C95DE-25E8-4996-9173-43AE5A0BEB78}" type="slidenum">
              <a:t>19</a:t>
            </a:fld>
          </a:p>
        </p:txBody>
      </p:sp>
      <p:sp>
        <p:nvSpPr>
          <p:cNvPr id="3" name="PlaceHolder 2"/>
          <p:cNvSpPr>
            <a:spLocks noGrp="1"/>
          </p:cNvSpPr>
          <p:nvPr>
            <p:ph type="dt" idx="1"/>
          </p:nvPr>
        </p:nvSpPr>
        <p:spPr/>
        <p:txBody>
          <a:bodyPr/>
          <a:p>
            <a:fld id="{78BE72F0-2A8E-4446-92F1-A50B88CA9E7A}"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777C8E4C-C117-4A14-B348-08F4944B1008}" type="slidenum">
              <a:t>2</a:t>
            </a:fld>
          </a:p>
        </p:txBody>
      </p:sp>
      <p:sp>
        <p:nvSpPr>
          <p:cNvPr id="4" name="PlaceHolder 3"/>
          <p:cNvSpPr>
            <a:spLocks noGrp="1"/>
          </p:cNvSpPr>
          <p:nvPr>
            <p:ph type="dt" idx="1"/>
          </p:nvPr>
        </p:nvSpPr>
        <p:spPr/>
        <p:txBody>
          <a:bodyPr/>
          <a:p>
            <a:fld id="{E5D7C97B-8A4A-4742-941D-74B8225950E4}"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B004CA0-102A-47E0-9A9E-DEB63FFA79C7}" type="slidenum">
              <a:t>20</a:t>
            </a:fld>
          </a:p>
        </p:txBody>
      </p:sp>
      <p:sp>
        <p:nvSpPr>
          <p:cNvPr id="3" name="PlaceHolder 2"/>
          <p:cNvSpPr>
            <a:spLocks noGrp="1"/>
          </p:cNvSpPr>
          <p:nvPr>
            <p:ph type="dt" idx="1"/>
          </p:nvPr>
        </p:nvSpPr>
        <p:spPr/>
        <p:txBody>
          <a:bodyPr/>
          <a:p>
            <a:fld id="{0C22CB13-0606-49ED-A020-BE0DFA6D5099}"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8F4DA49-5099-40AF-A1CB-9358E1EF5DFD}" type="slidenum">
              <a:t>21</a:t>
            </a:fld>
          </a:p>
        </p:txBody>
      </p:sp>
      <p:sp>
        <p:nvSpPr>
          <p:cNvPr id="4" name="PlaceHolder 3"/>
          <p:cNvSpPr>
            <a:spLocks noGrp="1"/>
          </p:cNvSpPr>
          <p:nvPr>
            <p:ph type="dt" idx="1"/>
          </p:nvPr>
        </p:nvSpPr>
        <p:spPr/>
        <p:txBody>
          <a:bodyPr/>
          <a:p>
            <a:fld id="{CF60152E-38E6-4B6D-9FCB-6F1E778633B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D896B15-197E-4F40-A1F3-551F58A10309}" type="slidenum">
              <a:t>22</a:t>
            </a:fld>
          </a:p>
        </p:txBody>
      </p:sp>
      <p:sp>
        <p:nvSpPr>
          <p:cNvPr id="3" name="PlaceHolder 2"/>
          <p:cNvSpPr>
            <a:spLocks noGrp="1"/>
          </p:cNvSpPr>
          <p:nvPr>
            <p:ph type="dt" idx="1"/>
          </p:nvPr>
        </p:nvSpPr>
        <p:spPr/>
        <p:txBody>
          <a:bodyPr/>
          <a:p>
            <a:fld id="{BCD33A7C-0F8A-4E4A-A846-620F1F4A818F}"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F47155B-8E5B-4B09-BEF3-586EBF9228F5}" type="slidenum">
              <a:t>23</a:t>
            </a:fld>
          </a:p>
        </p:txBody>
      </p:sp>
      <p:sp>
        <p:nvSpPr>
          <p:cNvPr id="3" name="PlaceHolder 2"/>
          <p:cNvSpPr>
            <a:spLocks noGrp="1"/>
          </p:cNvSpPr>
          <p:nvPr>
            <p:ph type="dt" idx="1"/>
          </p:nvPr>
        </p:nvSpPr>
        <p:spPr/>
        <p:txBody>
          <a:bodyPr/>
          <a:p>
            <a:fld id="{62D235AF-993D-41F7-81FE-16405432CC51}"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94E6704-2648-4C25-A75F-CC6E61C81002}" type="slidenum">
              <a:t>24</a:t>
            </a:fld>
          </a:p>
        </p:txBody>
      </p:sp>
      <p:sp>
        <p:nvSpPr>
          <p:cNvPr id="3" name="PlaceHolder 2"/>
          <p:cNvSpPr>
            <a:spLocks noGrp="1"/>
          </p:cNvSpPr>
          <p:nvPr>
            <p:ph type="dt" idx="1"/>
          </p:nvPr>
        </p:nvSpPr>
        <p:spPr/>
        <p:txBody>
          <a:bodyPr/>
          <a:p>
            <a:fld id="{6963AFB4-9D7A-4177-9623-5F94D874B2E0}"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21B76EC-F859-4D14-A568-9EDDF6BE932A}" type="slidenum">
              <a:t>25</a:t>
            </a:fld>
          </a:p>
        </p:txBody>
      </p:sp>
      <p:sp>
        <p:nvSpPr>
          <p:cNvPr id="3" name="PlaceHolder 2"/>
          <p:cNvSpPr>
            <a:spLocks noGrp="1"/>
          </p:cNvSpPr>
          <p:nvPr>
            <p:ph type="dt" idx="1"/>
          </p:nvPr>
        </p:nvSpPr>
        <p:spPr/>
        <p:txBody>
          <a:bodyPr/>
          <a:p>
            <a:fld id="{57AAD09C-ED26-497A-90A9-09C32F6A1B93}"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EBFAEA6-BDB8-4FD0-B03E-0773E445B8DD}" type="slidenum">
              <a:t>26</a:t>
            </a:fld>
          </a:p>
        </p:txBody>
      </p:sp>
      <p:sp>
        <p:nvSpPr>
          <p:cNvPr id="3" name="PlaceHolder 2"/>
          <p:cNvSpPr>
            <a:spLocks noGrp="1"/>
          </p:cNvSpPr>
          <p:nvPr>
            <p:ph type="dt" idx="1"/>
          </p:nvPr>
        </p:nvSpPr>
        <p:spPr/>
        <p:txBody>
          <a:bodyPr/>
          <a:p>
            <a:fld id="{B5164152-A539-4748-B055-A82C165306B6}"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8C550AA-70D2-4AA3-81F4-A3719B38D942}" type="slidenum">
              <a:t>27</a:t>
            </a:fld>
          </a:p>
        </p:txBody>
      </p:sp>
      <p:sp>
        <p:nvSpPr>
          <p:cNvPr id="3" name="PlaceHolder 2"/>
          <p:cNvSpPr>
            <a:spLocks noGrp="1"/>
          </p:cNvSpPr>
          <p:nvPr>
            <p:ph type="dt" idx="1"/>
          </p:nvPr>
        </p:nvSpPr>
        <p:spPr/>
        <p:txBody>
          <a:bodyPr/>
          <a:p>
            <a:fld id="{911F71E0-B1B7-4E47-937B-72A3BA1DFD85}"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FCCD-8441-4C2F-9575-60D32BF085E9}" type="datetime">
              <a:rPr b="0" lang="en-US" sz="1200" spc="-1" strike="noStrike">
                <a:solidFill>
                  <a:srgbClr val="000000"/>
                </a:solidFill>
                <a:latin typeface="Verdana"/>
              </a:rPr>
              <a:t>07/28/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2FFCBB49-C425-49DC-A8AF-EA5B6B41C090}" type="slidenum">
              <a:t>28</a:t>
            </a:fld>
          </a:p>
        </p:txBody>
      </p:sp>
      <p:sp>
        <p:nvSpPr>
          <p:cNvPr id="4" name="PlaceHolder 3"/>
          <p:cNvSpPr>
            <a:spLocks noGrp="1"/>
          </p:cNvSpPr>
          <p:nvPr>
            <p:ph type="dt" idx="4"/>
          </p:nvPr>
        </p:nvSpPr>
        <p:spPr/>
        <p:txBody>
          <a:bodyPr/>
          <a:p>
            <a:fld id="{85482493-D45D-438C-B284-8D83A7CACC95}"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FD020512-5CD1-4375-8D8E-C2CD3B204EB9}" type="slidenum">
              <a:t>29</a:t>
            </a:fld>
          </a:p>
        </p:txBody>
      </p:sp>
      <p:sp>
        <p:nvSpPr>
          <p:cNvPr id="5" name="PlaceHolder 4"/>
          <p:cNvSpPr>
            <a:spLocks noGrp="1"/>
          </p:cNvSpPr>
          <p:nvPr>
            <p:ph type="dt" idx="4"/>
          </p:nvPr>
        </p:nvSpPr>
        <p:spPr/>
        <p:txBody>
          <a:bodyPr/>
          <a:p>
            <a:fld id="{A224811B-F0C2-439A-80D1-B87778E26B03}"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85B27256-40F7-4AC3-8329-8AADF735E01A}" type="slidenum">
              <a:t>3</a:t>
            </a:fld>
          </a:p>
        </p:txBody>
      </p:sp>
      <p:sp>
        <p:nvSpPr>
          <p:cNvPr id="3" name="PlaceHolder 2"/>
          <p:cNvSpPr>
            <a:spLocks noGrp="1"/>
          </p:cNvSpPr>
          <p:nvPr>
            <p:ph type="dt" idx="1"/>
          </p:nvPr>
        </p:nvSpPr>
        <p:spPr/>
        <p:txBody>
          <a:bodyPr/>
          <a:p>
            <a:fld id="{13363DE6-3FF3-4AAE-AD1C-A442C574F103}"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5B26F71F-4003-4609-8C6E-507BE0B5919C}" type="slidenum">
              <a:t>30</a:t>
            </a:fld>
          </a:p>
        </p:txBody>
      </p:sp>
      <p:sp>
        <p:nvSpPr>
          <p:cNvPr id="5" name="PlaceHolder 4"/>
          <p:cNvSpPr>
            <a:spLocks noGrp="1"/>
          </p:cNvSpPr>
          <p:nvPr>
            <p:ph type="dt" idx="4"/>
          </p:nvPr>
        </p:nvSpPr>
        <p:spPr/>
        <p:txBody>
          <a:bodyPr/>
          <a:p>
            <a:fld id="{D0EB35AB-62B4-4667-A48C-BCB3C270EF6D}"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7D0F2D9B-4886-4098-836F-B7BE87DA937A}" type="slidenum">
              <a:t>31</a:t>
            </a:fld>
          </a:p>
        </p:txBody>
      </p:sp>
      <p:sp>
        <p:nvSpPr>
          <p:cNvPr id="5" name="PlaceHolder 4"/>
          <p:cNvSpPr>
            <a:spLocks noGrp="1"/>
          </p:cNvSpPr>
          <p:nvPr>
            <p:ph type="dt" idx="4"/>
          </p:nvPr>
        </p:nvSpPr>
        <p:spPr/>
        <p:txBody>
          <a:bodyPr/>
          <a:p>
            <a:fld id="{EA1980B9-5144-41B7-A8C1-5C9153154F51}"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B4B400A8-4A02-4EC7-959C-78D058300F93}" type="slidenum">
              <a:t>32</a:t>
            </a:fld>
          </a:p>
        </p:txBody>
      </p:sp>
      <p:sp>
        <p:nvSpPr>
          <p:cNvPr id="5" name="PlaceHolder 4"/>
          <p:cNvSpPr>
            <a:spLocks noGrp="1"/>
          </p:cNvSpPr>
          <p:nvPr>
            <p:ph type="dt" idx="4"/>
          </p:nvPr>
        </p:nvSpPr>
        <p:spPr/>
        <p:txBody>
          <a:bodyPr/>
          <a:p>
            <a:fld id="{41AF248C-9CA2-401A-98A2-E2369DAD7013}"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F1EAAD5D-0665-4AEB-AC2D-C6097CD44100}" type="slidenum">
              <a:t>33</a:t>
            </a:fld>
          </a:p>
        </p:txBody>
      </p:sp>
      <p:sp>
        <p:nvSpPr>
          <p:cNvPr id="5" name="PlaceHolder 4"/>
          <p:cNvSpPr>
            <a:spLocks noGrp="1"/>
          </p:cNvSpPr>
          <p:nvPr>
            <p:ph type="dt" idx="4"/>
          </p:nvPr>
        </p:nvSpPr>
        <p:spPr/>
        <p:txBody>
          <a:bodyPr/>
          <a:p>
            <a:fld id="{4D28D2E7-0968-4973-B47F-5828DB8A6B44}"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4FA46FB9-F1CD-4950-B59F-C1ABA81F27C9}" type="slidenum">
              <a:t>34</a:t>
            </a:fld>
          </a:p>
        </p:txBody>
      </p:sp>
      <p:sp>
        <p:nvSpPr>
          <p:cNvPr id="3" name="PlaceHolder 2"/>
          <p:cNvSpPr>
            <a:spLocks noGrp="1"/>
          </p:cNvSpPr>
          <p:nvPr>
            <p:ph type="dt" idx="4"/>
          </p:nvPr>
        </p:nvSpPr>
        <p:spPr/>
        <p:txBody>
          <a:bodyPr/>
          <a:p>
            <a:fld id="{3F63DD54-A24A-4AAA-A8C5-DED7CA77F6DE}"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4EAEE6D3-4516-4205-B3E5-4525ECD35B57}" type="slidenum">
              <a:t>35</a:t>
            </a:fld>
          </a:p>
        </p:txBody>
      </p:sp>
      <p:sp>
        <p:nvSpPr>
          <p:cNvPr id="5" name="PlaceHolder 4"/>
          <p:cNvSpPr>
            <a:spLocks noGrp="1"/>
          </p:cNvSpPr>
          <p:nvPr>
            <p:ph type="dt" idx="4"/>
          </p:nvPr>
        </p:nvSpPr>
        <p:spPr/>
        <p:txBody>
          <a:bodyPr/>
          <a:p>
            <a:fld id="{0B2CD422-1D73-41A8-8FCD-0BBB4B4FF74E}"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04CD1024-BB93-4623-836F-C3D4D395D08A}" type="slidenum">
              <a:t>36</a:t>
            </a:fld>
          </a:p>
        </p:txBody>
      </p:sp>
      <p:sp>
        <p:nvSpPr>
          <p:cNvPr id="4" name="PlaceHolder 3"/>
          <p:cNvSpPr>
            <a:spLocks noGrp="1"/>
          </p:cNvSpPr>
          <p:nvPr>
            <p:ph type="dt" idx="4"/>
          </p:nvPr>
        </p:nvSpPr>
        <p:spPr/>
        <p:txBody>
          <a:bodyPr/>
          <a:p>
            <a:fld id="{D33D8E37-6175-4843-8D31-E9A62CE81C21}"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96962683-1C66-4798-A937-CD9AB2EFC9FB}" type="slidenum">
              <a:t>37</a:t>
            </a:fld>
          </a:p>
        </p:txBody>
      </p:sp>
      <p:sp>
        <p:nvSpPr>
          <p:cNvPr id="5" name="PlaceHolder 4"/>
          <p:cNvSpPr>
            <a:spLocks noGrp="1"/>
          </p:cNvSpPr>
          <p:nvPr>
            <p:ph type="dt" idx="4"/>
          </p:nvPr>
        </p:nvSpPr>
        <p:spPr/>
        <p:txBody>
          <a:bodyPr/>
          <a:p>
            <a:fld id="{5073B44C-7D41-45F3-8C80-EE632081D3E1}"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2483ABCB-7667-4F3C-B6B8-21DDA88871BB}" type="slidenum">
              <a:t>38</a:t>
            </a:fld>
          </a:p>
        </p:txBody>
      </p:sp>
      <p:sp>
        <p:nvSpPr>
          <p:cNvPr id="4" name="PlaceHolder 3"/>
          <p:cNvSpPr>
            <a:spLocks noGrp="1"/>
          </p:cNvSpPr>
          <p:nvPr>
            <p:ph type="dt" idx="4"/>
          </p:nvPr>
        </p:nvSpPr>
        <p:spPr/>
        <p:txBody>
          <a:bodyPr/>
          <a:p>
            <a:fld id="{6658F0B8-A302-402C-81AB-8756023E6E82}"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D530A60F-D58D-4C30-BD55-CB1FED2F11B2}" type="slidenum">
              <a:t>39</a:t>
            </a:fld>
          </a:p>
        </p:txBody>
      </p:sp>
      <p:sp>
        <p:nvSpPr>
          <p:cNvPr id="4" name="PlaceHolder 3"/>
          <p:cNvSpPr>
            <a:spLocks noGrp="1"/>
          </p:cNvSpPr>
          <p:nvPr>
            <p:ph type="dt" idx="4"/>
          </p:nvPr>
        </p:nvSpPr>
        <p:spPr/>
        <p:txBody>
          <a:bodyPr/>
          <a:p>
            <a:fld id="{9872AB02-6A5D-4491-A119-946948B6886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B6AE0E47-5766-448A-B23F-A5413D0D7CA8}" type="slidenum">
              <a:t>4</a:t>
            </a:fld>
          </a:p>
        </p:txBody>
      </p:sp>
      <p:sp>
        <p:nvSpPr>
          <p:cNvPr id="5" name="PlaceHolder 4"/>
          <p:cNvSpPr>
            <a:spLocks noGrp="1"/>
          </p:cNvSpPr>
          <p:nvPr>
            <p:ph type="dt" idx="1"/>
          </p:nvPr>
        </p:nvSpPr>
        <p:spPr/>
        <p:txBody>
          <a:bodyPr/>
          <a:p>
            <a:fld id="{46020A1E-C78F-4CAE-884B-B594E0207288}"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3146D4B1-3FD1-4851-9F5A-E16B51395591}" type="slidenum">
              <a:t>40</a:t>
            </a:fld>
          </a:p>
        </p:txBody>
      </p:sp>
      <p:sp>
        <p:nvSpPr>
          <p:cNvPr id="4" name="PlaceHolder 3"/>
          <p:cNvSpPr>
            <a:spLocks noGrp="1"/>
          </p:cNvSpPr>
          <p:nvPr>
            <p:ph type="dt" idx="4"/>
          </p:nvPr>
        </p:nvSpPr>
        <p:spPr/>
        <p:txBody>
          <a:bodyPr/>
          <a:p>
            <a:fld id="{878A7FF6-BF22-494E-A946-241344210A8B}"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04E95461-00C4-4427-9218-9D51CF9FCC18}" type="slidenum">
              <a:t>41</a:t>
            </a:fld>
          </a:p>
        </p:txBody>
      </p:sp>
      <p:sp>
        <p:nvSpPr>
          <p:cNvPr id="3" name="PlaceHolder 2"/>
          <p:cNvSpPr>
            <a:spLocks noGrp="1"/>
          </p:cNvSpPr>
          <p:nvPr>
            <p:ph type="dt" idx="4"/>
          </p:nvPr>
        </p:nvSpPr>
        <p:spPr/>
        <p:txBody>
          <a:bodyPr/>
          <a:p>
            <a:fld id="{98AD6447-7D9E-4EEF-B759-182623DDB8FC}"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5420C08A-4208-4C32-8024-9F6362605A48}" type="slidenum">
              <a:t>42</a:t>
            </a:fld>
          </a:p>
        </p:txBody>
      </p:sp>
      <p:sp>
        <p:nvSpPr>
          <p:cNvPr id="5" name="PlaceHolder 4"/>
          <p:cNvSpPr>
            <a:spLocks noGrp="1"/>
          </p:cNvSpPr>
          <p:nvPr>
            <p:ph type="dt" idx="4"/>
          </p:nvPr>
        </p:nvSpPr>
        <p:spPr/>
        <p:txBody>
          <a:bodyPr/>
          <a:p>
            <a:fld id="{791874A7-3A1B-47D7-A42A-F37C1AB7662B}"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B274F3EC-BBAA-4063-8B77-76DA654FDC11}" type="slidenum">
              <a:t>43</a:t>
            </a:fld>
          </a:p>
        </p:txBody>
      </p:sp>
      <p:sp>
        <p:nvSpPr>
          <p:cNvPr id="5" name="PlaceHolder 4"/>
          <p:cNvSpPr>
            <a:spLocks noGrp="1"/>
          </p:cNvSpPr>
          <p:nvPr>
            <p:ph type="dt" idx="4"/>
          </p:nvPr>
        </p:nvSpPr>
        <p:spPr/>
        <p:txBody>
          <a:bodyPr/>
          <a:p>
            <a:fld id="{FD1201FF-E20E-455F-817D-EDD0AAF7A17E}"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FBD19F13-1FDD-4F84-B198-9146D2473DCE}" type="slidenum">
              <a:t>44</a:t>
            </a:fld>
          </a:p>
        </p:txBody>
      </p:sp>
      <p:sp>
        <p:nvSpPr>
          <p:cNvPr id="5" name="PlaceHolder 4"/>
          <p:cNvSpPr>
            <a:spLocks noGrp="1"/>
          </p:cNvSpPr>
          <p:nvPr>
            <p:ph type="dt" idx="4"/>
          </p:nvPr>
        </p:nvSpPr>
        <p:spPr/>
        <p:txBody>
          <a:bodyPr/>
          <a:p>
            <a:fld id="{6712B89E-BC8F-45BB-8CCE-E243863842E2}"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D1CA1509-3ECB-4ABE-924D-B170F621E237}" type="slidenum">
              <a:t>45</a:t>
            </a:fld>
          </a:p>
        </p:txBody>
      </p:sp>
      <p:sp>
        <p:nvSpPr>
          <p:cNvPr id="4" name="PlaceHolder 3"/>
          <p:cNvSpPr>
            <a:spLocks noGrp="1"/>
          </p:cNvSpPr>
          <p:nvPr>
            <p:ph type="dt" idx="4"/>
          </p:nvPr>
        </p:nvSpPr>
        <p:spPr/>
        <p:txBody>
          <a:bodyPr/>
          <a:p>
            <a:fld id="{7F87A19F-0980-4896-BEB2-2317C6AEF75A}"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5F6C0773-2532-4097-9A78-75DCA098E81A}" type="slidenum">
              <a:t>46</a:t>
            </a:fld>
          </a:p>
        </p:txBody>
      </p:sp>
      <p:sp>
        <p:nvSpPr>
          <p:cNvPr id="5" name="PlaceHolder 4"/>
          <p:cNvSpPr>
            <a:spLocks noGrp="1"/>
          </p:cNvSpPr>
          <p:nvPr>
            <p:ph type="dt" idx="4"/>
          </p:nvPr>
        </p:nvSpPr>
        <p:spPr/>
        <p:txBody>
          <a:bodyPr/>
          <a:p>
            <a:fld id="{7EB739F2-BC08-45DC-8388-669FED7226E1}"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E020-3C63-4594-8BEA-05F546D80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4F52-6D55-4403-B387-1DB69C7CB9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2F94E3BF-D74C-4080-BDCA-5766686622CC}" type="slidenum">
              <a:t>47</a:t>
            </a:fld>
          </a:p>
        </p:txBody>
      </p:sp>
      <p:sp>
        <p:nvSpPr>
          <p:cNvPr id="4" name="PlaceHolder 3"/>
          <p:cNvSpPr>
            <a:spLocks noGrp="1"/>
          </p:cNvSpPr>
          <p:nvPr>
            <p:ph type="dt" idx="4"/>
          </p:nvPr>
        </p:nvSpPr>
        <p:spPr/>
        <p:txBody>
          <a:bodyPr/>
          <a:p>
            <a:fld id="{3332F8DC-444D-435F-B798-6B8C6139ABD4}"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8CA739DA-A702-4371-B0CE-352D575242F1}" type="slidenum">
              <a:t>48</a:t>
            </a:fld>
          </a:p>
        </p:txBody>
      </p:sp>
      <p:sp>
        <p:nvSpPr>
          <p:cNvPr id="5" name="PlaceHolder 4"/>
          <p:cNvSpPr>
            <a:spLocks noGrp="1"/>
          </p:cNvSpPr>
          <p:nvPr>
            <p:ph type="dt" idx="4"/>
          </p:nvPr>
        </p:nvSpPr>
        <p:spPr/>
        <p:txBody>
          <a:bodyPr/>
          <a:p>
            <a:fld id="{2FB9CD8B-9316-49B7-9506-224C255BAE2C}"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21DE5F50-D639-425C-BAD5-0521FB12B432}" type="slidenum">
              <a:t>49</a:t>
            </a:fld>
          </a:p>
        </p:txBody>
      </p:sp>
      <p:sp>
        <p:nvSpPr>
          <p:cNvPr id="5" name="PlaceHolder 4"/>
          <p:cNvSpPr>
            <a:spLocks noGrp="1"/>
          </p:cNvSpPr>
          <p:nvPr>
            <p:ph type="dt" idx="4"/>
          </p:nvPr>
        </p:nvSpPr>
        <p:spPr/>
        <p:txBody>
          <a:bodyPr/>
          <a:p>
            <a:fld id="{0311320A-3494-48CD-B5E5-D2BE68D0EA87}"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C0776CA-A577-491A-8EAB-3EB2A2BD9232}" type="slidenum">
              <a:t>5</a:t>
            </a:fld>
          </a:p>
        </p:txBody>
      </p:sp>
      <p:sp>
        <p:nvSpPr>
          <p:cNvPr id="5" name="PlaceHolder 4"/>
          <p:cNvSpPr>
            <a:spLocks noGrp="1"/>
          </p:cNvSpPr>
          <p:nvPr>
            <p:ph type="dt" idx="1"/>
          </p:nvPr>
        </p:nvSpPr>
        <p:spPr/>
        <p:txBody>
          <a:bodyPr/>
          <a:p>
            <a:fld id="{CEDE15EC-274C-4FFF-93B0-5A0AF8343796}"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FB7DA868-F843-44AA-B8A3-72DE69A1B4CD}" type="slidenum">
              <a:t>50</a:t>
            </a:fld>
          </a:p>
        </p:txBody>
      </p:sp>
      <p:sp>
        <p:nvSpPr>
          <p:cNvPr id="5" name="PlaceHolder 4"/>
          <p:cNvSpPr>
            <a:spLocks noGrp="1"/>
          </p:cNvSpPr>
          <p:nvPr>
            <p:ph type="dt" idx="4"/>
          </p:nvPr>
        </p:nvSpPr>
        <p:spPr/>
        <p:txBody>
          <a:bodyPr/>
          <a:p>
            <a:fld id="{E136DF31-22A9-4816-9426-6EA8BB993F79}"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F7F7CAC1-6869-4057-A0EF-533A5B7739A1}" type="slidenum">
              <a:t>51</a:t>
            </a:fld>
          </a:p>
        </p:txBody>
      </p:sp>
      <p:sp>
        <p:nvSpPr>
          <p:cNvPr id="5" name="PlaceHolder 4"/>
          <p:cNvSpPr>
            <a:spLocks noGrp="1"/>
          </p:cNvSpPr>
          <p:nvPr>
            <p:ph type="dt" idx="4"/>
          </p:nvPr>
        </p:nvSpPr>
        <p:spPr/>
        <p:txBody>
          <a:bodyPr/>
          <a:p>
            <a:fld id="{AFEB5334-B777-49B9-B107-A75257E6C0F3}"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C46DCF93-F53B-455B-8648-BC99B146858A}" type="slidenum">
              <a:t>52</a:t>
            </a:fld>
          </a:p>
        </p:txBody>
      </p:sp>
      <p:sp>
        <p:nvSpPr>
          <p:cNvPr id="5" name="PlaceHolder 4"/>
          <p:cNvSpPr>
            <a:spLocks noGrp="1"/>
          </p:cNvSpPr>
          <p:nvPr>
            <p:ph type="dt" idx="4"/>
          </p:nvPr>
        </p:nvSpPr>
        <p:spPr/>
        <p:txBody>
          <a:bodyPr/>
          <a:p>
            <a:fld id="{4B93A1AF-DF41-4466-970F-7239BDEB9C1E}"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48C790D3-1290-4C00-B6F7-4526C163CCB4}" type="slidenum">
              <a:t>53</a:t>
            </a:fld>
          </a:p>
        </p:txBody>
      </p:sp>
      <p:sp>
        <p:nvSpPr>
          <p:cNvPr id="5" name="PlaceHolder 4"/>
          <p:cNvSpPr>
            <a:spLocks noGrp="1"/>
          </p:cNvSpPr>
          <p:nvPr>
            <p:ph type="dt" idx="4"/>
          </p:nvPr>
        </p:nvSpPr>
        <p:spPr/>
        <p:txBody>
          <a:bodyPr/>
          <a:p>
            <a:fld id="{A9B1A930-047F-4E8F-8CA5-9D9D1B85E052}"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D54796B4-2A74-407A-A0A8-61AB072A29C9}" type="slidenum">
              <a:t>54</a:t>
            </a:fld>
          </a:p>
        </p:txBody>
      </p:sp>
      <p:sp>
        <p:nvSpPr>
          <p:cNvPr id="5" name="PlaceHolder 4"/>
          <p:cNvSpPr>
            <a:spLocks noGrp="1"/>
          </p:cNvSpPr>
          <p:nvPr>
            <p:ph type="dt" idx="4"/>
          </p:nvPr>
        </p:nvSpPr>
        <p:spPr/>
        <p:txBody>
          <a:bodyPr/>
          <a:p>
            <a:fld id="{0144C526-C7E7-417D-853B-FBA8E69B3AA9}"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09F90D61-D2B2-402D-9DC3-81A82F2B049E}" type="slidenum">
              <a:t>55</a:t>
            </a:fld>
          </a:p>
        </p:txBody>
      </p:sp>
      <p:sp>
        <p:nvSpPr>
          <p:cNvPr id="5" name="PlaceHolder 4"/>
          <p:cNvSpPr>
            <a:spLocks noGrp="1"/>
          </p:cNvSpPr>
          <p:nvPr>
            <p:ph type="dt" idx="4"/>
          </p:nvPr>
        </p:nvSpPr>
        <p:spPr/>
        <p:txBody>
          <a:bodyPr/>
          <a:p>
            <a:fld id="{FFB3650D-6C70-43DF-9652-7379D28CC971}"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AFEB9780-87F7-4DC0-A135-3C052EBDC076}" type="slidenum">
              <a:t>56</a:t>
            </a:fld>
          </a:p>
        </p:txBody>
      </p:sp>
      <p:sp>
        <p:nvSpPr>
          <p:cNvPr id="5" name="PlaceHolder 4"/>
          <p:cNvSpPr>
            <a:spLocks noGrp="1"/>
          </p:cNvSpPr>
          <p:nvPr>
            <p:ph type="dt" idx="4"/>
          </p:nvPr>
        </p:nvSpPr>
        <p:spPr/>
        <p:txBody>
          <a:bodyPr/>
          <a:p>
            <a:fld id="{F57F93EB-4B7B-4598-BB0E-04763D9F0EAF}"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0FF879EB-0F87-4F32-A97C-72E09942CA5B}" type="slidenum">
              <a:t>57</a:t>
            </a:fld>
          </a:p>
        </p:txBody>
      </p:sp>
      <p:sp>
        <p:nvSpPr>
          <p:cNvPr id="5" name="PlaceHolder 4"/>
          <p:cNvSpPr>
            <a:spLocks noGrp="1"/>
          </p:cNvSpPr>
          <p:nvPr>
            <p:ph type="dt" idx="4"/>
          </p:nvPr>
        </p:nvSpPr>
        <p:spPr/>
        <p:txBody>
          <a:bodyPr/>
          <a:p>
            <a:fld id="{AFA9D7DD-42BB-4317-B8D4-ABB42112FB30}"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8B722C46-6869-4988-9DAE-D10196B941AF}" type="slidenum">
              <a:t>58</a:t>
            </a:fld>
          </a:p>
        </p:txBody>
      </p:sp>
      <p:sp>
        <p:nvSpPr>
          <p:cNvPr id="3" name="PlaceHolder 2"/>
          <p:cNvSpPr>
            <a:spLocks noGrp="1"/>
          </p:cNvSpPr>
          <p:nvPr>
            <p:ph type="dt" idx="4"/>
          </p:nvPr>
        </p:nvSpPr>
        <p:spPr/>
        <p:txBody>
          <a:bodyPr/>
          <a:p>
            <a:fld id="{B328C237-7FC2-46E3-BEB8-9A50B5F9F707}"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8109E2B6-F55D-4D6E-9D7E-766A959D482D}" type="slidenum">
              <a:t>59</a:t>
            </a:fld>
          </a:p>
        </p:txBody>
      </p:sp>
      <p:sp>
        <p:nvSpPr>
          <p:cNvPr id="5" name="PlaceHolder 4"/>
          <p:cNvSpPr>
            <a:spLocks noGrp="1"/>
          </p:cNvSpPr>
          <p:nvPr>
            <p:ph type="dt" idx="4"/>
          </p:nvPr>
        </p:nvSpPr>
        <p:spPr/>
        <p:txBody>
          <a:bodyPr/>
          <a:p>
            <a:fld id="{4FEDEA6B-5CAA-4F8E-BB1C-A52498BE833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75F84C1-7C66-4DEE-810B-5B64B9397228}" type="slidenum">
              <a:t>6</a:t>
            </a:fld>
          </a:p>
        </p:txBody>
      </p:sp>
      <p:sp>
        <p:nvSpPr>
          <p:cNvPr id="3" name="PlaceHolder 2"/>
          <p:cNvSpPr>
            <a:spLocks noGrp="1"/>
          </p:cNvSpPr>
          <p:nvPr>
            <p:ph type="dt" idx="1"/>
          </p:nvPr>
        </p:nvSpPr>
        <p:spPr/>
        <p:txBody>
          <a:bodyPr/>
          <a:p>
            <a:fld id="{7BDB922A-E6B7-4A37-B32B-865DD2B3E65A}"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76CC87A7-1345-4205-8AE4-AD26A4E22BE2}" type="slidenum">
              <a:t>60</a:t>
            </a:fld>
          </a:p>
        </p:txBody>
      </p:sp>
      <p:sp>
        <p:nvSpPr>
          <p:cNvPr id="4" name="PlaceHolder 3"/>
          <p:cNvSpPr>
            <a:spLocks noGrp="1"/>
          </p:cNvSpPr>
          <p:nvPr>
            <p:ph type="dt" idx="4"/>
          </p:nvPr>
        </p:nvSpPr>
        <p:spPr/>
        <p:txBody>
          <a:bodyPr/>
          <a:p>
            <a:fld id="{C941F838-DCAC-432D-A185-530DAA921411}"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3EF17C7E-C057-4E9D-ADD7-F6A1CF01ABB8}" type="slidenum">
              <a:t>61</a:t>
            </a:fld>
          </a:p>
        </p:txBody>
      </p:sp>
      <p:sp>
        <p:nvSpPr>
          <p:cNvPr id="4" name="PlaceHolder 3"/>
          <p:cNvSpPr>
            <a:spLocks noGrp="1"/>
          </p:cNvSpPr>
          <p:nvPr>
            <p:ph type="dt" idx="1"/>
          </p:nvPr>
        </p:nvSpPr>
        <p:spPr/>
        <p:txBody>
          <a:bodyPr/>
          <a:p>
            <a:fld id="{9283AAEE-CD4A-4CE8-8A10-955FEF0CB5DD}"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64C64F0-F4D7-4430-99E8-20A1D2CEBEA6}" type="slidenum">
              <a:t>7</a:t>
            </a:fld>
          </a:p>
        </p:txBody>
      </p:sp>
      <p:sp>
        <p:nvSpPr>
          <p:cNvPr id="4" name="PlaceHolder 3"/>
          <p:cNvSpPr>
            <a:spLocks noGrp="1"/>
          </p:cNvSpPr>
          <p:nvPr>
            <p:ph type="dt" idx="1"/>
          </p:nvPr>
        </p:nvSpPr>
        <p:spPr/>
        <p:txBody>
          <a:bodyPr/>
          <a:p>
            <a:fld id="{E2EB4973-0C1D-474F-B5F0-9BF1478BB199}"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E859C0D-9727-4C3F-8B3A-23A0F3CB4314}" type="slidenum">
              <a:t>8</a:t>
            </a:fld>
          </a:p>
        </p:txBody>
      </p:sp>
      <p:sp>
        <p:nvSpPr>
          <p:cNvPr id="4" name="PlaceHolder 3"/>
          <p:cNvSpPr>
            <a:spLocks noGrp="1"/>
          </p:cNvSpPr>
          <p:nvPr>
            <p:ph type="dt" idx="1"/>
          </p:nvPr>
        </p:nvSpPr>
        <p:spPr/>
        <p:txBody>
          <a:bodyPr/>
          <a:p>
            <a:fld id="{DFAF4ACB-3075-4982-8459-5662FF0138D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A334F3-0232-4A05-B02D-70619CCF0997}" type="slidenum">
              <a:t>9</a:t>
            </a:fld>
          </a:p>
        </p:txBody>
      </p:sp>
      <p:sp>
        <p:nvSpPr>
          <p:cNvPr id="5" name="PlaceHolder 4"/>
          <p:cNvSpPr>
            <a:spLocks noGrp="1"/>
          </p:cNvSpPr>
          <p:nvPr>
            <p:ph type="dt" idx="1"/>
          </p:nvPr>
        </p:nvSpPr>
        <p:spPr/>
        <p:txBody>
          <a:bodyPr/>
          <a:p>
            <a:fld id="{34AAC268-B6C3-4A81-9E56-4F81411D0086}"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