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9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D66B5-BD51-42AA-B179-97F97108E5E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icture: Birzeit University, Palest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ealth beliefs: how patients access services, participate in treatment decisions and their social context all influence the management of chronic conditions and are important for health outcomes (Saks &amp; Allsop 2007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review of the relevant literature is also being undertaken, to set the context for this piece of work re: the health policy, health interventions and epidemiological work in the 4 partner countries plus Egypt, Jordan, Algeria and Morocc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BE43B-8632-41F9-98C7-6B6F9A6156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4A041-8B61-4954-BD73-F0D6DBC8EE9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E76E-DF69-4CB9-AAED-D539CF954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A7AF-4A7F-4CCA-A50C-DBEFAAD34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0A4C-F48A-4ED9-803C-A5C4D32D7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C827-A864-4560-AB9A-355650A27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DC4AE-75A6-46A5-BC41-29CD7FE8B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C9144-3AF5-4751-A70F-AD7EB6486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DBB6F-7FEB-4669-B450-FC098C16D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9160E-A07E-4949-8DCD-4BE0D1CEF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055A5-5248-4992-908A-9BF6B7752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0A4A0-3CE1-421B-9547-04919AF10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FABFC-68A7-4ADD-BEAB-035F0D64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CAA7-B6DE-4826-8D3F-DA6D3CCB3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5A217-CBDE-48D9-B208-6D0DBB1F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00E96-1C7C-4673-9BDD-AF316CF0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ABB1A-C8FE-42A6-8A58-46FD22CE5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B6B5B-835E-478E-9FF5-B395134F9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E4368-A53E-425C-972E-A83684793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A1F99-DD7B-40ED-9757-CF220E4E7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097B6-1AD8-4942-9434-C510D30AE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208B2-2867-4743-A6C3-2A80B8B40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65C94-1938-432E-BE10-FDDD25312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35A12-3893-4D6B-ACF7-DAABE0CB2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2352-0C6B-4C38-AF98-E79A9D54E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740B1-3C11-47A5-86DB-58AE2D953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9D2D4-FBC2-49BD-9A6E-627AD8AB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E728C-AE79-4786-ABD0-61AA360D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4552F-A8F9-4845-BB1B-2E984ABA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F78ED-44C8-435E-A3D3-4C09288A1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6A1BA-9FA3-4145-8346-E3675C3AC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20964-1A99-4FE5-B811-B52D54019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05181-D141-46D6-8F81-46C35241B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E7CBB-BCBD-4745-8089-1A41AAC36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9CDCD-499A-4203-800B-FA894EA8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0058-D19B-415D-9668-FD6CF26D3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CAAF8-3F81-47B0-A7B3-9ADD9B9EB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D58EF-6697-4265-A9F4-B7E2667EA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95B19-F9BA-4BF1-B542-A04D9A940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6071B-E747-423F-A693-DCD8AA97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E900D-D45D-496F-A728-A0A16F3E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33E4B-B738-4F6A-ACAB-F54924A8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33B91-969C-40AD-8757-8BB84C0DE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BD45B-542D-40A2-9546-E3ED33566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FDE9B-2013-4BBA-8D6F-B29C23EE9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F9031-CB68-4A53-A5A1-2DC594399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9E37-0F47-4805-91B7-529F65E69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793C6-BCBF-4262-80B0-D1E64EB7E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BF5DE-D1CC-443C-9EC7-C43BC967E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EF2DB-F22E-4CBA-B9CC-F92CAD776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0FCE7-C4F2-43BB-8CE7-4FA73945C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98DC0-3500-440A-83F9-09C74C25D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A81D8-2955-4B59-8B14-03711F87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80866-E919-4321-A893-5C56CDD9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2BC68-B802-4FCB-91D0-D7C28D5B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C973D-5442-4E46-9861-8D1987563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9AA2F-335B-4D83-8960-EDCA03B74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C698-B7C1-4122-B1FB-F6D8DAB8A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50672-1244-4A2A-87AE-C3275336A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8A46C-02C7-43BF-8F17-6A39FB0D8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50170-DCD3-4617-8BA0-8753BF0A4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56553-A7CF-462C-8641-620A8613E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C4D16-14ED-471E-B5BD-EBF1ACF97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026B0-FA51-44B3-8823-0009A5625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30853-8277-4806-8AD9-E970BF3BD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54642-64F4-4274-8CE4-E2DA5CDA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4FA4E-53EE-4668-99C8-01660E3D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84C60C-8A5C-4E91-9334-C7882ACE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DEDF-634D-4518-A7CE-46A80756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53FCEA-AC82-4593-98B8-EA04747B9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E107B-37DA-4459-A16D-AF37ED2BA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0677F-BA45-49C4-B83B-57807D433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FB983-1D65-49A4-8334-F28BF8B83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6F1B5-6AD2-4FDC-B08D-51F5B5A74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B07B62-B32C-4CBA-A365-F05E51777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AD944-BDDC-4784-9742-EB7E96E64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381B7-364C-491C-90E0-AE4D30EEF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96832-772F-473E-9E37-DC4606F47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4925A3-6438-4E12-B2FC-918A257C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7092-9F5E-4805-AC55-5E9AD8A5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8F6D8-6DEF-4828-956D-313A2417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AA870E-04F6-4950-A7F5-F0925DB9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3A3EC7-E2F5-42C2-9E7D-F99681C8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1CF51-CA3C-4258-87AA-7FE354FBD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B466D-94AB-463F-AFAE-A46BA1D60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482B-E4BB-492E-AC01-24B2C38A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BBE5C-7A2D-4F05-A1DE-6668F0F58F0D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B63AA-EDA5-4303-B111-7FCDF88817D1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4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1D91B-BDCE-460E-8592-108F095E217E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Group 1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25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AA0BE-9896-467B-B7D6-35A54D5F0E90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903EB-CED7-4EAA-9452-2FDD19A6676E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" name="Group 15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2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3F4A8-D19E-4353-974F-CF2962B0B7AD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8" name="Group 15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62E2A-6351-4E6C-AD0E-3698455678BF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ndara"/>
              </a:rPr>
              <a:t>Health Policy Analysis Conceptual Framework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ndara"/>
              </a:rPr>
              <a:t>Shahaduz Zaman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ndara"/>
              </a:rPr>
              <a:t>Newcastle University, UK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Diagram 1" descr=""/>
          <p:cNvPicPr/>
          <p:nvPr/>
        </p:nvPicPr>
        <p:blipFill>
          <a:blip r:embed="rId1"/>
          <a:stretch/>
        </p:blipFill>
        <p:spPr>
          <a:xfrm>
            <a:off x="0" y="109440"/>
            <a:ext cx="9034560" cy="657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Diagram 1" descr=""/>
          <p:cNvPicPr/>
          <p:nvPr/>
        </p:nvPicPr>
        <p:blipFill>
          <a:blip r:embed="rId1"/>
          <a:stretch/>
        </p:blipFill>
        <p:spPr>
          <a:xfrm>
            <a:off x="109440" y="189000"/>
            <a:ext cx="87854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Diagram 1" descr=""/>
          <p:cNvPicPr/>
          <p:nvPr/>
        </p:nvPicPr>
        <p:blipFill>
          <a:blip r:embed="rId1"/>
          <a:stretch/>
        </p:blipFill>
        <p:spPr>
          <a:xfrm>
            <a:off x="176040" y="255600"/>
            <a:ext cx="864396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Diagram 1" descr=""/>
          <p:cNvPicPr/>
          <p:nvPr/>
        </p:nvPicPr>
        <p:blipFill>
          <a:blip r:embed="rId1"/>
          <a:stretch/>
        </p:blipFill>
        <p:spPr>
          <a:xfrm>
            <a:off x="23760" y="0"/>
            <a:ext cx="9144000" cy="66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An Example of using Policy triangle framework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Mediterranean studies of Cardiovascular diseases and Hyperglycaemia: analytical Modelling of Population Socio-economic transitions </a:t>
            </a:r>
            <a:r>
              <a:rPr b="0" i="1" lang="en-GB" sz="2400" spc="-1" strike="noStrike">
                <a:solidFill>
                  <a:srgbClr val="ff0000"/>
                </a:solidFill>
                <a:latin typeface="Candara"/>
              </a:rPr>
              <a:t>(MEDCHAMPS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73e87"/>
                </a:solidFill>
                <a:latin typeface="Candara"/>
              </a:rPr>
              <a:t>Developing a CVD and diabetes model for use within the project countries, in order to explain trends and predict likely future impact of diseases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73e87"/>
                </a:solidFill>
                <a:latin typeface="Candara"/>
              </a:rPr>
              <a:t>Defining the national policy context and characterising the health system for developing  policy options 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MEDCHAMPS objectives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http://www.birzeit.edu/files/la/17240/pic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125280" y="-200160"/>
            <a:ext cx="9262800" cy="70581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ndara"/>
              </a:rPr>
              <a:t>Situation analysis (1)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1" name="TextBox 3"/>
          <p:cNvSpPr/>
          <p:nvPr/>
        </p:nvSpPr>
        <p:spPr>
          <a:xfrm>
            <a:off x="5334120" y="4068720"/>
            <a:ext cx="16761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Barri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TextBox 4"/>
          <p:cNvSpPr/>
          <p:nvPr/>
        </p:nvSpPr>
        <p:spPr>
          <a:xfrm>
            <a:off x="1600200" y="3429000"/>
            <a:ext cx="1143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Health servi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TextBox 5"/>
          <p:cNvSpPr/>
          <p:nvPr/>
        </p:nvSpPr>
        <p:spPr>
          <a:xfrm>
            <a:off x="1600200" y="4383000"/>
            <a:ext cx="1143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Health belief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TextBox 6"/>
          <p:cNvSpPr/>
          <p:nvPr/>
        </p:nvSpPr>
        <p:spPr>
          <a:xfrm>
            <a:off x="5181480" y="2279520"/>
            <a:ext cx="19051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Health outcom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TextBox 7"/>
          <p:cNvSpPr/>
          <p:nvPr/>
        </p:nvSpPr>
        <p:spPr>
          <a:xfrm>
            <a:off x="3581280" y="2286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99"/>
                </a:solidFill>
                <a:latin typeface="Arial"/>
              </a:rPr>
              <a:t>influ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TextBox 8"/>
          <p:cNvSpPr/>
          <p:nvPr/>
        </p:nvSpPr>
        <p:spPr>
          <a:xfrm>
            <a:off x="3352680" y="3800520"/>
            <a:ext cx="16002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99"/>
                </a:solidFill>
                <a:latin typeface="Arial"/>
              </a:rPr>
              <a:t>Qualitative data from key stakehold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TextBox 9"/>
          <p:cNvSpPr/>
          <p:nvPr/>
        </p:nvSpPr>
        <p:spPr>
          <a:xfrm>
            <a:off x="5334120" y="3429000"/>
            <a:ext cx="16761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Gap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TextBox 10"/>
          <p:cNvSpPr/>
          <p:nvPr/>
        </p:nvSpPr>
        <p:spPr>
          <a:xfrm>
            <a:off x="1600200" y="2478240"/>
            <a:ext cx="1143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Health polic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TextBox 11"/>
          <p:cNvSpPr/>
          <p:nvPr/>
        </p:nvSpPr>
        <p:spPr>
          <a:xfrm>
            <a:off x="5334120" y="4724280"/>
            <a:ext cx="16761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Opportunities for implementing chan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TextBox 12"/>
          <p:cNvSpPr/>
          <p:nvPr/>
        </p:nvSpPr>
        <p:spPr>
          <a:xfrm>
            <a:off x="7391520" y="3790800"/>
            <a:ext cx="152388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99"/>
                </a:solidFill>
                <a:latin typeface="Arial"/>
              </a:rPr>
              <a:t>Informs policy op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TextBox 13"/>
          <p:cNvSpPr/>
          <p:nvPr/>
        </p:nvSpPr>
        <p:spPr>
          <a:xfrm>
            <a:off x="152280" y="3429000"/>
            <a:ext cx="1143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99"/>
                </a:solidFill>
                <a:latin typeface="Arial"/>
              </a:rPr>
              <a:t>Analysis of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Left Brace 15"/>
          <p:cNvSpPr/>
          <p:nvPr/>
        </p:nvSpPr>
        <p:spPr>
          <a:xfrm>
            <a:off x="1295280" y="2819520"/>
            <a:ext cx="304920" cy="1904760"/>
          </a:xfrm>
          <a:custGeom>
            <a:avLst/>
            <a:gdLst>
              <a:gd name="textAreaLeft" fmla="*/ 194760 w 304920"/>
              <a:gd name="textAreaRight" fmla="*/ 305280 w 304920"/>
              <a:gd name="textAreaTop" fmla="*/ 7920 h 1904760"/>
              <a:gd name="textAreaBottom" fmla="*/ 1896840 h 190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4"/>
                  <a:pt x="10800" y="288"/>
                </a:cubicBezTo>
                <a:lnTo>
                  <a:pt x="10800" y="10512"/>
                </a:lnTo>
                <a:cubicBezTo>
                  <a:pt x="10800" y="10656"/>
                  <a:pt x="5400" y="10800"/>
                  <a:pt x="0" y="10800"/>
                </a:cubicBezTo>
                <a:cubicBezTo>
                  <a:pt x="5400" y="10800"/>
                  <a:pt x="10800" y="10944"/>
                  <a:pt x="10800" y="11088"/>
                </a:cubicBezTo>
                <a:lnTo>
                  <a:pt x="10800" y="21312"/>
                </a:lnTo>
                <a:cubicBezTo>
                  <a:pt x="10800" y="2145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83" name="Straight Arrow Connector 17"/>
          <p:cNvCxnSpPr>
            <a:endCxn id="375" idx="1"/>
          </p:cNvCxnSpPr>
          <p:nvPr/>
        </p:nvCxnSpPr>
        <p:spPr>
          <a:xfrm flipV="1">
            <a:off x="3047760" y="2469600"/>
            <a:ext cx="533880" cy="4258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384" name="Straight Arrow Connector 20"/>
          <p:cNvCxnSpPr>
            <a:stCxn id="375" idx="3"/>
            <a:endCxn id="374" idx="1"/>
          </p:cNvCxnSpPr>
          <p:nvPr/>
        </p:nvCxnSpPr>
        <p:spPr>
          <a:xfrm flipV="1">
            <a:off x="4724280" y="2463480"/>
            <a:ext cx="457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5" name="Elbow Connector 25"/>
          <p:cNvCxnSpPr>
            <a:stCxn id="376" idx="3"/>
            <a:endCxn id="379" idx="1"/>
          </p:cNvCxnSpPr>
          <p:nvPr/>
        </p:nvCxnSpPr>
        <p:spPr>
          <a:xfrm>
            <a:off x="4952520" y="4262400"/>
            <a:ext cx="381960" cy="1062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6" name="Elbow Connector 28"/>
          <p:cNvCxnSpPr>
            <a:stCxn id="376" idx="3"/>
            <a:endCxn id="377" idx="1"/>
          </p:cNvCxnSpPr>
          <p:nvPr/>
        </p:nvCxnSpPr>
        <p:spPr>
          <a:xfrm flipV="1">
            <a:off x="4952520" y="3612600"/>
            <a:ext cx="381960" cy="649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7" name="Elbow Connector 31"/>
          <p:cNvCxnSpPr/>
          <p:nvPr/>
        </p:nvCxnSpPr>
        <p:spPr>
          <a:xfrm flipV="1">
            <a:off x="4952520" y="4242600"/>
            <a:ext cx="381960" cy="104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8" name="Elbow Connector 34"/>
          <p:cNvCxnSpPr>
            <a:stCxn id="377" idx="3"/>
            <a:endCxn id="380" idx="1"/>
          </p:cNvCxnSpPr>
          <p:nvPr/>
        </p:nvCxnSpPr>
        <p:spPr>
          <a:xfrm>
            <a:off x="7009920" y="3612960"/>
            <a:ext cx="381960" cy="6404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9" name="Elbow Connector 37"/>
          <p:cNvCxnSpPr>
            <a:stCxn id="379" idx="3"/>
            <a:endCxn id="380" idx="1"/>
          </p:cNvCxnSpPr>
          <p:nvPr/>
        </p:nvCxnSpPr>
        <p:spPr>
          <a:xfrm flipV="1">
            <a:off x="7009920" y="4252680"/>
            <a:ext cx="381960" cy="1072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0" name="Elbow Connector 40"/>
          <p:cNvCxnSpPr>
            <a:stCxn id="371" idx="3"/>
            <a:endCxn id="380" idx="1"/>
          </p:cNvCxnSpPr>
          <p:nvPr/>
        </p:nvCxnSpPr>
        <p:spPr>
          <a:xfrm flipV="1">
            <a:off x="7009920" y="4252320"/>
            <a:ext cx="381960" cy="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1" name="Elbow Connector 46"/>
          <p:cNvCxnSpPr>
            <a:stCxn id="378" idx="3"/>
            <a:endCxn id="376" idx="1"/>
          </p:cNvCxnSpPr>
          <p:nvPr/>
        </p:nvCxnSpPr>
        <p:spPr>
          <a:xfrm>
            <a:off x="2742840" y="2800080"/>
            <a:ext cx="610200" cy="1462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2" name="Elbow Connector 49"/>
          <p:cNvCxnSpPr>
            <a:stCxn id="373" idx="3"/>
            <a:endCxn id="376" idx="1"/>
          </p:cNvCxnSpPr>
          <p:nvPr/>
        </p:nvCxnSpPr>
        <p:spPr>
          <a:xfrm flipV="1">
            <a:off x="2742840" y="4262040"/>
            <a:ext cx="610200" cy="443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3" name="Elbow Connector 53"/>
          <p:cNvCxnSpPr>
            <a:stCxn id="372" idx="3"/>
            <a:endCxn id="376" idx="1"/>
          </p:cNvCxnSpPr>
          <p:nvPr/>
        </p:nvCxnSpPr>
        <p:spPr>
          <a:xfrm>
            <a:off x="2742840" y="3752640"/>
            <a:ext cx="610200" cy="510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94" name="Title 1"/>
          <p:cNvSpPr/>
          <p:nvPr/>
        </p:nvSpPr>
        <p:spPr>
          <a:xfrm>
            <a:off x="457200" y="838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Arial"/>
              </a:rPr>
              <a:t>Translating recommended interventions to different cultural sett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Objectives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35680" indent="-25380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73e87"/>
                </a:solidFill>
                <a:latin typeface="Candara"/>
              </a:rPr>
              <a:t>Using established schematic frameworks of potentially effective policy measures and health system interventions for the prevention of CVD and Type 2 diabetes in order to guide data collection and analysis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35680" indent="-253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35680" indent="-25380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73e87"/>
                </a:solidFill>
                <a:latin typeface="Candara"/>
              </a:rPr>
              <a:t>Identify, collating and systematically reviewing all relevant documentary materials on policies and health services provision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National situation analysis of current policy and health systems context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535680" indent="-2538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35680" indent="-2538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73e87"/>
                </a:solidFill>
                <a:latin typeface="Candara"/>
              </a:rPr>
              <a:t>Exploring perception and knowledge of relevant national policies through interviews with key informant from relevant organisations, including government, the health sector, private sector and non governmental organizations (including patient group)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35680" indent="-2538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35680" indent="-2538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73e87"/>
                </a:solidFill>
                <a:latin typeface="Candara"/>
              </a:rPr>
              <a:t>Exploring health beliefs with potential target groups, and determining whether these differ by population group.  Including by gender and socio economic group.   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Content Placeholder 3" descr=""/>
          <p:cNvPicPr/>
          <p:nvPr/>
        </p:nvPicPr>
        <p:blipFill>
          <a:blip r:embed="rId1"/>
          <a:stretch/>
        </p:blipFill>
        <p:spPr>
          <a:xfrm>
            <a:off x="324000" y="2676600"/>
            <a:ext cx="8648640" cy="344952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00"/>
                </a:solidFill>
                <a:latin typeface="Candara"/>
              </a:rPr>
              <a:t>What does a health policy analysis involve?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A. Situation analyses of current policy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73e87"/>
                </a:solidFill>
                <a:latin typeface="Candara"/>
              </a:rPr>
              <a:t>National/Regional/District overview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B. Health system contexts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73e87"/>
                </a:solidFill>
                <a:latin typeface="Candara"/>
              </a:rPr>
              <a:t>Local orientation alongside the national orientation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ndara"/>
              </a:rPr>
              <a:t>Two focuses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Candara"/>
              </a:rPr>
              <a:t>The project therefore envisages appraising existing situations in partner countries on three different levels:</a:t>
            </a:r>
            <a:br>
              <a:rPr sz="2500"/>
            </a:br>
            <a:endParaRPr b="0" lang="en-US" sz="25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03" name="Diagram 2" descr=""/>
          <p:cNvPicPr/>
          <p:nvPr/>
        </p:nvPicPr>
        <p:blipFill>
          <a:blip r:embed="rId1"/>
          <a:stretch/>
        </p:blipFill>
        <p:spPr>
          <a:xfrm>
            <a:off x="66600" y="1395360"/>
            <a:ext cx="908388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Content Placeholder 3" descr=""/>
          <p:cNvPicPr/>
          <p:nvPr/>
        </p:nvPicPr>
        <p:blipFill>
          <a:blip r:embed="rId1"/>
          <a:stretch/>
        </p:blipFill>
        <p:spPr>
          <a:xfrm>
            <a:off x="804960" y="2651040"/>
            <a:ext cx="7480080" cy="348156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ndara"/>
              </a:rPr>
              <a:t>Level 1: Situation on the level of conceptualization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Diagram 1" descr=""/>
          <p:cNvPicPr/>
          <p:nvPr/>
        </p:nvPicPr>
        <p:blipFill>
          <a:blip r:embed="rId1"/>
          <a:stretch/>
        </p:blipFill>
        <p:spPr>
          <a:xfrm>
            <a:off x="249120" y="1908000"/>
            <a:ext cx="8723520" cy="36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871560" y="2349360"/>
            <a:ext cx="74088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73e87"/>
                </a:solidFill>
                <a:latin typeface="Candara"/>
              </a:rPr>
              <a:t>Documentary materials on national policies, strategies, health systems and  financing concerning CVD and diabetes, including policy relevant to smoking, diet, physical activity and alcohol use. 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73e87"/>
                </a:solidFill>
                <a:latin typeface="Candara"/>
              </a:rPr>
              <a:t>Relevant documents on pricing and taxation, agricultural and transport policies. 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73e87"/>
                </a:solidFill>
                <a:latin typeface="Candara"/>
              </a:rPr>
              <a:t>Documentary materials on policies regarding national and local health service provisions, prescribing , prevention and risk factor management. 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73e87"/>
                </a:solidFill>
                <a:latin typeface="Candara"/>
              </a:rPr>
              <a:t>National and international guidelines on policy measures and health care structures and interventions developed by WHO, World Bank, World Heart Foundation, International Diabetes Care Interventions.  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Method:    Document analysi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ndara"/>
              </a:rPr>
              <a:t>Source of information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Content Placeholder 3" descr=""/>
          <p:cNvPicPr/>
          <p:nvPr/>
        </p:nvPicPr>
        <p:blipFill>
          <a:blip r:embed="rId1"/>
          <a:stretch/>
        </p:blipFill>
        <p:spPr>
          <a:xfrm>
            <a:off x="804960" y="2651040"/>
            <a:ext cx="7547040" cy="347508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ndara"/>
              </a:rPr>
              <a:t>Level 2: Situation on the level of Awareness and Commitment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Implementers and practitioners from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Government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Private sector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NGOs at national, regional, provincial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Community level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Method:    Key informant interview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ndara"/>
              </a:rPr>
              <a:t>Source of information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Content Placeholder 3" descr=""/>
          <p:cNvPicPr/>
          <p:nvPr/>
        </p:nvPicPr>
        <p:blipFill>
          <a:blip r:embed="rId1"/>
          <a:stretch/>
        </p:blipFill>
        <p:spPr>
          <a:xfrm>
            <a:off x="804960" y="2651040"/>
            <a:ext cx="7480080" cy="353700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ndara"/>
              </a:rPr>
              <a:t>Level 3: Situation on the level of practice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Patients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Care givers, medical practitioners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Accessed through sample of health care facilities in (a) urban and (b) rural settings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Method : In depth interviews, Illness narratives, Observations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ndara"/>
              </a:rPr>
              <a:t>Source of information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73e87"/>
                </a:solidFill>
                <a:latin typeface="Candara"/>
              </a:rPr>
              <a:t>Merson, M., Black, R., Mills, A. (Eds) (2012) Global Health: Diseases, Programs, Systems and Policies.  London: Jones &amp; Bartlett Publisher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73e87"/>
                </a:solidFill>
                <a:latin typeface="Candara"/>
              </a:rPr>
              <a:t>Ostrom, E. (2007) Institutional rational choice: as assessment of the institutional analysis and development framework. In Sabatier PA (ed) </a:t>
            </a:r>
            <a:r>
              <a:rPr b="0" i="1" lang="en-GB" sz="1800" spc="-1" strike="noStrike">
                <a:solidFill>
                  <a:srgbClr val="073e87"/>
                </a:solidFill>
                <a:latin typeface="Candara"/>
              </a:rPr>
              <a:t>Theories of the policy process</a:t>
            </a:r>
            <a:r>
              <a:rPr b="0" lang="en-GB" sz="1800" spc="-1" strike="noStrike">
                <a:solidFill>
                  <a:srgbClr val="073e87"/>
                </a:solidFill>
                <a:latin typeface="Candara"/>
              </a:rPr>
              <a:t>. Boulder, CO Westview Press pp 21-64. 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73e87"/>
                </a:solidFill>
                <a:latin typeface="Candara"/>
              </a:rPr>
              <a:t>Walt, G. et al.  (2008) Doing’ health policy analysis: methodological and conceptual reflections and challenges.  </a:t>
            </a:r>
            <a:r>
              <a:rPr b="0" i="1" lang="en-GB" sz="1800" spc="-1" strike="noStrike">
                <a:solidFill>
                  <a:srgbClr val="073e87"/>
                </a:solidFill>
                <a:latin typeface="Candara"/>
              </a:rPr>
              <a:t>Health Policy and Planning </a:t>
            </a:r>
            <a:r>
              <a:rPr b="0" lang="en-GB" sz="1800" spc="-1" strike="noStrike">
                <a:solidFill>
                  <a:srgbClr val="073e87"/>
                </a:solidFill>
                <a:latin typeface="Candara"/>
              </a:rPr>
              <a:t>23:308–317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Reference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Diagram 1" descr=""/>
          <p:cNvPicPr/>
          <p:nvPr/>
        </p:nvPicPr>
        <p:blipFill>
          <a:blip r:embed="rId1"/>
          <a:stretch/>
        </p:blipFill>
        <p:spPr>
          <a:xfrm>
            <a:off x="12600" y="115920"/>
            <a:ext cx="9034560" cy="66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Content Placeholder 3" descr=""/>
          <p:cNvPicPr/>
          <p:nvPr/>
        </p:nvPicPr>
        <p:blipFill>
          <a:blip r:embed="rId1"/>
          <a:stretch/>
        </p:blipFill>
        <p:spPr>
          <a:xfrm>
            <a:off x="865080" y="1914480"/>
            <a:ext cx="7425000" cy="421164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Conceptual frameworks provide a particular perspective, or lens, through which to examine a topic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Frameworks organize inquiry by identifying elements and relationships among elements that needs to be considered for theory building. </a:t>
            </a:r>
            <a:r>
              <a:rPr b="0" i="1" lang="en-GB" sz="2400" spc="-1" strike="noStrike">
                <a:solidFill>
                  <a:srgbClr val="073e87"/>
                </a:solidFill>
                <a:latin typeface="Candara"/>
              </a:rPr>
              <a:t>( Ostrom 2007)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Health policy framework helps to contextualize the ‘</a:t>
            </a:r>
            <a:r>
              <a:rPr b="0" lang="en-GB" sz="2400" spc="-1" strike="noStrike">
                <a:solidFill>
                  <a:srgbClr val="ff0000"/>
                </a:solidFill>
                <a:latin typeface="Candara"/>
              </a:rPr>
              <a:t>health policy environment.’</a:t>
            </a: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Content Placeholder 4" descr=""/>
          <p:cNvPicPr/>
          <p:nvPr/>
        </p:nvPicPr>
        <p:blipFill>
          <a:blip r:embed="rId1"/>
          <a:stretch/>
        </p:blipFill>
        <p:spPr>
          <a:xfrm>
            <a:off x="450720" y="1116000"/>
            <a:ext cx="8248680" cy="556596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Three major health policy analysis frameworks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Content Placeholder 3" descr=""/>
          <p:cNvPicPr/>
          <p:nvPr/>
        </p:nvPicPr>
        <p:blipFill>
          <a:blip r:embed="rId1"/>
          <a:stretch/>
        </p:blipFill>
        <p:spPr>
          <a:xfrm>
            <a:off x="914400" y="1407960"/>
            <a:ext cx="7772400" cy="470700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Policy Triangle Framework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6T14:26:51Z</dcterms:created>
  <dc:creator>nsz4</dc:creator>
  <dc:description/>
  <dc:language>en-US</dc:language>
  <cp:lastModifiedBy>User</cp:lastModifiedBy>
  <cp:lastPrinted>2013-05-28T10:45:51Z</cp:lastPrinted>
  <dcterms:modified xsi:type="dcterms:W3CDTF">2013-05-31T23:38:47Z</dcterms:modified>
  <cp:revision>21</cp:revision>
  <dc:subject/>
  <dc:title>Health Policy Analysis Framework</dc:title>
</cp:coreProperties>
</file>