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633D-CD65-4194-AFA5-E201C8BA5249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BAF8-ACEC-434C-A36B-7496F2F55BE3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433F-D675-4D0D-9291-8E3BAEDCEAC2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3E18-E480-4C27-A16F-4A3F43DB487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3411-99A2-4303-9390-C7F25316726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32C7-5988-4C50-9421-62549031A12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9F2-35A9-4FE5-8FCC-212A653B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C79-A640-456D-A12F-9B4A736B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9FC-709A-49D5-8C50-56884D70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9C4-FB7B-4CB4-BE93-5BF2A1A7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3C4-D31C-4BB3-B1AF-6D73DDCA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419-F20D-4F56-B406-6C415FD5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63B-902E-4AC5-846E-4DC732B5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56D-4212-428F-A293-DEEDA93A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134-D6A4-4033-B4FC-2073CFDF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BE8-5CC5-4F6C-95CF-361E1055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870-774D-440C-9BAC-E3F5D1D5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484C-C726-4290-BCE8-F371F22F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7032-D1CD-4F8C-994B-E8EE6D472076}" type="datetime">
              <a:rPr b="0" lang="ar-JO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B2D385-7C44-4031-868E-BBEBCE5A367C}" type="datetime10">
              <a:rPr b="0" lang="ar-JO" sz="1200" spc="-1" strike="noStrike">
                <a:solidFill>
                  <a:srgbClr val="898989"/>
                </a:solidFill>
                <a:latin typeface="Calibri"/>
              </a:rPr>
              <a:t>21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D24B-CFC5-46D4-B86A-70406871FBA1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ar-JO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071880"/>
            <a:ext cx="7858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by</a:t>
            </a:r>
            <a:br>
              <a:rPr sz="3000"/>
            </a:br>
            <a:r>
              <a:rPr b="0" lang="en-US" sz="2200" spc="-1" strike="noStrike">
                <a:solidFill>
                  <a:srgbClr val="002060"/>
                </a:solidFill>
                <a:latin typeface="Andalus"/>
                <a:ea typeface="Andalus"/>
              </a:rPr>
              <a:t>Dr. Jamal Abu Saif</a:t>
            </a:r>
            <a:br>
              <a:rPr sz="3300"/>
            </a:br>
            <a:br>
              <a:rPr sz="3000"/>
            </a:b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MD, Arab Board in Community Medicine</a:t>
            </a:r>
            <a:br>
              <a:rPr sz="2200"/>
            </a:b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Director of Technical Affairs and Stu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NHA Project Manag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High Health Council - HH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Amman-Jor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2920" y="285840"/>
            <a:ext cx="885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Implementation: Experiences from Jord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شعار المجلس "/>
          <p:cNvPicPr/>
          <p:nvPr/>
        </p:nvPicPr>
        <p:blipFill>
          <a:blip r:embed="rId1"/>
          <a:stretch/>
        </p:blipFill>
        <p:spPr>
          <a:xfrm>
            <a:off x="3500280" y="428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642960"/>
            <a:ext cx="8136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81160" y="633240"/>
            <a:ext cx="8412120" cy="549936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5"/>
          <p:cNvSpPr/>
          <p:nvPr/>
        </p:nvSpPr>
        <p:spPr>
          <a:xfrm flipH="1">
            <a:off x="3143160" y="500004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7"/>
          <p:cNvSpPr/>
          <p:nvPr/>
        </p:nvSpPr>
        <p:spPr>
          <a:xfrm flipH="1">
            <a:off x="4071960" y="5285520"/>
            <a:ext cx="7142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1500120"/>
          <a:ext cx="8715600" cy="4430880"/>
        </p:xfrm>
        <a:graphic>
          <a:graphicData uri="http://schemas.openxmlformats.org/drawingml/2006/table">
            <a:tbl>
              <a:tblPr/>
              <a:tblGrid>
                <a:gridCol w="1658880"/>
                <a:gridCol w="2374920"/>
                <a:gridCol w="2503800"/>
                <a:gridCol w="2178000"/>
              </a:tblGrid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THE as  percentage  of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er capita health </a:t>
                      </a:r>
                      <a:r>
                        <a:rPr b="1" lang="ar-JO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exp (US </a:t>
                      </a: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ublic exp on health as percentage of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ba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country comparison of NHA indicators WHO regional Health Observatory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 capita health care spending (JD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rdan NHA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4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785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on of HH Exp. By public and pri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5929200" cy="4500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85880" y="5786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alth Insurance coverage rate is 72%  ( without dupl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eakdown of OOP Health Expenditure in the Private Health Secto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hart 6" descr=""/>
          <p:cNvPicPr/>
          <p:nvPr/>
        </p:nvPicPr>
        <p:blipFill>
          <a:blip r:embed="rId1"/>
          <a:stretch/>
        </p:blipFill>
        <p:spPr>
          <a:xfrm>
            <a:off x="1779480" y="1494000"/>
            <a:ext cx="52246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ug expenditure as percent of GDP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79012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capita spending on drugs (JD) 2007-201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150400" cy="6004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28760" y="5929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rug Exp. US$ 605 Million 27% of THE (36% OF THE in 200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659800" cy="963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blic Expenditures by Function 2009-2011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1357200"/>
          <a:ext cx="8763120" cy="5175360"/>
        </p:xfrm>
        <a:graphic>
          <a:graphicData uri="http://schemas.openxmlformats.org/drawingml/2006/table">
            <a:tbl>
              <a:tblPr/>
              <a:tblGrid>
                <a:gridCol w="1206720"/>
                <a:gridCol w="1116000"/>
                <a:gridCol w="1116000"/>
                <a:gridCol w="1117440"/>
                <a:gridCol w="1116000"/>
                <a:gridCol w="1149480"/>
                <a:gridCol w="1941480"/>
              </a:tblGrid>
              <a:tr h="35100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 الصح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علاج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C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أول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دارة والخدمات المساند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.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دريب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esearch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رى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مو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  Public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traight Connector 5"/>
          <p:cNvSpPr/>
          <p:nvPr/>
        </p:nvSpPr>
        <p:spPr>
          <a:xfrm flipV="1">
            <a:off x="7000920" y="1499760"/>
            <a:ext cx="1900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315200" y="6324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886200" y="654696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HA Technical Reports, HHC-Jord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396720" y="590400"/>
            <a:ext cx="7661520" cy="702000"/>
            <a:chOff x="396720" y="590400"/>
            <a:chExt cx="7661520" cy="70200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396720" y="590400"/>
              <a:ext cx="766152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685800"/>
              <a:ext cx="7543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ses of National Health Accounts (NHA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and planning t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health care financing &amp; expendi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resource allocation and allocative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evidence-based decision 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insight when dealing with insurance s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distinguished healthcare system within an integrated health sector that achieves an outstanding status for the kingdom on the health world ma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pdating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ional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genda of the health sec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05 -2017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ime Minister has formed four committe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inister of planning is the head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ministerial committee of all sectors in the country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G of the Ministry of Planning is the head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ectoral coordination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HHC-SG is a memb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ead of </a:t>
            </a: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health sector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the HHC-S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technical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s formed at HHC and was reporting to HHC-SG  (NA : updated 2013-2022 after preparing  a progress report on the achievements of  the national agenda interventions ( up to 20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HC in collaboration with health and health related partners: MOH, RMS, JNC,UHs, HPC, JHA, JFDA, GDCD, 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928880" y="214200"/>
            <a:ext cx="528624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me Minist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000160" y="1571760"/>
            <a:ext cx="514368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ial committee of all sector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143080" y="2928960"/>
            <a:ext cx="492912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G of the Ministry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toral coordination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14760" y="4286160"/>
            <a:ext cx="38574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-S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lth sector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43160" y="5643720"/>
            <a:ext cx="30006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 Technical Dir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chnical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2"/>
          <p:cNvCxnSpPr>
            <a:stCxn id="98" idx="2"/>
            <a:endCxn id="99" idx="0"/>
          </p:cNvCxnSpPr>
          <p:nvPr/>
        </p:nvCxnSpPr>
        <p:spPr>
          <a:xfrm flipH="1">
            <a:off x="4570200" y="1142640"/>
            <a:ext cx="360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H="1">
            <a:off x="4571640" y="249984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>
            <a:off x="4570200" y="3857760"/>
            <a:ext cx="216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 flipH="1">
            <a:off x="4570200" y="521460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554960" cy="1084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 Health Sec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oals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ation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genda 20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care services in accordance with international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ening public-private partnership in order to create a  distinguished healthcare system based on integration, and to limit waste and du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system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ing health insurance coverage to all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the prevalence of NC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uses of mortality in Jord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hart 2362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85880" y="5572080"/>
            <a:ext cx="121428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-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143080" y="5572080"/>
            <a:ext cx="11430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00280" y="5572080"/>
            <a:ext cx="135756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ccid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072040" y="5572080"/>
            <a:ext cx="11430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nfect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286680" y="5572080"/>
            <a:ext cx="12855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215200" cy="762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1714320"/>
            <a:ext cx="8786880" cy="4609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Providing all people with access to needed health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Reviving primary health car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Controlling health car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Utilizing scarce resources effici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6840" y="1714320"/>
            <a:ext cx="8458200" cy="44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ty in accessing affordable health car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he financial protection of the people and protecting households from fac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overish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strophic health expendi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 and affordabl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households’ expenditures on heal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2512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4200" y="571680"/>
            <a:ext cx="850104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M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cal responsibility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agenda 202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HSs (NHS, NHS for health communication, NHS for the elderly, RHA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sources for Health observ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rveys and studies such as: health insurance and OOP spending, availability of drugs at facility level and from HH perspectives,, and FFC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480" y="1413000"/>
            <a:ext cx="86439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surveys, studies, technical reports and policy briefs, such 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alth insurance coverage and health exp. surv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tribution of health care payments and FFC stu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H and facility survey on availability and pricing of dru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y on corruption in health sec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HRH- Jordan’s coordination and facilitation policy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retention of MOH physicians in remote underserved are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Health Accounts NHA annual technical rep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8610480" cy="71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studying medical sciences and setting  recommendations to address market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ing the incentive system of the public employees with the performance indi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l ethics in conducting experimental clinical trials in Jord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national capacity on Costing of health care services (refugees, contractin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opting certificate of need to control capital expenditure in health care services, &amp; limit the unnecessary expansion of thes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ing and improving primary healthcar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ing equity in access to affordable  healthcare focusing on the poor, disabled, and other high risk catego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ing national clinical practice guidelin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 algn="just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ccreditation, medical tourism, Medical liabil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ission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draw up integrated health polic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participation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health sec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the kingdom; so as to ensure the provision of distinguished healthcare services with a noble humanitarian goal within a sound health economy that strengthens Jordan’s leading position in the field of healthc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7848720" cy="885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auses of health care system inefficienc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28480"/>
            <a:ext cx="85345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System Frag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Radical change  was failed in 1988 (combing MOH and R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tional use of Medicine and Health Technolo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HHC strategy on Dug Rationalization 2012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eTA Project – JFDA ( availability, accessibility and affordability of dru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financial and other incentives prevalent in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sence of performance based incentives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the process of turning policy into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re Policy Formulation and Implementation interdepend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f yes, should policy initiators consider them in combin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financial resources allocated for national health projects, health policy research, and health policy analy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updated information and statistics needed for health policy form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monitoring and evaluation capacity in the area of health policies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Evaluation is crucial for policy improvement or policy ter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868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turnover of Governments which affect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ek representation of private s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ng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capacity on leadership which is necessary to resolve the conflict of interest regarding policy design and imple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tivation or commitment due to different priorities, lack of incentives,  and limited resour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can occur as a resul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lu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ffective implementation will be viewed by policy-makers as bad execution or bad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-makers don’t admit  that the policy itself was defective or b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or an implementation gap can occur when policy is imposed from the centre with no thought given to how it might be perceived or received at local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lance between the bottom up and top down approaches to policy and action is often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could be modified or adapted in advance of its imple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should involve a process of interaction between organizations whose members may have different values, perspectives and prio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policy is to be successfully implemented then those who have responsibility for its implementation should be involved in its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42960" y="2999880"/>
            <a:ext cx="804384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شعار المجلس "/>
          <p:cNvPicPr/>
          <p:nvPr/>
        </p:nvPicPr>
        <p:blipFill>
          <a:blip r:embed="rId1"/>
          <a:stretch/>
        </p:blipFill>
        <p:spPr>
          <a:xfrm>
            <a:off x="3714840" y="92880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Health Council - HHC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w No. 9 for the year 1999</a:t>
            </a: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596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o formulate the general policy of the health sector and to put forward the strategy to achieve it in order to organize and develop the health work in the Kingdom as a wh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mbership of HH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irpers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ice-chairperso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inister of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Planning and International Co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Soci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Lab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neral Director of Royal Medica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Private Hospital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an of one of the medical faculties in the official Jordanian universitie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Jordan medical associ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ad of one of the health association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experts from the private secto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iodic evaluation of health policies and introducing needed amendments after implemen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ing the needs of the health sector and taking decisions regarding equitable distribution of health services across the king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( Jordan health map experience- equitable   distribution of public health centers and decreasing social influe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534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ng work of health institutions in both public and private sectors to guarantee integration of their work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Regular meetings with liaison offic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proposed laws, bylaws, and regulations of the HHC and the health sector and submitting the necessary recommendations.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 Medical liability law. NHA data collection byl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problems and obstacles facing the health sector and providing statistics and data for decision making pertaining to health system restruct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HRH observatory :equitable distribution of health work force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National Health Accounts annual technical reports (6 rou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42976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HA reports in Jord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000080"/>
          <a:ext cx="8329680" cy="5486400"/>
        </p:xfrm>
        <a:graphic>
          <a:graphicData uri="http://schemas.openxmlformats.org/drawingml/2006/table">
            <a:tbl>
              <a:tblPr/>
              <a:tblGrid>
                <a:gridCol w="1890720"/>
                <a:gridCol w="1827360"/>
                <a:gridCol w="3168360"/>
                <a:gridCol w="14432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sca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d /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st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HA team Rank No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-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us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9:08:21Z</dcterms:created>
  <dc:creator>User</dc:creator>
  <dc:description/>
  <dc:language>en-US</dc:language>
  <cp:lastModifiedBy>USER</cp:lastModifiedBy>
  <dcterms:modified xsi:type="dcterms:W3CDTF">2013-06-05T11:36:59Z</dcterms:modified>
  <cp:revision>366</cp:revision>
  <dc:subject/>
  <dc:title>Informed health policy</dc:title>
</cp:coreProperties>
</file>