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18A-0A62-4DBB-8EE3-88236E3E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479-56EF-4AE4-A8CF-F7C2837F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34B-F771-4FCB-ACE6-94751DA4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96E-7635-4B08-899A-6D1BB403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8CEF-E5D1-4ED9-8718-DAF77189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D79F-14EF-4AE1-9F74-DC9B70C6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2302-6BD6-40A3-AAD2-7E7082B2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A3A5-D0C3-436F-B74D-AE48BADE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F629-599E-47A4-9F8E-E4985056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4FA2-DC7B-4DFD-A57F-FC6C6283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2E80-C554-483C-B46B-DB14D301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6F8-DF26-4ECD-995E-8E2D44B2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01F4-233F-4D18-9EEF-983F228A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2228-310F-4AA8-91AE-F109E91F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D990-2190-4EAB-B0B3-27BBC69B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7029-9F5C-4778-B098-70FED72D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32B0-1EE5-424D-BDB5-EDBCC807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F1E19-BE7F-401E-A99B-2043FDE0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A4A1A-2224-40D4-96E9-E116A162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7D7E6-C502-492D-A8F8-D877683D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37190-39B8-4BD9-9696-5CB212ED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FC7AE-04F6-497D-BB92-1D56003B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8B8-34E1-4B1E-A1F1-669FFC4E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0C698-54B1-4997-8DB7-60D62438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7673E-3DAF-4906-A20E-5212EC23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1DBA4-6B4F-47FE-AB37-58E45B16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DA4FF-B9ED-44C0-971D-7B6C6FB2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3951-8A57-4D6E-AB21-AA33E773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C657D-9184-4062-878F-9120AE97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A5B70-5D43-4159-87DB-9D0A523D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12035-8D3C-4875-9F94-12552BEA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C47AD-D97E-4CC3-A6E5-D42872F2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AC8FD-7A44-41A0-83C2-62ED2F36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B5E-A811-4796-91EA-F58504C7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CEF2D-DB24-479A-BDA7-7434240F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1A167-62A3-4DBA-A07D-F6E1CC4E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ED157-215A-4F11-89A7-02707CDE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79380-03BB-4B42-BACC-A3F004FD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DE6DE-2A52-4D25-B307-C6955710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E2557-3ABF-4B45-B694-E9134C84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26D5C-5CA5-4436-A055-CD5D3E85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DEA26-A31F-44E9-AB23-DA1B85B7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76E6D-AC63-4467-BF4C-04FD311C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36FF2-BD06-4B90-B3D1-58936DD6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B3C-CA9C-49A1-AA8D-2C126D1E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8C793-EE1E-44BE-8D31-404D7BCE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F08A8-8CEE-4A67-97DE-60B1D553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6B406-4D65-4EC3-8F7A-EEAC6AE7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454E2-117D-41CB-9F36-F4C2C6DD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76948-429A-483F-9C5A-C79F6321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88E6B-71D4-4B13-9686-2A11392D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05B4B-726C-4C31-9E06-C643F753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3BC78-183B-4470-8AA9-42745EBD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3C36D-9FD9-4ED4-B6BA-65754D01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35800-689E-40AE-8530-5E33AB0B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763-0736-4DEF-A107-D3AFFE20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E63CB-0CA6-4696-A19C-0AB81241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69E29-50CF-4E13-ABBD-8B1D724B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7C22A-7D94-4B18-A56C-89B3C76F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29A40-EB0B-4095-8A81-97E795A7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C04F2-8570-4CEE-9E5A-0D088903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9DB8F-FFAD-4831-8C75-4640F7DF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CB118-AE58-40D8-9289-FBC88385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EA876-4B46-4CC1-8298-19E76150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587A5-2E79-4E2B-936E-9726069F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C2ED8-9377-43D2-AAD0-D8AA5BB3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C80-F2D9-4063-A929-D7BF9AC2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A61A3-70D7-4C24-8FFD-44917871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9B66A-A0A5-40B4-AAF5-B003B596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99322-6F77-4C81-8E98-7AF3EF21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33231-1F15-458C-98F1-89B7450E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7E509-434C-49A1-9540-FB4EE3D0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19EA9-A014-4EA3-A2B8-4F11D951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60EC4-21DB-4E80-BB9A-5E2B1184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D0870-DE19-4FA4-8730-0CCBBEF7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839D6-A9A4-45FC-A1D0-4DB7C0A6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8DF48-7702-48D5-9BBC-1BF462AC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EFF4-0134-45B8-879D-69CA4C88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1F9EE-26A0-4DFA-802F-862C05EE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B7CFD-9D47-4009-A92B-2D887835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AD89B-59C2-4B32-B2CE-70B22C85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2B3B8-0B9E-454E-90F7-B8C16A1C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C8E83-69FB-45EF-85A3-1BDEB2C2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06A-AB72-459E-ADA2-2942BF38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03E1-E772-4D6B-BCCB-5B2BEC7AE1EB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A264-9BA9-489A-8DEF-DD84AABAAA02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A674-6B22-497C-9860-1E4713923212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68E6-AA44-4DA4-95A2-47CCE2ABD8AE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77DD-6D81-4534-9B16-968DDF570F48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4C51-26AC-4475-913D-921DB82CE267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BA51-2B01-481F-984F-26EB62ABE433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5560" y="1484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RESCAP-MED Capacity Development Workshop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Health Policy Evaluatio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Amman, Jorda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3-6 June 2013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55560" y="3933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5" descr="http://research.ncl.ac.uk/media/sites/researchwebsites/rescapmed/EUlogo.jpg"/>
          <p:cNvPicPr/>
          <p:nvPr/>
        </p:nvPicPr>
        <p:blipFill>
          <a:blip r:embed="rId1"/>
          <a:stretch/>
        </p:blipFill>
        <p:spPr>
          <a:xfrm>
            <a:off x="262080" y="244440"/>
            <a:ext cx="811080" cy="530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http://research.ncl.ac.uk/media/sites/researchwebsites/rescapmed/FP7logo2.jpg"/>
          <p:cNvPicPr/>
          <p:nvPr/>
        </p:nvPicPr>
        <p:blipFill>
          <a:blip r:embed="rId2"/>
          <a:stretch/>
        </p:blipFill>
        <p:spPr>
          <a:xfrm>
            <a:off x="1073160" y="243000"/>
            <a:ext cx="695160" cy="530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3"/>
          <a:stretch/>
        </p:blipFill>
        <p:spPr>
          <a:xfrm>
            <a:off x="6732720" y="243000"/>
            <a:ext cx="2187360" cy="871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newcastle_master_col"/>
          <p:cNvPicPr/>
          <p:nvPr/>
        </p:nvPicPr>
        <p:blipFill>
          <a:blip r:embed="rId4"/>
          <a:stretch/>
        </p:blipFill>
        <p:spPr>
          <a:xfrm>
            <a:off x="365040" y="5732640"/>
            <a:ext cx="28069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basic concepts of health policy making and implementation proces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identify and analyse different stakeholders in policy making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health policy making in the globalizing world and the role of national and international players in the proces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cultural aspects of health and health polic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describe the health policy analysis framework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Understand the challenges of health policy implementatio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Compare health policy situation between different developing countries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ndara"/>
              </a:rPr>
              <a:t>Learning objectives of the worksho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: Basic Concep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genda setting proces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keholder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globalizing world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ulturally competent health policy: Developing country contex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context of political crisi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Role of research in 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Analysis Framewor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ase Studie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Palestin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Syri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Jord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Implementation: Experiences from Jorda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brief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anel Discussion and Q &amp; 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Group reading of selected health policy evaluation pap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resentations of the group reading and Q&amp;A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losing remarks and Evaluation of the worksho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4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hahaduz Zaman, 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otasem Hamdan, Palestine, Al-Quds Universit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bdullatif Husseini, Palestine, Birzeit Universit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Fouad Fouad, Syria, American University of Beirut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73e87"/>
                </a:solidFill>
                <a:latin typeface="Candara"/>
              </a:rPr>
              <a:t>Yousef Khader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, 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usa Ajlouni, 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Riyad Amin Okour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Jamal Abu Saif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Facilitator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rt on time—End on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aintain a flexible, responsive schedul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nly one person talks at a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y question is a good ques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ell phones are turned off during sess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ome group norm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Enjoy the workshop 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10:17:01Z</dcterms:created>
  <dc:creator>nsz4</dc:creator>
  <dc:description/>
  <dc:language>en-US</dc:language>
  <cp:lastModifiedBy>User</cp:lastModifiedBy>
  <dcterms:modified xsi:type="dcterms:W3CDTF">2013-05-31T23:41:13Z</dcterms:modified>
  <cp:revision>8</cp:revision>
  <dc:subject/>
  <dc:title>PowerPoint Presentation</dc:title>
</cp:coreProperties>
</file>