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BF56-A117-4C7C-B7DE-53259307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64A6-3849-4F95-9066-F617C284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49E-2987-42B2-8FA3-C66C8C2E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E5C-80D5-496B-A3A1-7F95ED99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7D05-2098-4685-9FE7-F2C84C70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A74A-212B-4642-B5B9-C7DBD8CF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CEE8-B63D-4C84-88CC-91B3CC29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931A-D204-4B9F-B9EC-9F4E4A38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E125-290A-47F3-8926-B482B6CA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5396-B342-41AB-BB09-C69E281D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949E-DB4D-4260-A206-F8040399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374-C5A5-434E-9D27-7C8DF198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B347-F14D-4A3C-B351-72672CE4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66B8-8684-4084-AC51-A8B29B24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C78F-E56A-4BC7-9323-67F205A3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DE69-4510-4A26-94AE-49EC1427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2351-2E23-41F3-9799-E0124614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12D25-1BAA-4CBC-8CA8-47588DF4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03205-F0E9-4724-A6F2-B3AE5CE1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A48CD-E9DD-4E8C-B4CE-95568141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AA2D7-3E39-49E0-BC69-26E7DB66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081A0-34B0-477F-976B-755D728C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D2A-F5D1-48A9-945B-69986F93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B1D66-420F-4108-BF45-07D2E8DE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B04D8-8CA2-415A-83D8-31862D42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B44C-3268-43EA-9000-025DDEB0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388E8-8EB6-47C8-9667-311EB662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6AE8E-A825-44E5-A971-5592B478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12CFF-3753-4D27-9295-54E90CA3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C8FA6-53C4-4292-B8EE-79E697B8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C8163-ABFA-4193-84E2-B49BBE39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AC732-C23F-456A-A089-D4E5ED81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4FECE-98B6-413C-AF97-678C6999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7D4C-628F-4E24-8040-6983D10F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5ACD9-FEEE-4C5B-BE8A-5DB02084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A3187-CC97-448A-9A08-19258663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63742-D956-4C14-97B0-E29F1075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32B1D-E0DF-424D-95BC-352ED3AA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9DC3D-5D08-4DB5-BEF6-473329E3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8876B-FCE7-4B76-91A1-84FB1D0A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6D7DA-765F-456E-832D-1BD3BB68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32E3A-CB7F-4D38-92D1-24AB3A8E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32A22-01CF-41BB-BE20-FDD1CB9A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BA86C-27BB-455B-9903-223A2B45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152-5C1D-43B4-8F4D-ED5968F8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7CAE7-4B03-40B1-8F91-70B6B869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0D902-D8DC-4F6D-94C6-58C31136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16DEF-0A40-4D75-97B5-1027469F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2F707-7F06-4DB1-8313-F150E0E7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C1FB9-7B41-43C0-ACAC-0F4C6105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2D9F3-1B2B-4EDA-B1DD-8F97D459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E80D4-6916-4EDA-A0FB-08EA5AF4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33D6F-3D8C-41AE-9445-CD168476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05113-1C11-4FD8-9418-D9C87DEE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D0715-C08D-4676-8297-3533D7B4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1A79-808C-448C-9B03-68142F92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F2489-A9DF-471C-8B40-84B3EF51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E2F33-6A40-4612-9FCF-31A0DE29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D94AD-AC16-45D4-8E79-6E5E9053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86E87-7B66-4E40-89C3-EA7BA40D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08F0E-2CAF-4D55-BD68-8CFA9932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36153-D891-437B-94A1-BACCDB62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B8BCB-6376-426A-8ADB-14013001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31A67-9434-41CA-BA6A-031F0CF4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0A0BF-73C2-4FAE-B9EB-1851BDAD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650EA-1E0F-46FB-8E90-022FF60F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828-7D4D-47AA-BC18-8BF8DF04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A3204-98A5-4FDD-8149-5D28DFAB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9FADB-E972-4880-A547-BD51AD7F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F13AA-BFD7-4178-99FD-153B331D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38C55-D151-4191-9E16-B078F19B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427BA-C2AC-4AD5-8635-E6295DE2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89BDA-E9D1-4E94-A9C1-5518561B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63C96-1D9B-46E0-98C2-28356DFB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5B746-011C-4BA4-852A-5B1CB87C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F3AE6-A8CF-468E-AC54-F6172CC4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B6859-90BE-45B0-9228-1268ED21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2499-C75B-40D3-AB87-8CF2ACD9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7025F-1006-48B6-A7BF-2C505502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FCF1A-9841-4AB1-AB98-1DAF2772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82D24-B87F-4755-BF91-6C2EF4A7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0CAA0-00FB-486F-8234-589F8B40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7D88E-4E89-46D8-8D67-3380BEC4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FFA-3AA0-43F2-8DB5-7D855C6B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6025-A041-42A1-9CF2-7436E7673FB8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F71A-F1F6-48E8-A2F4-A754D23152D4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9F73-375B-472D-B9B8-736E76C74ADB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A26C-4736-48E0-BE25-A0E32D793882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CCF2-5B6F-4854-845D-D5FB03A8779C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B7E6-6199-4B6B-B548-0414D008541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1F98-EC91-462D-A8A4-759036026706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5560" y="1484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RESCAP-MED Capacity Development Workshop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Health Policy Evaluatio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Amman, Jorda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3-6 June 2013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55560" y="3933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5" descr="http://research.ncl.ac.uk/media/sites/researchwebsites/rescapmed/EUlogo.jpg"/>
          <p:cNvPicPr/>
          <p:nvPr/>
        </p:nvPicPr>
        <p:blipFill>
          <a:blip r:embed="rId1"/>
          <a:stretch/>
        </p:blipFill>
        <p:spPr>
          <a:xfrm>
            <a:off x="262080" y="244440"/>
            <a:ext cx="811080" cy="530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http://research.ncl.ac.uk/media/sites/researchwebsites/rescapmed/FP7logo2.jpg"/>
          <p:cNvPicPr/>
          <p:nvPr/>
        </p:nvPicPr>
        <p:blipFill>
          <a:blip r:embed="rId2"/>
          <a:stretch/>
        </p:blipFill>
        <p:spPr>
          <a:xfrm>
            <a:off x="1073160" y="243000"/>
            <a:ext cx="695160" cy="530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3"/>
          <a:stretch/>
        </p:blipFill>
        <p:spPr>
          <a:xfrm>
            <a:off x="6732720" y="243000"/>
            <a:ext cx="2187360" cy="871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newcastle_master_col"/>
          <p:cNvPicPr/>
          <p:nvPr/>
        </p:nvPicPr>
        <p:blipFill>
          <a:blip r:embed="rId4"/>
          <a:stretch/>
        </p:blipFill>
        <p:spPr>
          <a:xfrm>
            <a:off x="365040" y="5732640"/>
            <a:ext cx="28069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basic concepts of health policy making and implementation proces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identify and analyse different stakeholders in policy making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health policy making in the globalizing world and the role of national and international players in the proces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cultural aspects of health and health polic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describe the health policy analysis framework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Understand the challenges of health policy implementatio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Compare health policy situation between different developing countries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ndara"/>
              </a:rPr>
              <a:t>Learning objectives of the worksho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: Basic Concep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genda setting proces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keholder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globalizing world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ulturally competent health policy: Developing country contex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context of political crisi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Role of research in 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Analysis Framewor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ase Studie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Palestin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Syri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Jord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Implementation: Experiences from Jorda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brief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anel Discussion and Q &amp; 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r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Group reading of selected health policy evaluation pap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resentations of the group reading and Q&amp;A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losing remarks and Evaluation of the worksho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4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hahaduz Zaman, 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otasem Hamdan, Palestine, Al-Quds Universit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bdullatif Husseini, Palestine, Birzeit Universit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Fouad Fouad, Syria, American University of Beirut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73e87"/>
                </a:solidFill>
                <a:latin typeface="Candara"/>
              </a:rPr>
              <a:t>Yousef Khader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, 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usa Ajlouni, 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Riyad Amin Okour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Jamal Abu Saif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Facilitator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rt on time—End on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aintain a flexible, responsive schedul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nly one person talks at a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y question is a good ques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ell phones are turned off during session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ome group norm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Enjoy the workshop 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10:17:01Z</dcterms:created>
  <dc:creator>nsz4</dc:creator>
  <dc:description/>
  <dc:language>en-US</dc:language>
  <cp:lastModifiedBy>User</cp:lastModifiedBy>
  <dcterms:modified xsi:type="dcterms:W3CDTF">2013-05-31T23:41:13Z</dcterms:modified>
  <cp:revision>8</cp:revision>
  <dc:subject/>
  <dc:title>PowerPoint Presentation</dc:title>
</cp:coreProperties>
</file>