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9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4D79D-E052-4B14-B7CF-97E35200D66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icture: Birzeit University, Palest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ealth beliefs: how patients access services, participate in treatment decisions and their social context all influence the management of chronic conditions and are important for health outcomes (Saks &amp; Allsop 2007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review of the relevant literature is also being undertaken, to set the context for this piece of work re: the health policy, health interventions and epidemiological work in the 4 partner countries plus Egypt, Jordan, Algeria and Morocc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CE399-8CB9-4A12-9614-E0C70B9D9E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A3682-0836-4E59-B3E5-9C09FC08B47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FFBA-77A9-4215-AEB1-DF9B599C0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838A-9924-4374-ADBB-0BAD70FBC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DA58-1D0F-407A-83AA-D24A98994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AE3A-62C5-40EB-A21C-580805930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CC5FE-511E-430F-A6E5-42B193C0A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4AF81-781C-4111-A489-2DAEA2C13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4803B-54D2-4350-8AB0-9C64F8B33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EF129-BCB9-43B4-B116-CD512C7C4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7FC2F-BB63-4411-8230-303729000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8C755-F187-4B9F-B7D6-96F1C3210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92B00-F836-48D4-B9DA-2010C8BD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C2EC-94BD-4ABA-A6D2-C531826F6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5EC15-71B3-4DA7-BDB0-3D1DB966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12848-F7A1-491A-80CD-6420FC90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20222-733F-478B-B601-E27FBBC08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6A259-53A4-483C-BD61-BD42A243A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D9742-384A-46CD-868A-44AB9F394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6E436-2FD9-416F-9FBE-59D72A329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09E97-C52E-4D54-9CEB-52827660B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773D3-E40E-4DAD-A9D5-408DC9422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C293F-ACE0-4B9B-8072-BAAB1E2FF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4586D-4A5D-45CC-A666-87856B6B4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1FDA-83A4-4DD8-B5CC-25DB5052D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261DE-12E3-456D-8E3B-5EE07DF95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D22FA-27A3-4FD1-AB6E-9DFE7891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1AAF4-F2BD-4336-8E73-6C36BDBF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C62F4-3DD1-41A7-A842-C393872B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17235-DBD8-4A87-8DA5-8D44E762D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90AC2-B6F7-4178-B275-F6496EC45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80911-8122-460E-BAE9-70DA5B2EC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67C13-2794-4E68-BC0F-9677F9891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D7D13-4E92-4243-83EA-3614A897B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C6D53-A677-49A7-9F84-9B85A2B14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F986-21AA-48C1-9A3D-348AC8450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76DBB-39C1-4204-92EE-A14909997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908C1-F68A-4E2B-9338-FBDCE3297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9E111-7C9C-4A27-9F59-FB9E9C7DB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42352-06ED-43A7-944D-01665092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A0B0F-C7BD-43DE-8E22-F5C1D073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4BB7B-B1E7-419B-93FD-5D770119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078CF-0A58-40C4-92AF-1945D8D6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98D50-7666-4DE7-9334-8668FB0E3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A632C-1F12-40FC-92D8-A5C89F141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5F42B-8E88-4DBB-BB34-C1DBB1CC4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CAEC-691A-4FBC-BA43-7C7B0E214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E2524-6BE8-48BA-A003-019540398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5C570-4AF1-40E8-A8EC-085AED651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75BE7-4F29-462D-8C9D-2DB76E4B5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CC56F-FEEB-4329-9ADA-08B14C5E1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25401-F5EB-4532-94C8-8CD4564EC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19F73-BC59-421E-8EF3-A776127F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0C01A-C546-42F8-B0AB-EEE002D8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8F8EE-8D95-4844-89D2-5CF69961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A9CB1-41D4-4EFC-A9DF-F9260BCF5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24FCD-2E1B-42F6-953D-86A798BDA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E2EC-AF73-4D46-8B94-1C5805916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B3180-7FFF-4350-A913-2A9D290C5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B1D50-DFEA-4FE3-B7D2-191B425E7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8E2C0-C0CD-41B0-B883-760244251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BAB72-40CF-4FB3-8D5C-42DB98939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127ECD-2344-4E75-A968-7D3D907AA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7178D-C2B1-450E-ABBD-C91FB7CAE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C9AC4-B6B9-4F8B-8516-306A8F6A9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DBA4A-243E-48B1-975F-2105A87A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2843B-ABB9-4F70-8B2B-6336CAE2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1FCAE-5EAB-4700-94B6-11D8BE05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4091-CB52-4431-99C8-4ED38866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7E9D6-067A-4642-A730-DA32C672F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AAD595-43BB-4881-B825-E96C5D91D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DC03FE-542A-41B3-81A7-E6F876956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6B4DCD-87E7-4BCD-9C2A-96468E731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576975-8923-4398-9573-2C739AA72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795F24-E9C6-41C9-9234-628620CB3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77C875-B44A-4F15-AE7E-C4AE4347C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E444DD-7FE4-46FA-A030-0ADD98313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82CAE-49B1-488A-95B0-230617BBE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C84E38-CC7A-4410-A786-7B275FD1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E564-CEF6-4939-9033-77E2FEA3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EE4F1A-9638-472A-B204-E5225889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CD69D2-DAF5-49B0-B69C-D6342C5C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319001-1DF6-4323-B1D5-740303913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8C2D5-2460-48A4-9D90-0D93190D1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EE04F-51E9-4D56-93AE-7BD307F6B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63AF-B448-4BAA-A6F3-292D475A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E9E8B-0E35-430D-98B1-D2C2BB31E31D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9945-734E-4CA9-8346-81E24CA37C8A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4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14D4B-894E-491D-99AA-8089446EB763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Group 1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25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1EC34-EA42-416B-9120-3555B244B47F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DD798-AD26-4323-AAE4-1347871F9934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" name="Group 15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2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03276-C2D5-4D18-B82E-AFE7FF5A7170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8" name="Group 15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F2AFC-770E-49B0-8595-9C0C7F1BBAFA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ndara"/>
              </a:rPr>
              <a:t>Health Policy Analysis Conceptual Framework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ndara"/>
              </a:rPr>
              <a:t>Shahaduz Zaman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ndara"/>
              </a:rPr>
              <a:t>Newcastle University, UK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Diagram 1" descr=""/>
          <p:cNvPicPr/>
          <p:nvPr/>
        </p:nvPicPr>
        <p:blipFill>
          <a:blip r:embed="rId1"/>
          <a:stretch/>
        </p:blipFill>
        <p:spPr>
          <a:xfrm>
            <a:off x="0" y="109440"/>
            <a:ext cx="9034560" cy="657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Diagram 1" descr=""/>
          <p:cNvPicPr/>
          <p:nvPr/>
        </p:nvPicPr>
        <p:blipFill>
          <a:blip r:embed="rId1"/>
          <a:stretch/>
        </p:blipFill>
        <p:spPr>
          <a:xfrm>
            <a:off x="109440" y="189000"/>
            <a:ext cx="87854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Diagram 1" descr=""/>
          <p:cNvPicPr/>
          <p:nvPr/>
        </p:nvPicPr>
        <p:blipFill>
          <a:blip r:embed="rId1"/>
          <a:stretch/>
        </p:blipFill>
        <p:spPr>
          <a:xfrm>
            <a:off x="176040" y="255600"/>
            <a:ext cx="864396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Diagram 1" descr=""/>
          <p:cNvPicPr/>
          <p:nvPr/>
        </p:nvPicPr>
        <p:blipFill>
          <a:blip r:embed="rId1"/>
          <a:stretch/>
        </p:blipFill>
        <p:spPr>
          <a:xfrm>
            <a:off x="23760" y="0"/>
            <a:ext cx="9144000" cy="66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An Example of using Policy triangle framework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Mediterranean studies of Cardiovascular diseases and Hyperglycaemia: analytical Modelling of Population Socio-economic transitions </a:t>
            </a:r>
            <a:r>
              <a:rPr b="0" i="1" lang="en-GB" sz="2400" spc="-1" strike="noStrike">
                <a:solidFill>
                  <a:srgbClr val="ff0000"/>
                </a:solidFill>
                <a:latin typeface="Candara"/>
              </a:rPr>
              <a:t>(MEDCHAMPS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73e87"/>
                </a:solidFill>
                <a:latin typeface="Candara"/>
              </a:rPr>
              <a:t>Developing a CVD and diabetes model for use within the project countries, in order to explain trends and predict likely future impact of diseases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73e87"/>
                </a:solidFill>
                <a:latin typeface="Candara"/>
              </a:rPr>
              <a:t>Defining the national policy context and characterising the health system for developing  policy options 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MEDCHAMPS objectives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http://www.birzeit.edu/files/la/17240/pic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125280" y="-200160"/>
            <a:ext cx="9262800" cy="70581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ndara"/>
              </a:rPr>
              <a:t>Situation analysis (1)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1" name="TextBox 3"/>
          <p:cNvSpPr/>
          <p:nvPr/>
        </p:nvSpPr>
        <p:spPr>
          <a:xfrm>
            <a:off x="5334120" y="4068720"/>
            <a:ext cx="16761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Barri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TextBox 4"/>
          <p:cNvSpPr/>
          <p:nvPr/>
        </p:nvSpPr>
        <p:spPr>
          <a:xfrm>
            <a:off x="1600200" y="3429000"/>
            <a:ext cx="1143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Health servi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TextBox 5"/>
          <p:cNvSpPr/>
          <p:nvPr/>
        </p:nvSpPr>
        <p:spPr>
          <a:xfrm>
            <a:off x="1600200" y="4383000"/>
            <a:ext cx="1143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Health belief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TextBox 6"/>
          <p:cNvSpPr/>
          <p:nvPr/>
        </p:nvSpPr>
        <p:spPr>
          <a:xfrm>
            <a:off x="5181480" y="2279520"/>
            <a:ext cx="19051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Health outcom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TextBox 7"/>
          <p:cNvSpPr/>
          <p:nvPr/>
        </p:nvSpPr>
        <p:spPr>
          <a:xfrm>
            <a:off x="3581280" y="2286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99"/>
                </a:solidFill>
                <a:latin typeface="Arial"/>
              </a:rPr>
              <a:t>influ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TextBox 8"/>
          <p:cNvSpPr/>
          <p:nvPr/>
        </p:nvSpPr>
        <p:spPr>
          <a:xfrm>
            <a:off x="3352680" y="3800520"/>
            <a:ext cx="16002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99"/>
                </a:solidFill>
                <a:latin typeface="Arial"/>
              </a:rPr>
              <a:t>Qualitative data from key stakehold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TextBox 9"/>
          <p:cNvSpPr/>
          <p:nvPr/>
        </p:nvSpPr>
        <p:spPr>
          <a:xfrm>
            <a:off x="5334120" y="3429000"/>
            <a:ext cx="16761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Gap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TextBox 10"/>
          <p:cNvSpPr/>
          <p:nvPr/>
        </p:nvSpPr>
        <p:spPr>
          <a:xfrm>
            <a:off x="1600200" y="2478240"/>
            <a:ext cx="1143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Health polic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TextBox 11"/>
          <p:cNvSpPr/>
          <p:nvPr/>
        </p:nvSpPr>
        <p:spPr>
          <a:xfrm>
            <a:off x="5334120" y="4724280"/>
            <a:ext cx="16761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Opportunities for implementing chan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TextBox 12"/>
          <p:cNvSpPr/>
          <p:nvPr/>
        </p:nvSpPr>
        <p:spPr>
          <a:xfrm>
            <a:off x="7391520" y="3790800"/>
            <a:ext cx="152388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99"/>
                </a:solidFill>
                <a:latin typeface="Arial"/>
              </a:rPr>
              <a:t>Informs policy op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TextBox 13"/>
          <p:cNvSpPr/>
          <p:nvPr/>
        </p:nvSpPr>
        <p:spPr>
          <a:xfrm>
            <a:off x="152280" y="3429000"/>
            <a:ext cx="1143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99"/>
                </a:solidFill>
                <a:latin typeface="Arial"/>
              </a:rPr>
              <a:t>Analysis of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Left Brace 15"/>
          <p:cNvSpPr/>
          <p:nvPr/>
        </p:nvSpPr>
        <p:spPr>
          <a:xfrm>
            <a:off x="1295280" y="2819520"/>
            <a:ext cx="304920" cy="1904760"/>
          </a:xfrm>
          <a:custGeom>
            <a:avLst/>
            <a:gdLst>
              <a:gd name="textAreaLeft" fmla="*/ 194760 w 304920"/>
              <a:gd name="textAreaRight" fmla="*/ 305280 w 304920"/>
              <a:gd name="textAreaTop" fmla="*/ 7920 h 1904760"/>
              <a:gd name="textAreaBottom" fmla="*/ 1896840 h 190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4"/>
                  <a:pt x="10800" y="288"/>
                </a:cubicBezTo>
                <a:lnTo>
                  <a:pt x="10800" y="10512"/>
                </a:lnTo>
                <a:cubicBezTo>
                  <a:pt x="10800" y="10656"/>
                  <a:pt x="5400" y="10800"/>
                  <a:pt x="0" y="10800"/>
                </a:cubicBezTo>
                <a:cubicBezTo>
                  <a:pt x="5400" y="10800"/>
                  <a:pt x="10800" y="10944"/>
                  <a:pt x="10800" y="11088"/>
                </a:cubicBezTo>
                <a:lnTo>
                  <a:pt x="10800" y="21312"/>
                </a:lnTo>
                <a:cubicBezTo>
                  <a:pt x="10800" y="2145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83" name="Straight Arrow Connector 17"/>
          <p:cNvCxnSpPr>
            <a:endCxn id="375" idx="1"/>
          </p:cNvCxnSpPr>
          <p:nvPr/>
        </p:nvCxnSpPr>
        <p:spPr>
          <a:xfrm flipV="1">
            <a:off x="3047760" y="2469600"/>
            <a:ext cx="533880" cy="4258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384" name="Straight Arrow Connector 20"/>
          <p:cNvCxnSpPr>
            <a:stCxn id="375" idx="3"/>
            <a:endCxn id="374" idx="1"/>
          </p:cNvCxnSpPr>
          <p:nvPr/>
        </p:nvCxnSpPr>
        <p:spPr>
          <a:xfrm flipV="1">
            <a:off x="4724280" y="2463480"/>
            <a:ext cx="457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5" name="Elbow Connector 25"/>
          <p:cNvCxnSpPr>
            <a:stCxn id="376" idx="3"/>
            <a:endCxn id="379" idx="1"/>
          </p:cNvCxnSpPr>
          <p:nvPr/>
        </p:nvCxnSpPr>
        <p:spPr>
          <a:xfrm>
            <a:off x="4952520" y="4262400"/>
            <a:ext cx="381960" cy="1062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6" name="Elbow Connector 28"/>
          <p:cNvCxnSpPr>
            <a:stCxn id="376" idx="3"/>
            <a:endCxn id="377" idx="1"/>
          </p:cNvCxnSpPr>
          <p:nvPr/>
        </p:nvCxnSpPr>
        <p:spPr>
          <a:xfrm flipV="1">
            <a:off x="4952520" y="3612600"/>
            <a:ext cx="381960" cy="649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7" name="Elbow Connector 31"/>
          <p:cNvCxnSpPr/>
          <p:nvPr/>
        </p:nvCxnSpPr>
        <p:spPr>
          <a:xfrm flipV="1">
            <a:off x="4952520" y="4242600"/>
            <a:ext cx="381960" cy="104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8" name="Elbow Connector 34"/>
          <p:cNvCxnSpPr>
            <a:stCxn id="377" idx="3"/>
            <a:endCxn id="380" idx="1"/>
          </p:cNvCxnSpPr>
          <p:nvPr/>
        </p:nvCxnSpPr>
        <p:spPr>
          <a:xfrm>
            <a:off x="7009920" y="3612960"/>
            <a:ext cx="381960" cy="6404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9" name="Elbow Connector 37"/>
          <p:cNvCxnSpPr>
            <a:stCxn id="379" idx="3"/>
            <a:endCxn id="380" idx="1"/>
          </p:cNvCxnSpPr>
          <p:nvPr/>
        </p:nvCxnSpPr>
        <p:spPr>
          <a:xfrm flipV="1">
            <a:off x="7009920" y="4252680"/>
            <a:ext cx="381960" cy="1072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0" name="Elbow Connector 40"/>
          <p:cNvCxnSpPr>
            <a:stCxn id="371" idx="3"/>
            <a:endCxn id="380" idx="1"/>
          </p:cNvCxnSpPr>
          <p:nvPr/>
        </p:nvCxnSpPr>
        <p:spPr>
          <a:xfrm flipV="1">
            <a:off x="7009920" y="4252320"/>
            <a:ext cx="381960" cy="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1" name="Elbow Connector 46"/>
          <p:cNvCxnSpPr>
            <a:stCxn id="378" idx="3"/>
            <a:endCxn id="376" idx="1"/>
          </p:cNvCxnSpPr>
          <p:nvPr/>
        </p:nvCxnSpPr>
        <p:spPr>
          <a:xfrm>
            <a:off x="2742840" y="2800080"/>
            <a:ext cx="610200" cy="1462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2" name="Elbow Connector 49"/>
          <p:cNvCxnSpPr>
            <a:stCxn id="373" idx="3"/>
            <a:endCxn id="376" idx="1"/>
          </p:cNvCxnSpPr>
          <p:nvPr/>
        </p:nvCxnSpPr>
        <p:spPr>
          <a:xfrm flipV="1">
            <a:off x="2742840" y="4262040"/>
            <a:ext cx="610200" cy="443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3" name="Elbow Connector 53"/>
          <p:cNvCxnSpPr>
            <a:stCxn id="372" idx="3"/>
            <a:endCxn id="376" idx="1"/>
          </p:cNvCxnSpPr>
          <p:nvPr/>
        </p:nvCxnSpPr>
        <p:spPr>
          <a:xfrm>
            <a:off x="2742840" y="3752640"/>
            <a:ext cx="610200" cy="510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94" name="Title 1"/>
          <p:cNvSpPr/>
          <p:nvPr/>
        </p:nvSpPr>
        <p:spPr>
          <a:xfrm>
            <a:off x="457200" y="838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Arial"/>
              </a:rPr>
              <a:t>Translating recommended interventions to different cultural sett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Objectives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35680" indent="-25380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73e87"/>
                </a:solidFill>
                <a:latin typeface="Candara"/>
              </a:rPr>
              <a:t>Using established schematic frameworks of potentially effective policy measures and health system interventions for the prevention of CVD and Type 2 diabetes in order to guide data collection and analysis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35680" indent="-253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35680" indent="-25380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73e87"/>
                </a:solidFill>
                <a:latin typeface="Candara"/>
              </a:rPr>
              <a:t>Identify, collating and systematically reviewing all relevant documentary materials on policies and health services provision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National situation analysis of current policy and health systems context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535680" indent="-2538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35680" indent="-2538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73e87"/>
                </a:solidFill>
                <a:latin typeface="Candara"/>
              </a:rPr>
              <a:t>Exploring perception and knowledge of relevant national policies through interviews with key informant from relevant organisations, including government, the health sector, private sector and non governmental organizations (including patient group)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35680" indent="-2538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35680" indent="-2538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73e87"/>
                </a:solidFill>
                <a:latin typeface="Candara"/>
              </a:rPr>
              <a:t>Exploring health beliefs with potential target groups, and determining whether these differ by population group.  Including by gender and socio economic group.   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Content Placeholder 3" descr=""/>
          <p:cNvPicPr/>
          <p:nvPr/>
        </p:nvPicPr>
        <p:blipFill>
          <a:blip r:embed="rId1"/>
          <a:stretch/>
        </p:blipFill>
        <p:spPr>
          <a:xfrm>
            <a:off x="324000" y="2676600"/>
            <a:ext cx="8648640" cy="344952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00"/>
                </a:solidFill>
                <a:latin typeface="Candara"/>
              </a:rPr>
              <a:t>What does a health policy analysis involve?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A. Situation analyses of current policy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73e87"/>
                </a:solidFill>
                <a:latin typeface="Candara"/>
              </a:rPr>
              <a:t>National/Regional/District overview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B. Health system contexts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73e87"/>
                </a:solidFill>
                <a:latin typeface="Candara"/>
              </a:rPr>
              <a:t>Local orientation alongside the national orientation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ndara"/>
              </a:rPr>
              <a:t>Two focuses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Candara"/>
              </a:rPr>
              <a:t>The project therefore envisages appraising existing situations in partner countries on three different levels:</a:t>
            </a:r>
            <a:br>
              <a:rPr sz="2500"/>
            </a:br>
            <a:endParaRPr b="0" lang="en-US" sz="25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03" name="Diagram 2" descr=""/>
          <p:cNvPicPr/>
          <p:nvPr/>
        </p:nvPicPr>
        <p:blipFill>
          <a:blip r:embed="rId1"/>
          <a:stretch/>
        </p:blipFill>
        <p:spPr>
          <a:xfrm>
            <a:off x="66600" y="1395360"/>
            <a:ext cx="908388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Content Placeholder 3" descr=""/>
          <p:cNvPicPr/>
          <p:nvPr/>
        </p:nvPicPr>
        <p:blipFill>
          <a:blip r:embed="rId1"/>
          <a:stretch/>
        </p:blipFill>
        <p:spPr>
          <a:xfrm>
            <a:off x="804960" y="2651040"/>
            <a:ext cx="7480080" cy="348156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ndara"/>
              </a:rPr>
              <a:t>Level 1: Situation on the level of conceptualization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Diagram 1" descr=""/>
          <p:cNvPicPr/>
          <p:nvPr/>
        </p:nvPicPr>
        <p:blipFill>
          <a:blip r:embed="rId1"/>
          <a:stretch/>
        </p:blipFill>
        <p:spPr>
          <a:xfrm>
            <a:off x="249120" y="1908000"/>
            <a:ext cx="8723520" cy="36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871560" y="2349360"/>
            <a:ext cx="74088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73e87"/>
                </a:solidFill>
                <a:latin typeface="Candara"/>
              </a:rPr>
              <a:t>Documentary materials on national policies, strategies, health systems and  financing concerning CVD and diabetes, including policy relevant to smoking, diet, physical activity and alcohol use. 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73e87"/>
                </a:solidFill>
                <a:latin typeface="Candara"/>
              </a:rPr>
              <a:t>Relevant documents on pricing and taxation, agricultural and transport policies. 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73e87"/>
                </a:solidFill>
                <a:latin typeface="Candara"/>
              </a:rPr>
              <a:t>Documentary materials on policies regarding national and local health service provisions, prescribing , prevention and risk factor management. 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73e87"/>
                </a:solidFill>
                <a:latin typeface="Candara"/>
              </a:rPr>
              <a:t>National and international guidelines on policy measures and health care structures and interventions developed by WHO, World Bank, World Heart Foundation, International Diabetes Care Interventions.  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Method:    Document analysi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ndara"/>
              </a:rPr>
              <a:t>Source of information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Content Placeholder 3" descr=""/>
          <p:cNvPicPr/>
          <p:nvPr/>
        </p:nvPicPr>
        <p:blipFill>
          <a:blip r:embed="rId1"/>
          <a:stretch/>
        </p:blipFill>
        <p:spPr>
          <a:xfrm>
            <a:off x="804960" y="2651040"/>
            <a:ext cx="7547040" cy="347508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ndara"/>
              </a:rPr>
              <a:t>Level 2: Situation on the level of Awareness and Commitment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Implementers and practitioners from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Government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Private sector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NGOs at national, regional, provincial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Community level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Method:    Key informant interview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ndara"/>
              </a:rPr>
              <a:t>Source of information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Content Placeholder 3" descr=""/>
          <p:cNvPicPr/>
          <p:nvPr/>
        </p:nvPicPr>
        <p:blipFill>
          <a:blip r:embed="rId1"/>
          <a:stretch/>
        </p:blipFill>
        <p:spPr>
          <a:xfrm>
            <a:off x="804960" y="2651040"/>
            <a:ext cx="7480080" cy="353700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ndara"/>
              </a:rPr>
              <a:t>Level 3: Situation on the level of practice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Patients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Care givers, medical practitioners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Accessed through sample of health care facilities in (a) urban and (b) rural settings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Method : In depth interviews, Illness narratives, Observations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ndara"/>
              </a:rPr>
              <a:t>Source of information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73e87"/>
                </a:solidFill>
                <a:latin typeface="Candara"/>
              </a:rPr>
              <a:t>Merson, M., Black, R., Mills, A. (Eds) (2012) Global Health: Diseases, Programs, Systems and Policies.  London: Jones &amp; Bartlett Publisher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73e87"/>
                </a:solidFill>
                <a:latin typeface="Candara"/>
              </a:rPr>
              <a:t>Ostrom, E. (2007) Institutional rational choice: as assessment of the institutional analysis and development framework. In Sabatier PA (ed) </a:t>
            </a:r>
            <a:r>
              <a:rPr b="0" i="1" lang="en-GB" sz="1800" spc="-1" strike="noStrike">
                <a:solidFill>
                  <a:srgbClr val="073e87"/>
                </a:solidFill>
                <a:latin typeface="Candara"/>
              </a:rPr>
              <a:t>Theories of the policy process</a:t>
            </a:r>
            <a:r>
              <a:rPr b="0" lang="en-GB" sz="1800" spc="-1" strike="noStrike">
                <a:solidFill>
                  <a:srgbClr val="073e87"/>
                </a:solidFill>
                <a:latin typeface="Candara"/>
              </a:rPr>
              <a:t>. Boulder, CO Westview Press pp 21-64. 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73e87"/>
                </a:solidFill>
                <a:latin typeface="Candara"/>
              </a:rPr>
              <a:t>Walt, G. et al.  (2008) Doing’ health policy analysis: methodological and conceptual reflections and challenges.  </a:t>
            </a:r>
            <a:r>
              <a:rPr b="0" i="1" lang="en-GB" sz="1800" spc="-1" strike="noStrike">
                <a:solidFill>
                  <a:srgbClr val="073e87"/>
                </a:solidFill>
                <a:latin typeface="Candara"/>
              </a:rPr>
              <a:t>Health Policy and Planning </a:t>
            </a:r>
            <a:r>
              <a:rPr b="0" lang="en-GB" sz="1800" spc="-1" strike="noStrike">
                <a:solidFill>
                  <a:srgbClr val="073e87"/>
                </a:solidFill>
                <a:latin typeface="Candara"/>
              </a:rPr>
              <a:t>23:308–317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Reference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Diagram 1" descr=""/>
          <p:cNvPicPr/>
          <p:nvPr/>
        </p:nvPicPr>
        <p:blipFill>
          <a:blip r:embed="rId1"/>
          <a:stretch/>
        </p:blipFill>
        <p:spPr>
          <a:xfrm>
            <a:off x="12600" y="115920"/>
            <a:ext cx="9034560" cy="66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Content Placeholder 3" descr=""/>
          <p:cNvPicPr/>
          <p:nvPr/>
        </p:nvPicPr>
        <p:blipFill>
          <a:blip r:embed="rId1"/>
          <a:stretch/>
        </p:blipFill>
        <p:spPr>
          <a:xfrm>
            <a:off x="865080" y="1914480"/>
            <a:ext cx="7425000" cy="421164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Conceptual frameworks provide a particular perspective, or lens, through which to examine a topic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Frameworks organize inquiry by identifying elements and relationships among elements that needs to be considered for theory building. </a:t>
            </a:r>
            <a:r>
              <a:rPr b="0" i="1" lang="en-GB" sz="2400" spc="-1" strike="noStrike">
                <a:solidFill>
                  <a:srgbClr val="073e87"/>
                </a:solidFill>
                <a:latin typeface="Candara"/>
              </a:rPr>
              <a:t>( Ostrom 2007)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Health policy framework helps to contextualize the ‘</a:t>
            </a:r>
            <a:r>
              <a:rPr b="0" lang="en-GB" sz="2400" spc="-1" strike="noStrike">
                <a:solidFill>
                  <a:srgbClr val="ff0000"/>
                </a:solidFill>
                <a:latin typeface="Candara"/>
              </a:rPr>
              <a:t>health policy environment.’</a:t>
            </a: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Content Placeholder 4" descr=""/>
          <p:cNvPicPr/>
          <p:nvPr/>
        </p:nvPicPr>
        <p:blipFill>
          <a:blip r:embed="rId1"/>
          <a:stretch/>
        </p:blipFill>
        <p:spPr>
          <a:xfrm>
            <a:off x="450720" y="1116000"/>
            <a:ext cx="8248680" cy="556596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Three major health policy analysis frameworks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Content Placeholder 3" descr=""/>
          <p:cNvPicPr/>
          <p:nvPr/>
        </p:nvPicPr>
        <p:blipFill>
          <a:blip r:embed="rId1"/>
          <a:stretch/>
        </p:blipFill>
        <p:spPr>
          <a:xfrm>
            <a:off x="914400" y="1407960"/>
            <a:ext cx="7772400" cy="470700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Policy Triangle Framework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6T14:26:51Z</dcterms:created>
  <dc:creator>nsz4</dc:creator>
  <dc:description/>
  <dc:language>en-US</dc:language>
  <cp:lastModifiedBy>User</cp:lastModifiedBy>
  <cp:lastPrinted>2013-05-28T10:45:51Z</cp:lastPrinted>
  <dcterms:modified xsi:type="dcterms:W3CDTF">2013-05-31T23:38:47Z</dcterms:modified>
  <cp:revision>21</cp:revision>
  <dc:subject/>
  <dc:title>Health Policy Analysis Framework</dc:title>
</cp:coreProperties>
</file>