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B634-E468-4C83-AD10-2EAC2D4D32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273E-FB8B-40E7-913D-E1A24EFAD0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39C7-E686-4438-8BEF-D41B22A491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600F-2B60-4C4A-BFCF-F71CDFA6DD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3F74-5F72-44E5-9785-CF06D85AB7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AF68-1062-4EBE-BE5B-20D635E235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CA7B-6E54-40E9-9B30-1A9ECD67B7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CC9E-EC61-4661-B732-D7F259CE44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33D7-49DC-418B-BA10-68708F269E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D57E-BB8E-497D-A197-55330A2EC3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290E-1D28-421E-A05B-F2447D6749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77BB-526C-44FC-91C4-490700CE51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B9C7-369B-4A11-AE49-83E3FC670E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4B5F-534D-4EBF-A6F7-513055F86B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D974-D044-4676-818D-DBCF334F9A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DFBA-F035-44F0-85B2-4101086B9E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EFA5-4C85-49C4-942B-F0197CFCB3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080-990A-41BA-9223-D41E33C1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4E5-1AB9-4C6A-ABD8-61331ACF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526-B4FD-416D-908B-A8CBB5AC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C568-339A-45BF-89E5-19C54B4C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056D-E3AE-4EB5-8472-D8D0B57D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1827-23F3-4D80-9F42-17D18BBB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BE1A-816C-45AE-900A-1ACB0044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66A0-1D70-4C49-B802-6FC2C152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B231-AEFD-4746-9C4C-CC80CCAE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BEC6-7DE5-42DA-AA33-393E5406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FF57-BA02-48D6-814A-94CEB2C0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703-BC2A-4919-9EF6-83EB6578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AA5A-48A0-48AB-B47C-11706E45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406A-35F1-491C-98E3-8A58F5C7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5E1B-F216-4B3F-A899-5A8E6E7E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994D-1228-44F3-B934-92188BA1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5BEF-F422-4FF5-BAD3-6776C437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B4173-CC64-4120-B0D2-391FC8C3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9900A-026F-4E36-A3FC-103EBBD5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DF37C-E2C6-47D8-8693-3D49890E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77923-2447-4D35-B2B2-CA1C71CD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47118-4EC8-4991-85E1-18C9DC57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62B-E9F6-4C79-BA4E-E334F8E8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9AE72-6C60-4C6A-BDED-715036E4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7E04B-1BB9-471D-9877-911740CF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E9C5D-6878-403A-BA94-AD93BC12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E344A-D1F8-42DF-92F6-FF262C17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28471-8D3C-4FB6-9246-9DAFC63A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5594F-E083-4EA0-A3B9-3AA7FBC3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C963-2970-4069-9D44-5D1C69DC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E9769-5770-4704-9463-D7D3D29F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3AC1E-3C8E-47C8-881D-3D997EC2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C63F6-F8D2-423C-A360-2A02A290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BC5-C813-45F2-A583-0635D30C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0B51D-2EF9-44C9-9D24-8A268643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E9889-1A46-49DA-86D8-F78FAB44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83B04-9405-4EE9-A263-B9433074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B99F8-D5D5-40E5-9DF5-CE760CE1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E453A-9DEC-415E-BADC-250D5AC3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49D15-939D-445F-B5A5-166BFA68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DE880-B3B5-44F9-BADC-AE36BE15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D0846-FF0C-45C7-9C4A-CD5C7C94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29467-DD04-4DA2-81C1-76281FFE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6E106-FD64-4839-86C6-3D94826A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35FB-568F-4E06-9559-D7EFE78F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4B1AF-4FF9-4D68-B87D-B05E5510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9B4E9-B49E-4003-99D3-20613886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32C4C-0438-41A8-AE41-7DFF22DF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1526C-1022-4120-B80D-2D19BFAE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F5C97-3F36-433D-815C-B557A846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513D8-2D8B-4EFA-9486-8B217645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8C76A-F136-4146-A175-4FBDC4C3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4B6D4-639C-4328-B665-C6B64FAA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46E65-8FEB-473B-AD2F-DB02B43A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F5D9E-25C3-41E1-AC2C-A0D2F87C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561-ABC5-4F83-9A9A-6B990107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231A4-83E1-4F47-BC05-862880A2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6D0EC-BF86-40CA-A035-F6D5E4C7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54228-E9D8-414A-AAE0-48FD0CF2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63B4D-DCA3-408C-BE9C-B6611EBE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4ACCB-4898-4459-9CB6-154AD768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27EFA-9EE7-47B6-AD04-E703C6C0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591F6-4860-4979-9FC4-C432ED72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B5F0E-F673-46EC-AB26-7309786F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4D1B6-8283-490D-A64E-B3820567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C4E2D-5B51-40BD-8E20-570FEC35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6D0-CC42-4999-81BA-BFBF4855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FD5D3-3426-4790-90F3-9CEFB42A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A8B68-D6C1-40AD-B714-60AF3B69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C6E02-F7E4-42D4-BFEC-2DFED711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042C9-0EBB-48C8-BC80-383872F2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5C030-973B-4590-9486-B8F2FBC6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5932E-BC44-40E3-8657-205A3FB5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42D40-C086-44C8-99A2-48316FFB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2658A-6E30-4982-8E28-5CC2A0E9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F1276-0BE0-4C3B-BCCF-3C7E1593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6118A-60B3-4E37-B2B0-8FF829DF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072-CDD3-4C5C-B42C-75578E2E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84DB9-97A3-43A7-ABDB-C4B2DF80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F8134-5947-43A5-8D7C-9C00133D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2468A-C2BF-4D6B-8E6E-5E8CEE69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BC7C2-2C97-4376-97EF-54EEF123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7327B-236A-4F32-9048-BD14836E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9AD-1430-4B45-930D-6EDF3AD5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BABC-9AFC-4040-94F0-17910E8C007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42EB-4E58-4ED8-81F4-E004548A52C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2C52-3339-4C6B-B8E1-9FDD349C2F6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D546-7B85-48D8-BC42-65486C7DBC2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0120-D87E-4465-9053-EC8C65937FB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CAC1-0F9F-4D1C-AC20-6AACE05CD1B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1739-56C4-4F5A-8E56-9A160232B45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Tempus Sans ITC"/>
              </a:rPr>
              <a:t>Ethnography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2362320"/>
            <a:ext cx="7407000" cy="2209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Shahaduz Zaman Ph.D.</a:t>
            </a:r>
            <a:br>
              <a:rPr sz="2800"/>
            </a:b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Newcastle University, UK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But how to learn what to watch and listen fo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How to  move the level of ordinary looking into rigor of systematic see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Paris is the the capital of France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……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eople only see what they are       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      prepared to see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n Exerci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Important for Ethnograph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Gaining an a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aking a ro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http://image.slidesharecdn.com/ethnography1-100531004106-phpapp02/95/slide-3-728.jpg?1275285428"/>
          <p:cNvPicPr/>
          <p:nvPr/>
        </p:nvPicPr>
        <p:blipFill>
          <a:blip r:embed="rId1"/>
          <a:stretch/>
        </p:blipFill>
        <p:spPr>
          <a:xfrm>
            <a:off x="1066680" y="76320"/>
            <a:ext cx="7925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image.slidesharecdn.com/ethnography1-100531004106-phpapp02/95/slide-4-728.jpg?1275285428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   …………</a:t>
            </a: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n an ethnographic research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the researcher is called </a:t>
            </a: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‘Participant 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    Observer’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There are various level of 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observation</a:t>
            </a:r>
            <a:br>
              <a:rPr sz="4000"/>
            </a:br>
            <a:br>
              <a:rPr sz="40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observ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r as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ticipant as obser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Observer: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watch the situation without interacting with the day to day a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participate completely in all things the people do and will not be known in the community as a research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1720" y="1447920"/>
            <a:ext cx="7407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Ethno (People) Graphy (describing/writing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Writing about Peopl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Participant as Observ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be fully involved in the daily activities but will take time to record observation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er as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primarily watch the situation but will also be involved in activities on a secondary ba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image.slidesharecdn.com/ethnography1-100531004106-phpapp02/95/slide-9-728.jpg?1275285428"/>
          <p:cNvPicPr/>
          <p:nvPr/>
        </p:nvPicPr>
        <p:blipFill>
          <a:blip r:embed="rId1"/>
          <a:stretch/>
        </p:blipFill>
        <p:spPr>
          <a:xfrm>
            <a:off x="1295280" y="304920"/>
            <a:ext cx="7391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Open Spa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hopping m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tre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cal baza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lose 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rporate off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ligious centre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deciding about th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vel of particip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tes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ments a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cus of observa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er should enter the setting and start carefully watching and liste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re is a clue to help you….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 keep six honest serving m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y taught me all I knew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ir names are What &amp; Why &amp; Wh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And How &amp; Where &amp; Who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-R. Kipling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572314"/>
                </a:solidFill>
                <a:latin typeface="Gill Sans MT"/>
              </a:rPr>
              <a:t>Observation dimensions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990720"/>
            <a:ext cx="7499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Space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: Physical layout of the pl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Obje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The physical things that are pres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or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Ranges of people invol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ingle actions people underta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ivity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A set of related acts that occu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Time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ime of the day, dur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Goal 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ings that people are trying to accomplis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Sequence: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Order of activities and it’s interrel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bserving self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ression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coming invi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fessional Stranger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1360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Unlike interviews, in which  the researcher extracts data from the respondent, the ethnographer selects data from the naturally occurring flow of life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 idea that we collect data is a bit misleading. Data are not “out there” waiting for collection, like so many rubbish bags on the pavement. For a start they have to be noticed by the researcher, and treated as data for the purpose of his or her research.” Dey (1993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ges of observ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Grand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rst wonder around the general location keeping the  focus of your study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Mini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Then observ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small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issues (space, actor, activity, objects etc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Selective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nally observe the detail aspects of the setting according to your study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Defining ethnography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the art and science of describing a group or culture. ……..The ethnographer is interested in understanding and describing a social and cultural scene from the emic or insider’s perspective. The ethnographer is both story teller and scientist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(Fetternam:1998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a method of research in which the researcher participates overtly or covertly, in people’s daily liv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tching what happe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stening to what is being sa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ing questions (Hamersley &amp; Atkinson: 2006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72314"/>
                </a:solidFill>
                <a:latin typeface="Gill Sans MT"/>
              </a:rPr>
              <a:t>It is crucial to keep observation notes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Cryptic Jotting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Record key words and key phrases while in the fiel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Detailed descrip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Write full notes immediately after exiting the fiel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Analytical notes (Memo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Describe your feelings, ideas, moments of confusion, and interpretations about what is observed.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Skills of participant observant: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explicit awareness of little details of lif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aintaining Naiveté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writing 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’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nter into the world. Observe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onder. Experience and reflect. To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nderstand a world you must become a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art of that world while at the same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ime remaining separate, a part of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part from.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Indian Sufi Saying 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	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New Styles of Ethnography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Videograph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uto eth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Net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Refer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tkinson P, Coffey A, Delamon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, Lofland J, Lofland L, eds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Handbook of ethnography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London: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age, 2001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Dey, Ian. 1993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Qualitative data analysis. London: Routledg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Fetterman D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step by step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ndon: Sage, 198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ammersley M, Atkinso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principles in practice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 London: Routledge,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1995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9792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y is a methodology with more than 100 years of histor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t arose in the Western world as form of knowledge about distant cultures(typically non-Western culture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is was historically a colonial metho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hanged over time: ‘Anthropology at home’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</a:rPr>
              <a:t>Malinowski in New Guinea (1916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Content Placeholder 3" descr="Malinowski.bmp"/>
          <p:cNvPicPr/>
          <p:nvPr/>
        </p:nvPicPr>
        <p:blipFill>
          <a:blip r:embed="rId1"/>
          <a:stretch/>
        </p:blipFill>
        <p:spPr>
          <a:xfrm>
            <a:off x="1905120" y="198108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Content Placeholder 3" descr="Fieldwork.bmp"/>
          <p:cNvPicPr/>
          <p:nvPr/>
        </p:nvPicPr>
        <p:blipFill>
          <a:blip r:embed="rId1"/>
          <a:stretch/>
        </p:blipFill>
        <p:spPr>
          <a:xfrm>
            <a:off x="1905120" y="160020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ic methodology gives priority to observation as it’s primary source of information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n other words, it’s a knowledge gathering process through observat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y professional work is dependent upon the powers of observation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hy do we need to observe in ethnography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900"/>
            </a:br>
            <a:br>
              <a:rPr sz="29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ational method provide data on what people do, as well as what they say they do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It helps to get an inside view of everyday real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ives chance to learn things that people are unwilling to talk in interview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7:15:32Z</dcterms:created>
  <dc:creator>Neeor</dc:creator>
  <dc:description/>
  <dc:language>en-US</dc:language>
  <cp:lastModifiedBy>Zaman</cp:lastModifiedBy>
  <dcterms:modified xsi:type="dcterms:W3CDTF">2013-12-11T21:35:34Z</dcterms:modified>
  <cp:revision>96</cp:revision>
  <dc:subject/>
  <dc:title>Ethnography  Describing people in their natural setting</dc:title>
</cp:coreProperties>
</file>