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46A6-6A37-4762-9FAE-FA190ACE6C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7A6E-37C9-4870-B62A-49E4C9306B14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F80A-DA2B-46F9-AB71-5B53BA0C8957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C391-2CA8-4550-8D4A-2F049E772713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58D6-0B01-44FC-8D05-D97F309AA8C2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2F0A-ABC4-4064-A9C6-C7F89EC3A77E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06F4-9627-48D1-B466-CF7C79C9D088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E6A6-BC34-46E4-963F-7FC0C0348ED1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A529-5D65-4C14-A62A-B59C6015D586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D0EC-9F18-48A3-A403-B8FE51235512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2A03-82C8-4DC5-AD67-63DD1DFC0EDA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FF47-B08E-4DD8-9D4B-D09F2F31E01A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F83C-4966-4D68-8575-B58605ACCE75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8F5B-12A5-4808-9569-412E04F369C6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1BE7-B8B7-4641-BFA7-136DDB5B365F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A433-6EF9-4E18-A07C-2B7F46203582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1B1E-242C-450E-ACEC-296D71E5E37E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013C-0FD3-4F8A-B96B-96377D4F0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FEEF-6D62-48D9-A499-3FB826C9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CD7D-F3DA-4BA3-8464-0378D920A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C21F-2D13-4735-8F1B-C427B7CD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2317-8412-4743-AE90-411AB4E18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6AF7-7B46-4198-9AEA-417C435E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678C-1D91-404E-A52D-6FBE9443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9C3A-5551-427A-A98E-ED6DEE08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BD97-5E6A-4CF7-B3C3-1F47DBC2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8F09-3FBC-4A7A-A193-3EB42C97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E8A6-5519-4C6C-8D8B-AC99D881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577E-5E35-49CC-B521-5B1145DE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8626-75AA-4528-9C4E-26883CF1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1D76-D113-4476-9B15-8A86E938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4E50-3191-4FF1-A6C7-712DB5AD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E9C9-8FB0-42F7-ADD2-8E3236F5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0DD3-339D-4214-A200-954DE467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DA23-F2C3-4CB3-8979-E3191DAB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1E14-56D0-41B5-85DC-DB09FE79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528C-1319-40DB-B58C-1903A02D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2745-0C5C-4800-944C-C6BE2FF8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0818-5218-45DA-8488-7354E06D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04D9-A854-4E25-95A0-B8106D05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D2DF-98AF-4081-B072-F6D778CB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D8A3-BB32-4BB1-8BCA-25886608EF2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581D-8A50-4C42-9395-E11139221378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Dirt, hygiene, defec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752480" y="0"/>
            <a:ext cx="5867640" cy="88390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2193840" y="299088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rm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820520" cy="68724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28600" y="5867280"/>
            <a:ext cx="25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anglades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-380880" y="11160"/>
            <a:ext cx="9905760" cy="6835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897840" y="324000"/>
            <a:ext cx="20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nglades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o to who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t little baby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lover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neighbor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n unknown person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cow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dog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o to who? (ctd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neighbor’s dog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dog to a do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dog to a child (Turkana exampl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clusion: undesired intimacy (cf. sexual harassment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orts of hygien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dic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oci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or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igious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nt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esthetics, not microbes” (Krus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Why is study of defecation relevant?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veryday charac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idden charac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ncultur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ature / Nurture (“nature’s call”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oretical relevance (window on cultur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ation to health (regular, normal stool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iagnostic valu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evance to public healt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Quotation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“ …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nderlying motivations for domestic hygiene … lie not in the avoidance of specific diseases, but in subtler social forces.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Valerie Curtis 1998: 11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nd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ecause hygiene is a complex idea that embodies a number of social values, clarity has often been missing, both in the understanding of how hygiene relates to health, and in the conception and execution of hygiene education programmes.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Valerie Curtis 1998: 11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irt: disord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“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irt is the evidence of the imperfections of life.” (MacLaughlin in Curtis 1998: 13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“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irt is matter out of place.” (Douglas 1966) i.e. dirt is an invitation to restore order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Nothing is dirt by itself; its use and place make it dirty…. But what about (human) feces????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atter out of plac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ultural reasons (e.g. right/left hand, dress, spitting, grasshoppers, hand in food…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ocial reasons: who does what to who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 understand the social dimension: let us take the example of defecation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975240" y="54514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ngladesh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457200" y="171360"/>
            <a:ext cx="28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ilippin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8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371600" y="-685800"/>
            <a:ext cx="6338880" cy="83818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447920" y="228600"/>
            <a:ext cx="18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Keny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-304920" y="0"/>
            <a:ext cx="10058400" cy="69008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1050840" y="176040"/>
            <a:ext cx="151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pal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12:06:35Z</dcterms:created>
  <dc:creator>BU</dc:creator>
  <dc:description/>
  <dc:language>en-US</dc:language>
  <cp:lastModifiedBy>Owner</cp:lastModifiedBy>
  <dcterms:modified xsi:type="dcterms:W3CDTF">2013-11-18T12:50:44Z</dcterms:modified>
  <cp:revision>7</cp:revision>
  <dc:subject/>
  <dc:title>Dirt, hygiene, defecation</dc:title>
</cp:coreProperties>
</file>