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move the slid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A1951-E841-48A1-816E-2A7D88EFC5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308AC-4D7E-43B2-8819-EB10B4C08C33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CC717-93E4-416A-85F5-66EF4C567C93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07720-F4E3-4EC6-B86C-609FF3754BFC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F5605-CF85-4D1C-874F-88E299949C53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13DAD-64FD-4F45-94B8-612C47D50148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CC673-1623-4CC3-9B31-01A7C17DC1FF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7CFAB-E398-4AAC-9F87-CE7AB8E4AEB2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94F14-C386-4257-B32A-C560C7C2957C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50DCE-A979-4724-9F5C-2203BD4E2739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EE18-E37B-47E6-9D97-6A0867C2F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0918-A27D-451E-99E2-21317F38D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8DDF-CB4B-460F-860F-B3F3B748E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0F9E-5DB9-4B7E-878D-03C8F91BE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94712-7296-401B-B4F5-FE9127692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E797B-94B9-4FF0-9F94-ACF94B18D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81C50-14B1-4451-80CC-8FD4A1A32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00F63-91AC-42DB-9718-89A3025C6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25B99-C75F-4234-8905-C31B8EFF3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9C74D-AF8C-4C14-A99E-F80141B2F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1D133-0722-4795-92FD-3453D3514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87C8-76AA-43F6-B9F5-70F0589EB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B6CF9-AFEB-4A41-AB9F-5A75BE92A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77C15-D1D2-42BF-ADCE-E19AF705F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BA456-8550-4D4E-9BCC-22D4DDD14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735C0-BF1A-4E1A-880D-65B6E3F26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AD751-C1FD-4155-8A21-11C613847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9456C0-E8CC-44F1-B688-3FD287D9E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2FBB02-151D-47D1-A3EA-B3A8874CD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4627A4-5E7F-41E6-8CCE-F83DE68B3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BDA025-D0EC-4CD9-8B62-6450818DE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18A26D-AA64-4CB0-BCBE-8734C225C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913F-A176-4CB7-8446-518759709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047517-444D-487C-8DD9-4E48E4277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F13A7E-CC00-4E27-8416-6CBB7939C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BAEC56-8664-4CC7-9D42-4B83C6293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8C720C-4299-41E5-9CC7-49A7B8FBB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4FEEF1-AB77-4710-ADC3-3BB40D580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A84238-096E-432C-8018-985642FD3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663A2A-F427-4418-8961-28CE76033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C774D7-5F1D-49A4-87CD-730196558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C6DDC6-2B1F-4F37-ACB6-B1D0099B8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5F548C-0573-411F-9B85-C53E1DFAF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4925-738C-49C2-9107-36F610C92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E44AC5-8769-4341-B200-2FB33CA68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C12A5F-D2E8-435F-8443-232D3C7AB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510ABA-DA28-4CC6-9C43-44E64DB2E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530D57-F153-4750-8010-9D0FFA6D3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CC2AC2-9038-43DB-BB66-E50FC99D6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5F2F00-879C-4827-B4A1-FA1A3631F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389EB2-E5D6-4C1E-9FED-FCE77DB6A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4967E7-8058-4505-958D-28D70E462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6C6C1A-1A3F-412B-9D1C-E960EB117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B95920-507C-47E3-9F76-F0130B4E1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EAE5-9D18-4A43-ABEE-5B7814623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AF3C9F-9902-4FB2-96B1-3AA3E2ED3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754597-D0F4-4265-805A-7C6481370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58402C-6336-4CE8-9900-BAD94AB12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A7CD6B-DA95-4802-BAEB-998326086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E914CA-3384-4151-B05E-5FD00D6C4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51EA58-4571-4A78-8479-2B0F0A40D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B1389A-EF7B-4105-BFE7-C9C43A6D9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348B79-7F57-4940-A2D2-F28C0FC43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7FC997-C84F-4F39-B5CA-19FECC7FC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645057-2EBF-431A-BEB6-4266492B1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58DB-49D9-48FA-89F4-291C08682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5A56AC-B4C6-47E1-A29F-3177B8A2D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5F490D-483C-4176-9939-9E38CEADF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5AA2A5-0421-4FA4-BE2B-7A5F682D9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35F32B-C806-4EB5-ACFE-E83A1BA71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0E19DE-2455-4758-982F-4C68DE542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3C5DCE-612A-4FD2-9E66-454237124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0903CF-A180-40AC-918F-26F4F53A2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21FF22-17C6-49E5-AD6E-AFDA03E16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2A363E-63E0-45F5-ADEE-1F149FBBC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350855-DC1D-4208-B127-55563C866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CFA9-00C7-4662-B7BD-D4114EB06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E51C43-65CD-4D21-B6B3-751DF7F3B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3E1D03-08A5-47C1-AEAA-E203FEE4E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F05FBB-DA94-455B-917B-4528A3E68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B0F988-D5CC-4039-A062-2FAB1EFAC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F9E942-A246-405B-A4C7-A8C83AC62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12278F-0356-433F-BC42-5B6DA4C8C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199015-CD6C-4291-B204-2036E081F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829BF2-3D2C-405C-B3DD-5D1DB3C62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AB8B0A-E63D-4F6F-84CD-1B5181B61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17C9CB-F4E6-4303-938A-976B606C9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55A1-B4DD-42C0-A075-3D482090A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503526-5D1A-43FB-803D-6756ADC98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09A00A-2A0C-42EC-8151-731B36E8E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67E2AB-7E5A-4E90-B48E-7B56C1477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427CE0-3837-407E-A5B5-3486A4804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CA4B2A-EFD3-4FDA-A5F8-3A3545F37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BAE9EA-7767-4AFA-92B5-0598F739C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81026F-0CC9-4863-AF1A-94E6F30BD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CD254C-620D-4291-BBE7-F54FC7D23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70501F-32AC-41D3-AC98-26F41EF0F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B7A193-6EC2-4302-A5DF-6420FBD3C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8BCC-80E9-4BEA-B516-1CA37FEBA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BBB5C3-AADA-4FD9-BADA-B85326328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1955FC-5FAC-4D62-9FC6-0363FFCB6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DE4802-E0A2-4755-A2D2-D149E5DDA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5E7CCE-E938-4A36-AB4E-4F66C99A1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2832D2-71A8-4BAB-996A-D909DA3E0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2AB732-DA31-419A-AF1D-ADDD45D6B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1FEA81-A24C-4A4C-91F5-F87E51659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2C5D9-E79F-49FC-8A44-028BE4E344C3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14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10485-2117-48C7-AFF2-4E4CAC05A670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5EE48-8080-4241-96A2-3C89100D8369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Isosceles Triangle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651F4-58E2-474D-9F2B-5879B7E731F7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EDC0D-F5A7-4003-A063-8B5E4BE6EAF3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traight Connector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Isosceles Triangle 14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CD85E-E00B-4953-B8EF-F613BB6A6A0C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Rectangle 14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E9D1F-FE5A-4A65-AEDD-5E231D3E975F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Straight Connector 14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CF46C-40FC-4576-8C97-F89E818FB29E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53"/>
                </a:solidFill>
                <a:latin typeface="Bookman Old Style"/>
              </a:rPr>
              <a:t>Sampling in Qualitative Research</a:t>
            </a:r>
            <a:br>
              <a:rPr sz="3200"/>
            </a:br>
            <a:br>
              <a:rPr sz="3200"/>
            </a:br>
            <a:r>
              <a:rPr b="0" lang="en-US" sz="2800" spc="-1" strike="noStrike">
                <a:solidFill>
                  <a:srgbClr val="464653"/>
                </a:solidFill>
                <a:latin typeface="Bookman Old Style"/>
              </a:rPr>
              <a:t>Shahaduz Zaman Ph.D.</a:t>
            </a:r>
            <a:br>
              <a:rPr sz="2800"/>
            </a:br>
            <a:r>
              <a:rPr b="0" lang="en-US" sz="2800" spc="-1" strike="noStrike">
                <a:solidFill>
                  <a:srgbClr val="464653"/>
                </a:solidFill>
                <a:latin typeface="Bookman Old Style"/>
              </a:rPr>
              <a:t>Newcastle University, UK </a:t>
            </a:r>
            <a:br>
              <a:rPr sz="2800"/>
            </a:b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0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BA62D-12AD-4EF8-86C1-6DB8D98D5E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53"/>
                </a:solidFill>
                <a:latin typeface="Bookman Old Style"/>
              </a:rPr>
              <a:t>Sample size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0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3E27C-2671-480C-B515-3F8EA3A5A3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How many is enough?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Enough to do justice to the subject, no more, no less</a:t>
            </a: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3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78376-5D5D-4902-BF1D-5A870DE8D3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20 minutes interview with 200 people?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vs 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20 hours interview with 2 people?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6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3B105-1123-42C0-91FD-50FCAADE44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Freud’s ground breaking theory ‘Psychoanalysis’ -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Based on 10 case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studied over 5 years</a:t>
            </a:r>
            <a:br>
              <a:rPr sz="3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Rule of the thumb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9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185E2-36A5-411E-A7D6-E1CEB7FCEF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ufficiency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Gill Sans MT"/>
              </a:rPr>
              <a:t>Covering maximum variety</a:t>
            </a:r>
            <a:br>
              <a:rPr sz="3200"/>
            </a:br>
            <a:r>
              <a:rPr b="0" lang="en-US" sz="3200" spc="-1" strike="noStrike">
                <a:solidFill>
                  <a:srgbClr val="464653"/>
                </a:solidFill>
                <a:latin typeface="Gill Sans MT"/>
              </a:rPr>
              <a:t>of respondents </a:t>
            </a:r>
            <a:br>
              <a:rPr sz="3200"/>
            </a:br>
            <a:r>
              <a:rPr b="0" lang="en-US" sz="3200" spc="-1" strike="noStrike">
                <a:solidFill>
                  <a:srgbClr val="464653"/>
                </a:solidFill>
                <a:latin typeface="Gill Sans MT"/>
              </a:rPr>
              <a:t> </a:t>
            </a:r>
            <a:endParaRPr b="0" lang="en-US" sz="32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aturatio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Gill Sans MT"/>
              </a:rPr>
              <a:t>Point of redundancy in response</a:t>
            </a:r>
            <a:br>
              <a:rPr sz="3200"/>
            </a:br>
            <a:br>
              <a:rPr sz="3200"/>
            </a:br>
            <a:br>
              <a:rPr sz="2400"/>
            </a:b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2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AB2C3-AEED-4CC4-897F-EB3550143A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ample determination is influenced by 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53"/>
                </a:solidFill>
                <a:latin typeface="Gill Sans MT"/>
              </a:rPr>
              <a:t>Homogeneity of the group</a:t>
            </a:r>
            <a:endParaRPr b="0" lang="en-US" sz="28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53"/>
                </a:solidFill>
                <a:latin typeface="Gill Sans MT"/>
              </a:rPr>
              <a:t>Nature and experience of the researcher</a:t>
            </a:r>
            <a:endParaRPr b="0" lang="en-US" sz="28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5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5DDF5-73BB-4A6F-A296-2559E55405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For phenomenological Studies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Gill Sans MT"/>
              </a:rPr>
              <a:t>At least 6 interviews</a:t>
            </a:r>
            <a:endParaRPr b="0" lang="en-US" sz="32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For grounded theory Studie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Gill Sans MT"/>
              </a:rPr>
              <a:t>12 interviews in each category </a:t>
            </a:r>
            <a:endParaRPr b="0" lang="en-US" sz="32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300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Greg Guest, Arwen Bunce and Laura Johnson (2006) Field Methods (18, 59)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Sampling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6840" y="1285560"/>
            <a:ext cx="4040280" cy="6858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fb8cd"/>
                </a:solidFill>
                <a:latin typeface="Gill Sans MT"/>
              </a:rPr>
              <a:t>Quantitative Sampling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4041720" cy="6858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fb8cd"/>
                </a:solidFill>
                <a:latin typeface="Gill Sans MT"/>
              </a:rPr>
              <a:t> </a:t>
            </a:r>
            <a:r>
              <a:rPr b="1" lang="en-GB" sz="2400" spc="-1" strike="noStrike">
                <a:solidFill>
                  <a:srgbClr val="9fb8cd"/>
                </a:solidFill>
                <a:latin typeface="Gill Sans MT"/>
              </a:rPr>
              <a:t>Qualitative Sampling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Slide Number Placeholder 6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D7BAD-4A04-4B2D-926D-68BCD6FCD8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457200" y="2133720"/>
            <a:ext cx="40384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Large samples selected randomly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Sample should be representative of some larger population to which one hopes to generalize research finding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4648320" y="2133720"/>
            <a:ext cx="40384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In depth, small samples selected purposively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Sampling driven by the desire to illuminate questions under study, and to increase the scope or range of data exposed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6840" y="1285560"/>
            <a:ext cx="4040280" cy="6858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fb8cd"/>
                </a:solidFill>
                <a:latin typeface="Gill Sans MT"/>
              </a:rPr>
              <a:t>Quantitative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4041720" cy="6858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fb8cd"/>
                </a:solidFill>
                <a:latin typeface="Gill Sans MT"/>
              </a:rPr>
              <a:t> </a:t>
            </a:r>
            <a:r>
              <a:rPr b="1" lang="en-GB" sz="2400" spc="-1" strike="noStrike">
                <a:solidFill>
                  <a:srgbClr val="9fb8cd"/>
                </a:solidFill>
                <a:latin typeface="Gill Sans MT"/>
              </a:rPr>
              <a:t>Qualitative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" name="Slide Number Placeholder 6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A1A5F-96C2-479C-B49A-FB8809245E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457200" y="2133720"/>
            <a:ext cx="40384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Begins with a relatively fixed theory, eg. An explanation for something that is to be tested. Theory tested in context of random sample, using large enough </a:t>
            </a:r>
            <a:r>
              <a:rPr b="0" i="1" lang="en-GB" sz="3600" spc="-1" strike="noStrike">
                <a:solidFill>
                  <a:srgbClr val="000000"/>
                </a:solidFill>
                <a:latin typeface="Gill Sans MT"/>
              </a:rPr>
              <a:t>N  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to</a:t>
            </a:r>
            <a:r>
              <a:rPr b="0" lang="en-GB" sz="3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demonstrate statistical significance 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4644720" y="2174760"/>
            <a:ext cx="404172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Begins with ‘flexible’ theory, allowing for further revision/ decision regarding boundary of investigation, follows a process such as what data sources are ‘rich’, who should I talk to, what should I look at first. As research progresses, ask what data sources may confirm my understanding (theory) or challenge.  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Sampling Strategies </a:t>
            </a:r>
            <a:br>
              <a:rPr sz="3200"/>
            </a:b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0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E2608-BDA1-49CC-BB0C-B930B86E95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Maximum vari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Theory based: Sampling in focused manner, based on a priory theory being evaluat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Confirming/Disconfirming cas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Extreme or deviant case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Stratified purposeful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Snowball/Chain Sampling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4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4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4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4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4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4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Slide Number Placeholder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A665A-60A4-4A53-A808-12C00FB162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3" name="Picture 4" descr="f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Slide Number Placeholder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D7341-4ADE-446E-BFF3-7E1712264D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2" name="Diagram 5"/>
          <p:cNvGrpSpPr/>
          <p:nvPr/>
        </p:nvGrpSpPr>
        <p:grpSpPr>
          <a:xfrm>
            <a:off x="1044360" y="171360"/>
            <a:ext cx="7870680" cy="5091120"/>
            <a:chOff x="1044360" y="171360"/>
            <a:chExt cx="7870680" cy="5091120"/>
          </a:xfrm>
        </p:grpSpPr>
        <p:sp>
          <p:nvSpPr>
            <p:cNvPr id="363" name="_s1028"/>
            <p:cNvSpPr/>
            <p:nvPr/>
          </p:nvSpPr>
          <p:spPr>
            <a:xfrm>
              <a:off x="1044360" y="1597680"/>
              <a:ext cx="4885560" cy="3664800"/>
            </a:xfrm>
            <a:prstGeom prst="donut">
              <a:avLst>
                <a:gd name="adj" fmla="val 16666"/>
              </a:avLst>
            </a:prstGeom>
            <a:solidFill>
              <a:srgbClr val="46465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_s1029"/>
            <p:cNvSpPr/>
            <p:nvPr/>
          </p:nvSpPr>
          <p:spPr>
            <a:xfrm>
              <a:off x="7613640" y="1800000"/>
              <a:ext cx="1301400" cy="813960"/>
            </a:xfrm>
            <a:noFill/>
            <a:ln w="9360">
              <a:solidFill>
                <a:srgbClr val="dde9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Tot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opulation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_s1030"/>
            <p:cNvSpPr/>
            <p:nvPr/>
          </p:nvSpPr>
          <p:spPr>
            <a:xfrm>
              <a:off x="1857240" y="2207160"/>
              <a:ext cx="3256920" cy="2442600"/>
            </a:xfrm>
            <a:prstGeom prst="donut">
              <a:avLst>
                <a:gd name="adj" fmla="val 25000"/>
              </a:avLst>
            </a:prstGeom>
            <a:solidFill>
              <a:srgbClr val="727ca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_s1031"/>
            <p:cNvSpPr/>
            <p:nvPr/>
          </p:nvSpPr>
          <p:spPr>
            <a:xfrm>
              <a:off x="7613640" y="985680"/>
              <a:ext cx="1301400" cy="813960"/>
            </a:xfrm>
            <a:noFill/>
            <a:ln w="9360">
              <a:solidFill>
                <a:srgbClr val="dde9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Eligib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opulation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_s1032"/>
            <p:cNvSpPr/>
            <p:nvPr/>
          </p:nvSpPr>
          <p:spPr>
            <a:xfrm>
              <a:off x="2673000" y="2819160"/>
              <a:ext cx="1628280" cy="1221840"/>
            </a:xfrm>
            <a:prstGeom prst="ellipse">
              <a:avLst/>
            </a:prstGeom>
            <a:solidFill>
              <a:srgbClr val="b292c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_s1033"/>
            <p:cNvSpPr/>
            <p:nvPr/>
          </p:nvSpPr>
          <p:spPr>
            <a:xfrm>
              <a:off x="7613640" y="171360"/>
              <a:ext cx="1301400" cy="813960"/>
            </a:xfrm>
            <a:noFill/>
            <a:ln w="9360">
              <a:solidFill>
                <a:srgbClr val="dde9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ample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5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42B61-EAD7-44AC-8D9D-DF6516BE3F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Purposive sampling should never be confused with sampling for convenience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464653"/>
                </a:solidFill>
                <a:latin typeface="Bookman Old Style"/>
              </a:rPr>
              <a:t>Features of qualitative sampling</a:t>
            </a:r>
            <a:br>
              <a:rPr sz="2900"/>
            </a:b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8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9B8A2-5063-4077-A54B-E91DF4DC8D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Qualitative sampling is systematic but flexibl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Guided by clear research question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Sample evolves as the study progresse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1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B13BC-5F3E-4ED8-B913-5D68701377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Sample units are selected serially. Who and what comes next depends on who and what comes before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Selection continues to the point of redundancy.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4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4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Qualitative sampling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4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70EDF-9589-4924-97FE-C5C16C9748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 process (Plan-Revise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ragmatic (Time, money, personnel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ake considerations explicit/Justify what has been don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4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4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4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4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64653"/>
                </a:solidFill>
                <a:latin typeface="Bookman Old Style"/>
              </a:rPr>
              <a:t>Warning in qualitative sampling</a:t>
            </a:r>
            <a:br>
              <a:rPr sz="2900"/>
            </a:b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7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BF71B-2348-4FE3-8D9B-D1E59C7D13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Not too thi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Not selecting the exotic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Not fitting researchers ideal perception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4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4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4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4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4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4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Does qualitative research present bias results?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hat is the Generalizibility  of qualitative research?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4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4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100"/>
            </a:br>
            <a:r>
              <a:rPr b="1" lang="en-US" sz="3100" spc="-1" strike="noStrike">
                <a:solidFill>
                  <a:srgbClr val="464653"/>
                </a:solidFill>
                <a:latin typeface="Bookman Old Style"/>
              </a:rPr>
              <a:t>Biases</a:t>
            </a:r>
            <a:endParaRPr b="0" lang="en-US" sz="31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Defective Instrumen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Observer bia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lection bia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nformation bia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Effect of observer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464653"/>
                </a:solidFill>
                <a:latin typeface="Gill Sans MT"/>
              </a:rPr>
              <a:t>Bias is (partly) unavoidable 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4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4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4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4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4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4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4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4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4653"/>
                </a:solidFill>
                <a:latin typeface="Bookman Old Style"/>
              </a:rPr>
              <a:t>Dealing with bias in  Qualitative research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Triangulation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Reflexivity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Transferability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4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4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4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4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64653"/>
                </a:solidFill>
                <a:latin typeface="Bookman Old Style"/>
              </a:rPr>
              <a:t>Types of triangulation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685800" y="152352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Triangulation of method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Triangulation of sourc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Triangulation of researcher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Triangulation of perspectiv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4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Picture 2" descr="image_0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464653"/>
                </a:solidFill>
                <a:latin typeface="Bookman Old Style"/>
              </a:rPr>
              <a:t>Quantitative Sampling : Random Sampling 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0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A975D-179F-4130-9588-E2485C0F62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ample that is representative in a statistical way of the whole population of interes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n which each member of the population has an equal chances of being selecte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464653"/>
                </a:solidFill>
                <a:latin typeface="Bookman Old Style"/>
              </a:rPr>
              <a:t>Objectivity vs Reflexivity</a:t>
            </a:r>
            <a:br>
              <a:rPr sz="2500"/>
            </a:br>
            <a:endParaRPr b="0" lang="en-US" sz="25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39211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Objectivity: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e term generally implies maintaining distance between the observer and the observed and minimizing any possible influence of the researchers value on the process of inquiry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5222880" y="1752480"/>
            <a:ext cx="39211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Reflexivity: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 way of knowing that even as a co- participant in the inquiry the researcher has maintained the distinction between personal values and those of the participants. 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 txBox="1"/>
          <p:nvPr/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Empathic Neutralit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t suggests that there is a middle ground between becoming too involved which can cloud judgment, and remaining too distant, which can reduce understanding.  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Reflexivit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searcher’s critical self awareness -is a vital process in which you question and observe yourself at the same time you listen to and observe the participant.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4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4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464653"/>
                </a:solidFill>
                <a:latin typeface="Bookman Old Style"/>
              </a:rPr>
              <a:t>Generalizibility</a:t>
            </a:r>
            <a:endParaRPr b="0" lang="en-US" sz="21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otal Generalizatio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tatistical Generalizatio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Natural Generalization (Transferability)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464653"/>
                </a:solidFill>
                <a:latin typeface="Bookman Old Style"/>
              </a:rPr>
              <a:t>Generalizibility vs Transferability</a:t>
            </a:r>
            <a:br>
              <a:rPr sz="2500"/>
            </a:br>
            <a:endParaRPr b="0" lang="en-US" sz="25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39211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Generalizibility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hether findings of the research can be generalized to the wider population 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5222880" y="1752480"/>
            <a:ext cx="39211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Transferability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hether the conclusions of a study are transferable to other context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53"/>
                </a:solidFill>
                <a:latin typeface="Bookman Old Style"/>
              </a:rPr>
              <a:t>Qualitative Sampling: Purposive </a:t>
            </a:r>
            <a:endParaRPr b="0" lang="en-US" sz="40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3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AD6E9-2D85-471A-91C7-8003653985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In contrast to random sampling, </a:t>
            </a:r>
            <a:r>
              <a:rPr b="1" i="1" lang="en-US" sz="2800" spc="-1" strike="noStrike">
                <a:solidFill>
                  <a:srgbClr val="000000"/>
                </a:solidFill>
                <a:latin typeface="Gill Sans MT"/>
              </a:rPr>
              <a:t>information rich</a:t>
            </a: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 cases are selected according to the purpose of the study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In order to get a holistic picture sampling  includes a serious search for both positive and negative cases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Theoretical Sampling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Motto of qualitative sampling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6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7D1E6-4B68-47C6-A3FB-14AA1602F8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mall is beautifu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Lot about little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464653"/>
                </a:solidFill>
                <a:latin typeface="Bookman Old Style"/>
              </a:rPr>
              <a:t>Aim of sampling in qualitative research </a:t>
            </a:r>
            <a:r>
              <a:rPr b="0" lang="en-US" sz="2900" spc="-1" strike="noStrike">
                <a:solidFill>
                  <a:srgbClr val="464653"/>
                </a:solidFill>
                <a:latin typeface="Bookman Old Style"/>
              </a:rPr>
              <a:t> 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9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9346E-1D11-4032-9078-20F2CBFFD6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The primary purpose of sampling is to collect specific cases, events, or actions that can clarify and deepen understanding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2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5B331-8075-4A64-8E61-957BA723A5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Breadth Versus Depth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Broader range of experiences for a smaller number of people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53"/>
                </a:solidFill>
                <a:latin typeface="Bookman Old Style"/>
              </a:rPr>
              <a:t>Sampling uni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5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B130A-D30D-4722-AD69-52F0DAD732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Quantitative Sampling samples people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Qualitative Sampling samples people, time, site. 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8E5CE-1A88-4341-9962-14A5F4CD72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685800" y="380520"/>
            <a:ext cx="77724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ampling people: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ypical cases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Deviant cases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ampling sit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rivat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ublic 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ampling tim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Day/ night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ason/Personal occurrence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1:02:25Z</dcterms:created>
  <dc:creator>Neeor</dc:creator>
  <dc:description/>
  <dc:language>en-US</dc:language>
  <cp:lastModifiedBy>Zaman</cp:lastModifiedBy>
  <dcterms:modified xsi:type="dcterms:W3CDTF">2013-12-11T21:12:33Z</dcterms:modified>
  <cp:revision>37</cp:revision>
  <dc:subject/>
  <dc:title>Selecting Unit of Study Sampling</dc:title>
</cp:coreProperties>
</file>