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D0DA-7D95-430B-B249-AA4AC20131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1F8A-C16F-4352-AE98-58C818961356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508C-39E5-4040-A545-CBBF576D794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3592-AAE5-4820-BFD5-A92DAD9C59E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C7FD-65A7-471C-B292-CEB411086358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320C-7C35-4752-AA37-BE5FF66726FF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40FA-D432-4A99-B686-912893121DF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912D-1581-48EA-8098-55A9E9600B8F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F1DC-7F6E-40BF-BBF3-3893CBA0BE70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97CB-911D-43A0-93CE-3B1E1BCC0A18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C8A6-F76C-4257-A8E2-AC0AAEF3562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DB49-21E5-4998-8D7E-30D19B5F69A4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45B8-3960-437A-A558-BCE2F0FFD203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14F1-C49B-4D44-A7CB-D18B87D76DF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C4DC-333F-47C9-8A68-9864D0FA9C58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146-8CF7-44AD-BBEC-BE5CBE06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568-C221-4ED4-9D67-78E84B3C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3C6-8D24-4351-A987-613C81BB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8F7-BB59-4666-8561-AC1AFB51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3032-BF7F-4077-B91E-DB24E026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5A8C-D7D2-40AF-AF63-D460A777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4C50-660F-4704-9BA7-8B0B4A08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9070-704D-4D1B-B730-03BF9E5C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3722-54B3-4074-B982-2950152C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CBFA-BD92-481E-9EA1-42C26F2E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9A83-2D94-4028-8CE7-03DD50AD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EAE-F25D-4069-BFC4-77D3D063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176A-7762-4ED6-8537-C43DC0C8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5ACC-F164-451D-AF41-66D1C8F8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33EA-BFCD-4D10-8B4E-4A8C44F4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3CE6-D73A-43F7-93E9-AEF0FC08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6919-5496-4535-BDA1-0196C11B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9CB1-8698-40A7-8E49-9D4FE6DD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3D42C-7A5A-47F9-9395-9A8A973C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9E8E7-A451-4B90-8853-4B1DFC83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E543-A1B1-4E2B-8E10-C0B7F818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743BB-DFE2-4830-B676-FF42DC0F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75E-AC4B-4F68-957B-5AF673B4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6BC0-1429-4E5A-8A18-BFB024CB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82B01-12EE-4E39-9427-41E7EA44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0BE7-A29D-444C-A041-B29BB794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95D8D-957C-48AD-9D8A-4EF9EBC0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CE9F5-6EAF-482A-AB48-1181B0DE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EAFB-D1C7-4AB9-98AB-AF2A0CF0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6280-7713-4561-8C48-E3BC46C5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983FF-0437-478B-9BD6-70DE1564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5B38-546D-47CB-93D8-4B3B88F8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76ED-0FBE-4D35-8688-134B508E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2D2-992A-4FAC-A129-38D6B4E2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971DA-DDAB-46EC-8942-D842130B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1D520-F7C1-456E-97E9-80286B99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64BF-D698-44DF-9F6D-C96E39A5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11B39-2B33-4188-904E-BCFAD512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F98F2-B533-467B-B493-57D5CE0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8D1CC-C3A6-4516-8381-643A01A2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3607-C871-4FC9-8B0B-F68C2F60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35DBB-3A1D-4A7D-AE25-AB22B108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E5582-8687-4B07-9F53-1A5FD8E9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F6FC4-93D8-44BD-BF6E-F21B7B17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1BF-41DF-4F6E-BDA5-CBB4BAC3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E14D7-B518-4B14-A161-DBDEBAB8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BF837-3ED6-40EE-905C-0DFB80D9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E7198-4EE8-4918-917E-9E70B506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07105-8E00-40BE-BE8D-3BFE4F7E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C0C6C-D6F2-419C-8DD9-68FFC8C5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D445C-B46B-4A11-84D5-AA5AC2EC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6E520-6299-4B52-B9BD-6CD726BE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6D14C-5E52-4E44-A1B9-1834ECC8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93D68-59E8-428E-A600-7F4DD1CD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2C63C-3C0B-42C6-92CC-865B1BF2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8E4-98AC-43DD-B381-427F030C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A42F7-295D-4A1E-852C-D1FA2D5A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331-272E-478D-917B-5839F982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BE1-13F0-4C1A-BE15-B6D5F269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449-CAF1-48DD-BBDC-6A5E7598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C95D-8ED8-4EE9-A005-E60507EE2F3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3149-3600-4783-B369-087E5423756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FB93-037B-43B7-9D62-49B3679A657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06C3-095C-4081-8159-3EE546FE0BA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28B7-4B96-425D-BCCD-C12F2E82509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2533c"/>
                </a:solidFill>
                <a:latin typeface="Arial"/>
              </a:rPr>
              <a:t>In depth  Interviews 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Shahaduz Zaman Ph.D. </a:t>
            </a:r>
            <a:br>
              <a:rPr sz="28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Newcastle University, UK </a:t>
            </a:r>
            <a:r>
              <a:rPr b="0" i="1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Question Typ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graphic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ndard background questions e.g. age, edu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xperienc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experienced regarding a phenomen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inion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think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estion Types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Behavior question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has done or is doing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Knowledg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get facts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Feeling questio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 think…’ is not a feel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While you are asking question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of the sequence of question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sk the question properly (wording, double questions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asking ‘why’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what people have to say about their world in generally boring to you, then it will be difficult for you to be a good In-Depth interviewe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nless you are fascinated by the rich variation in human experience, qualitative interviewing will become toil.  </a:t>
            </a:r>
            <a:br>
              <a:rPr sz="2800"/>
            </a:br>
            <a:br>
              <a:rPr sz="2200"/>
            </a:b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 want to understand the world from your point of view, I want to know what you know in the way you know it. I want to listen to you until I think like you.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2533c"/>
                </a:solidFill>
                <a:latin typeface="Arial"/>
              </a:rPr>
              <a:t>Interview types</a:t>
            </a:r>
            <a:br>
              <a:rPr sz="2900"/>
            </a:b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lose ended lead by research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emi-structured interviews</a:t>
            </a: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negotiated by researchers and participant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Un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by particip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is also called, Ethnographic or In-depth interviews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alitative research</a:t>
            </a: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mostly us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structured interview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so called ‘Ethnographic’ or ‘In depth interviews’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nterView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An inter change of view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Features of an In-Depth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Conversation with a purpos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t is unstructured but not unfocused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nd respondents are partners, working together to achieve the shared goal of understanding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Aim of In-depth Interview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find out from people those things that we can not directly observe…..People’s thoughts, feelings, intentio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allow us to enter into other person’s  perspectives.(Emic View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ame standard questions is asked to all respondents in the same sequ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fessional tone, diversion ignor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lose ended questions with rare prob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estions and order are tailored to specific people and situ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re like a flexible, friendly convers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pen ended questions and frequent prob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lone controls the direction of discussion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have little valu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djust to respondents norms.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is crucial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asis for any interview is question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need to be careful about what type of questions we are as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47:23Z</dcterms:created>
  <dc:creator>User</dc:creator>
  <dc:description/>
  <dc:language>en-US</dc:language>
  <cp:lastModifiedBy>Zaman</cp:lastModifiedBy>
  <dcterms:modified xsi:type="dcterms:W3CDTF">2013-12-11T21:21:31Z</dcterms:modified>
  <cp:revision>62</cp:revision>
  <dc:subject/>
  <dc:title>Ethnographic Interview</dc:title>
</cp:coreProperties>
</file>