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CFDE-BBBB-433E-A622-24A37DD09F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D392-DE33-4C0B-8019-FE98E93BA7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0A56-D340-4B0D-BB60-27087D7309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7C13-1F54-4518-887B-15EFBECA6E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AD3C-99D8-4567-8BB1-CF4AF6EE15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042C-BC40-489E-A266-8CE96A963D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A2BC-694B-4B3F-AB3D-E1C33F5F9E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75DC-AFFD-475E-9D06-9B253C1F75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592B-3837-4E90-BCEC-E2E988ABDA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02CC-39B3-4B62-96C0-CE76E923CD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7958-7045-45EF-B75C-AC72514760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6385-A645-4B1C-9D36-70D672B3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A86D-6D46-4279-B2C0-4B99E161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9197-C5E5-4FC3-9D67-902F6D381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D3A8-1973-4EDB-9941-A654E9243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3439-033E-4384-A6DE-62C48CB73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4F4A-BFA0-47CA-A5B8-35AA629B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7195-9430-4249-B746-22848742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3019-E750-4FF8-87A8-6384BEE2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B770-4A55-4049-9AC3-28C4EF80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57E3-736E-477D-9C4A-1F07AC49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DA75-7482-4A00-81B0-8F407609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E2D5-961F-45A3-9410-63AD5199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6CAE-DF66-43F1-B18D-20698B4F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AFAD-FB0A-4868-B7C2-8B1F1D68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2605-1BC7-4B3B-945F-6D775825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2DF2-F29F-4950-9370-66948A9A5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2881-01CC-4581-9AB1-64C19F5DD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5D89-91D0-4F45-9F8E-BBFDD34A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C950-706A-4787-BC7D-E8AF4AC6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BFB1-B08C-438B-8944-93CEB374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A493-7301-45C8-B312-86909FE2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A6AB-94D3-4631-B6FC-AB8F70DB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8777-2A31-4E4E-A4EC-BDB68C68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B622-6891-404F-BEDA-44A972E6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8AB5-A953-4FEE-8E73-26ACF8EE43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B900-F875-47B7-A6AD-36AEBCF4BB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03788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3366"/>
                </a:solidFill>
                <a:latin typeface="Times New Roman"/>
              </a:rPr>
              <a:t>The role of ‘self’ in anthropological field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jaak van der Ge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Group and plenary discussion about own research experien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scribe the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tance red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w discove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per ins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manent receptiv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rosp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Concluding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cipation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formativ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utual ‘exploitation’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manent receptivity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rendipity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rospection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field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manent recep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rospection / reflex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[examples from medical anthropology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925560" y="0"/>
            <a:ext cx="82198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hared experience is basis of understanding: particip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uces distance between researcher and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ads to new discov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duces deeper insights (cognitively, emotion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Personal experien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aling / ch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iting for transport and trav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lling in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lling s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Example 1: In a nursing ho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ucing distance: helping in car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overy: not eating / 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ight: “a good day if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sman, R. (2005) Verplegen bij versterven: De meerwaarde van intensief participeren [Nursing and ’versterven’: The surplus of intensive participation].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KWALO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0: 20-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Limitations of particip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stricted range of activities / aspects of life (poverty, sickness, religion, sex, hunger, fear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lf-hearted (observing at the same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atuit (existential meaning of experien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Example 2: Motherhood and childcare in Domin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ucing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Quality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wn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umeich, A. (1994)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The blessings of motherhood: Health, pregnancy and child care in Dominica.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msterdam: Het Spinhu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Example 3: Having canc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tical vs horizontal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e-person b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pparatus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he unsp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jhof, G. (2001)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iekenwerk. Een kleine sociologie van alledaags ziekenlev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[Sick work: A small sociology of everyday sick life].Amsterdam: Aks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13:45:31Z</dcterms:created>
  <dc:creator>Sjaak</dc:creator>
  <dc:description/>
  <dc:language>en-US</dc:language>
  <cp:lastModifiedBy>Owner</cp:lastModifiedBy>
  <dcterms:modified xsi:type="dcterms:W3CDTF">2013-11-18T13:57:47Z</dcterms:modified>
  <cp:revision>5</cp:revision>
  <dc:subject/>
  <dc:title>The ‘philosophy’ of anthropological fieldwork</dc:title>
</cp:coreProperties>
</file>