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2F52-86BC-4E56-8024-9821F12B7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5AB3-F498-437A-9BE8-8FE85A792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AF30-E786-4349-B1FA-1F112A241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8492-B79C-4EDF-A394-3A92D6481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32B3-DF15-45E4-91D0-AC953CF6C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5672-5725-41AA-9780-1E52EAA3D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F36D-E0FD-4827-9EC6-F9D59BDF3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7C1E-E8D3-469F-891B-C9A233696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E954-0089-48D7-AFA5-15B1D8FC2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7F03-D661-442A-9DC3-EB41F02F5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D241-30D3-4BE0-8C68-37B8E438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17F0-43C1-4D49-B3DD-4804D1AEE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FD3CF-6D21-49A1-B340-92CA2A04B31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ultural dimension of biomedicine and pharmaceutical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Palatino"/>
                <a:ea typeface="Times New Roman"/>
              </a:rPr>
              <a:t>Mothers giving medicines to their sick childr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alatino"/>
                <a:ea typeface="Times New Roman"/>
              </a:rPr>
              <a:t>Medicin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3200" spc="-1" strike="noStrike">
                <a:solidFill>
                  <a:srgbClr val="000000"/>
                </a:solidFill>
                <a:latin typeface="Palatino"/>
                <a:ea typeface="Times New Roman"/>
              </a:rPr>
              <a:t>Have therapeutic effic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3200" spc="-1" strike="noStrike">
                <a:solidFill>
                  <a:srgbClr val="000000"/>
                </a:solidFill>
                <a:latin typeface="Palatino"/>
                <a:ea typeface="Times New Roman"/>
              </a:rPr>
              <a:t>Confirm that mother c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3200" spc="-1" strike="noStrike">
                <a:solidFill>
                  <a:srgbClr val="000000"/>
                </a:solidFill>
                <a:latin typeface="Palatino"/>
                <a:ea typeface="Times New Roman"/>
              </a:rPr>
              <a:t>Send that message to chi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3200" spc="-1" strike="noStrike">
                <a:solidFill>
                  <a:srgbClr val="000000"/>
                </a:solidFill>
                <a:latin typeface="Palatino"/>
                <a:ea typeface="Times New Roman"/>
              </a:rPr>
              <a:t>To husband and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3200" spc="-1" strike="noStrike">
                <a:solidFill>
                  <a:srgbClr val="000000"/>
                </a:solidFill>
                <a:latin typeface="Palatino"/>
                <a:ea typeface="Times New Roman"/>
              </a:rPr>
              <a:t>Which reinforces therapeutic effec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Palatino"/>
                <a:ea typeface="Times New Roman"/>
              </a:rPr>
              <a:t>Women in distress relying on benzodiazepin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alatino"/>
                <a:ea typeface="Times New Roman"/>
              </a:rPr>
              <a:t>Medicines enable them to stay in control of their lives, socially, psychologically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alatino"/>
                <a:ea typeface="Times New Roman"/>
              </a:rPr>
              <a:t>But the dependence on the medicines also produces feelings of disempower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alatino"/>
                <a:ea typeface="Times New Roman"/>
              </a:rPr>
              <a:t>Nett effect could be discomfort and distress at a deeper level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Palatino"/>
                <a:ea typeface="Times New Roman"/>
              </a:rPr>
              <a:t>Prescribing doctor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Prescribing is a way of dealing with 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   uncertain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Prescribing is a token of concer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Prescribing asserts doctor’s professional 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   author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Prescription becomes itself a medic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Prescribing is a symbolic act to terminate 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    a consult in a positive mood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facturers: scientific claims and commercial ai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edicines are commodities that should produce prof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efficacy is scientifically prov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nufacturers believe in the efficacy of their produ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icymakers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dicines are words that should be used convincingly in documents produced for political author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dicines are items, which, if managed well, legitimise political authority; if not managed well, they diminish credibility of politicia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dicines are essential ingredients in health care which are however difficult to control due to their commercial and other valu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y difficult to control?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y are commod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ustry (rep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cri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armaci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nd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y difficult to control?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y are culturally reinterpre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t-c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yang’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sential medicines also escape control of health care provi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dit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ltural reinterpre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-EXOTIS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edical anthropology at home (home-coming of anthropology; a logical result of studying the Oth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udying familiar things abroad (churches, hospitals, schools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ample: African ethnographi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Why were biomedical institutions, medicines and activities not studie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ceptively famili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ot “cultural” (but scien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ot acce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nthropology in medic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ot studying biomedical  cul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ut how culture presented obstacles to biomedicine (vaccination, health seeking, self-care, et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Example of pharmaceuticals: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My ‘discovery’ in Gha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odern pharmaceuticals were the most frequently used treatment in Gh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ample of “contraceptive” Alop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amiliar medicines proved “exotic” after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d I become exotic to myself as we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Anthropology of pharmaceutic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ooking at medicines as social and cultural phenom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cial, cultural, emotional (etc) efficacies team up with medical effic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DICINES HAV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mical effic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sychological effic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mbolic efficacy (concreteness, ‘good to think with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ial effic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otional effic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B. All contribute to medical effic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OCIAL LIVES OF MEDICINES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II. The Consum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2. Mothers and childr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3. Villagers and local remed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4.Women in distres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5. Sceptical consum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III. The Provi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6. Drug vendors and their mark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7. ‘Pharmacists’ as ‘doctors’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8. Injectionis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9. Prescribing doctors: </a:t>
            </a:r>
            <a:r>
              <a:rPr b="1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Times New Roman"/>
              </a:rPr>
              <a:t>continu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IV. The Strateg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10. Manufacturers: scientific claims, commercial ai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11. Health planners: making and contesting drug poli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5T14:32:54Z</dcterms:created>
  <dc:creator>svandergeest</dc:creator>
  <dc:description/>
  <dc:language>en-US</dc:language>
  <cp:lastModifiedBy>Owner</cp:lastModifiedBy>
  <dcterms:modified xsi:type="dcterms:W3CDTF">2013-11-18T13:41:24Z</dcterms:modified>
  <cp:revision>8</cp:revision>
  <dc:subject/>
  <dc:title>SOCIAL AND CULTURAL EFFECTS OF MEDICINES</dc:title>
</cp:coreProperties>
</file>