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D118-B492-4859-AEFC-E46D30AAD1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D997-4326-4015-9147-56AFC52730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2F03-4A4E-4A4E-BA3D-F78DD6D9B7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918C-739F-4A2C-976E-E113C7935D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3273-91E8-475D-B052-80CA069313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D120-9DAD-4851-911A-AE6AA0E714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2348-0FE9-4920-A744-DAC2903D63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350A-BA0D-4E4A-8D5F-B5E00EF958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8853-F367-4771-A123-AB188CBEB2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2895-D5CC-40FE-82D5-87F1411A4B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C2B2-806C-466A-8194-239BB0A345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3C0D-D99F-4120-AB05-9731E1348D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B198-A013-4FFF-B9CF-4BF43BEA1B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2EC8-25E4-4B4D-A30A-42C439D171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F2A5-4B2D-437A-8096-C852476DF2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0EF2-03E3-4BFF-8BCD-17EE50890E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D0D6-D498-423B-BA16-73D1829005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1BEE-651C-4E52-A0F9-A6033FD7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3F0-0EDE-4AA0-8B8C-CDAA398D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386F-2FE8-4FF4-A200-2FC344D9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D3D-6202-4325-B3EA-F793F96A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0AF1-B59D-4EB7-B5C4-C12B71D4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2C05-BE0D-47EC-8E57-9D4559F3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FE9E-79A8-4C29-9643-16C0F7A4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022C-B994-4817-9538-05415F26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82EE-F78B-4096-976B-2EAD395E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FD30-7DD9-4C84-9E77-4AF0F9F6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A27E-466B-4870-8D43-52EEFE25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A7EC-B9E8-48C8-B52B-CF68D682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F2B2-0C38-418E-87D1-59397198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42C3-D105-4EB3-8CE4-0CC41357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AB34-6405-472D-A983-757077E7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3EEF-8CEC-4AC5-85F5-4F843567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5EEC-A4A2-4E59-BD65-F679362A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28D45-3EA8-4906-B366-E67A4D2F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BED90-CA1D-46B8-85E5-B1863C3B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4932D-7021-4655-8FA5-15A5304B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FED67-B88F-4616-9AFC-F41714B6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2FE39-8646-466A-B962-709AC670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FD1-D439-4FA0-AB80-5A7E44E1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741E7-8A58-479B-942D-28877712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4715C-72B4-4658-A9F5-99B24FE6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5DFD1-A1A1-4ECA-85EC-26CD250C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7ED3F-5ABB-40AE-86FA-21CC7F87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DF779-9508-4DDA-A0D7-2CBEE09F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03F7E-53D4-4FBC-8B3E-422F3752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162D5-9D40-4C35-8823-463D6375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5B5CF-B1CE-4FC5-A9D0-51B31EF1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EB840-4530-4241-B69A-86CF293D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8F2AC-8C85-4A8A-9E9E-026F8852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E9D-D5DE-48E1-8B90-356F4A00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4B9E6-5094-4BB4-AD0F-259D6238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698C9-B0EC-416B-8F04-8FB97180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53AF9-4848-4164-BDA9-A6E824BD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59C3D-A3CB-40B8-A839-3BD51FC9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3A511-47C3-4DCD-9DA0-35D2CB49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ECA7B-6830-4FB6-9A03-2FA15A22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DDC19-679B-4654-ABC8-D33F4949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DC8DE-2751-441A-ADE5-99040EC6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03637-2EA5-477E-99EE-6AE5240F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D2385-8E15-4C07-B380-0CB23C66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D65-B01C-45F1-8C20-1D43DAC0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28CE1-91BF-4225-AE99-77EAC31D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9BF2B-8763-4638-A795-538AC085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0B45F-0072-47C9-9D32-F413AEB0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0256D-A105-419B-ADC3-4BD8F8E5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D6E02-069E-42B8-A995-EAEDFC38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E2BCA-5AA9-43EF-9384-FDC21CF2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1DF46-582A-417D-8F1A-23DC60A4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132B9-3702-4654-84E8-AC2E12CB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40278-C2D5-487D-A7BC-C3AD45AD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0CF1E-1E43-4410-99E3-410F8768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460-A6BE-4DB7-977E-2C367DB9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715E8-0B52-40A2-BEB2-374901D5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A8E3A-56D2-4B54-9BDE-267599DC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C3DC9-3E18-4B0D-B7D5-2DDCCE8E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984EE-DFF4-4B76-8D87-86AB0701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25F29-8F2E-4E0E-8F17-7CBF9475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8D59E-C8A9-4BA0-B6F9-6BDE9064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27587-CB19-4F83-96D8-B55937E2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367F5-61ED-41F4-ABF6-872BD3B4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EE78D-ACC4-428B-8E59-FC191C0C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5A398-5A59-4FD0-A223-75C580A1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E0F-9CA9-4208-A62D-20CD5E1B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ABDE0-2A5D-4D6C-9438-92A753A9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8C1AD-418B-459B-BCD8-A8699BA2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FADDD-B1C3-498D-82E2-CC71D1AB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594AF-5B74-421D-A1D4-CC5EE7F4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94F9E-7250-4EDA-863E-AAEEA537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C925D-654E-4233-A1F2-9A469793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653EC-4F41-4CA3-8C00-35D6E693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22B4D-095E-4068-83B7-7E7EF3DE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6DD35-5C3C-4C81-8418-9CEE73D8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A43ED-89DE-4316-8344-C381F9EA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9FE-A0A7-4053-BDEA-607716C6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4B3B8-EC41-4D15-B330-1AF903B6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895CA-7079-4557-8AE4-92B6A8EE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EF4AD-3D7F-4230-9D4F-46A49197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87DA3-0827-4828-A17C-CABE5595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2BA64-2883-49B8-9A96-FB7FD89D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15FA-27F4-4F8A-A250-3C883AEB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3DA4-FE7A-4A21-A069-99818706F47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E58C-AC0D-47AF-B0EF-D320A0BD38F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0E7E-F717-444B-B460-1D2B527C932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88D1-C69E-4DD1-B639-4043F8CD576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3CF0-A7AB-4620-9518-C792CB977EB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27FA-C611-4120-913C-951F263D22D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090E-DDE7-4CD8-A1A1-C0AC0887F41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Tempus Sans ITC"/>
              </a:rPr>
              <a:t>Ethnography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2362320"/>
            <a:ext cx="7407000" cy="2209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Shahaduz Zaman Ph.D.</a:t>
            </a:r>
            <a:br>
              <a:rPr sz="2800"/>
            </a:b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Newcastle University, UK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But how to learn what to watch and listen fo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How to  move the level of ordinary looking into rigor of systematic see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Paris is the the capital of France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……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eople only see what they are       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      prepared to see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n Exercis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Important for Ethnograph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Gaining an ac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aking a ro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http://image.slidesharecdn.com/ethnography1-100531004106-phpapp02/95/slide-3-728.jpg?1275285428"/>
          <p:cNvPicPr/>
          <p:nvPr/>
        </p:nvPicPr>
        <p:blipFill>
          <a:blip r:embed="rId1"/>
          <a:stretch/>
        </p:blipFill>
        <p:spPr>
          <a:xfrm>
            <a:off x="1066680" y="76320"/>
            <a:ext cx="7925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image.slidesharecdn.com/ethnography1-100531004106-phpapp02/95/slide-4-728.jpg?1275285428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   …………</a:t>
            </a: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n an ethnographic research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the researcher is called </a:t>
            </a: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‘Participant </a:t>
            </a:r>
            <a:br>
              <a:rPr sz="3200"/>
            </a:b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    Observer’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There are various level of 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observation</a:t>
            </a:r>
            <a:br>
              <a:rPr sz="4000"/>
            </a:br>
            <a:br>
              <a:rPr sz="40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observ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server as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ticipant as observ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Observer: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watch the situation without interacting with the day to day activ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participate completely in all things the people do and will not be known in the community as a research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1720" y="1447920"/>
            <a:ext cx="7407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Ethno (People) Graphy (describing/writing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Writing about Peopl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Participant as Observ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be fully involved in the daily activities but will take time to record observation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er as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primarily watch the situation but will also be involved in activities on a secondary ba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ttp://image.slidesharecdn.com/ethnography1-100531004106-phpapp02/95/slide-9-728.jpg?1275285428"/>
          <p:cNvPicPr/>
          <p:nvPr/>
        </p:nvPicPr>
        <p:blipFill>
          <a:blip r:embed="rId1"/>
          <a:stretch/>
        </p:blipFill>
        <p:spPr>
          <a:xfrm>
            <a:off x="1295280" y="304920"/>
            <a:ext cx="7391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Open Spac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hopping m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tre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cal baza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lose 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orporate off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ligious centre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fter deciding about th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vel of particip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tes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ments a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cus of observa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er should enter the setting and start carefully watching and listen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ere is a clue to help you….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 keep six honest serving m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y taught me all I knew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ir names are What &amp; Why &amp; Wh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And How &amp; Where &amp; Who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-R. Kipling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572314"/>
                </a:solidFill>
                <a:latin typeface="Gill Sans MT"/>
              </a:rPr>
              <a:t>Observation dimensions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990720"/>
            <a:ext cx="7499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R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Space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: Physical layout of the pl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Obje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The physical things that are pres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or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Ranges of people involv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ingle actions people underta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ivity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A set of related acts that occu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Time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ime of the day, dur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Goal 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ings that people are trying to accomplis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Sequence: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Order of activities and it’s interrel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bserving self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pression man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coming invi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fessional Stranger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13608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Unlike interviews, in which  the researcher extracts data from the respondent, the ethnographer selects data from the naturally occurring flow of life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he idea that we collect data is a bit misleading. Data are not “out there” waiting for collection, like so many rubbish bags on the pavement. For a start they have to be noticed by the researcher, and treated as data for the purpose of his or her research.” Dey (1993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ages of observ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Grand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rst wonder around the general location keeping the  focus of your study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Mini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Then observ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smalle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issues (space, actor, activity, objects etc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Selective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nally observe the detail aspects of the setting according to your study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Defining ethnography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the art and science of describing a group or culture. ……..The ethnographer is interested in understanding and describing a social and cultural scene from the emic or insider’s perspective. The ethnographer is both story teller and scientist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(Fetternam:1998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a method of research in which the researcher participates overtly or covertly, in people’s daily liv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tching what happe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stening to what is being sa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ing questions (Hamersley &amp; Atkinson: 2006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72314"/>
                </a:solidFill>
                <a:latin typeface="Gill Sans MT"/>
              </a:rPr>
              <a:t>It is crucial to keep observation notes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Cryptic Jotting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Record key words and key phrases while in the fiel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Detailed descrip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Write full notes immediately after exiting the fiel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Analytical notes (Memo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Describe your feelings, ideas, moments of confusion, and interpretations about what is observed.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Skills of participant observant: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explicit awareness of little details of lif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aintaining Naiveté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writing ski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’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nter into the world. Observe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wonder. Experience and reflect. To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nderstand a world you must become a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art of that world while at the same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ime remaining separate, a part of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part from.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Indian Sufi Saying 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	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New Styles of Ethnography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Videograph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uto eth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Net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Refere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tkinson P, Coffey A, Delamon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, Lofland J, Lofland L, eds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Handbook of ethnography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London: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age, 2001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Dey, Ian. 1993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Qualitative data analysis. London: Routledg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Fetterman D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step by step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ndon: Sage, 1988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ammersley M, Atkinso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principles in practice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 London: Routledge,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1995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9792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685800"/>
            <a:ext cx="749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y is a methodology with more than 100 years of histor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t arose in the Western world as form of knowledge about distant cultures(typically non-Western culture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his was historically a colonial metho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hanged over time: ‘Anthropology at home’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</a:rPr>
              <a:t>Malinowski in New Guinea (1916)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Content Placeholder 3" descr="Malinowski.bmp"/>
          <p:cNvPicPr/>
          <p:nvPr/>
        </p:nvPicPr>
        <p:blipFill>
          <a:blip r:embed="rId1"/>
          <a:stretch/>
        </p:blipFill>
        <p:spPr>
          <a:xfrm>
            <a:off x="1905120" y="1981080"/>
            <a:ext cx="662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Content Placeholder 3" descr="Fieldwork.bmp"/>
          <p:cNvPicPr/>
          <p:nvPr/>
        </p:nvPicPr>
        <p:blipFill>
          <a:blip r:embed="rId1"/>
          <a:stretch/>
        </p:blipFill>
        <p:spPr>
          <a:xfrm>
            <a:off x="1905120" y="1600200"/>
            <a:ext cx="6095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ic methodology gives priority to observation as it’s primary source of information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n other words, it’s a knowledge gathering process through observatio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y professional work is dependent upon the powers of observation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hy do we need to observe in ethnography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900"/>
            </a:br>
            <a:br>
              <a:rPr sz="2900"/>
            </a:b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ational method provide data on what people do, as well as what they say they do.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It helps to get an inside view of everyday realit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ives chance to learn things that people are unwilling to talk in interview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7:15:32Z</dcterms:created>
  <dc:creator>Neeor</dc:creator>
  <dc:description/>
  <dc:language>en-US</dc:language>
  <cp:lastModifiedBy>Zaman</cp:lastModifiedBy>
  <dcterms:modified xsi:type="dcterms:W3CDTF">2013-12-11T21:35:34Z</dcterms:modified>
  <cp:revision>96</cp:revision>
  <dc:subject/>
  <dc:title>Ethnography  Describing people in their natural setting</dc:title>
</cp:coreProperties>
</file>