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FB80-C0EE-4DD4-9DFB-5D3D276B45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3EC7-C24A-4328-B336-0A1BD6B8EA6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222B-9CFF-4F21-88B6-CDA7D2EE7525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8BD3-A361-4B5A-B729-77EEBDAFCEF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6E82-F299-4CB4-9BFE-619EDFBF230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6A75-4B35-43F5-870D-8E16EA806E3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5B7F-FAA7-48B8-B906-082C9E70D000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A7F9-1BAC-46F1-9A9F-0AD6A014A97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C2A5-9244-4B66-8C7D-5C31BCD1786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C801-FB11-4953-9929-D698ECA94AB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9A98-187B-494C-AEFF-1FE44CF6152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5422-9072-4550-9C37-6FDB260C498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E995-BDD9-4011-B9C2-86E2C3EE2950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33B4-8AB5-4022-867E-9EB2B9DF0ED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FE57-37FA-4A1F-81D2-1876D0273C3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66C7-64DA-4FBD-87F3-67502BBA21E5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8D96-C6E3-49A8-8892-1341CA7C2BE7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BF1F-2D67-4924-9134-526C4E02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5F7-87D0-485B-8A7B-2BB0808F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91B-40CE-4298-89C2-5FE827EA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30A-D64D-4650-902C-C8599822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2511-D585-4CB0-81BF-94A8303E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1211-96AD-4D5A-84B4-A0718204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2BF8-461A-490C-9A0F-771F860D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C798-DB21-4FB2-A198-568AAB71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AD48-FAAD-4EC0-9E8A-4BCAF0F9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ED8D-BFDF-4A91-9D61-EEC74FB8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F82F-FEB4-43C0-BABA-D95A92E5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235-7500-43F0-A7A4-33869C3B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6E0A-3D42-4020-A8D9-1044DC63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BE4F-6597-4994-ACF5-D71E25DD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4433-6D90-4E24-AE5A-8311A0E1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F077-3FB4-4980-96A2-51567023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1F5F-B9B1-49B8-BD42-D0443AD1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C4F-7533-4115-8ED6-F669C74F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654-E4D2-49EB-BC43-F26E7404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BDB-C413-427E-8B6A-37CF19B2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34F-23A9-4221-ACCC-B26EABB7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E57-8CCA-4E84-A983-FB27AD8E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9F1-87A2-4F99-A577-04AF3045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6BB-7419-4409-B2D4-6FC13624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15CF-5EFE-4C56-8553-11E816DB264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4229-4C45-49BD-B9C9-F14C684847A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Dirt, hygiene, defe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752480" y="0"/>
            <a:ext cx="5867640" cy="8839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193840" y="29908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m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820520" cy="6872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8600" y="5867280"/>
            <a:ext cx="25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380880" y="11160"/>
            <a:ext cx="9905760" cy="683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97840" y="32400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t little baby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love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unknown person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cow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 (ctd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’s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do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child (Turkana exam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lusion: undesired intimacy (cf. sexual harassmen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rts of hygie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dic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r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us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esthetics, not microbes” (Kru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Why is study of defecation relevant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eryday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idden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ultur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ature / Nurture (“nature’s call”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oretical relevance (window on cultu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ation to health (regular, normal stoo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agnostic val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evance to public heal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Quotation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 …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derlying motivations for domestic hygiene … lie not in the avoidance of specific diseases, but in subtler social forc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d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hygiene is a complex idea that embodies a number of social values, clarity has often been missing, both in the understanding of how hygiene relates to health, and in the conception and execution of hygiene education programm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irt: disord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the evidence of the imperfections of life.” (MacLaughlin in Curtis 1998: 13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matter out of place.” (Douglas 1966) i.e. dirt is an invitation to restore order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thing is dirt by itself; its use and place make it dirty…. But what about (human) feces????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tter out of pla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ltural reasons (e.g. right/left hand, dress, spitting, grasshoppers, hand in food…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reasons: who does what to wh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 understand the social dimension: let us take the example of defecation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975240" y="54514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57200" y="17136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371600" y="-685800"/>
            <a:ext cx="6338880" cy="8381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2286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eny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10058400" cy="690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050840" y="17604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pal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2:06:35Z</dcterms:created>
  <dc:creator>BU</dc:creator>
  <dc:description/>
  <dc:language>en-US</dc:language>
  <cp:lastModifiedBy>Owner</cp:lastModifiedBy>
  <dcterms:modified xsi:type="dcterms:W3CDTF">2013-11-18T12:50:44Z</dcterms:modified>
  <cp:revision>7</cp:revision>
  <dc:subject/>
  <dc:title>Dirt, hygiene, defecation</dc:title>
</cp:coreProperties>
</file>