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42BA-EBEC-48B8-B647-2A6050649F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DE75-D588-4B75-A700-0E1213B29978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5F1E-A3B0-499E-91A7-E3323D5358FC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CC58-B740-459F-9797-07A161626F27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D791-0ED1-4D19-8F7D-6060206ED28F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D62B-CC38-43E4-95CD-75A82E3117FB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6072-6A6C-4DCD-B6A8-B104DB53B57E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A4C2-5AEF-4CB5-A5B0-2F9FBEFFC75B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581C-9BCF-4162-AE85-6EA83C6683AE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781A-9CFE-4462-92AE-1B091008440D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09A8-8CEA-4C80-89C9-1129D18B0C2B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816A-F1FB-48C9-835A-861D2C86EE26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CA70-4B09-43CA-A153-1F3F78E59D47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F9B2-0859-4EBC-9807-9429754B80EB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8223-30E9-4936-AE57-46EB6E75FF73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6CEA-0581-4B99-A6C5-C5D8D6F77722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B9B2-2995-4B75-A84E-5E3BD4D06AEB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0676-3AF3-4FC2-8A10-DC12B5E35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DE0F-6224-41CE-8E86-6179B32E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9D05-CA23-49F0-8DB4-F0B376971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7BDE-9679-4493-B14B-5817E9671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A4F5-B0D6-4F02-BD64-4A8AC2DA4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040E-5F35-42AE-BDE6-7A9ED4CB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250B-FBE4-4C12-B6D7-52511024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C28D-9155-4106-8D8D-4C9F55F6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7100-F4D1-4BFD-B0C4-0AC5E101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4D6C-259C-401B-BB25-7FB7CD5E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E524-A7D5-4C56-9418-13664B0E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ECC2-0784-4322-87DC-1024F78D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95B0-DFA8-49DE-B350-11D54AAE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9497-51F0-4B78-A093-DC3436ED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27BD-E61C-43E0-9D92-7D6D3081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8D2A-9801-4939-8414-3506C31CB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3258-4E36-42F2-8664-47AED3C2D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9EF2-85E8-4244-9214-E482806C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29E1-4B1A-4B4F-A16A-93EA3D8B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AB9B-7F72-4010-8F64-B044FA4E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D8E8-49DD-4BD2-9D01-25FD76A9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BB43-F63E-4F0A-B9D4-9AAD294D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B2B7-54FE-4265-8937-7B777551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C275-71CE-477C-9349-A12E5CB8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D58A-625E-444F-9F0F-AD38CFD035BB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761B-74B6-4EE3-AB55-4DC73C5D3E56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Dirt, hygiene, defec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1752480" y="0"/>
            <a:ext cx="5867640" cy="88390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2193840" y="299088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rm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820520" cy="68724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228600" y="5867280"/>
            <a:ext cx="255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anglades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-380880" y="11160"/>
            <a:ext cx="9905760" cy="6835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897840" y="324000"/>
            <a:ext cx="208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nglades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o to who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t little baby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lover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neighbor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n unknown person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cow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dog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o to who? (ctd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neighbor’s dog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dog to a do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dog to a child (Turkana exampl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nclusion: undesired intimacy (cf. sexual harassment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orts of hygien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dic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oci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or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ligious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nt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esthetics, not microbes” (Krus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Why is study of defecation relevant?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veryday charact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idden charact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ncultur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ature / Nurture (“nature’s call”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oretical relevance (window on cultur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lation to health (regular, normal stool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iagnostic valu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levance to public healt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Quotation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“ …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nderlying motivations for domestic hygiene … lie not in the avoidance of specific diseases, but in subtler social forces.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Valerie Curtis 1998: 11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nd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ecause hygiene is a complex idea that embodies a number of social values, clarity has often been missing, both in the understanding of how hygiene relates to health, and in the conception and execution of hygiene education programmes.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Valerie Curtis 1998: 11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Dirt: disord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“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irt is the evidence of the imperfections of life.” (MacLaughlin in Curtis 1998: 13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“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irt is matter out of place.” (Douglas 1966) i.e. dirt is an invitation to restore order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Nothing is dirt by itself; its use and place make it dirty…. But what about (human) feces????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atter out of plac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ultural reasons (e.g. right/left hand, dress, spitting, grasshoppers, hand in food…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ocial reasons: who does what to who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o understand the social dimension: let us take the example of defecation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975240" y="54514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ngladesh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457200" y="171360"/>
            <a:ext cx="28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ilippin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8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1371600" y="-685800"/>
            <a:ext cx="6338880" cy="83818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1447920" y="228600"/>
            <a:ext cx="18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Keny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-304920" y="0"/>
            <a:ext cx="10058400" cy="69008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1050840" y="176040"/>
            <a:ext cx="151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pal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12:06:35Z</dcterms:created>
  <dc:creator>BU</dc:creator>
  <dc:description/>
  <dc:language>en-US</dc:language>
  <cp:lastModifiedBy>Owner</cp:lastModifiedBy>
  <dcterms:modified xsi:type="dcterms:W3CDTF">2013-11-18T12:50:44Z</dcterms:modified>
  <cp:revision>7</cp:revision>
  <dc:subject/>
  <dc:title>Dirt, hygiene, defecation</dc:title>
</cp:coreProperties>
</file>