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type.wav" ContentType="audio/x-wav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BC1D9-B9D4-40E8-B269-39D686F8810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22893-D0CF-44D1-951F-E79CDDB8894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7F6CD-62C8-42CE-AFD7-D9D173E943B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6E69-1A08-456B-90C9-72D92F3AC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9139-4C41-48AC-972F-6E31879C9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DCFB-193A-43BD-A8E0-DA8504BBC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D969-5A4C-4F91-9E76-DA75C3F1F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A405E-86FF-4EC8-8009-A6FB6B5EC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235BD-E9F1-4C54-9D90-4B1E76C2D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BC9C5-02B6-4DFC-841F-393EFF82B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88ABD-3462-41C6-BC21-3250830C2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3D448-93B6-431A-B8AE-B6B17A06D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3DAC9-3940-4FA9-B140-07F1C6DEA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C44FD-652B-4722-AD71-DF3C8E6C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79E4-56EE-4B4D-89FB-2AF64ACB0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52724-A005-4683-9FC2-F91AF042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18238-8EDA-4C15-B247-30CAC72F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AC9AE-620D-4D20-97A5-04CB18827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768FC-E4F2-4425-AC61-FA6139205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00CB4-59BC-40D0-AD9C-CC26658C7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7760-20FB-4963-8BA4-6EE9A5E8F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A8EF-204B-42E9-9B9D-4F545D76F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9F5E-9D5F-41DD-81FD-5AE76530E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B7D3-25BC-4B76-8116-AD4FBCBF1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F43A-DC7C-4AF6-8213-3D45AE60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646C-B2AA-4510-BF06-A88D186C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A8B6-7699-4AA1-B4DB-1E894004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72B98-32B3-47D4-8E89-BF936102CD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16B67-2AA2-4343-B824-70D596D5CE2A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Concepts of Medical Anthropolog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jaak van der Ge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dical Anthrop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iversity of Amsterd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ultural anthropology - Medical anthropolog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lth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dy as instru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dy: being in the wor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us of production of mea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dy as su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y in times of pe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ck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dy as enem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dy: rupture with the wor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us of crisis, chaos, danger, s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dy as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apon of res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Explanatory mod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1. etiology (why? because of what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2. onset of sympto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3. pathofysi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4. course of sick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Treatment (what to do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(Kleinman 1980:105; Helman 2000:85-8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1052640"/>
            <a:ext cx="7792920" cy="70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llness explan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ersonalistic explan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llness is attributed to the work of a person or conscious agent; someone is bl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xamp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aturalistic explan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llness is not attributed to a person or conscious agent: it just happens, like a natural phenomen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xamp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91920"/>
            <a:ext cx="779292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llness explanations are not just cultural; they can also have a (hidden) social or political meaning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492280"/>
            <a:ext cx="77724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sonalistic …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turalistic …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sonalistic explan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it satisfactor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who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es it provide a starting point for ac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turalistic explan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it satisfactor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whom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it provide a starting point for acti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llness explanations express social and other interests of those who produce them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personalistic or naturalistic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421000"/>
            <a:ext cx="7772400" cy="36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ient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vironmen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ct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thropologist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sonalistic and naturalistic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sonalistic is not a more “primitive” view of illness causes than naturalisti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sonalistic is not more “cultural” and less “scientific” than naturalisti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sonalistic and naturalistic views do not exclude one another: they often occur togeth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1052640"/>
            <a:ext cx="779292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33399"/>
                </a:solidFill>
                <a:latin typeface="Tahoma"/>
              </a:rPr>
              <a:t>Therapy management group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1125360"/>
            <a:ext cx="77929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Anthropology </a:t>
            </a:r>
            <a:r>
              <a:rPr b="0" i="1" lang="nl-NL" sz="3600" spc="-1" strike="noStrike">
                <a:solidFill>
                  <a:srgbClr val="333399"/>
                </a:solidFill>
                <a:latin typeface="Tahoma"/>
              </a:rPr>
              <a:t>of</a:t>
            </a: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 / </a:t>
            </a:r>
            <a:r>
              <a:rPr b="0" i="1" lang="nl-NL" sz="3600" spc="-1" strike="noStrike">
                <a:solidFill>
                  <a:srgbClr val="333399"/>
                </a:solidFill>
                <a:latin typeface="Tahoma"/>
              </a:rPr>
              <a:t>in</a:t>
            </a: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 medicine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nthropology of medicine: outside perspective / theoretical / critical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nthropology in medicine: ‘embedded’, applied, ‘useful’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annot be separated however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Overview lectu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Anthropological persp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Anthropology of illness and of healthc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Three sectors of health c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Disease vs ill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Cult. anthrop. vs medical anthr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Explanatory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Two ‘types’ of expla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Therapy managemen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Anthropology </a:t>
            </a:r>
            <a:r>
              <a:rPr b="1" i="1" lang="nl-NL" sz="2800" spc="-1" strike="noStrike">
                <a:solidFill>
                  <a:srgbClr val="000000"/>
                </a:solidFill>
                <a:latin typeface="Tahoma"/>
              </a:rPr>
              <a:t>of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 / </a:t>
            </a:r>
            <a:r>
              <a:rPr b="1" i="1" lang="nl-NL" sz="2800" spc="-1" strike="noStrike">
                <a:solidFill>
                  <a:srgbClr val="000000"/>
                </a:solidFill>
                <a:latin typeface="Tahoma"/>
              </a:rPr>
              <a:t>in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 medic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475920"/>
            <a:ext cx="779292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nthropological perspective on medical issu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ic /e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r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cipant ob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sp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edical   vs   anthropologic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if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suring (quant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vidual-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ana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w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if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ic (and eti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ptive (qualit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uali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predic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Anthropology of health/illness and of healthca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"/>
          <p:cNvPicPr/>
          <p:nvPr/>
        </p:nvPicPr>
        <p:blipFill>
          <a:blip r:embed="rId2"/>
          <a:stretch/>
        </p:blipFill>
        <p:spPr>
          <a:xfrm>
            <a:off x="1168560" y="1987560"/>
            <a:ext cx="599580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nthropology of health / illnes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igi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socio/cultu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ression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socio/cultu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be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socio/cultu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lanation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socio/cultu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enc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socio/cultu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llness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= socio/cultu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75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75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75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75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75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nthropology of health ca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PREV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ct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UR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s / eti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ct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cal plural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apy 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ctition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ctitioner-patient relation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Three sectors of health ca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2"/>
          <a:stretch/>
        </p:blipFill>
        <p:spPr>
          <a:xfrm>
            <a:off x="1258920" y="1884240"/>
            <a:ext cx="6842160" cy="42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ISEASE     VS     ILLNES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si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isto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iona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i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lt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 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tru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rationa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39:47Z</dcterms:created>
  <dc:creator>BU</dc:creator>
  <dc:description/>
  <dc:language>en-US</dc:language>
  <cp:lastModifiedBy>Owner</cp:lastModifiedBy>
  <dcterms:modified xsi:type="dcterms:W3CDTF">2013-11-18T12:33:27Z</dcterms:modified>
  <cp:revision>37</cp:revision>
  <dc:subject/>
  <dc:title>Meanings of growing old Care of elderly people</dc:title>
</cp:coreProperties>
</file>