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19DB-276A-472E-B899-A52A03E851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28A3-3C4E-4432-8583-485BB04BEB4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3145-4EC3-47C8-AEE2-FE9F49496D5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4EB-2C50-431B-BF6B-43FD1577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EF1-E365-4F8B-A384-10B82F1E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8FF9-042A-40EC-8611-573593ED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A14-CE78-452C-9CF5-3141C2DE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1C1C-3B4C-45F9-B7B9-A547807E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AEEF-56BA-4201-BAF9-4CCA83E9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991F-39DF-4584-864C-50B23F5D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C689-536E-41BE-8CA8-2452C0BB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5B15-0BD7-4D69-9979-2F02DDD2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31A4-0B9B-4B72-A7C1-770473AF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5110-BAC6-4FC6-93A4-407BC696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7BB9-F6A3-4F0D-91E5-4FDE81D2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DD1A-BCD2-406A-ACC7-B385F453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E3BB-3EFB-44D6-9A63-6D44A035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03A1-2DB6-4915-9D7B-0687F8BC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9484-2211-4FC4-BBE8-EF3256F5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1D58-5E0D-4178-A37A-7C91CE89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E96-70D0-46F5-BC9F-901FAAF0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CAC3-46C0-49FE-BF54-C9ED7C80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AB6-8934-4C19-9FAB-07BC8585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D6A-0464-463E-8B27-994FBC24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AEC-2427-482A-8411-6B5C61A6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A47C-3AF8-4F5E-A694-4F158278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1B3-AF53-4891-828D-7F0068E2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7BF4-7F01-4E7A-A268-FFDFACD73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3F15-4F68-4773-BEDB-31E8519F750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Concepts of Medical Anthropolog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jaak van der Ge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Anthr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sity of Amsterd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ultural anthropology - Medical anthropolog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instr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being in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production of mea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y in times of pe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ck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ene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rupture with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crisis, chaos, danger, s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pon of re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Explanatory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1. etiology (why? because of what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2. onset of sympto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. pathofysi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4. course of sick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reatment (what to do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(Kleinman 1980:105; Helman 2000:85-8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lness explan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attributed to the work of a person or conscious agent; someone is bl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ur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not attributed to a person or conscious agent: it just happens, like a natural phenomen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91920"/>
            <a:ext cx="7792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are not just cultural; they can also have a (hidden) social or political mean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tur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tur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express social and other interests of those who produce them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personalistic or naturalistic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hropologis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and naturalistic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a more “primitive” view of illness causes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more “cultural” and less “scientific”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and naturalistic views do not exclude one another: they often occur toge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ahoma"/>
              </a:rPr>
              <a:t>Therapy management group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125360"/>
            <a:ext cx="77929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of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/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in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medicin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of medicine: outside perspective / theoretical / critical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in medicine: ‘embedded’, applied, ‘useful’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not be separated howeve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Overview lec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ical persp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of illness and of health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ree sectors of health 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Disease vs ill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ult. anthrop. vs medical anthr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xplanatory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wo ‘types’ of expla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erapy managemen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medic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ical perspective on medical iss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dical   vs   anthropologic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ing (qua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na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w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(and et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ve (quali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uali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predi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of health/illness and of health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1168560" y="1987560"/>
            <a:ext cx="5995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/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na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llnes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75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75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U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 / eti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plura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apy 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-patient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Three sectors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258920" y="1884240"/>
            <a:ext cx="684216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ISEASE     VS    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2:33:27Z</dcterms:modified>
  <cp:revision>37</cp:revision>
  <dc:subject/>
  <dc:title>Meanings of growing old Care of elderly people</dc:title>
</cp:coreProperties>
</file>