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5B79-4491-47D3-94FA-34BD3AF6C5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AEE5-AAB2-4186-B29D-ADA9B19B7A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CB89-D5EE-4441-9182-5C46CB9B46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9480-2BDB-4834-AD39-4B16733FA0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0D80-C8D6-4901-A547-33485FE0DE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F903-0AD0-45CB-BFD0-689D0C2C66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EAC2-4304-49CF-8FA5-77C45CCC45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7B7F-E3E7-4014-B5E7-5AC0FABDF9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4BFF-F35F-4000-85C9-2578AA4FB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89EF-E641-4125-A219-AA7237D5E1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36B7-5B74-4CC6-9922-65D17F69D8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7390-1407-4B39-B04F-9080141B2D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2371-7D2D-42DB-86FF-FC622D9C47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41EF-6B20-43C0-BD87-B8C5C04EEF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A0BA-1A67-49E7-AE4F-A0A07BC300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3F2F-FE51-445D-8B84-3A12473AE3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2EDD-21C3-4532-9F13-7E6EF06D56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B68-48B2-47A4-9520-C2A7FC6F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A9A-B35E-442F-A5C2-95BBEFE7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D1B-B134-44CE-979B-518F9A64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064-6274-44AF-8859-EBE0E664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551E-D62D-4570-A865-D9FBAEE9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8383-B100-4F28-B607-A9F3ABB4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F4D6-322C-42F5-A120-83DF0FBE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0FF8-55AC-4CA2-8303-F8A88300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5C40-B297-4038-9793-8B84DDE0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1B83-76BE-4D49-8F85-34CA8BFB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617C-501F-4E59-9491-884C9280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617-32E5-4480-901F-F4BC2C7B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F9B7-2BE9-4FDC-9E8F-01C0F513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2FD7-328D-4364-A875-EE39334D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3D02-8E0E-42FD-ACB8-51750AC9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0FBF-04B7-4F1F-BE8A-844E72A7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5332-164A-4575-A8A2-85906C63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24DE5-4AD5-4DED-A31E-22175F6D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A08D6-FAE5-4E90-B54D-FE3B51F4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0E47B-2B8F-4E27-A4CC-B9E7793B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79400-6A87-4152-A5EC-5CD296CB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983B-F9D8-4A98-A37D-B4A832E3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DE4-53FF-4CD1-B778-8660B9A2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8EFBE-09A0-408B-B0A0-89ADD823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9DA23-FF55-4B39-8D52-09B773D4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A6AC8-AE88-4B1B-BD07-E754A81F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FA5CE-FA45-48B9-9D94-F99FC65C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CFC24-98B3-4E05-82E3-150E5B38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406E-72C8-45AD-887D-EBA4F319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41FAF-4CC3-4E6A-ABCA-9947029C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84508-2F54-4798-87BD-00F0DAB8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2A7DB-6282-4735-B017-33A6B568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05DC3-98AB-4357-8545-A1EF9E74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853-4900-49F1-AA11-0BF12FB0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29597-13CA-457F-8CBC-7F8CCD26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EB6D7-9262-4641-8396-3101A3B1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67AE3-A29B-4ACF-BB13-2DF9E61E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75EC7-FE69-4E84-BEEF-FFDE913F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3758D-40A1-4D28-B6FC-E5461D04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706E1-5E50-4C5E-AA0F-157A487C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4A769-6C41-4DC5-A325-42B3F43B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F0249-7EF4-40A9-B1FD-8DD65956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EAA9A-CF45-4E1D-A24D-454D0779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92332-3BDD-463A-9A16-269B4D3C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33E-2BD8-41C8-A2C4-47300CC7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B83F2-7EC1-41BE-B191-629AAF26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DD677-E37B-4CBD-B694-C8F7C394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D9FC0-B549-451E-AC82-E067E930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0511E-A28D-4DB6-B62D-3CEDCD26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13E8C-5DBA-4561-B5BE-885AB30B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32546-D71C-421C-A0FF-25AA3DBA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8870D-DD9D-4056-BEEA-CDAD850C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5C6FF-77DC-4AC1-8148-07A95441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8B894-1A48-4E37-B79E-DCBA1F33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F5712-AFA1-4C61-A480-D9404003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1D1-3617-4675-B074-0D1E3B70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8E7C4-86FE-43A2-8517-1E1D225A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F4B8F-4647-4BA7-995E-A92AFF78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AED87-126B-4431-B98B-45B55E44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64E66-0D42-4923-9CEF-18AB99AD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40617-DA38-435A-86B1-1262164A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10F5E-98A5-4E62-BEF5-92EB662D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61D59-2013-4805-9636-787E2AFE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FA146-FFD4-4CC8-85B1-E42FB099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67AE1-8763-4175-AF1E-C4F58506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144DA-33E5-4F80-B6B8-FBA6CFD8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763F-A72E-4D3A-995D-7350CC71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3B35C-961A-48A9-B035-50528C64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5ADAB-6D91-463D-93AA-CCBC3CC1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45A15-D11B-43FC-95FA-908088C6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79289-2A77-48D4-8A37-93830B2D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6A969-BE68-491A-AC85-1946DDCE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4B0FB-5723-4748-BD7C-F2863918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B01EC-0011-405A-9C26-8660DC05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4FE67-B521-4470-AB92-BCB98D81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5002E-F244-485E-AFBF-87A04D33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B483D-81BB-4366-B4B9-53579776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50B-7793-4569-BA6E-A7171885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CEB3A-531A-49B1-9B72-030E5D32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6C8B6-196E-47DB-9A68-21C032F3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5EC95-FB91-4039-91A3-DE00DB9F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8E2AD-425E-4C56-96E1-BE31AF60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A821F-CE36-46F3-851F-AC1487B7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868-AC98-4FE8-B159-7157959D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2213-1481-4E51-8D34-BD3D2B7E864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20B2-4D70-437B-B9C5-61333DC5933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574B-B6AD-40AA-A890-021857463D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7229-C211-48B8-BABD-93666BFA4DD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3663-B530-48FF-AC76-1FCFCCCA410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C492-C658-438F-BACA-6A324017A21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F677-3E5B-475E-ABBC-54AC040C917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Tempus Sans ITC"/>
              </a:rPr>
              <a:t>Ethnography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2362320"/>
            <a:ext cx="7407000" cy="2209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Shahaduz Zaman Ph.D.</a:t>
            </a:r>
            <a:br>
              <a:rPr sz="2800"/>
            </a:b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Newcastle University, UK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But how to learn what to watch and listen fo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How to  move the level of ordinary looking into rigor of systematic see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Paris is the the capital of France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……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eople only see what they are       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      prepared to see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n Exerci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Important for Ethnograph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Gaining an a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aking a ro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image.slidesharecdn.com/ethnography1-100531004106-phpapp02/95/slide-3-728.jpg?1275285428"/>
          <p:cNvPicPr/>
          <p:nvPr/>
        </p:nvPicPr>
        <p:blipFill>
          <a:blip r:embed="rId1"/>
          <a:stretch/>
        </p:blipFill>
        <p:spPr>
          <a:xfrm>
            <a:off x="1066680" y="76320"/>
            <a:ext cx="7925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image.slidesharecdn.com/ethnography1-100531004106-phpapp02/95/slide-4-728.jpg?1275285428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   …………</a:t>
            </a: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n an ethnographic research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the researcher is called </a:t>
            </a: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‘Participant 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    Observer’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There are various level of 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observation</a:t>
            </a:r>
            <a:br>
              <a:rPr sz="4000"/>
            </a:b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observ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r as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ticipant as obser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Observer: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watch the situation without interacting with the day to day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participate completely in all things the people do and will not be known in the community as a research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1447920"/>
            <a:ext cx="740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Ethno (People) Graphy (describing/writing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Writing about Peopl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Participant as Observ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be fully involved in the daily activities but will take time to record observation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er as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primarily watch the situation but will also be involved in activities on a secondary ba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image.slidesharecdn.com/ethnography1-100531004106-phpapp02/95/slide-9-728.jpg?1275285428"/>
          <p:cNvPicPr/>
          <p:nvPr/>
        </p:nvPicPr>
        <p:blipFill>
          <a:blip r:embed="rId1"/>
          <a:stretch/>
        </p:blipFill>
        <p:spPr>
          <a:xfrm>
            <a:off x="1295280" y="304920"/>
            <a:ext cx="7391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Open Spa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opping m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tre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cal baza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lose 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rporate off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ligious centr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deciding about th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vel of particip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tes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ments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cus of observ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er should enter the setting and start carefully watching and liste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e is a clue to help you….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 keep six honest serving m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y taught me all I knew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ir names are What &amp; Why &amp; Wh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And How &amp; Where &amp; Who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-R. Kipling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Observation dimensions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99072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: Physical layout of the pl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Obje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 physical things that are pres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or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Ranges of people invol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ingle actions people underta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ivity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A set of related acts that occ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Time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ime of the day, dur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Goal 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ings that people are trying to accompli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Sequence: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Order of activities and it’s interrel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bserving sel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ression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coming invi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fessional Stranger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1360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Unlike interviews, in which  the researcher extracts data from the respondent, the ethnographer selects data from the naturally occurring flow of life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idea that we collect data is a bit misleading. Data are not “out there” waiting for collection, like so many rubbish bags on the pavement. For a start they have to be noticed by the researcher, and treated as data for the purpose of his or her research.” Dey (1993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ges of observ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Grand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rst wonder around the general location keeping the  focus of your study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Mini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Then observ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small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issues (space, actor, activity, objects etc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Selective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nally observe the detail aspects of the setting according to your study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Defining ethnography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the art and science of describing a group or culture. ……..The ethnographer is interested in understanding and describing a social and cultural scene from the emic or insider’s perspective. The ethnographer is both story teller and scientist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(Fetternam:1998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a method of research in which the researcher participates overtly or covertly, in people’s daily liv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tching what happe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ening to what is being sa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ing questions (Hamersley &amp; Atkinson: 200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72314"/>
                </a:solidFill>
                <a:latin typeface="Gill Sans MT"/>
              </a:rPr>
              <a:t>It is crucial to keep observation notes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Cryptic Jotting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Record key words and key phrases while in the fiel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Detailed descrip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Write full notes immediately after exiting the fiel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Analytical notes (Memo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Describe your feelings, ideas, moments of confusion, and interpretations about what is observed.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Skills of participant observant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explicit awareness of little details of lif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aintaining Naive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writing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’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nter into the world. Observe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onder. Experience and reflect. To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derstand a world you must become a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art of that world while at the same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ime remaining separate, a part of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part from.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Indian Sufi Saying 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New Styles of Ethnography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Videograph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uto eth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Net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Refer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tkinson P, Coffey A, Delamon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, Lofland J, Lofland L, eds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Handbook of ethnograph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London: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age, 200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y, Ian. 1993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Qualitative data analysis. London: Routled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etterman D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step by step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ndon: Sage, 198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ammersley M, Atkinso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principles in practic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 London: Routledge,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1995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9792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y is a methodology with more than 100 years of histor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t arose in the Western world as form of knowledge about distant cultures(typically non-Western culture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is was historically a colonial metho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anged over time: ‘Anthropology at home’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</a:rPr>
              <a:t>Malinowski in New Guinea (1916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Content Placeholder 3" descr="Malinowski.bmp"/>
          <p:cNvPicPr/>
          <p:nvPr/>
        </p:nvPicPr>
        <p:blipFill>
          <a:blip r:embed="rId1"/>
          <a:stretch/>
        </p:blipFill>
        <p:spPr>
          <a:xfrm>
            <a:off x="1905120" y="198108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Content Placeholder 3" descr="Fieldwork.bmp"/>
          <p:cNvPicPr/>
          <p:nvPr/>
        </p:nvPicPr>
        <p:blipFill>
          <a:blip r:embed="rId1"/>
          <a:stretch/>
        </p:blipFill>
        <p:spPr>
          <a:xfrm>
            <a:off x="1905120" y="16002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ic methodology gives priority to observation as it’s primary source of inform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 other words, it’s a knowledge gathering process through observ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y professional work is dependent upon the powers of observation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hy do we need to observe in ethnography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900"/>
            </a:br>
            <a:br>
              <a:rPr sz="29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ational method provide data on what people do, as well as what they say they do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It helps to get an inside view of everyday real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ves chance to learn things that people are unwilling to talk in interview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5:32Z</dcterms:created>
  <dc:creator>Neeor</dc:creator>
  <dc:description/>
  <dc:language>en-US</dc:language>
  <cp:lastModifiedBy>Zaman</cp:lastModifiedBy>
  <dcterms:modified xsi:type="dcterms:W3CDTF">2013-12-11T21:35:34Z</dcterms:modified>
  <cp:revision>96</cp:revision>
  <dc:subject/>
  <dc:title>Ethnography  Describing people in their natural setting</dc:title>
</cp:coreProperties>
</file>