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4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2D5E-1B24-47A0-8256-7C087EAA4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emplate can be used as a starter file for presenting training materials in a group set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-click on a slide to add sections. Sections can help to organize your slides or facilitate collaboration between multiple auth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Notes section for delivery notes or to provide additional details for the audience. View these notes in Presentation View during your present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the font size (important for accessibility, visibility, videotaping, and online produ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ordinated col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 particular attention to the graphs, charts, and text box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at attendees will print in black and white or grayscale. Run a test print to make sure your colors work when printed in pure black and white and graysca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aphics, tables, and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t simple: If possible, use consistent, non-distracting styles and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all graphs and t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8419-DC19-4F6B-AC18-758D664FA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3CC5-2DD1-4C08-92D1-F6FD107B52E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D2BA-C7DB-4121-BA8A-B7D2DCA4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40D4-4052-4AB2-93D2-1FDBE524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2307-9856-4918-AAD5-471E0705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1AC5-1AD8-42EC-92C0-2CA157E1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3133-122C-4B1F-A1C6-7C68196A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2BF5-560E-48AB-BF22-09E29A7D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8EDF-B058-4D99-B130-F176669C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6F60-1F0A-4F33-9A08-0BFF9E11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E509-D0A1-4156-9BFA-F3D73C23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0726-46A0-44B3-BC75-CDDE68DE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3189-FFAC-4583-A624-C8AC5A43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B80E-CD93-468D-834B-F6FB56FB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2A3F-250B-4E8F-ABF4-66212785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55DD-A811-43EA-AF06-393E0653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A686-349C-4315-88DC-A88561A2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80FB-44EB-4550-9076-85BB61C8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5684-0FA4-48B6-AA9C-ACA586FC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E1BE-1436-48F4-9E92-46C68DCBE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2F46B-71EC-4984-A308-B7822E60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9E334-D554-4648-9A01-FD2B67D7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B575D-4A3F-4086-B806-9FB299BC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D182-1A6E-4983-AE8C-C4FD0A3B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425C3-2DA9-4AB5-B634-7925C679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D6F4B-576C-44BB-878D-17EFEA48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EF7C2-560F-4C27-B48E-95642773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15C05-A2DB-44D3-B85C-F9553806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83987-5D89-4E17-B355-02DBEDEE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23070-C905-4E0D-934C-BFB765BB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42A16-3573-4325-A9BC-0455AEB8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98E96-4D80-457F-B981-C19856D1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D4985-1FB5-4579-846A-68033DAC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00E74-0EF2-43A3-AB5D-09C0CBD8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37F4-E6D6-4414-8C3B-02D320F0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E2D00-19CD-4872-A689-FE44A5E1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77841-FBA6-435C-A641-919EBD1E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C3FBC-4A33-42F0-BAA5-02315685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ECE2D-49E1-4D44-B521-69A2FD1A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979CD-E588-4C3E-A559-B93601D8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14230-7A54-4B5D-A53A-642853C9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B229F-3961-4EC3-BBED-CAB4B176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D0567-774F-4F52-A78B-98A91A8B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67897-4727-4ED1-9F36-BC9BE652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955B5-59B0-4902-A1C9-43D6DF0E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4874-E9A7-4E85-945D-C47F52B4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CA155-9C5C-44B5-9912-A9268B76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3DACF-80C0-4BE4-BBFE-E97EA6C5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0995B-FC89-4EAD-BC27-40A8B2F4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A9BA6-0E23-4D9A-91D6-D074A329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01063-B9BD-444F-BCB3-80B392AC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8E8C6-7EE1-458A-A918-64A7B4C6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544C6-DA20-42A1-8F15-342E3312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9D834-267F-407A-B350-28A83269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1477A-DA15-4BA5-B6AA-D379DA4B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92546-40EC-4584-A0BA-6BD8A05E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AB88-8682-48DC-9FDC-9346F7D0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C481E-7350-49DE-8B5D-9CC51D4A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AE3DE-2020-445A-8E3C-2021F04A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B194E-387E-45CE-80A8-C40CC9CB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8F53-89B4-412F-8514-C5D0DB46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77BF-AFAD-43D4-BCA0-166D43EF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9845-F071-4FF1-AABF-C4F0F0DD54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0" y="1440"/>
            <a:ext cx="37209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-15840" y="0"/>
            <a:ext cx="9172440" cy="2819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6AC7-BC56-4017-B441-19EE4CDE44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4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1EB5-12A8-40B3-9492-0195513E4F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9704-3E70-4233-A071-8B4A74AFEF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DD5A-AF7F-483D-8FF2-5AA2286B8C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90560" y="2285640"/>
            <a:ext cx="61801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libri"/>
              </a:rPr>
              <a:t>ROLE OF MEDICAL ANTHROPOLOGY IN PUBLIC HEALT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962160" y="4038480"/>
            <a:ext cx="4771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haduz Zaman Ph.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castle University, U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Diagram 2" descr=""/>
          <p:cNvPicPr/>
          <p:nvPr/>
        </p:nvPicPr>
        <p:blipFill>
          <a:blip r:embed="rId1"/>
          <a:stretch/>
        </p:blipFill>
        <p:spPr>
          <a:xfrm>
            <a:off x="1523880" y="1395360"/>
            <a:ext cx="6096240" cy="406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Object 2"/>
          <p:cNvGraphicFramePr/>
          <p:nvPr/>
        </p:nvGraphicFramePr>
        <p:xfrm>
          <a:off x="0" y="11592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9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592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planatory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llness nar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y cau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ational for choosing heal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pact on lif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rallel health sec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Diagram 1" descr=""/>
          <p:cNvPicPr/>
          <p:nvPr/>
        </p:nvPicPr>
        <p:blipFill>
          <a:blip r:embed="rId1"/>
          <a:stretch/>
        </p:blipFill>
        <p:spPr>
          <a:xfrm>
            <a:off x="1030320" y="176040"/>
            <a:ext cx="8126280" cy="646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Diagram 1" descr=""/>
          <p:cNvPicPr/>
          <p:nvPr/>
        </p:nvPicPr>
        <p:blipFill>
          <a:blip r:embed="rId1"/>
          <a:stretch/>
        </p:blipFill>
        <p:spPr>
          <a:xfrm>
            <a:off x="-12600" y="115920"/>
            <a:ext cx="9132840" cy="674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agram 1" descr=""/>
          <p:cNvPicPr/>
          <p:nvPr/>
        </p:nvPicPr>
        <p:blipFill>
          <a:blip r:embed="rId1"/>
          <a:stretch/>
        </p:blipFill>
        <p:spPr>
          <a:xfrm>
            <a:off x="-648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alth educ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Content Placeholder 3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26580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11488b"/>
                </a:solidFill>
                <a:latin typeface="Calibri"/>
              </a:rPr>
              <a:t>How population developed health perception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Content Placeholder 3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8101080" cy="5877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11488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is therefore important to consider the following question while thinking of  policies in health interven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Diagram 1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621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nical  Medicine and Public Healt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457200" y="1600200"/>
          <a:ext cx="8229600" cy="4799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 Medicin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Health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bl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ncer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k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k and Health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rp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Promotion and Disease 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Diagram 1" descr=""/>
          <p:cNvPicPr/>
          <p:nvPr/>
        </p:nvPicPr>
        <p:blipFill>
          <a:blip r:embed="rId1"/>
          <a:stretch/>
        </p:blipFill>
        <p:spPr>
          <a:xfrm>
            <a:off x="1116000" y="-12600"/>
            <a:ext cx="8028000" cy="688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omedicine and Medical set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spital Ethnograp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Content Placeholder 3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532764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dicine ta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Content Placeholder 3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83236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alth policy situatio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icy Triangle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Content Placeholder 3" descr=""/>
          <p:cNvPicPr/>
          <p:nvPr/>
        </p:nvPicPr>
        <p:blipFill>
          <a:blip r:embed="rId1"/>
          <a:stretch/>
        </p:blipFill>
        <p:spPr>
          <a:xfrm>
            <a:off x="914400" y="1420920"/>
            <a:ext cx="77724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dical histo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4" descr="fluhospital2"/>
          <p:cNvPicPr/>
          <p:nvPr/>
        </p:nvPicPr>
        <p:blipFill>
          <a:blip r:embed="rId1"/>
          <a:stretch/>
        </p:blipFill>
        <p:spPr>
          <a:xfrm>
            <a:off x="762120" y="2362320"/>
            <a:ext cx="769608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aster  ( Natural and Man Mad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17440"/>
            <a:ext cx="85788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488b"/>
                </a:solidFill>
                <a:latin typeface="Calibri"/>
              </a:rPr>
              <a:t>How Medical Anthropology contributes in public heal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06520"/>
            <a:ext cx="38098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Content Placeholder 9" descr=""/>
          <p:cNvPicPr/>
          <p:nvPr/>
        </p:nvPicPr>
        <p:blipFill>
          <a:blip r:embed="rId1"/>
          <a:stretch/>
        </p:blipFill>
        <p:spPr>
          <a:xfrm>
            <a:off x="0" y="1401840"/>
            <a:ext cx="9144000" cy="5468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228600" y="115920"/>
          <a:ext cx="8915400" cy="683424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  <a:gridCol w="2971800"/>
              </a:tblGrid>
              <a:tr h="1355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 Medicine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Health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als wit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copic Path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Path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mun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 comes to the provi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 goes to the cl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hilosoph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 ori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ori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bjec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ne, Surgery. Gynec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miology, Statistics, Economics, Anthropology, Political scien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Content Placeholder 3" descr=""/>
          <p:cNvPicPr/>
          <p:nvPr/>
        </p:nvPicPr>
        <p:blipFill>
          <a:blip r:embed="rId1"/>
          <a:stretch/>
        </p:blipFill>
        <p:spPr>
          <a:xfrm>
            <a:off x="0" y="-146160"/>
            <a:ext cx="9144000" cy="7016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Diagram 1" descr=""/>
          <p:cNvPicPr/>
          <p:nvPr/>
        </p:nvPicPr>
        <p:blipFill>
          <a:blip r:embed="rId1"/>
          <a:stretch/>
        </p:blipFill>
        <p:spPr>
          <a:xfrm>
            <a:off x="109440" y="176040"/>
            <a:ext cx="8858520" cy="6578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92440" y="5013000"/>
            <a:ext cx="5486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ocial determinants of Heal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Placeholder 4" descr=""/>
          <p:cNvPicPr/>
          <p:nvPr/>
        </p:nvPicPr>
        <p:blipFill>
          <a:blip r:embed="rId1"/>
          <a:stretch/>
        </p:blipFill>
        <p:spPr>
          <a:xfrm>
            <a:off x="1187280" y="690480"/>
            <a:ext cx="6769440" cy="41068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ying attention to Causes of Causes’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Medical Anthropologists do?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plores peoples health seeking behaviour and parallel health sec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ontributes in developing and communicating health inform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ries to understand biomedicine and medical setting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plores the social, political and economic health policy environmen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Learn about medical histor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Helps to find out ways to deal with disaster situati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oples Health seeking behavi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1488b"/>
                </a:solidFill>
                <a:latin typeface="Comic Sans MS"/>
              </a:rPr>
              <a:t>Medical  Pluralism </a:t>
            </a:r>
            <a:r>
              <a:rPr b="0" lang="en-GB" sz="4400" spc="-1" strike="noStrike">
                <a:solidFill>
                  <a:srgbClr val="11488b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2514600" y="1219320"/>
            <a:ext cx="4267080" cy="2684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opular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685800" y="3870360"/>
            <a:ext cx="3886200" cy="2128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rofressional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4572000" y="3429000"/>
            <a:ext cx="350532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olk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267080" y="5334120"/>
            <a:ext cx="12956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5410080" y="5791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ossible overla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Line 14"/>
          <p:cNvSpPr/>
          <p:nvPr/>
        </p:nvSpPr>
        <p:spPr>
          <a:xfrm flipH="1" flipV="1">
            <a:off x="2057040" y="1523520"/>
            <a:ext cx="12193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0" y="1371600"/>
            <a:ext cx="2362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individ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16"/>
          <p:cNvSpPr/>
          <p:nvPr/>
        </p:nvSpPr>
        <p:spPr>
          <a:xfrm>
            <a:off x="3962520" y="3429000"/>
            <a:ext cx="753840" cy="2112840"/>
          </a:xfrm>
          <a:prstGeom prst="rect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7238880" y="15238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238880" y="1523880"/>
            <a:ext cx="167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Not part of official medical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Line 25"/>
          <p:cNvSpPr/>
          <p:nvPr/>
        </p:nvSpPr>
        <p:spPr>
          <a:xfrm flipV="1">
            <a:off x="6781680" y="2924280"/>
            <a:ext cx="1067040" cy="149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26"/>
          <p:cNvSpPr/>
          <p:nvPr/>
        </p:nvSpPr>
        <p:spPr>
          <a:xfrm>
            <a:off x="304920" y="6324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egally sanction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Line 27"/>
          <p:cNvSpPr/>
          <p:nvPr/>
        </p:nvSpPr>
        <p:spPr>
          <a:xfrm flipH="1">
            <a:off x="1523520" y="4876920"/>
            <a:ext cx="83844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2:02:04Z</dcterms:created>
  <dc:creator/>
  <dc:description/>
  <dc:language>en-US</dc:language>
  <cp:lastModifiedBy/>
  <dcterms:modified xsi:type="dcterms:W3CDTF">2013-12-08T19:16:59Z</dcterms:modified>
  <cp:revision>1</cp:revision>
  <dc:subject/>
  <dc:title/>
</cp:coreProperties>
</file>