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type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D54A-B952-43CB-96D2-5F9872ACBB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4D90-ED2D-49EC-899D-4611E63BE70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622E-3051-4F36-BB5C-97AFA1D6C11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68ED-20ED-4FF1-B979-BAFE41B8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01B7-740F-473A-98E4-748CE9AA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9C1F-F0EB-4664-84C1-205C2893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CB6F-A902-4864-9721-C4F172FD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553E-B72F-44DA-B851-AEECFF2E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FD20-D981-42DF-9343-5A6A4D3D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D388-7ECA-490E-893F-EAABC64B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5CE7-670C-46D9-9EEB-87A2D610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868E-64E1-494F-B608-3CA80E61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9A4D-9BEC-4BE7-AC91-3EEFC4CD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C77F-9A95-4518-B251-3F423B26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12CF-3636-43F3-A5AE-3BFE3313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D0E2-6A38-4CDA-AF1E-F17CC2A0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2CD3-2E20-4C53-918C-89B87F90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3BB0-A3A7-49D1-AE26-700DB7CD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EB58-9BEB-4E67-8CAE-FA320201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3CF9-9468-4889-8676-F69D5343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E91D-8C6C-401D-ADD5-170E79AD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74B4-6E7C-452A-AD1A-715456EA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4D3-3ECE-4BE6-B0CB-B43E7B9B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DAC8-04D2-4F16-9B36-9409AA34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857A-3998-4C98-B529-6F6DD0C2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6C69-F9EA-47DC-B762-48809C33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3C80-3B1F-45BF-B414-CE00976F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9FAC-B635-4EDC-BCA1-67C0A5227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6F78-2A46-44C7-A4CF-E5760E031CF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Concepts of Medical Anthropolog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jaak van der Ge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Anthrop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versity of Amsterd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ultural anthropology - Medical anthropolog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lth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instr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: being in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us of production of mea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su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y in times of pe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ck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ene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: rupture with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us of crisis, chaos, danger, s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pon of res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Explanatory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1. etiology (why? because of what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2. onset of sympto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. pathofysi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4. course of sick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reatment (what to do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(Kleinman 1980:105; Helman 2000:85-8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052640"/>
            <a:ext cx="7792920" cy="70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llness explan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listic explan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ness is attributed to the work of a person or conscious agent; someone is bl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amp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turalistic explan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ness is not attributed to a person or conscious agent: it just happens, like a natural phenomen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amp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91920"/>
            <a:ext cx="77929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lness explanations are not just cultural; they can also have a (hidden) social or political mean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turalistic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stic expla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it satisfactor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who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it provide a starting point for ac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turalistic expla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it satisfactor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who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it provide a starting point for ac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lness explanations express social and other interests of those who produce them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personalistic or naturalistic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hropologis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stic and naturalistic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is not a more “primitive” view of illness causes than natura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is not more “cultural” and less “scientific” than natura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and naturalistic views do not exclude one another: they often occur toget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05264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ahoma"/>
              </a:rPr>
              <a:t>Therapy management group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125360"/>
            <a:ext cx="77929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Anthropology </a:t>
            </a:r>
            <a:r>
              <a:rPr b="0" i="1" lang="nl-NL" sz="3600" spc="-1" strike="noStrike">
                <a:solidFill>
                  <a:srgbClr val="333399"/>
                </a:solidFill>
                <a:latin typeface="Tahoma"/>
              </a:rPr>
              <a:t>of</a:t>
            </a: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 / </a:t>
            </a:r>
            <a:r>
              <a:rPr b="0" i="1" lang="nl-NL" sz="3600" spc="-1" strike="noStrike">
                <a:solidFill>
                  <a:srgbClr val="333399"/>
                </a:solidFill>
                <a:latin typeface="Tahoma"/>
              </a:rPr>
              <a:t>in</a:t>
            </a: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 medicine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hropology of medicine: outside perspective / theoretical / critical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hropology in medicine: ‘embedded’, applied, ‘useful’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annot be separated howeve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Overview lec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ical persp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y of illness and of health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hree sectors of health 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Disease vs ill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Cult. anthrop. vs medical anthr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xplanatory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wo ‘types’ of expla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herapy managemen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y </a:t>
            </a:r>
            <a:r>
              <a:rPr b="1" i="1" lang="nl-NL" sz="2800" spc="-1" strike="noStrike">
                <a:solidFill>
                  <a:srgbClr val="000000"/>
                </a:solidFill>
                <a:latin typeface="Tahoma"/>
              </a:rPr>
              <a:t>of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1" i="1" lang="nl-NL" sz="2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medic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ical perspective on medical iss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/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dical   vs   anthropologic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ing (qua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-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na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w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(and eti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ve (quali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uali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predi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Anthropology of health/illness and of health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1168560" y="1987560"/>
            <a:ext cx="5995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y of health / illn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ig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ress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anat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llnes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5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75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75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75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y of health 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REV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U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s / eti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l plura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apy 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tio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tioner-patient relation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Three sectors of health 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258920" y="1884240"/>
            <a:ext cx="684216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ISEASE     VS     ILLN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s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isto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tru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ration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39:47Z</dcterms:created>
  <dc:creator>BU</dc:creator>
  <dc:description/>
  <dc:language>en-US</dc:language>
  <cp:lastModifiedBy>Owner</cp:lastModifiedBy>
  <dcterms:modified xsi:type="dcterms:W3CDTF">2013-11-18T12:33:27Z</dcterms:modified>
  <cp:revision>37</cp:revision>
  <dc:subject/>
  <dc:title>Meanings of growing old Care of elderly people</dc:title>
</cp:coreProperties>
</file>