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C039-0961-41B7-A5C3-FAD1EF69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88A5-1294-48C3-8274-03E4F391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4912-9490-412E-B217-6340E946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EF67-A327-4E31-BF2B-A6AB71B5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4B09-5302-4DBB-8A25-3C719BA9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8609-AEC7-4161-A171-474D1A73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97AE-EB57-4649-A9C2-3535AAB4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3A64-40DA-4083-85DB-DE09C79A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D685-1730-4636-8BE7-A3FA1820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C2D3-DB8D-4ADB-B083-BE600696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7E6B-F745-4806-AB54-D6FFCCAA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686A-C38F-4611-9B76-CBE992A4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5D4E-4A12-4018-A846-A7398FD4D3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ultural dimension of biomedicine and pharmaceutica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Mothers giving medicines to their sick childr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Medici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Have therapeutic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Confirm that mother c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Send that message to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To husband and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Which reinforces therapeutic effec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Women in distress relying on benzodiazepi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Medicines enable them to stay in control of their lives, socially, psychologically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But the dependence on the medicines also produces feelings of disempower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Nett effect could be discomfort and distress at a deeper level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doct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way of dealing with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uncertain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token of conce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asserts doctor’s professional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autho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ption becomes itself a medic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symbolic act to terminate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 a consult in a positive mood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acturers: scientific claims and commercial ai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cines are commodities that should produce prof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efficacy is scientifically pro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ufacturers believe in the efficacy of their produ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ymakers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words that should be used convincingly in documents produced for political author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items, which, if managed well, legitimise political authority; if not managed well, they diminish credibility of politici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essential ingredients in health care which are however difficult to control due to their commercial and other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ifficult to control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are commod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y (re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cri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rmac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ifficult to control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are culturally reinterpr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t-c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yang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sential medicines also escape control of health care provi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dit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tural re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-EXOT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cal anthropology at home (home-coming of anthropology; a logical result of studying the Oth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udying familiar things abroad (churches, hospitals, school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: African ethnographi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y were biomedical institutions, medicines and activities not studi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ceptively famil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“cultural” (but sci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acce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thropology in medic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studying biomedical 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t how culture presented obstacles to biomedicine (vaccination, health seeking, self-care,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Example of pharmaceuticals: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My ‘discovery’ in Gh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rn pharmaceuticals were the most frequently used treatment in Gh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 of “contraceptive” Alop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miliar medicines proved “exotic” after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I become exotic to myself a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nthropology of pharmaceutic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oking at medicines as social and cultural pheno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cial, cultural, emotional (etc) efficacies team up with med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INES HAV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m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log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bolic efficacy (concreteness, ‘good to think with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otion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B. All contribute to med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OCIAL LIVES OF MEDICINES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I. The Consu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2. Mothers and childr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3. Villagers and local remed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4.Women in dist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5. Sceptical consum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II. The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6. Drug vendors and their mark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7. ‘Pharmacists’ as ‘doctors’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8. Injectioni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9. Prescribing doctors: </a:t>
            </a: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V. The Strateg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10. Manufacturers: scientific claims, commercial a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11. Health planners: making and contesting drug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14:32:54Z</dcterms:created>
  <dc:creator>svandergeest</dc:creator>
  <dc:description/>
  <dc:language>en-US</dc:language>
  <cp:lastModifiedBy>Owner</cp:lastModifiedBy>
  <dcterms:modified xsi:type="dcterms:W3CDTF">2013-11-18T13:41:24Z</dcterms:modified>
  <cp:revision>8</cp:revision>
  <dc:subject/>
  <dc:title>SOCIAL AND CULTURAL EFFECTS OF MEDICINES</dc:title>
</cp:coreProperties>
</file>