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FA5A-48E0-444D-AEFC-373B7455D1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4698-E2D8-49A8-B8E9-FF8F5947219F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2FB4-86FC-43C8-A1C4-812F81823235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4C3B-42B2-4698-8647-4E8486AC2824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BA00-EC38-4566-8C0D-B637E86B7B9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FB59-B323-4111-8A34-F7784B5853B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EC68-27FB-466F-990A-40BFF20CC59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8C1D-4F3B-432D-8AAD-9C0530FFE61F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9C87-B7EE-424E-8924-C111F9EE238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2DE7-07B0-43C7-A2BC-F2623E22A2DF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24BC-8C2F-4287-A0A3-534239E75D34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A4E5-4BF3-4737-8D6D-0C426A7FCD2A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3FF4-BB0A-4B91-B348-8995C61907CF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6EE2-B2D1-439D-A57C-DD4FEA4419B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5EA5-0294-472F-801A-75B7566BB1B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1CD9-E418-4965-86B8-6A0BBCEE9FB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FC86-6DCB-45B9-8117-B86ADE148BD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2EF-9A6E-440D-8554-76460A1E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352D-ED05-435B-B48D-209ECDF7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2E31-1DA3-4E21-86EE-6104B5FE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45C7-5EA0-4411-B398-C37FF6ED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79D1-E69A-4A3E-BC4E-98B1A721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0AC4-3794-4A6A-A118-CA4671F6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4342-DA50-4118-84D4-EE25E9B5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1D28-8634-4F1F-962A-5BE0882E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F377-9E87-4E48-A589-FC50F8F3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1E67-7D1E-406B-B5B7-63415C06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26F6-D050-45D0-842C-2D31ED62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CAC-5C3A-498B-A6A7-F62743D8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ABBF-5393-41E4-8B1F-6B08E623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FFEF-AD0C-4487-B239-F2134BDB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37FC-9895-4638-8C79-C2D9768F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B888-5B47-4B02-8D39-21E7FFDB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464E-4D92-4D50-998D-60DA784D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30B7-F2A9-4825-9B27-732BADC0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B9D2-C65F-4111-9460-66BFA1EA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924A-817D-49F7-B40E-8A831944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8D6D-CD37-4C20-8983-E3689E00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0799-2D46-4790-9619-9CBD81ED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870-292C-4372-B612-C24D8EB6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04D-68CC-49E7-AC9F-D1D6D401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5973-D5FA-4DD2-A0EA-2CBC6FC97A0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8C05-487C-4551-A455-3368D561B41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Dirt, hygiene, defe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752480" y="0"/>
            <a:ext cx="5867640" cy="8839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2193840" y="29908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m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820520" cy="6872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8600" y="5867280"/>
            <a:ext cx="25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380880" y="11160"/>
            <a:ext cx="9905760" cy="6835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897840" y="32400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t little baby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love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 unknown person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cow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 (ctd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’s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do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child (Turkana exam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clusion: undesired intimacy (cf. sexual harassmen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rts of hygie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dic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r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igious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nt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esthetics, not microbes” (Krus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Why is study of defecation relevant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eryday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idden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cultur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ature / Nurture (“nature’s call”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oretical relevance (window on cultu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ation to health (regular, normal stoo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agnostic val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evance to public heal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Quotation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 …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derlying motivations for domestic hygiene … lie not in the avoidance of specific diseases, but in subtler social forc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nd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cause hygiene is a complex idea that embodies a number of social values, clarity has often been missing, both in the understanding of how hygiene relates to health, and in the conception and execution of hygiene education programm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irt: disord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the evidence of the imperfections of life.” (MacLaughlin in Curtis 1998: 13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matter out of place.” (Douglas 1966) i.e. dirt is an invitation to restore order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thing is dirt by itself; its use and place make it dirty…. But what about (human) feces????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tter out of pla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ltural reasons (e.g. right/left hand, dress, spitting, grasshoppers, hand in food…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reasons: who does what to who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 understand the social dimension: let us take the example of defecation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975240" y="54514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457200" y="17136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ippi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8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371600" y="-685800"/>
            <a:ext cx="6338880" cy="8381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47920" y="2286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Keny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10058400" cy="6900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050840" y="17604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pal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2:06:35Z</dcterms:created>
  <dc:creator>BU</dc:creator>
  <dc:description/>
  <dc:language>en-US</dc:language>
  <cp:lastModifiedBy>Owner</cp:lastModifiedBy>
  <dcterms:modified xsi:type="dcterms:W3CDTF">2013-11-18T12:50:44Z</dcterms:modified>
  <cp:revision>7</cp:revision>
  <dc:subject/>
  <dc:title>Dirt, hygiene, defecation</dc:title>
</cp:coreProperties>
</file>