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4300-0A0B-45C7-83DC-3E8347E42B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8C2C-0DF9-4435-8592-9BAA7CDE226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F34B-D472-4733-9A46-99D05D3D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82E0-0376-4C59-B9FD-10315126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14C0-C3EE-4B35-B3CF-B7AA566F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0D61-2B99-49D8-BE68-EF4EE977A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42F6-C448-4810-8D70-EF5455B6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8E3F-B5B7-4C48-A781-D2C99C58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A2AA-C9C1-454D-AEBE-7C7BD873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5F22-18CE-424E-AA20-64338F7D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EF15-D59C-474B-9BE0-0D835CF7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BDEF-B74F-4F03-B621-56709994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6833-49D2-406D-9254-8F2A09C3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D6E3-CDE1-4C81-AD15-CFA0B93C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E402-0343-43EC-9663-65E50E36C34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SCAP MED and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in Ro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ellowships program (ho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ious successful and productive experience in introducing young researchers to public health policy decision making and model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-participants i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arie Curi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led by Kath Benn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llaboration with researchers in Portugal, Denmark, Holland, S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edCHAMP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experience helping develop public health &amp; modelling skills within four national teams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ed &amp; implement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CHD, diabetes &amp; Stroke models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yria, Palestine Tunisia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urke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trong support for consolidating  &amp; expanding  the understanding of Public Health Policy Modelling in the reg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 a tool that facilitates dialogue with policy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 text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1: main message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2: Comparison with other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3: Expand on key messages (opt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4: Strengths &amp; Weaknesses (limi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5: Implications for: clinicians; public health professionals; policy ma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CAP-MED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d King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p: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62 m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orld 7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largest economy (GDP &amp; purchasing power parit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VD remains biggest kil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bout 190,000 death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imated cost $45 billi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01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en Diamond Jubil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mmer Olym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ease visi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map uk"/>
          <p:cNvPicPr/>
          <p:nvPr/>
        </p:nvPicPr>
        <p:blipFill>
          <a:blip r:embed="rId1"/>
          <a:stretch/>
        </p:blipFill>
        <p:spPr>
          <a:xfrm>
            <a:off x="468360" y="1484280"/>
            <a:ext cx="3959280" cy="490392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2627280" y="4365720"/>
            <a:ext cx="504720" cy="28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niversity of Liverpool </a:t>
            </a: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artment of Public Health &amp; Poli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7028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partment of Public Health and Policy is home to many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earch them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equalities-Social context and consequences of ill-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linical effec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ealth impact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graduate and graduate medical educ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ccessful MPH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on campus,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n-l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pcwww.liv.ac.uk/avam/Images/Vic_theme.jpg"/>
          <p:cNvPicPr/>
          <p:nvPr/>
        </p:nvPicPr>
        <p:blipFill>
          <a:blip r:embed="rId1"/>
          <a:stretch/>
        </p:blipFill>
        <p:spPr>
          <a:xfrm>
            <a:off x="395280" y="234936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76280"/>
            <a:ext cx="4114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f Simon Capewe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hair of Clinical Epidem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4788000" y="2276640"/>
            <a:ext cx="41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 Martin O’Fla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cturer in Epidemi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0920" y="3349800"/>
            <a:ext cx="871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ur Research Inter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amining what driv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rdiovascular disease (CVD) mortality rat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a range of high, middle &amp; low income countr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development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ffective and cost-saving cardiovascular 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the UK and beyond: building on empirical evidence, policy analyses, and quantitative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best to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elp policy maker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 effective non-communicable disea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low, middle &amp; high- inc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ages.clickliverpool.com/admin/article/articleimages/1316448194-SimonCapewell-web.jpg"/>
          <p:cNvPicPr/>
          <p:nvPr/>
        </p:nvPicPr>
        <p:blipFill>
          <a:blip r:embed="rId1"/>
          <a:stretch/>
        </p:blipFill>
        <p:spPr>
          <a:xfrm>
            <a:off x="1476360" y="333360"/>
            <a:ext cx="118116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s3.amazonaws.com/mendeley-photos/94/4e/944e4aa0f0971342c4fa11109483acab1ade1979std.png"/>
          <p:cNvPicPr/>
          <p:nvPr/>
        </p:nvPicPr>
        <p:blipFill>
          <a:blip r:embed="rId2"/>
          <a:stretch/>
        </p:blipFill>
        <p:spPr>
          <a:xfrm>
            <a:off x="6300720" y="404640"/>
            <a:ext cx="12034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4:37:00Z</dcterms:created>
  <dc:creator>Martin O'Flaherty</dc:creator>
  <dc:description/>
  <dc:language>en-US</dc:language>
  <cp:lastModifiedBy>Simon Capewell</cp:lastModifiedBy>
  <dcterms:modified xsi:type="dcterms:W3CDTF">2013-09-14T16:11:25Z</dcterms:modified>
  <cp:revision>9</cp:revision>
  <dc:subject/>
  <dc:title>RESCAP-MED: University of Liverpool</dc:title>
</cp:coreProperties>
</file>