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B4990-0C00-4B5D-849A-96FE9044642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A6D08-B716-4A8A-8E18-3FCC8A82A12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EF0E-ACDB-44EA-B4DA-D7EB7052E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C26C-473D-4B9C-8E4B-A3291154C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9888-3B93-4C1C-A1AA-DF16F475D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DF41-8FB1-494E-BF28-2B2AF2BCF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14A6-71AB-49AB-AA4B-BBE0D3299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F017-389D-49BC-AB39-42AF05787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2C66-2DF9-43C8-BAF6-E85DEB63C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6F48-C069-490A-8A02-3C491CB63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1293-CA39-4E6A-9456-9BF9ADE7F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4BFE-FBBB-4EEE-8B9E-0B8ECE1F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7EA1-AC54-4824-9F12-853C6243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376C-804C-4800-9215-AEF316D1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05FFA-DFA9-4C02-B9CD-EF5C9B25DC4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19700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,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his helps identify key issues around WHY, HOW, WHAT found, WHAT does it me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RESCAP MED and Liverpo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24000" y="907560"/>
            <a:ext cx="86407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Main Ro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Fellowships program (hos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evious successful and productive experience in introducing young researchers to public health policy decision making and modell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o-participants in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Marie Curie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oject led by Kath Bennet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ollaboration with researchers in Portugal, Denmark, Holland, Sp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MedCHAMPS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experience helping develop public health &amp; modelling skills within four national teams: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veloped &amp; implemented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alibri"/>
              </a:rPr>
              <a:t>CHD, diabetes &amp; Stroke models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yria, Palestine Tunisia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 &amp;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urke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trong support for consolidating  &amp; expanding  the understanding of Public Health Policy Modelling in the region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s a tool that facilitates dialogue with policy stakehol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1970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.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is helps identify key issues aroun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HY, HOW, WHAT found, WHAT does it me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. Draft outline points for each section in Discu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: Create bullet points for each paragrap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: Turn bullet points into tex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: Refine &amp; polish text. Most important sentences: FIRST, and L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19700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,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his helps identify key issues around WHY, HOW, WHAT found, WHAT does it me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. Draft outline points for each section in Discuss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1: main message(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2: Comparison with other stud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3: Expand on key messages (optiona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4: Strengths &amp; Weaknesses (limitation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5: Implications for: clinicians; public health professionals; policy mak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1970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.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is helps identify key issues aroun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HY, HOW, WHAT found, WHAT does it me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. Draft outline points for each section in Discu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: Create bullet points for each paragrap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: Turn bullet points into tex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: Refine &amp; polish. Most important sentences: FIRST, and L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CAP-MED: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University of Liverpo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United Kingd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0" y="1600200"/>
            <a:ext cx="439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op: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62 mill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orld 7</a:t>
            </a:r>
            <a:r>
              <a:rPr b="0" lang="en-GB" sz="2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largest economy (GDP &amp; purchasing power parity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VD remains biggest kill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bout 190,000 deaths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er y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estimated cost $45 billion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er y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2012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Queen Diamond Jubil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ummer Olymp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lease visit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map uk"/>
          <p:cNvPicPr/>
          <p:nvPr/>
        </p:nvPicPr>
        <p:blipFill>
          <a:blip r:embed="rId1"/>
          <a:stretch/>
        </p:blipFill>
        <p:spPr>
          <a:xfrm>
            <a:off x="468360" y="1484280"/>
            <a:ext cx="3959280" cy="4903920"/>
          </a:xfrm>
          <a:prstGeom prst="rect">
            <a:avLst/>
          </a:prstGeom>
          <a:ln w="0">
            <a:noFill/>
          </a:ln>
        </p:spPr>
      </p:pic>
      <p:sp>
        <p:nvSpPr>
          <p:cNvPr id="63" name="Oval 4"/>
          <p:cNvSpPr/>
          <p:nvPr/>
        </p:nvSpPr>
        <p:spPr>
          <a:xfrm>
            <a:off x="2627280" y="4365720"/>
            <a:ext cx="504720" cy="2872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University of Liverpool </a:t>
            </a:r>
            <a:br>
              <a:rPr sz="3200"/>
            </a:b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Department of Public Health &amp; Polic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77028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partment of Public Health and Policy is home to many discip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search them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Inequalities-Social context and consequences of ill-heal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linical effectiven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Health impact assess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ndergraduate and graduate medical educa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uccessful MPH progr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(on campus,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 &amp;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on-lin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hD program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http://pcwww.liv.ac.uk/avam/Images/Vic_theme.jpg"/>
          <p:cNvPicPr/>
          <p:nvPr/>
        </p:nvPicPr>
        <p:blipFill>
          <a:blip r:embed="rId1"/>
          <a:stretch/>
        </p:blipFill>
        <p:spPr>
          <a:xfrm>
            <a:off x="395280" y="2349360"/>
            <a:ext cx="350856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Our T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2276280"/>
            <a:ext cx="41148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f Simon Capewel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Chair of Clinical Epidemiolog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Content Placeholder 2"/>
          <p:cNvSpPr/>
          <p:nvPr/>
        </p:nvSpPr>
        <p:spPr>
          <a:xfrm>
            <a:off x="4788000" y="2276640"/>
            <a:ext cx="41148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r Martin O’Flah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Lecturer in Epidemi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250920" y="3349800"/>
            <a:ext cx="87138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Our Research Interes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Examining what drives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rdiovascular disease (CVD) mortality rate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n a range of high, middle &amp; low income countri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e development of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effective and cost-saving cardiovascular prevention strategie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n the UK and beyond: building on empirical evidence, policy analyses, and quantitative mode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How best to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elp policy maker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velop effective non-communicable disease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evention strategie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n low, middle &amp; high- income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http://images.clickliverpool.com/admin/article/articleimages/1316448194-SimonCapewell-web.jpg"/>
          <p:cNvPicPr/>
          <p:nvPr/>
        </p:nvPicPr>
        <p:blipFill>
          <a:blip r:embed="rId1"/>
          <a:stretch/>
        </p:blipFill>
        <p:spPr>
          <a:xfrm>
            <a:off x="1476360" y="333360"/>
            <a:ext cx="1181160" cy="1781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http://s3.amazonaws.com/mendeley-photos/94/4e/944e4aa0f0971342c4fa11109483acab1ade1979std.png"/>
          <p:cNvPicPr/>
          <p:nvPr/>
        </p:nvPicPr>
        <p:blipFill>
          <a:blip r:embed="rId2"/>
          <a:stretch/>
        </p:blipFill>
        <p:spPr>
          <a:xfrm>
            <a:off x="6300720" y="404640"/>
            <a:ext cx="120348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4:37:00Z</dcterms:created>
  <dc:creator>Martin O'Flaherty</dc:creator>
  <dc:description/>
  <dc:language>en-US</dc:language>
  <cp:lastModifiedBy>Simon Capewell</cp:lastModifiedBy>
  <dcterms:modified xsi:type="dcterms:W3CDTF">2013-09-14T16:11:25Z</dcterms:modified>
  <cp:revision>9</cp:revision>
  <dc:subject/>
  <dc:title>RESCAP-MED: University of Liverpool</dc:title>
</cp:coreProperties>
</file>