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27.png" ContentType="image/png"/>
  <Override PartName="/ppt/media/image29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4.png" ContentType="image/png"/>
  <Override PartName="/ppt/media/image12.jpeg" ContentType="image/jpeg"/>
  <Override PartName="/ppt/media/image34.png" ContentType="image/png"/>
  <Override PartName="/ppt/media/image28.png" ContentType="image/png"/>
  <Override PartName="/ppt/media/image30.png" ContentType="image/png"/>
  <Override PartName="/ppt/media/image5.png" ContentType="image/png"/>
  <Override PartName="/ppt/media/image35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1.jpeg" ContentType="image/jpeg"/>
  <Override PartName="/ppt/media/image10.jpeg" ContentType="image/jpe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4F952-4096-439A-B8E5-FDC72B700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87104-43F0-4B0C-A51B-B3508A4D7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B9EB8C-4D80-4EFE-AEB3-7A59F5229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D194CD-CD36-44EB-AC90-DBCE448D6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12A513-C008-4065-B086-249702E1A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DEDBAC-93CB-496B-979D-DF0B48FDD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3D814D-B692-4FF6-ACDF-DE6739C24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A586E9-C4CF-4457-8989-7F8800A62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97AAA1-D36B-44AA-A850-3EBB0E1BD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ED3AAB-EECE-494C-B7B9-6E58C68C2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EF73E8-738D-4D6F-A1AE-71C9C1C3C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47200-0813-4C84-8375-F740D4B9C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FC10D-63CE-418E-ACAB-4F7C2DA0D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5485D-B71C-4130-B187-980E1A363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7080C-D35A-47AD-AFB7-7B600D34D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B373E-B9E6-4DDA-8068-AF45F47F0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1E336-F843-41B4-BE12-3501380A3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3A47E-F59D-4316-82D1-C7AEC28CE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11EAE-800B-4EE9-A477-7D6A1400B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CD551-41CF-43E0-94AF-7F6001F1F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A3524-B7C6-435D-AF3D-1612C0F0B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CB711-2551-454B-A004-AF596D2BF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5E939-8D06-4B9E-8B56-9FE04C3AC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0F9C4-8842-4489-A9CF-D964FA88D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45EC9-44B7-40B5-ACC8-F3E13A184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2F6F9-3022-40BC-BFC4-901C37F8E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099D86-DAC2-4B45-8AD7-865418BA4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C33683-1218-4A22-9030-B10BF37FF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252B64-3674-4E3F-8F4B-6CADB38A9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48A4F6-109A-4C40-B035-2514E3561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FF8E8C-78BC-4DA8-8262-B25310D54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2E198-3DCF-4E89-97B2-4079CA8B1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6C48EE-54F6-4B54-8F1C-AA82EBCE2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11547B-D3DD-4F8A-B0BB-B7C6B9E5F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D33647-8EE8-4FA6-BFC8-8A634FE45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A7C4E6-0733-431A-B1F3-1FCF1A129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C0D6A7-5F67-4352-B53A-D0BA77017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F30F14-F993-41B7-8532-C81EED7EB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00A091-2C3E-4CD5-A382-A937B0652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6537CE-46DF-45E3-B1E8-61A2BDE0C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867144-C513-4004-9B67-7A3E0EA44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D443CC-80D5-4237-8A43-0C456C711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A170E-199F-4CE7-829B-38A2017D6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AB7F22-36FF-4F46-8D2C-CD67F7851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3AC1CD-B149-410F-AD4C-C6D2B7642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D4FA95-18EC-4A61-9FC1-FA05796F2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62AB42-F773-4916-B285-950924D1D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D515B5-36B0-4589-BB5B-68B1EF484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55F53E-D2D2-4B7B-BCD7-D72134825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593678-5EE4-4DCD-AE91-B63FDC6B3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35C1C1-376C-41DB-8AFE-95B0FDFC9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14BBA8-1978-4FCE-9A4B-4DCDEA41A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12A560-0DFC-4F00-90E7-6AA46F113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D71F6-1420-4FC4-9E2A-CC5DEACC4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627366-4B0C-4EB4-BB1E-E7F484079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479D39-50A2-4893-856E-560836248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8C70F1-75C2-48D8-88A9-F42C5B2D7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C69C2A-0E78-4538-888F-168001B89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9BE571-76D0-48B0-BB9B-B026FB6E5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EB59FC-4622-4FAC-9B26-43D78F9D2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498B5E-51ED-422B-85F8-867654E66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EE8CCF-0A9A-4C7F-A2C2-29AD52797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BC1FE9-BE29-4DA1-998A-336B5D30F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BB6B60-4DD5-4C3A-99E9-B3F8A6D47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CBC31-B892-4A10-AAED-8EE35B2BB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D030CE-19F2-4DE5-ABD0-F76BC87ED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F34E0D-D4F7-40B6-B207-44A7CE3CD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C7E411-51CA-40CC-B06C-D33A848CB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0EA6B0-C27A-48FB-B6F4-62485F4A4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0241E5-06ED-4081-83C8-1C48B4A01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D24D55-707A-4252-B450-07AD66AF9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9D7F24-6DDA-4C7C-B505-1F851C7FA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886C8B-7D06-4056-BCF0-16B96A7F5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8BBDC0-B9BA-47A2-85DC-7278C9EF5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A6D61F-E091-4DAA-AB54-6FE360183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D60FC-D93C-42BA-92D2-13AB0DB1B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07E4BC-1FD8-4A4F-B028-CEBA00124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D67F50-C649-4ACA-B273-1BB72779F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FF50DC-80FD-4244-88B2-B45CAD70B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475142-BD0D-4520-8B61-EC53A910E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E493A6-C976-4855-B8D5-86F2FEB2D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EFCC04-7522-41A2-98D2-C3379B231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D64E80-B508-4C57-A3BC-60FFFBD61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D22031-D0D6-4A04-9B7E-0585A4289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E30F8F-DFD8-4192-AB9E-40EC2B3B9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95B856-9640-43D2-B490-64ECD67C7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B3245-61B5-46BE-BDD9-CA254B553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A3FDB4-4302-4780-90AD-8FAF34D12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A1F81B-803F-459D-8236-37F470848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056EC0-3647-4EC9-ACE5-2D31783D3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71E53E-FB67-4806-AAB3-D01307A54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FC6150-7F9E-42ED-893D-F20280461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EA7527-28E2-4A26-8601-30DB8440C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4BC852-7476-4587-87CA-5304597AC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0F89A9-8CF8-43E8-92C5-D9A1E3E7E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B79C27-8C22-42D0-B947-B662585E8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C8A4E6-11BE-4E27-BAC2-EDCC78D1F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7F22A-A25A-459A-B32C-D86D3C3FF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04C81E-034F-4D6C-B3C4-4138EC0EE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85A8A9-3B72-43A9-A6CD-197B98CD0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36B59D-7140-4188-AA9F-FC078F0B2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4621D9-FD89-4432-9DC9-E80368FBE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309B53-E5BF-4A34-B1CF-D55D1D29A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FE08F2-7C12-4020-AC5A-0F9A1EF01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726C22-46EC-4838-82BF-78A67A5B4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256F5A-397F-4546-BBE4-DB8CC89C6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F32650-071B-4B3A-A20A-588C79A55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F83FBD-CCBB-414F-A2DB-0264D6E7D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85.xml"/><Relationship Id="rId9" Type="http://schemas.openxmlformats.org/officeDocument/2006/relationships/slideLayout" Target="../slideLayouts/slideLayout86.xml"/><Relationship Id="rId10" Type="http://schemas.openxmlformats.org/officeDocument/2006/relationships/slideLayout" Target="../slideLayouts/slideLayout87.xml"/><Relationship Id="rId11" Type="http://schemas.openxmlformats.org/officeDocument/2006/relationships/slideLayout" Target="../slideLayouts/slideLayout88.xml"/><Relationship Id="rId12" Type="http://schemas.openxmlformats.org/officeDocument/2006/relationships/slideLayout" Target="../slideLayouts/slideLayout89.xml"/><Relationship Id="rId13" Type="http://schemas.openxmlformats.org/officeDocument/2006/relationships/slideLayout" Target="../slideLayouts/slideLayout90.xml"/><Relationship Id="rId14" Type="http://schemas.openxmlformats.org/officeDocument/2006/relationships/slideLayout" Target="../slideLayouts/slideLayout91.xml"/><Relationship Id="rId15" Type="http://schemas.openxmlformats.org/officeDocument/2006/relationships/slideLayout" Target="../slideLayouts/slideLayout92.xml"/><Relationship Id="rId16" Type="http://schemas.openxmlformats.org/officeDocument/2006/relationships/slideLayout" Target="../slideLayouts/slideLayout93.xml"/><Relationship Id="rId17" Type="http://schemas.openxmlformats.org/officeDocument/2006/relationships/slideLayout" Target="../slideLayouts/slideLayout94.xml"/><Relationship Id="rId18" Type="http://schemas.openxmlformats.org/officeDocument/2006/relationships/slideLayout" Target="../slideLayouts/slideLayout95.xml"/><Relationship Id="rId19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a6b9db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1f497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44984-2485-40C4-B249-15CF048E9492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a6b9db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50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2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53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154c8e"/>
              </a:gs>
              <a:gs pos="50000">
                <a:srgbClr val="5e91da"/>
              </a:gs>
              <a:gs pos="100000">
                <a:srgbClr val="154c8e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55" name="Freeform 16"/>
            <p:cNvSpPr/>
            <p:nvPr/>
          </p:nvSpPr>
          <p:spPr>
            <a:xfrm>
              <a:off x="1694520" y="4952880"/>
              <a:ext cx="7449480" cy="48816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8160"/>
                <a:gd name="textAreaBottom" fmla="*/ 488520 h 48816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a6b9db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8"/>
            <p:cNvSpPr/>
            <p:nvPr/>
          </p:nvSpPr>
          <p:spPr>
            <a:xfrm>
              <a:off x="44280" y="5237640"/>
              <a:ext cx="9099720" cy="788760"/>
            </a:xfrm>
            <a:custGeom>
              <a:avLst/>
              <a:gdLst>
                <a:gd name="textAreaLeft" fmla="*/ 0 w 9099720"/>
                <a:gd name="textAreaRight" fmla="*/ 9100080 w 9099720"/>
                <a:gd name="textAreaTop" fmla="*/ 0 h 788760"/>
                <a:gd name="textAreaBottom" fmla="*/ 789120 h 78876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Freeform 19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8" name="Freeform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" name=""/>
              <p:cNvSpPr/>
              <p:nvPr/>
            </p:nvSpPr>
            <p:spPr>
              <a:xfrm>
                <a:off x="864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60" name="Straight Connector 20" descr=""/>
            <p:cNvPicPr/>
            <p:nvPr/>
          </p:nvPicPr>
          <p:blipFill>
            <a:blip r:embed="rId5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1f497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8F6EF-71E5-4324-9F69-72C5C1911611}" type="slidenum">
              <a:rPr b="0" lang="en-GB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a6b9db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05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7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grpSp>
        <p:nvGrpSpPr>
          <p:cNvPr id="108" name="Chevron 10"/>
          <p:cNvGrpSpPr/>
          <p:nvPr/>
        </p:nvGrpSpPr>
        <p:grpSpPr>
          <a:xfrm>
            <a:off x="3565440" y="2962440"/>
            <a:ext cx="336600" cy="377640"/>
            <a:chOff x="3565440" y="2962440"/>
            <a:chExt cx="336600" cy="377640"/>
          </a:xfrm>
        </p:grpSpPr>
        <p:pic>
          <p:nvPicPr>
            <p:cNvPr id="109" name="Chevron 10" descr=""/>
            <p:cNvPicPr/>
            <p:nvPr/>
          </p:nvPicPr>
          <p:blipFill>
            <a:blip r:embed="rId4"/>
            <a:stretch/>
          </p:blipFill>
          <p:spPr>
            <a:xfrm>
              <a:off x="3565440" y="2962440"/>
              <a:ext cx="336600" cy="37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"/>
            <p:cNvSpPr/>
            <p:nvPr/>
          </p:nvSpPr>
          <p:spPr>
            <a:xfrm>
              <a:off x="3637080" y="3005280"/>
              <a:ext cx="182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Chevron 15"/>
          <p:cNvGrpSpPr/>
          <p:nvPr/>
        </p:nvGrpSpPr>
        <p:grpSpPr>
          <a:xfrm>
            <a:off x="3376440" y="2962440"/>
            <a:ext cx="336600" cy="377640"/>
            <a:chOff x="3376440" y="2962440"/>
            <a:chExt cx="336600" cy="377640"/>
          </a:xfrm>
        </p:grpSpPr>
        <p:pic>
          <p:nvPicPr>
            <p:cNvPr id="112" name="Chevron 15" descr=""/>
            <p:cNvPicPr/>
            <p:nvPr/>
          </p:nvPicPr>
          <p:blipFill>
            <a:blip r:embed="rId5"/>
            <a:stretch/>
          </p:blipFill>
          <p:spPr>
            <a:xfrm>
              <a:off x="3376440" y="2962440"/>
              <a:ext cx="336600" cy="37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"/>
            <p:cNvSpPr/>
            <p:nvPr/>
          </p:nvSpPr>
          <p:spPr>
            <a:xfrm>
              <a:off x="3449520" y="3005280"/>
              <a:ext cx="184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eeece1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eeece1"/>
              </a:solidFill>
              <a:latin typeface="Lucida Sans Unicod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AC59E-14E9-4B9A-96F4-17B68D2A6466}" type="slidenum">
              <a:rPr b="0" lang="en-GB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a6b9db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58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0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eeece1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eeece1"/>
              </a:solidFill>
              <a:latin typeface="Lucida Sans Unicode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FB0DA-5E54-4151-9D99-FF7AFF6EB6F8}" type="slidenum">
              <a:rPr b="0" lang="en-GB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a6b9db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05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7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1f497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FB3EE-800F-462E-A3A5-8EA98BA819D9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a6b9db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1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52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54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eeece1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eeece1"/>
              </a:solidFill>
              <a:latin typeface="Lucida Sans Unicode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F9421-61B1-454C-BAA5-F8009FE12C2F}" type="slidenum">
              <a:rPr b="0" lang="en-GB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a6b9db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8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99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01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1f497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9981A-C595-4269-AF62-A429844A1513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a6b9db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5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46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48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49" name="Freef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a6b9db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Freef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1" name="Right Triangle 16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52" name="Right Triangle 16" descr=""/>
            <p:cNvPicPr/>
            <p:nvPr/>
          </p:nvPicPr>
          <p:blipFill>
            <a:blip r:embed="rId4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3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54" name="Straight Connector 18" descr=""/>
          <p:cNvPicPr/>
          <p:nvPr/>
        </p:nvPicPr>
        <p:blipFill>
          <a:blip r:embed="rId5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grpSp>
        <p:nvGrpSpPr>
          <p:cNvPr id="355" name="Chevron 19"/>
          <p:cNvGrpSpPr/>
          <p:nvPr/>
        </p:nvGrpSpPr>
        <p:grpSpPr>
          <a:xfrm>
            <a:off x="8589960" y="4943520"/>
            <a:ext cx="334800" cy="377640"/>
            <a:chOff x="8589960" y="4943520"/>
            <a:chExt cx="334800" cy="377640"/>
          </a:xfrm>
        </p:grpSpPr>
        <p:pic>
          <p:nvPicPr>
            <p:cNvPr id="356" name="Chevron 19" descr=""/>
            <p:cNvPicPr/>
            <p:nvPr/>
          </p:nvPicPr>
          <p:blipFill>
            <a:blip r:embed="rId6"/>
            <a:stretch/>
          </p:blipFill>
          <p:spPr>
            <a:xfrm>
              <a:off x="8589960" y="4943520"/>
              <a:ext cx="334800" cy="37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7" name=""/>
            <p:cNvSpPr/>
            <p:nvPr/>
          </p:nvSpPr>
          <p:spPr>
            <a:xfrm>
              <a:off x="8664480" y="4987800"/>
              <a:ext cx="182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8" name="Chevron 20"/>
          <p:cNvGrpSpPr/>
          <p:nvPr/>
        </p:nvGrpSpPr>
        <p:grpSpPr>
          <a:xfrm>
            <a:off x="8405640" y="4943520"/>
            <a:ext cx="336600" cy="377640"/>
            <a:chOff x="8405640" y="4943520"/>
            <a:chExt cx="336600" cy="377640"/>
          </a:xfrm>
        </p:grpSpPr>
        <p:pic>
          <p:nvPicPr>
            <p:cNvPr id="359" name="Chevron 20" descr=""/>
            <p:cNvPicPr/>
            <p:nvPr/>
          </p:nvPicPr>
          <p:blipFill>
            <a:blip r:embed="rId7"/>
            <a:stretch/>
          </p:blipFill>
          <p:spPr>
            <a:xfrm>
              <a:off x="8405640" y="4943520"/>
              <a:ext cx="336600" cy="37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0" name=""/>
            <p:cNvSpPr/>
            <p:nvPr/>
          </p:nvSpPr>
          <p:spPr>
            <a:xfrm>
              <a:off x="8477280" y="4987800"/>
              <a:ext cx="182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eeece1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eeece1"/>
              </a:solidFill>
              <a:latin typeface="Lucida Sans Unicode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78833-6A32-42CF-9388-831A467337A0}" type="slidenum">
              <a:rPr b="0" lang="en-GB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8"/>
    <p:sldLayoutId id="2147483741" r:id="rId9"/>
    <p:sldLayoutId id="2147483742" r:id="rId10"/>
    <p:sldLayoutId id="2147483743" r:id="rId11"/>
    <p:sldLayoutId id="2147483744" r:id="rId12"/>
    <p:sldLayoutId id="2147483745" r:id="rId13"/>
    <p:sldLayoutId id="2147483746" r:id="rId14"/>
    <p:sldLayoutId id="2147483747" r:id="rId15"/>
    <p:sldLayoutId id="2147483748" r:id="rId16"/>
    <p:sldLayoutId id="2147483749" r:id="rId17"/>
    <p:sldLayoutId id="2147483750" r:id="rId18"/>
    <p:sldLayoutId id="2147483751" r:id="rId19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a6b9db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4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405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6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07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1f497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4A949-51C1-40A7-8797-5267DE5F00B0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Rectangle 4" descr=""/>
          <p:cNvPicPr/>
          <p:nvPr/>
        </p:nvPicPr>
        <p:blipFill>
          <a:blip r:embed="rId1"/>
          <a:stretch/>
        </p:blipFill>
        <p:spPr>
          <a:xfrm>
            <a:off x="487440" y="2871720"/>
            <a:ext cx="8186760" cy="1785960"/>
          </a:xfrm>
          <a:prstGeom prst="rect">
            <a:avLst/>
          </a:prstGeom>
          <a:ln w="0">
            <a:noFill/>
          </a:ln>
        </p:spPr>
      </p:pic>
      <p:sp>
        <p:nvSpPr>
          <p:cNvPr id="450" name="PlaceHolder 1"/>
          <p:cNvSpPr>
            <a:spLocks noGrp="1"/>
          </p:cNvSpPr>
          <p:nvPr>
            <p:ph type="subTitle"/>
          </p:nvPr>
        </p:nvSpPr>
        <p:spPr>
          <a:xfrm>
            <a:off x="685800" y="443664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Lucida Sans Unicode"/>
              </a:rPr>
              <a:t>Julia Critchley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451" name="Group 2"/>
          <p:cNvGrpSpPr/>
          <p:nvPr/>
        </p:nvGrpSpPr>
        <p:grpSpPr>
          <a:xfrm>
            <a:off x="85680" y="115920"/>
            <a:ext cx="1606680" cy="530280"/>
            <a:chOff x="85680" y="115920"/>
            <a:chExt cx="1606680" cy="530280"/>
          </a:xfrm>
        </p:grpSpPr>
        <p:pic>
          <p:nvPicPr>
            <p:cNvPr id="452" name="Picture 5" descr="http://research.ncl.ac.uk/media/sites/researchwebsites/rescapmed/EUlogo.jpg"/>
            <p:cNvPicPr/>
            <p:nvPr/>
          </p:nvPicPr>
          <p:blipFill>
            <a:blip r:embed="rId2"/>
            <a:stretch/>
          </p:blipFill>
          <p:spPr>
            <a:xfrm>
              <a:off x="85680" y="115920"/>
              <a:ext cx="811440" cy="530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3" name="Picture 7" descr="http://research.ncl.ac.uk/media/sites/researchwebsites/rescapmed/FP7logo2.jpg"/>
            <p:cNvPicPr/>
            <p:nvPr/>
          </p:nvPicPr>
          <p:blipFill>
            <a:blip r:embed="rId3"/>
            <a:stretch/>
          </p:blipFill>
          <p:spPr>
            <a:xfrm>
              <a:off x="1044360" y="120600"/>
              <a:ext cx="648000" cy="5256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54" name="Picture 1" descr=""/>
          <p:cNvPicPr/>
          <p:nvPr/>
        </p:nvPicPr>
        <p:blipFill>
          <a:blip r:embed="rId4"/>
          <a:stretch/>
        </p:blipFill>
        <p:spPr>
          <a:xfrm>
            <a:off x="7000920" y="109440"/>
            <a:ext cx="2093760" cy="1481400"/>
          </a:xfrm>
          <a:prstGeom prst="rect">
            <a:avLst/>
          </a:prstGeom>
          <a:ln w="0">
            <a:noFill/>
          </a:ln>
        </p:spPr>
      </p:pic>
      <p:pic>
        <p:nvPicPr>
          <p:cNvPr id="455" name="Picture 2" descr=""/>
          <p:cNvPicPr/>
          <p:nvPr/>
        </p:nvPicPr>
        <p:blipFill>
          <a:blip r:embed="rId5"/>
          <a:stretch/>
        </p:blipFill>
        <p:spPr>
          <a:xfrm>
            <a:off x="2484360" y="139680"/>
            <a:ext cx="3527640" cy="163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2" name="Title 1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47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In relation to your research study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ust be defined by this guiding concept (ie your research objective, the problem or issue you are discussing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Not just a descriptive list of the material available, or a set of summari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4" name="Title 1" descr=""/>
          <p:cNvPicPr/>
          <p:nvPr/>
        </p:nvPicPr>
        <p:blipFill>
          <a:blip r:embed="rId1"/>
          <a:stretch/>
        </p:blipFill>
        <p:spPr>
          <a:xfrm>
            <a:off x="176040" y="182520"/>
            <a:ext cx="8791920" cy="1238400"/>
          </a:xfrm>
          <a:prstGeom prst="rect">
            <a:avLst/>
          </a:prstGeom>
          <a:ln w="0">
            <a:noFill/>
          </a:ln>
        </p:spPr>
      </p:pic>
      <p:sp>
        <p:nvSpPr>
          <p:cNvPr id="475" name=""/>
          <p:cNvSpPr txBox="1"/>
          <p:nvPr/>
        </p:nvSpPr>
        <p:spPr>
          <a:xfrm>
            <a:off x="457200" y="1341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What are the main arguments?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Do the authors make similar or different arguments?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Are some arguments more convincing than others?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How has research been conducted in the literature?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How extensive has it been?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What kinds of data have been presented?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How pertinent are they?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Are there sufficient amounts of data?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Do they adequately answer the questions?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"/>
          <p:cNvSpPr txBox="1"/>
          <p:nvPr/>
        </p:nvSpPr>
        <p:spPr>
          <a:xfrm>
            <a:off x="457200" y="1481040"/>
            <a:ext cx="8229600" cy="50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What are the different types of methodologies used?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Sans Unicode"/>
              </a:rPr>
              <a:t>How well do they work?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Sans Unicode"/>
              </a:rPr>
              <a:t>Is one methodology more effective than others?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Sans Unicode"/>
              </a:rPr>
              <a:t>Why?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What are the different theoretical frameworks or approaches used?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Sans Unicode"/>
              </a:rPr>
              <a:t>What do they allow the authors o do?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Sans Unicode"/>
              </a:rPr>
              <a:t>How well do they work?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Sans Unicode"/>
              </a:rPr>
              <a:t>Is one approach more effective than others? Why?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Overall, is one work more convincing than others?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Sans Unicode"/>
              </a:rPr>
              <a:t>Why?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Sans Unicode"/>
              </a:rPr>
              <a:t>Or are the works you have compared too different to evaluate against each other?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77" name="Tit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8" name="Title 1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479" name=""/>
          <p:cNvSpPr txBox="1"/>
          <p:nvPr/>
        </p:nvSpPr>
        <p:spPr>
          <a:xfrm>
            <a:off x="45720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Lucida Sans Unicode"/>
              </a:rPr>
              <a:t>Searching for literature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Not extensive or exhaustive “systematic review”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Do not need to identify “all literature”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Recent literature will often do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BUT do need to identify key articles in the field (not always recent)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Lucida Sans Unicode"/>
              </a:rPr>
              <a:t>Key articles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Cited a lot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High impact journals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Check citations e.g. in pubmed, google scholar, science citation index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MEDLINE (PubMed)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Systematic review articles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Science Citation Index (can be very helpful if there is a “key paper” that most relevant studies will have cited)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0" name="Rectangle 2" descr=""/>
          <p:cNvPicPr/>
          <p:nvPr/>
        </p:nvPicPr>
        <p:blipFill>
          <a:blip r:embed="rId1"/>
          <a:stretch/>
        </p:blipFill>
        <p:spPr>
          <a:xfrm>
            <a:off x="384120" y="36360"/>
            <a:ext cx="8302680" cy="1024200"/>
          </a:xfrm>
          <a:prstGeom prst="rect">
            <a:avLst/>
          </a:prstGeom>
          <a:ln w="0">
            <a:noFill/>
          </a:ln>
        </p:spPr>
      </p:pic>
      <p:pic>
        <p:nvPicPr>
          <p:cNvPr id="481" name="Picture 4" descr=""/>
          <p:cNvPicPr/>
          <p:nvPr/>
        </p:nvPicPr>
        <p:blipFill>
          <a:blip r:embed="rId2"/>
          <a:srcRect l="0" t="0" r="-1248" b="-2039"/>
          <a:stretch/>
        </p:blipFill>
        <p:spPr>
          <a:xfrm>
            <a:off x="2209680" y="1066680"/>
            <a:ext cx="6782040" cy="5083200"/>
          </a:xfrm>
          <a:prstGeom prst="rect">
            <a:avLst/>
          </a:prstGeom>
          <a:ln w="0">
            <a:noFill/>
          </a:ln>
        </p:spPr>
      </p:pic>
      <p:sp>
        <p:nvSpPr>
          <p:cNvPr id="482" name="AutoShape 7"/>
          <p:cNvSpPr/>
          <p:nvPr/>
        </p:nvSpPr>
        <p:spPr>
          <a:xfrm>
            <a:off x="152280" y="5334120"/>
            <a:ext cx="2057400" cy="761760"/>
          </a:xfrm>
          <a:prstGeom prst="rightArrow">
            <a:avLst>
              <a:gd name="adj1" fmla="val 50000"/>
              <a:gd name="adj2" fmla="val 67521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-1080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1f497d"/>
              </a:solidFill>
              <a:latin typeface="Lucida Sans Unicode"/>
            </a:endParaRPr>
          </a:p>
        </p:txBody>
      </p:sp>
      <p:pic>
        <p:nvPicPr>
          <p:cNvPr id="484" name="Picture 4" descr=""/>
          <p:cNvPicPr/>
          <p:nvPr/>
        </p:nvPicPr>
        <p:blipFill>
          <a:blip r:embed="rId1"/>
          <a:srcRect l="0" t="0" r="-1066" b="-1359"/>
          <a:stretch/>
        </p:blipFill>
        <p:spPr>
          <a:xfrm>
            <a:off x="228600" y="185760"/>
            <a:ext cx="8610480" cy="6454800"/>
          </a:xfrm>
          <a:prstGeom prst="rect">
            <a:avLst/>
          </a:prstGeom>
          <a:ln w="0">
            <a:noFill/>
          </a:ln>
        </p:spPr>
      </p:pic>
      <p:sp>
        <p:nvSpPr>
          <p:cNvPr id="485" name="AutoShape 5"/>
          <p:cNvSpPr/>
          <p:nvPr/>
        </p:nvSpPr>
        <p:spPr>
          <a:xfrm>
            <a:off x="7010280" y="2743200"/>
            <a:ext cx="1600200" cy="762120"/>
          </a:xfrm>
          <a:prstGeom prst="leftArrow">
            <a:avLst>
              <a:gd name="adj1" fmla="val 50000"/>
              <a:gd name="adj2" fmla="val 5249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-1080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1f497d"/>
              </a:solidFill>
              <a:latin typeface="Lucida Sans Unicode"/>
            </a:endParaRPr>
          </a:p>
        </p:txBody>
      </p:sp>
      <p:pic>
        <p:nvPicPr>
          <p:cNvPr id="487" name="Picture 3" descr=""/>
          <p:cNvPicPr/>
          <p:nvPr/>
        </p:nvPicPr>
        <p:blipFill>
          <a:blip r:embed="rId1"/>
          <a:srcRect l="0" t="0" r="-1066" b="-1359"/>
          <a:stretch/>
        </p:blipFill>
        <p:spPr>
          <a:xfrm>
            <a:off x="228600" y="185760"/>
            <a:ext cx="8610480" cy="6454800"/>
          </a:xfrm>
          <a:prstGeom prst="rect">
            <a:avLst/>
          </a:prstGeom>
          <a:ln w="0">
            <a:noFill/>
          </a:ln>
        </p:spPr>
      </p:pic>
      <p:sp>
        <p:nvSpPr>
          <p:cNvPr id="488" name="AutoShape 4"/>
          <p:cNvSpPr/>
          <p:nvPr/>
        </p:nvSpPr>
        <p:spPr>
          <a:xfrm>
            <a:off x="7010280" y="2743200"/>
            <a:ext cx="1600200" cy="762120"/>
          </a:xfrm>
          <a:prstGeom prst="leftArrow">
            <a:avLst>
              <a:gd name="adj1" fmla="val 50000"/>
              <a:gd name="adj2" fmla="val 5249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AutoShape 5"/>
          <p:cNvSpPr/>
          <p:nvPr/>
        </p:nvSpPr>
        <p:spPr>
          <a:xfrm>
            <a:off x="457200" y="3809880"/>
            <a:ext cx="1433520" cy="685800"/>
          </a:xfrm>
          <a:prstGeom prst="rightArrow">
            <a:avLst>
              <a:gd name="adj1" fmla="val 50000"/>
              <a:gd name="adj2" fmla="val 5225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-1080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1f497d"/>
              </a:solidFill>
              <a:latin typeface="Lucida Sans Unicode"/>
            </a:endParaRPr>
          </a:p>
        </p:txBody>
      </p:sp>
      <p:pic>
        <p:nvPicPr>
          <p:cNvPr id="491" name="Picture 4" descr=""/>
          <p:cNvPicPr/>
          <p:nvPr/>
        </p:nvPicPr>
        <p:blipFill>
          <a:blip r:embed="rId1"/>
          <a:srcRect l="0" t="0" r="-108" b="-281"/>
          <a:stretch/>
        </p:blipFill>
        <p:spPr>
          <a:xfrm>
            <a:off x="0" y="3240"/>
            <a:ext cx="9144000" cy="685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-1080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1f497d"/>
              </a:solidFill>
              <a:latin typeface="Lucida Sans Unicode"/>
            </a:endParaRPr>
          </a:p>
        </p:txBody>
      </p:sp>
      <p:pic>
        <p:nvPicPr>
          <p:cNvPr id="493" name="Picture 3" descr=""/>
          <p:cNvPicPr/>
          <p:nvPr/>
        </p:nvPicPr>
        <p:blipFill>
          <a:blip r:embed="rId1"/>
          <a:srcRect l="0" t="0" r="-108" b="-281"/>
          <a:stretch/>
        </p:blipFill>
        <p:spPr>
          <a:xfrm>
            <a:off x="0" y="324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494" name="AutoShape 4"/>
          <p:cNvSpPr/>
          <p:nvPr/>
        </p:nvSpPr>
        <p:spPr>
          <a:xfrm>
            <a:off x="7162920" y="1219320"/>
            <a:ext cx="1066680" cy="1433520"/>
          </a:xfrm>
          <a:prstGeom prst="downArrow">
            <a:avLst>
              <a:gd name="adj1" fmla="val 50000"/>
              <a:gd name="adj2" fmla="val 33598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-2833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1f497d"/>
              </a:solidFill>
              <a:latin typeface="Lucida Sans Unicode"/>
            </a:endParaRPr>
          </a:p>
        </p:txBody>
      </p:sp>
      <p:pic>
        <p:nvPicPr>
          <p:cNvPr id="496" name="Picture 4" descr=""/>
          <p:cNvPicPr/>
          <p:nvPr/>
        </p:nvPicPr>
        <p:blipFill>
          <a:blip r:embed="rId1"/>
          <a:srcRect l="0" t="0" r="-753" b="-1378"/>
          <a:stretch/>
        </p:blipFill>
        <p:spPr>
          <a:xfrm>
            <a:off x="-152280" y="0"/>
            <a:ext cx="9296280" cy="7140600"/>
          </a:xfrm>
          <a:prstGeom prst="rect">
            <a:avLst/>
          </a:prstGeom>
          <a:ln w="0">
            <a:noFill/>
          </a:ln>
        </p:spPr>
      </p:pic>
      <p:sp>
        <p:nvSpPr>
          <p:cNvPr id="497" name="AutoShape 5"/>
          <p:cNvSpPr/>
          <p:nvPr/>
        </p:nvSpPr>
        <p:spPr>
          <a:xfrm>
            <a:off x="152280" y="2743200"/>
            <a:ext cx="1586160" cy="990720"/>
          </a:xfrm>
          <a:prstGeom prst="rightArrow">
            <a:avLst>
              <a:gd name="adj1" fmla="val 50000"/>
              <a:gd name="adj2" fmla="val 40025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6" name="Title 1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45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Lucida Sans Unicode"/>
              </a:rPr>
              <a:t>Provides an overview and a critical evaluation of a body of literature relating to a research topic or a research problem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Lucida Sans Unicode"/>
              </a:rPr>
              <a:t>Analyses a body of literature in order to classify it by themes or categories, rather than simply discussing individual works one after another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Lucida Sans Unicode"/>
              </a:rPr>
              <a:t>Presents the research and ideas of the field rather than each individual work or author by itself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-2833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1f497d"/>
              </a:solidFill>
              <a:latin typeface="Lucida Sans Unicode"/>
            </a:endParaRPr>
          </a:p>
        </p:txBody>
      </p:sp>
      <p:pic>
        <p:nvPicPr>
          <p:cNvPr id="499" name="Picture 3" descr=""/>
          <p:cNvPicPr/>
          <p:nvPr/>
        </p:nvPicPr>
        <p:blipFill>
          <a:blip r:embed="rId1"/>
          <a:srcRect l="0" t="0" r="-753" b="-1378"/>
          <a:stretch/>
        </p:blipFill>
        <p:spPr>
          <a:xfrm>
            <a:off x="-152280" y="0"/>
            <a:ext cx="9296280" cy="7140600"/>
          </a:xfrm>
          <a:prstGeom prst="rect">
            <a:avLst/>
          </a:prstGeom>
          <a:ln w="0">
            <a:noFill/>
          </a:ln>
        </p:spPr>
      </p:pic>
      <p:sp>
        <p:nvSpPr>
          <p:cNvPr id="500" name="AutoShape 4"/>
          <p:cNvSpPr/>
          <p:nvPr/>
        </p:nvSpPr>
        <p:spPr>
          <a:xfrm>
            <a:off x="152280" y="2743200"/>
            <a:ext cx="1586160" cy="990720"/>
          </a:xfrm>
          <a:prstGeom prst="rightArrow">
            <a:avLst>
              <a:gd name="adj1" fmla="val 50000"/>
              <a:gd name="adj2" fmla="val 40025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Line 7"/>
          <p:cNvSpPr/>
          <p:nvPr/>
        </p:nvSpPr>
        <p:spPr>
          <a:xfrm>
            <a:off x="3809880" y="2743200"/>
            <a:ext cx="381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Line 8"/>
          <p:cNvSpPr/>
          <p:nvPr/>
        </p:nvSpPr>
        <p:spPr>
          <a:xfrm>
            <a:off x="4191120" y="27432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Line 9"/>
          <p:cNvSpPr/>
          <p:nvPr/>
        </p:nvSpPr>
        <p:spPr>
          <a:xfrm flipH="1">
            <a:off x="3809520" y="3048120"/>
            <a:ext cx="381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Line 11"/>
          <p:cNvSpPr/>
          <p:nvPr/>
        </p:nvSpPr>
        <p:spPr>
          <a:xfrm flipV="1">
            <a:off x="3809880" y="274284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AutoShape 12"/>
          <p:cNvSpPr/>
          <p:nvPr/>
        </p:nvSpPr>
        <p:spPr>
          <a:xfrm>
            <a:off x="4267080" y="2590920"/>
            <a:ext cx="1219320" cy="685800"/>
          </a:xfrm>
          <a:prstGeom prst="leftArrow">
            <a:avLst>
              <a:gd name="adj1" fmla="val 50000"/>
              <a:gd name="adj2" fmla="val 44449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-2833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1f497d"/>
              </a:solidFill>
              <a:latin typeface="Lucida Sans Unicode"/>
            </a:endParaRPr>
          </a:p>
        </p:txBody>
      </p:sp>
      <p:pic>
        <p:nvPicPr>
          <p:cNvPr id="507" name="Picture 3" descr=""/>
          <p:cNvPicPr/>
          <p:nvPr/>
        </p:nvPicPr>
        <p:blipFill>
          <a:blip r:embed="rId1"/>
          <a:srcRect l="0" t="0" r="-753" b="-1378"/>
          <a:stretch/>
        </p:blipFill>
        <p:spPr>
          <a:xfrm>
            <a:off x="-152280" y="0"/>
            <a:ext cx="9296280" cy="7140600"/>
          </a:xfrm>
          <a:prstGeom prst="rect">
            <a:avLst/>
          </a:prstGeom>
          <a:ln w="0">
            <a:noFill/>
          </a:ln>
        </p:spPr>
      </p:pic>
      <p:sp>
        <p:nvSpPr>
          <p:cNvPr id="508" name="AutoShape 10"/>
          <p:cNvSpPr/>
          <p:nvPr/>
        </p:nvSpPr>
        <p:spPr>
          <a:xfrm>
            <a:off x="1752480" y="685800"/>
            <a:ext cx="914400" cy="1357200"/>
          </a:xfrm>
          <a:prstGeom prst="downArrow">
            <a:avLst>
              <a:gd name="adj1" fmla="val 50000"/>
              <a:gd name="adj2" fmla="val 3710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9" name="Title 1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51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Start with “</a:t>
            </a:r>
            <a:r>
              <a:rPr b="0" lang="en-GB" sz="2700" spc="-1" strike="noStrike">
                <a:solidFill>
                  <a:srgbClr val="ff0000"/>
                </a:solidFill>
                <a:latin typeface="Lucida Sans Unicode"/>
              </a:rPr>
              <a:t>What is known</a:t>
            </a: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”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In first sentence, state general topic of paper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Explain background / motivation (literature review) in a few sentences or paragraphs)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Narrow down to </a:t>
            </a:r>
            <a:r>
              <a:rPr b="0" lang="en-GB" sz="2300" spc="-1" strike="noStrike">
                <a:solidFill>
                  <a:srgbClr val="ff0000"/>
                </a:solidFill>
                <a:latin typeface="Lucida Sans Unicode"/>
              </a:rPr>
              <a:t>what is NOT known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1" name="Title 1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51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“</a:t>
            </a:r>
            <a:r>
              <a:rPr b="0" lang="en-GB" sz="2700" spc="-1" strike="noStrike">
                <a:solidFill>
                  <a:srgbClr val="ff0000"/>
                </a:solidFill>
                <a:latin typeface="Lucida Sans Unicode"/>
              </a:rPr>
              <a:t>What is not known</a:t>
            </a: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”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Brief statement, usually one sentence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Important, because it indicates: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100" spc="-1" strike="noStrike">
                <a:solidFill>
                  <a:srgbClr val="00b050"/>
                </a:solidFill>
                <a:latin typeface="Lucida Sans Unicode"/>
              </a:rPr>
              <a:t>that this work is new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100" spc="-1" strike="noStrike">
                <a:solidFill>
                  <a:srgbClr val="00b050"/>
                </a:solidFill>
                <a:latin typeface="Lucida Sans Unicode"/>
              </a:rPr>
              <a:t>links known and research question 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100" spc="-1" strike="noStrike">
                <a:solidFill>
                  <a:srgbClr val="00b050"/>
                </a:solidFill>
                <a:latin typeface="Lucida Sans Unicode"/>
              </a:rPr>
              <a:t>creates story line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3" name="Title 1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51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Flag this very clearly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E.g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“</a:t>
            </a: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is unknown”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“</a:t>
            </a: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is unclear”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“</a:t>
            </a: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needs to be determined”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349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Research Question must follow from “</a:t>
            </a:r>
            <a:r>
              <a:rPr b="0" lang="en-GB" sz="2700" spc="-1" strike="noStrike">
                <a:solidFill>
                  <a:srgbClr val="ff0000"/>
                </a:solidFill>
                <a:latin typeface="Lucida Sans Unicode"/>
              </a:rPr>
              <a:t>what is not known</a:t>
            </a: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”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349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5" name="Title 1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51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New sentence / paragraph for each known, unknown, quest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Use transition phrases and word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Repeat key them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IEA 2013 course on Epidemiology – Shah Ebrahim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Epidemiology Supercourse (presentations by Richard Smith and Pauls Zieg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18" name="Tit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8" name="Title 1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656560" cy="1243080"/>
          </a:xfrm>
          <a:prstGeom prst="rect">
            <a:avLst/>
          </a:prstGeom>
          <a:ln w="0">
            <a:noFill/>
          </a:ln>
        </p:spPr>
      </p:pic>
      <p:sp>
        <p:nvSpPr>
          <p:cNvPr id="45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Why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Has your research question already been answered? If so, how?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How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Search through the literatur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Writing of a review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0" name="Title 1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46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Lucida Sans Unicode"/>
              </a:rPr>
              <a:t>Situates your topic in relation to previous research and illuminates a spot for your research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[Also demonstrates your knowledge of literature]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Lucida Sans Unicode"/>
              </a:rPr>
              <a:t>Several goals: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provides background for your topic using previous research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shows you are familiar with previous, relevant research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evaluates the depth and breadth of the research in regards to your topic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determines remaining questions or aspects of your topic in need of research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2" name="Title 1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46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Overall, a literature review seeks to answer the following questions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What does the literature tell you?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What does the literature not tell you?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Why is this important?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Summarise everything in the field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Write loads and demonstrate you know “everything”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[This is just a few sentences to a few (short) paragraphs to put your work in context]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65" name="Tit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6" name="Title 1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46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1. Synthesize and evaluate informat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2. Identify the main ideas of the literatur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3. Identify the main argument of the literature review …[that supports your research question]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4. Organize the main points of the literature review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5. Write literature review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8" name="Title 1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46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Critical thinking, reading, and writing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Strategies for reading</a:t>
            </a: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take note of the themes or categorie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may be used later to develop a structure for the literature review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take note of how other writers classify their data, the literature in their fields, etc.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read literature reviews in other papers to see how they have been structured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Lucida Sans Unicode"/>
              </a:rPr>
              <a:t>Form categories for analysis and comparison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Lucida Sans Unicode"/>
              </a:rPr>
              <a:t>A strong literature review examines each work on its own and in relation to other works by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identifying and then analysing them with regards to a number of different research aspects and ideas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Lucida Sans Unicode"/>
              </a:rPr>
              <a:t>possible categories to use for comparison and analysis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topic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argument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results found and conclusions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methods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theoretical approach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71" name="Tit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3T14:49:39Z</dcterms:created>
  <dc:creator>ntpm</dc:creator>
  <dc:description/>
  <dc:language>en-US</dc:language>
  <cp:lastModifiedBy>Licenced User</cp:lastModifiedBy>
  <cp:lastPrinted>2012-08-01T12:36:40Z</cp:lastPrinted>
  <dcterms:modified xsi:type="dcterms:W3CDTF">2014-09-18T15:36:43Z</dcterms:modified>
  <cp:revision>264</cp:revision>
  <dc:subject/>
  <dc:title>Slide 1</dc:title>
</cp:coreProperties>
</file>