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2439-1B85-47E4-BC65-6834D55F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844-FD75-4A19-824E-8FC9EF1D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1AA-7640-4969-AC10-0B728F74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322-D425-4BFF-9CB8-110248AF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C64-EE82-4866-A23B-37C23E06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12A-ECF9-45D7-B5A0-79401A06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D20-1752-4940-A046-783A9CC9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828-FDBB-4797-87F3-3FD0B3F8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385-54A3-4890-89F1-3B33BA37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000-2892-4731-9AA5-EF6910A8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875-8E97-4488-B8EB-0241C9FD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6C8-72D4-45E8-9CA8-077B932E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9779-095B-47CE-A7F2-B311DADDDC68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lanning the writing – 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utline sections of the paper/main mess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Kath Benn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85680" y="115920"/>
            <a:ext cx="1965240" cy="865080"/>
            <a:chOff x="85680" y="115920"/>
            <a:chExt cx="1965240" cy="865080"/>
          </a:xfrm>
        </p:grpSpPr>
        <p:pic>
          <p:nvPicPr>
            <p:cNvPr id="44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85680" y="115920"/>
              <a:ext cx="9925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258200" y="123840"/>
              <a:ext cx="7927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940360" y="109440"/>
            <a:ext cx="31543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 the introduction you will need to do the following thing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esent relevant background or contextual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fine terms or concepts when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xplain the focus of the paper and your specific purp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ink about how you would plan the paragraphs in the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your outline as flexible gui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uild your paper around points you want to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egrate your sources into your discu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mmarize, analyze, explain, and evaluate published work rather than merely reporting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ve up and down the "ladder of abstraction" from generalization to varying levels of detail back to gener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tate the general topic of the paper, background &amp; moti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un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Important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Indicate your work is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Links the known to the 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Example, ‘it is not yet known how obesity is linked to cancer….’ ‘To answer this question we conducted a cohort study of …..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Your research questio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pecific topic, follows known and unknown. Importance of research should be evid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ably easiest place to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ow did you do the study? Plan out and describe what you did in detail. Order using subheadings (Design, setting, participants, etc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lude interventions used, instruments and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Get assistance with writing the statistical methods section if not familiar, or other 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lan what tables and/or figures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ly those pertinent to answering your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ot too many, many journals have an upper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f only few data in a table then include in th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sub-headings to pla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discussion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lan the paragraphs/subheadings of the discussion. Guidelines are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Start with summary with reference to objectives; strengths &amp; limitations, interpretation, i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ve from a detailed to a general level of consideration in concluding that returns the topic to the context provided by the introdu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erhaps suggest further research that is requi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yrami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ing each section and each paragraph to support the main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afting ; re-read what you hav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 all sections link to the objectives of the resear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es it tell a coherent 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there anything missing? Are you fully up-to-date with the litera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need to start from sou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d finally the abstra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bstract should be written last after the rest of the paper has been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hort summary that connects the  research question to the methods, results and final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ludes only relevant information to ge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key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ke interesting – usually first (and only) part that some researchers rea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 what to write: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do in a nutshe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is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How did I solve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terials and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find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oes it mea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 helped me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cknowledgments (optio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se work did I refer t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iterature Ci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xtra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ppendices (op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 not start with the abstract (unless you had one prepared for a conference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Literature review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rea thoroughly – for known and unknown information – leading into your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rite ou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search questions/aim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ain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do you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conclud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nteresting about this question? Hook your readers with an interesting fact that might make them curious about this top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d articles that support or refute your findings. List the main points from these and any strengths and limitations of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ALYSIS OF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ideas, findings from these studies. What makes them the same or different to what you propose?, and why are they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known about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unknown, where are the ga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RIGIN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original about your research? Why is better than what has gone bef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findings and messages that you would like to get acro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answer to your research question posed at the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most likely explan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implications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an Outline for Yourself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sider the following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top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signific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background material is relev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my purpose stat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organizational plan will best support my purpo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0:07Z</dcterms:created>
  <dc:creator>Kathleen Bennett</dc:creator>
  <dc:description/>
  <dc:language>en-US</dc:language>
  <cp:lastModifiedBy>Licenced User</cp:lastModifiedBy>
  <dcterms:modified xsi:type="dcterms:W3CDTF">2014-09-18T15:33:38Z</dcterms:modified>
  <cp:revision>11</cp:revision>
  <dc:subject/>
  <dc:title>Planning the writing –   outline sections of the paper/main messages</dc:title>
</cp:coreProperties>
</file>