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FCAC-C465-4222-8495-999351CE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7284-2D18-4508-9615-0A8ACA81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E809-3841-4618-8654-9F73CFA1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D58F-E5E5-4A19-B436-5583011B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F47F-B255-4278-A858-FF990E4B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0EDCB-27AB-4EE6-B79A-B425B274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CE16-1AB8-4F52-B22A-A4C7F956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3AE4-FA00-4CBE-9CF6-D12A1338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89B8-FB1E-44C3-90AC-BE338DA3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AF45-4236-4755-8839-34E851F7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1FA6-71B8-4AD0-869F-EBC20274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6ED0-697D-4F5C-8A8A-FB59B7C4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73e8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f5c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6EC8-DB0D-4512-BA4D-95BA9BEC6686}" type="slidenum">
              <a:rPr b="0" lang="en-GB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-andrews.ac.uk/intrel/css/publications/thestandrewspapersoncontemporarysyria/" TargetMode="External"/><Relationship Id="rId2" Type="http://schemas.openxmlformats.org/officeDocument/2006/relationships/hyperlink" Target="http://www.st-andrews.ac.uk/intrel/css/publications/thestandrewspapersoncontemporarysyria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6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eter Philim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"/>
          <p:cNvGrpSpPr/>
          <p:nvPr/>
        </p:nvGrpSpPr>
        <p:grpSpPr>
          <a:xfrm>
            <a:off x="0" y="311040"/>
            <a:ext cx="1606680" cy="530280"/>
            <a:chOff x="0" y="311040"/>
            <a:chExt cx="1606680" cy="530280"/>
          </a:xfrm>
        </p:grpSpPr>
        <p:pic>
          <p:nvPicPr>
            <p:cNvPr id="47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0" y="31104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958680" y="31572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py Editor and Proof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ery short dead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time-consu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ise by preparing text adhering to journal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excellent, or a 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o check, and re-read the scrip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don’t want bits missed or misrepresen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s with editors, try and communicate directly with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lecting an appropriate jour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ver letter to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ng: responding to referees’ critic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r second letter to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py Editor and Proo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uthorship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ding on who counts as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iteria for i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ill lea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ting time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responsibilities as lead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Selecting the right journal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here are many choices, so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ke a list of possibilities, the pro and cons, and an ord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ry x first (why?); try Y second (why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hich audiences are you trying to reac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 you want to aim high or get your paper published rapid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ight you want to reach audiences in several fiel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he pros and cons of interdisciplinary journ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34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http://www.st-andrews.ac.uk/intrel/css/publications/thestandrewspapersoncontemporarysyria</a:t>
            </a: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ow important is the Impact factor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es Impact factor always reflect journal statu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ver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may be crucial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e the editor WANT this paper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y to ensure that the Editor doesn’t read and reject without even sending to re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how that you know this journ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lain how your article is (a) appropriate in this journal and (b) offers something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 don’t overstate claims you mak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ddress the editor by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voiding any suspicion of plagiarism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rely a problem but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be scrupulous in your referencing – regarding both data and arg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insure you are using your own words and sty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1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kely respo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Accepted but asking for minor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Potential acceptance after mor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vise and resubmit (no guarante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out reviewers’ comments gives you no guid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 reviewers comments may be very usef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2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2-4 reviewers, then order their comm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ort major from less signific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elpful: the comments which help you develop your analy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1: the comments which highlight your lack of dat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2: the comments which require space you don’t ha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rong: the comments which misunderstand your artic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dentify further reading or analysis you need to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a timetable and involve your co-aut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ember to check that the revisions are reflected in the Abs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Your second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is even more important than the fir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 have to convince the editor you have taken reviewers criticisms seri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does not mean you have to agree with every critic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you must not give the impression you have been selectiv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to do if reviewers ask for contradictory thing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king clarification from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letter makes the overall case defending your judgement and deci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7:56:56Z</dcterms:created>
  <dc:creator>PeterP</dc:creator>
  <dc:description/>
  <dc:language>en-US</dc:language>
  <cp:lastModifiedBy>Licenced User</cp:lastModifiedBy>
  <dcterms:modified xsi:type="dcterms:W3CDTF">2014-09-18T15:31:39Z</dcterms:modified>
  <cp:revision>15</cp:revision>
  <dc:subject/>
  <dc:title>PowerPoint Presentation</dc:title>
</cp:coreProperties>
</file>