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12.jpeg" ContentType="image/jpeg"/>
  <Override PartName="/ppt/media/image34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EBCCE-7CFB-41E7-8BBF-881D4AA51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42F5F-320D-44ED-A320-827601ABB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06AA63-CF54-4A76-BEE4-2D5A93059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29B2B1-8920-482A-BD18-02D5ECD6C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C544A-1989-4171-8070-2184E0F1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F81EA1-3685-42AF-9EC7-2FCE6B9DC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BB15DB-4B12-4BD9-9173-81802D096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FB55AE-0CE6-4D65-8466-B6C7CA83B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098D07-B9A7-41CC-985B-D2187607D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EDBE46-D268-40A7-BE50-14FCDF286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C1059B-5DF5-42BB-AD12-DDC23B72B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B986E-6F7D-46BC-9899-FE7401598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843E-4A88-464B-ADA9-8B542E1F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A655-75F2-4D46-AEC5-67D6C4AA6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A63BC-7837-4D6F-84E2-49CF7CAC4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923D-7BEF-4780-A098-D096EBE9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4B9AA-3DF4-4DE2-ADC1-5A96A38D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8FF36-4208-4EFA-8DA5-852879DB0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6FD06-CFD4-4244-89DF-3E64FC43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322F-0C00-4C2A-951E-B725DED4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7DED-1443-4298-9AF3-653EC6ECB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4607-6B8C-4CF4-8808-E7655816C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F78B5-8B71-4A86-BB8A-AEA21FCF4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140B-AA29-4556-BAC7-F0DE0022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4CF9-7B38-421D-B410-8CCAD9EC6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DDC83-E1C8-4A58-8D46-EE25DEF47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6EFD7-0B8B-49B8-B929-D952E29BE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1A76-E664-40B1-ACBD-797F684AF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DA26E-0EF9-4AD4-A84E-B30200475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793477-8DEA-4327-8B49-E63281EB5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246D7-5A3A-4302-ACA0-8DE9EE676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AB16-B692-422B-ADE1-5C11E834D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5B73B-2CFE-424F-8E54-C4C53B0F2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C0755-352C-4F12-88A6-81303B1D5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38C765-B8B6-4F1B-93C8-E00F7C554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E4FBDD-C4F9-46B3-8210-3EF0DD41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5D7FED-827D-4F82-9F87-2DD69EEDB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658EF-E374-4EC0-B3F8-7DAC32C0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E172C4-7CDF-457A-BFB4-953591B03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DFB1AE-1743-4D4A-AD22-DEF9FBA6F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5D48-D569-43BB-934A-6AD89C49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8C5DE-2603-480D-ABAB-D14B022A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EAAD5-921A-4123-BAE8-40717265B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165C0-30CA-4C27-8176-CA2DC4AEC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AC44A-4F6D-4DF5-B197-D05DF3FE3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8EFED-7525-4729-9071-8954E506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8C531C-CC15-4BDF-A594-2ED737A6E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FE621E-2D04-4773-930E-242FA6BA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E59A6-3E29-44C1-A662-DA34A1CEB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236331-F997-4881-85E7-964B0AF4D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B2674-00AC-40A4-8605-EFA809E11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30801-1F2F-40E7-A0A4-8928D8510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D6BE2B-67AC-43DC-952E-BFDFD478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1C25-03E4-454D-AC78-53A124EDC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D5AE5-49EE-4F2F-824B-5F9D9DCF4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032952-B057-44C7-A888-E57ADF229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0133BD-1EC4-4295-A3A2-0AA55923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93A83-4B08-486B-9308-AD8F4CD08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453D3D-E5DF-4C97-9CEF-685BE48EE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6FE37-E1DC-452E-8224-0D3A8902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AFB4A5-DE5C-4F59-8181-6741BEB35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6F398-1741-4FA4-8274-559B2664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A2E81-949E-4EFF-A500-710A6B5C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4AA24-9AC6-4BC0-8435-5E2B82D26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44EA-216C-47DA-B40F-9632B398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901D1C-31C7-4B9A-B74B-42C98451D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DA259-04EC-458B-8FFE-B037A6DDA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1BC5F4-32F1-4E4A-B328-C6E61D732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C4276-585A-464C-A498-327536FFB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A1A53-0BD3-4920-9479-061C1D3B2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7B067C-7D8C-4ED8-95D1-D492642F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A2904-B4EB-4F05-989E-4FBD090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E563BB-0DF5-4C7B-AB2E-1AE10F08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39984E-605D-4A7D-99E6-55FBF2C3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1FBF8A-C611-4D47-9CF6-C3458F2F4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D662-5B8C-467A-A71D-913ED18C6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04FB1-C609-4D0D-8C9D-B033F97E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318E39-EED5-4C52-B91C-3BE219225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CB23B6-5DB0-471C-808A-449C11DA9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D2C7D1-1E00-4652-99C9-33A4658FA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2C7C8E-4DED-44EB-96F3-3B252A178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B68DB3-3CF1-480E-A11B-917B59C04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473C3-8678-4577-BF53-643F8880E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178936-8F50-420B-BBCE-6FD85F399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DC4728-DB67-4FDA-922A-C9473F9AD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34342-8EFE-4EC2-8D87-7AFD4B224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A37E1-11C8-4FE1-A4F3-8E161893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5329D-C063-4204-8078-FC0A5D0C4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29D105-8488-42D9-865F-C5434C58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31AE1B-DAE5-43CB-B996-EC87EBC0F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0621E5-46DF-423E-B1C7-FBBE4EB54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E07CDC-77BC-4C42-863E-255E35D1A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9C13B-DB6E-488F-98C9-4744EB8C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E34000-6ED2-41E9-A14B-FC460EAD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74EE8-31E4-4188-B392-502CE8A9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C3E46-4B54-412E-8403-9632ECBAC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CD7891-2E0F-4EAF-88B2-1A420653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C8A7-92BB-4F07-B3D3-AB8D81E2C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93512-6421-4581-8FEA-FFB482ABD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59141C-2B2C-45A6-B978-C2456D79C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5DC294-E95C-40C0-B0B7-C570E712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2C556-423B-4899-903C-B0F7343F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91D89-588F-4D68-AFDD-8EE2D291D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0986D-4E91-46E3-A329-9240238E4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244BB4-080A-4331-9E18-B83A46800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60D14-5A07-4243-91AE-9CC2F983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E61FC4-91AA-4850-9F7E-5F3AB4C4C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6379C4-44A6-48F3-995E-2DFF47048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85.xml"/><Relationship Id="rId9" Type="http://schemas.openxmlformats.org/officeDocument/2006/relationships/slideLayout" Target="../slideLayouts/slideLayout86.xml"/><Relationship Id="rId10" Type="http://schemas.openxmlformats.org/officeDocument/2006/relationships/slideLayout" Target="../slideLayouts/slideLayout87.xml"/><Relationship Id="rId11" Type="http://schemas.openxmlformats.org/officeDocument/2006/relationships/slideLayout" Target="../slideLayouts/slideLayout88.xml"/><Relationship Id="rId12" Type="http://schemas.openxmlformats.org/officeDocument/2006/relationships/slideLayout" Target="../slideLayouts/slideLayout89.xml"/><Relationship Id="rId13" Type="http://schemas.openxmlformats.org/officeDocument/2006/relationships/slideLayout" Target="../slideLayouts/slideLayout90.xml"/><Relationship Id="rId14" Type="http://schemas.openxmlformats.org/officeDocument/2006/relationships/slideLayout" Target="../slideLayouts/slideLayout91.xml"/><Relationship Id="rId15" Type="http://schemas.openxmlformats.org/officeDocument/2006/relationships/slideLayout" Target="../slideLayouts/slideLayout92.xml"/><Relationship Id="rId16" Type="http://schemas.openxmlformats.org/officeDocument/2006/relationships/slideLayout" Target="../slideLayouts/slideLayout93.xml"/><Relationship Id="rId17" Type="http://schemas.openxmlformats.org/officeDocument/2006/relationships/slideLayout" Target="../slideLayouts/slideLayout94.xml"/><Relationship Id="rId18" Type="http://schemas.openxmlformats.org/officeDocument/2006/relationships/slideLayout" Target="../slideLayouts/slideLayout95.xml"/><Relationship Id="rId19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E34F-140E-45AC-AF75-41341A7265D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5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53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154c8e"/>
              </a:gs>
              <a:gs pos="50000">
                <a:srgbClr val="5e91da"/>
              </a:gs>
              <a:gs pos="100000">
                <a:srgbClr val="154c8e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55" name="Freeform 16"/>
            <p:cNvSpPr/>
            <p:nvPr/>
          </p:nvSpPr>
          <p:spPr>
            <a:xfrm>
              <a:off x="1694520" y="4952880"/>
              <a:ext cx="7449480" cy="488160"/>
            </a:xfrm>
            <a:custGeom>
              <a:avLst/>
              <a:gdLst>
                <a:gd name="textAreaLeft" fmla="*/ 0 w 7449480"/>
                <a:gd name="textAreaRight" fmla="*/ 7449840 w 744948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4697" h="367">
                  <a:moveTo>
                    <a:pt x="4697" y="0"/>
                  </a:moveTo>
                  <a:lnTo>
                    <a:pt x="4697" y="367"/>
                  </a:lnTo>
                  <a:lnTo>
                    <a:pt x="0" y="218"/>
                  </a:lnTo>
                  <a:lnTo>
                    <a:pt x="4697" y="0"/>
                  </a:lnTo>
                  <a:close/>
                </a:path>
              </a:pathLst>
            </a:custGeom>
            <a:solidFill>
              <a:srgbClr val="a6b9db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18"/>
            <p:cNvSpPr/>
            <p:nvPr/>
          </p:nvSpPr>
          <p:spPr>
            <a:xfrm>
              <a:off x="44280" y="5237640"/>
              <a:ext cx="9099720" cy="788760"/>
            </a:xfrm>
            <a:custGeom>
              <a:avLst/>
              <a:gdLst>
                <a:gd name="textAreaLeft" fmla="*/ 0 w 9099720"/>
                <a:gd name="textAreaRight" fmla="*/ 9100080 w 9099720"/>
                <a:gd name="textAreaTop" fmla="*/ 0 h 788760"/>
                <a:gd name="textAreaBottom" fmla="*/ 789120 h 788760"/>
              </a:gdLst>
              <a:ahLst/>
              <a:rect l="textAreaLeft" t="textAreaTop" r="textAreaRight" b="textAreaBottom"/>
              <a:pathLst>
                <a:path w="5760" h="528">
                  <a:moveTo>
                    <a:pt x="0" y="0"/>
                  </a:moveTo>
                  <a:lnTo>
                    <a:pt x="5760" y="0"/>
                  </a:lnTo>
                  <a:lnTo>
                    <a:pt x="5760" y="528"/>
                  </a:lnTo>
                  <a:lnTo>
                    <a:pt x="4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Freeform 19"/>
            <p:cNvGrpSpPr/>
            <p:nvPr/>
          </p:nvGrpSpPr>
          <p:grpSpPr>
            <a:xfrm>
              <a:off x="8640" y="4998600"/>
              <a:ext cx="9135360" cy="1865880"/>
              <a:chOff x="8640" y="4998600"/>
              <a:chExt cx="9135360" cy="1865880"/>
            </a:xfrm>
          </p:grpSpPr>
          <p:pic>
            <p:nvPicPr>
              <p:cNvPr id="58" name="Freeform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8640" y="4998600"/>
                <a:ext cx="9135360" cy="1865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8640" y="50007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0" name="Straight Connector 20" descr=""/>
            <p:cNvPicPr/>
            <p:nvPr/>
          </p:nvPicPr>
          <p:blipFill>
            <a:blip r:embed="rId5"/>
            <a:stretch/>
          </p:blipFill>
          <p:spPr>
            <a:xfrm>
              <a:off x="-3240" y="4992480"/>
              <a:ext cx="9147240" cy="804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150C8-61BB-4DCE-9062-1F12E863A040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108" name="Chevron 10"/>
          <p:cNvGrpSpPr/>
          <p:nvPr/>
        </p:nvGrpSpPr>
        <p:grpSpPr>
          <a:xfrm>
            <a:off x="3565440" y="2962440"/>
            <a:ext cx="336600" cy="377640"/>
            <a:chOff x="3565440" y="2962440"/>
            <a:chExt cx="336600" cy="377640"/>
          </a:xfrm>
        </p:grpSpPr>
        <p:pic>
          <p:nvPicPr>
            <p:cNvPr id="109" name="Chevron 10" descr=""/>
            <p:cNvPicPr/>
            <p:nvPr/>
          </p:nvPicPr>
          <p:blipFill>
            <a:blip r:embed="rId4"/>
            <a:stretch/>
          </p:blipFill>
          <p:spPr>
            <a:xfrm>
              <a:off x="3565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3637080" y="300528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Chevron 15"/>
          <p:cNvGrpSpPr/>
          <p:nvPr/>
        </p:nvGrpSpPr>
        <p:grpSpPr>
          <a:xfrm>
            <a:off x="3376440" y="2962440"/>
            <a:ext cx="336600" cy="377640"/>
            <a:chOff x="3376440" y="2962440"/>
            <a:chExt cx="336600" cy="377640"/>
          </a:xfrm>
        </p:grpSpPr>
        <p:pic>
          <p:nvPicPr>
            <p:cNvPr id="112" name="Chevron 15" descr=""/>
            <p:cNvPicPr/>
            <p:nvPr/>
          </p:nvPicPr>
          <p:blipFill>
            <a:blip r:embed="rId5"/>
            <a:stretch/>
          </p:blipFill>
          <p:spPr>
            <a:xfrm>
              <a:off x="3376440" y="296244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3449520" y="3005280"/>
              <a:ext cx="184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0FE1-AFD0-4DF7-88BA-CC5D8B08AA12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158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0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1F49-A029-4B46-8B7D-9A72E2C9228C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3DD38-69D9-4D3C-A1E1-AC66494C8DE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52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4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4FA5A-DE69-4870-B944-09E60D5B0958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2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8AC7-3B7D-44E9-9852-91A77504766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46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349" name="Freeform 10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reeform 15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Right Triangle 16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352" name="Right Triangle 16" descr=""/>
            <p:cNvPicPr/>
            <p:nvPr/>
          </p:nvPicPr>
          <p:blipFill>
            <a:blip r:embed="rId4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4" name="Straight Connector 18" descr=""/>
          <p:cNvPicPr/>
          <p:nvPr/>
        </p:nvPicPr>
        <p:blipFill>
          <a:blip r:embed="rId5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grpSp>
        <p:nvGrpSpPr>
          <p:cNvPr id="355" name="Chevron 19"/>
          <p:cNvGrpSpPr/>
          <p:nvPr/>
        </p:nvGrpSpPr>
        <p:grpSpPr>
          <a:xfrm>
            <a:off x="8589960" y="4943520"/>
            <a:ext cx="334800" cy="377640"/>
            <a:chOff x="8589960" y="4943520"/>
            <a:chExt cx="334800" cy="377640"/>
          </a:xfrm>
        </p:grpSpPr>
        <p:pic>
          <p:nvPicPr>
            <p:cNvPr id="356" name="Chevron 19" descr=""/>
            <p:cNvPicPr/>
            <p:nvPr/>
          </p:nvPicPr>
          <p:blipFill>
            <a:blip r:embed="rId6"/>
            <a:stretch/>
          </p:blipFill>
          <p:spPr>
            <a:xfrm>
              <a:off x="8589960" y="4943520"/>
              <a:ext cx="3348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86644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8" name="Chevron 20"/>
          <p:cNvGrpSpPr/>
          <p:nvPr/>
        </p:nvGrpSpPr>
        <p:grpSpPr>
          <a:xfrm>
            <a:off x="8405640" y="4943520"/>
            <a:ext cx="336600" cy="377640"/>
            <a:chOff x="8405640" y="4943520"/>
            <a:chExt cx="336600" cy="377640"/>
          </a:xfrm>
        </p:grpSpPr>
        <p:pic>
          <p:nvPicPr>
            <p:cNvPr id="359" name="Chevron 20" descr=""/>
            <p:cNvPicPr/>
            <p:nvPr/>
          </p:nvPicPr>
          <p:blipFill>
            <a:blip r:embed="rId7"/>
            <a:stretch/>
          </p:blipFill>
          <p:spPr>
            <a:xfrm>
              <a:off x="8405640" y="4943520"/>
              <a:ext cx="336600" cy="37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"/>
            <p:cNvSpPr/>
            <p:nvPr/>
          </p:nvSpPr>
          <p:spPr>
            <a:xfrm>
              <a:off x="8477280" y="4987800"/>
              <a:ext cx="182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eeece1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eeece1"/>
              </a:solidFill>
              <a:latin typeface="Lucida Sans Unicode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0DFDE-AB73-42D9-9B57-F127CEF5B5C6}" type="slidenum"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8"/>
    <p:sldLayoutId id="2147483741" r:id="rId9"/>
    <p:sldLayoutId id="2147483742" r:id="rId10"/>
    <p:sldLayoutId id="2147483743" r:id="rId11"/>
    <p:sldLayoutId id="2147483744" r:id="rId12"/>
    <p:sldLayoutId id="2147483745" r:id="rId13"/>
    <p:sldLayoutId id="2147483746" r:id="rId14"/>
    <p:sldLayoutId id="2147483747" r:id="rId15"/>
    <p:sldLayoutId id="2147483748" r:id="rId16"/>
    <p:sldLayoutId id="2147483749" r:id="rId17"/>
    <p:sldLayoutId id="2147483750" r:id="rId18"/>
    <p:sldLayoutId id="2147483751" r:id="rId19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Freeform 12"/>
          <p:cNvSpPr/>
          <p:nvPr/>
        </p:nvSpPr>
        <p:spPr>
          <a:xfrm>
            <a:off x="500040" y="5945040"/>
            <a:ext cx="4940280" cy="920880"/>
          </a:xfrm>
          <a:custGeom>
            <a:avLst/>
            <a:gdLst>
              <a:gd name="textAreaLeft" fmla="*/ 0 w 4940280"/>
              <a:gd name="textAreaRight" fmla="*/ 4940640 w 4940280"/>
              <a:gd name="textAreaTop" fmla="*/ 0 h 920880"/>
              <a:gd name="textAreaBottom" fmla="*/ 921240 h 920880"/>
            </a:gdLst>
            <a:ahLst/>
            <a:rect l="textAreaLeft" t="textAreaTop" r="textAreaRight" b="textAreaBottom"/>
            <a:pathLst>
              <a:path w="7485" h="337">
                <a:moveTo>
                  <a:pt x="0" y="2"/>
                </a:moveTo>
                <a:lnTo>
                  <a:pt x="7485" y="337"/>
                </a:lnTo>
                <a:lnTo>
                  <a:pt x="5558" y="337"/>
                </a:lnTo>
                <a:lnTo>
                  <a:pt x="1" y="0"/>
                </a:lnTo>
              </a:path>
            </a:pathLst>
          </a:custGeom>
          <a:solidFill>
            <a:srgbClr val="a6b9db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reeform 11"/>
          <p:cNvSpPr/>
          <p:nvPr/>
        </p:nvSpPr>
        <p:spPr>
          <a:xfrm>
            <a:off x="485640" y="5938920"/>
            <a:ext cx="3691080" cy="933480"/>
          </a:xfrm>
          <a:custGeom>
            <a:avLst/>
            <a:gdLst>
              <a:gd name="textAreaLeft" fmla="*/ 0 w 3691080"/>
              <a:gd name="textAreaRight" fmla="*/ 3691440 w 369108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5591" h="588">
                <a:moveTo>
                  <a:pt x="0" y="0"/>
                </a:moveTo>
                <a:lnTo>
                  <a:pt x="5591" y="585"/>
                </a:lnTo>
                <a:lnTo>
                  <a:pt x="4415" y="588"/>
                </a:lnTo>
                <a:lnTo>
                  <a:pt x="12" y="4"/>
                </a:ln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Right Triangle 13"/>
          <p:cNvGrpSpPr/>
          <p:nvPr/>
        </p:nvGrpSpPr>
        <p:grpSpPr>
          <a:xfrm>
            <a:off x="-6480" y="5791320"/>
            <a:ext cx="3402000" cy="1079280"/>
            <a:chOff x="-6480" y="5791320"/>
            <a:chExt cx="3402000" cy="1079280"/>
          </a:xfrm>
        </p:grpSpPr>
        <p:pic>
          <p:nvPicPr>
            <p:cNvPr id="405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6480" y="5791320"/>
              <a:ext cx="3402000" cy="107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07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8360"/>
            <a:ext cx="3414600" cy="109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1f497d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1f497d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A514C-F522-45E5-ACB2-D5B4CD69B082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9" name="Rectangle 4" descr=""/>
          <p:cNvPicPr/>
          <p:nvPr/>
        </p:nvPicPr>
        <p:blipFill>
          <a:blip r:embed="rId1"/>
          <a:stretch/>
        </p:blipFill>
        <p:spPr>
          <a:xfrm>
            <a:off x="487440" y="2871720"/>
            <a:ext cx="8186760" cy="1785960"/>
          </a:xfrm>
          <a:prstGeom prst="rect">
            <a:avLst/>
          </a:prstGeom>
          <a:ln w="0">
            <a:noFill/>
          </a:ln>
        </p:spPr>
      </p:pic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685800" y="443664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f497d"/>
                </a:solidFill>
                <a:latin typeface="Lucida Sans Unicode"/>
              </a:rPr>
              <a:t>Julia Critchley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51" name="Group 2"/>
          <p:cNvGrpSpPr/>
          <p:nvPr/>
        </p:nvGrpSpPr>
        <p:grpSpPr>
          <a:xfrm>
            <a:off x="85680" y="115920"/>
            <a:ext cx="1606680" cy="530280"/>
            <a:chOff x="85680" y="115920"/>
            <a:chExt cx="1606680" cy="530280"/>
          </a:xfrm>
        </p:grpSpPr>
        <p:pic>
          <p:nvPicPr>
            <p:cNvPr id="452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85680" y="11592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3" name="Picture 7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1044360" y="12060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54" name="Picture 1" descr=""/>
          <p:cNvPicPr/>
          <p:nvPr/>
        </p:nvPicPr>
        <p:blipFill>
          <a:blip r:embed="rId4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2" descr=""/>
          <p:cNvPicPr/>
          <p:nvPr/>
        </p:nvPicPr>
        <p:blipFill>
          <a:blip r:embed="rId5"/>
          <a:stretch/>
        </p:blipFill>
        <p:spPr>
          <a:xfrm>
            <a:off x="2484360" y="139680"/>
            <a:ext cx="352764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n relation to your research stud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st be defined by this guiding concept (ie your research objective, the problem or issue you are discussing)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Not just a descriptive list of the material available, or a set of summari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Title 1" descr=""/>
          <p:cNvPicPr/>
          <p:nvPr/>
        </p:nvPicPr>
        <p:blipFill>
          <a:blip r:embed="rId1"/>
          <a:stretch/>
        </p:blipFill>
        <p:spPr>
          <a:xfrm>
            <a:off x="176040" y="182520"/>
            <a:ext cx="8791920" cy="12384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 txBox="1"/>
          <p:nvPr/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at are the main arguments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 authors make similar or different argument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some arguments more convincing than other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 has research been conducted in the literature?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extensive has it been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kinds of data have been present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ow pertinent are they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Are there sufficient amounts of data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Do they adequately answer the questions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 txBox="1"/>
          <p:nvPr/>
        </p:nvSpPr>
        <p:spPr>
          <a:xfrm>
            <a:off x="457200" y="148104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ypes of methodologi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methodology more effective than others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are the different theoretical frameworks or approaches used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at do they allow the authors o do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How well do they work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Is one approach more effective than others? Why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Overall, is one work more convincing than others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Why?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cida Sans Unicode"/>
              </a:rPr>
              <a:t>Or are the works you have compared too different to evaluate against each other?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7" name="Title 2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 txBox="1"/>
          <p:nvPr/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arching for literature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ot extensive or exhaustive “systematic review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o not need to identify “all literature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cent literature will often do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BUT do need to identify key articles in the field (not always recent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Key article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ited a lo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High impact journal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Check citations e.g. in pubmed, google scholar, science citation index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DLINE (PubM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ystematic review articl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8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cience Citation Index (can be very helpful if there is a “key paper” that most relevant studies will have cited)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Rectangle 2" descr=""/>
          <p:cNvPicPr/>
          <p:nvPr/>
        </p:nvPicPr>
        <p:blipFill>
          <a:blip r:embed="rId1"/>
          <a:stretch/>
        </p:blipFill>
        <p:spPr>
          <a:xfrm>
            <a:off x="384120" y="36360"/>
            <a:ext cx="8302680" cy="102420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4" descr=""/>
          <p:cNvPicPr/>
          <p:nvPr/>
        </p:nvPicPr>
        <p:blipFill>
          <a:blip r:embed="rId2"/>
          <a:srcRect l="0" t="0" r="-1248" b="-2039"/>
          <a:stretch/>
        </p:blipFill>
        <p:spPr>
          <a:xfrm>
            <a:off x="2209680" y="1066680"/>
            <a:ext cx="6782040" cy="5083200"/>
          </a:xfrm>
          <a:prstGeom prst="rect">
            <a:avLst/>
          </a:prstGeom>
          <a:ln w="0">
            <a:noFill/>
          </a:ln>
        </p:spPr>
      </p:pic>
      <p:sp>
        <p:nvSpPr>
          <p:cNvPr id="482" name="AutoShape 7"/>
          <p:cNvSpPr/>
          <p:nvPr/>
        </p:nvSpPr>
        <p:spPr>
          <a:xfrm>
            <a:off x="152280" y="5334120"/>
            <a:ext cx="2057400" cy="761760"/>
          </a:xfrm>
          <a:prstGeom prst="rightArrow">
            <a:avLst>
              <a:gd name="adj1" fmla="val 50000"/>
              <a:gd name="adj2" fmla="val 67521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4" name="Picture 4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5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87" name="Picture 3" descr=""/>
          <p:cNvPicPr/>
          <p:nvPr/>
        </p:nvPicPr>
        <p:blipFill>
          <a:blip r:embed="rId1"/>
          <a:srcRect l="0" t="0" r="-1066" b="-1359"/>
          <a:stretch/>
        </p:blipFill>
        <p:spPr>
          <a:xfrm>
            <a:off x="228600" y="185760"/>
            <a:ext cx="8610480" cy="6454800"/>
          </a:xfrm>
          <a:prstGeom prst="rect">
            <a:avLst/>
          </a:prstGeom>
          <a:ln w="0">
            <a:noFill/>
          </a:ln>
        </p:spPr>
      </p:pic>
      <p:sp>
        <p:nvSpPr>
          <p:cNvPr id="488" name="AutoShape 4"/>
          <p:cNvSpPr/>
          <p:nvPr/>
        </p:nvSpPr>
        <p:spPr>
          <a:xfrm>
            <a:off x="7010280" y="2743200"/>
            <a:ext cx="1600200" cy="762120"/>
          </a:xfrm>
          <a:prstGeom prst="leftArrow">
            <a:avLst>
              <a:gd name="adj1" fmla="val 50000"/>
              <a:gd name="adj2" fmla="val 5249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AutoShape 5"/>
          <p:cNvSpPr/>
          <p:nvPr/>
        </p:nvSpPr>
        <p:spPr>
          <a:xfrm>
            <a:off x="457200" y="3809880"/>
            <a:ext cx="1433520" cy="685800"/>
          </a:xfrm>
          <a:prstGeom prst="rightArrow">
            <a:avLst>
              <a:gd name="adj1" fmla="val 50000"/>
              <a:gd name="adj2" fmla="val 5225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1" name="Picture 4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-10800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3" name="Picture 3" descr=""/>
          <p:cNvPicPr/>
          <p:nvPr/>
        </p:nvPicPr>
        <p:blipFill>
          <a:blip r:embed="rId1"/>
          <a:srcRect l="0" t="0" r="-108" b="-28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94" name="AutoShape 4"/>
          <p:cNvSpPr/>
          <p:nvPr/>
        </p:nvSpPr>
        <p:spPr>
          <a:xfrm>
            <a:off x="7162920" y="1219320"/>
            <a:ext cx="1066680" cy="1433520"/>
          </a:xfrm>
          <a:prstGeom prst="downArrow">
            <a:avLst>
              <a:gd name="adj1" fmla="val 50000"/>
              <a:gd name="adj2" fmla="val 335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6" name="Picture 4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497" name="AutoShape 5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ovides an overview and a critical evaluation of a body of literature relating to a research topic or a research problem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nalyses a body of literature in order to classify it by themes or categories, rather than simply discussing individual works one after anothe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resents the research and ideas of the field rather than each individual work or author by itself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499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4"/>
          <p:cNvSpPr/>
          <p:nvPr/>
        </p:nvSpPr>
        <p:spPr>
          <a:xfrm>
            <a:off x="152280" y="2743200"/>
            <a:ext cx="1586160" cy="990720"/>
          </a:xfrm>
          <a:prstGeom prst="rightArrow">
            <a:avLst>
              <a:gd name="adj1" fmla="val 50000"/>
              <a:gd name="adj2" fmla="val 40025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7"/>
          <p:cNvSpPr/>
          <p:nvPr/>
        </p:nvSpPr>
        <p:spPr>
          <a:xfrm>
            <a:off x="3809880" y="274320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8"/>
          <p:cNvSpPr/>
          <p:nvPr/>
        </p:nvSpPr>
        <p:spPr>
          <a:xfrm>
            <a:off x="4191120" y="27432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9"/>
          <p:cNvSpPr/>
          <p:nvPr/>
        </p:nvSpPr>
        <p:spPr>
          <a:xfrm flipH="1">
            <a:off x="3809520" y="3048120"/>
            <a:ext cx="3812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 flipV="1">
            <a:off x="3809880" y="274284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12"/>
          <p:cNvSpPr/>
          <p:nvPr/>
        </p:nvSpPr>
        <p:spPr>
          <a:xfrm>
            <a:off x="4267080" y="2590920"/>
            <a:ext cx="1219320" cy="685800"/>
          </a:xfrm>
          <a:prstGeom prst="leftArrow">
            <a:avLst>
              <a:gd name="adj1" fmla="val 50000"/>
              <a:gd name="adj2" fmla="val 44449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-283320"/>
            <a:ext cx="822960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1f497d"/>
              </a:solidFill>
              <a:latin typeface="Lucida Sans Unicode"/>
            </a:endParaRPr>
          </a:p>
        </p:txBody>
      </p:sp>
      <p:pic>
        <p:nvPicPr>
          <p:cNvPr id="507" name="Picture 3" descr=""/>
          <p:cNvPicPr/>
          <p:nvPr/>
        </p:nvPicPr>
        <p:blipFill>
          <a:blip r:embed="rId1"/>
          <a:srcRect l="0" t="0" r="-753" b="-1378"/>
          <a:stretch/>
        </p:blipFill>
        <p:spPr>
          <a:xfrm>
            <a:off x="-152280" y="0"/>
            <a:ext cx="9296280" cy="7140600"/>
          </a:xfrm>
          <a:prstGeom prst="rect">
            <a:avLst/>
          </a:prstGeom>
          <a:ln w="0">
            <a:noFill/>
          </a:ln>
        </p:spPr>
      </p:pic>
      <p:sp>
        <p:nvSpPr>
          <p:cNvPr id="508" name="AutoShape 10"/>
          <p:cNvSpPr/>
          <p:nvPr/>
        </p:nvSpPr>
        <p:spPr>
          <a:xfrm>
            <a:off x="1752480" y="685800"/>
            <a:ext cx="914400" cy="1357200"/>
          </a:xfrm>
          <a:prstGeom prst="downArrow">
            <a:avLst>
              <a:gd name="adj1" fmla="val 50000"/>
              <a:gd name="adj2" fmla="val 37106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art with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n first sentence, state general topic of paper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xplain background / motivation (literature review) in a few sentences or paragraphs)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Narrow down to </a:t>
            </a:r>
            <a:r>
              <a:rPr b="0" lang="en-GB" sz="23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Brief statement, usually one sentence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Important, because it indicates: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that this work is new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links known and research question 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100" spc="-1" strike="noStrike">
                <a:solidFill>
                  <a:srgbClr val="00b050"/>
                </a:solidFill>
                <a:latin typeface="Lucida Sans Unicode"/>
              </a:rPr>
              <a:t>creates story line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Flag this very clearl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E.g.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known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s unclear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“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needs to be determined”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search Question must follow from “</a:t>
            </a:r>
            <a:r>
              <a:rPr b="0" lang="en-GB" sz="2700" spc="-1" strike="noStrike">
                <a:solidFill>
                  <a:srgbClr val="ff0000"/>
                </a:solidFill>
                <a:latin typeface="Lucida Sans Unicode"/>
              </a:rPr>
              <a:t>what is not known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349"/>
              </a:spcBef>
              <a:buClr>
                <a:srgbClr val="c0504d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New sentence / paragraph for each known, unknown, ques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Use transition phrases and word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Repeat key theme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IEA 2013 course on Epidemiology – Shah Ebrahi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Epidemiology Supercourse (presentations by Richard Smith and Pauls Zieg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18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656560" cy="12430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h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Has your research question already been answered? If so, how?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Ho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earch through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ing of a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ituates your topic in relation to previous research and illuminates a spot for your research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[Also demonstrates your knowledge of literature]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Several goals: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provides background for your topic using previous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shows you are familiar with previous, relevant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evaluates the depth and breadth of the research in regards to your 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determines remaining questions or aspects of your topic in need of resear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Overall, a literature review seeks to answer the following questions: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at does the literature not tell you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Why is this important?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ummarise everything in the field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Write loads and demonstrate you know “everything”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[This is just a few sentences to a few (short) paragraphs to put your work in context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65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1. Synthesize and evaluate informa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2. Identify the main ideas of the literatu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3. Identify the main argument of the literature review …[that supports your research question]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4. Organize the main points of th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5. Write literature review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Title 1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Critical thinking, reading, and writing.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Strategies for reading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"/>
              </a:rPr>
              <a:t>	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the themes or categorie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may be used later to develop a structure for the literature review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take note of how other writers classify their data, the literature in their fields, etc. 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Lucida Sans Unicode"/>
              </a:rPr>
              <a:t>read literature reviews in other papers to see how they have been structured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Form categories for analysis and comparison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A strong literature review examines each work on its own and in relation to other works by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identifying and then analysing them with regards to a number of different research aspects and idea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Lucida Sans Unicode"/>
              </a:rPr>
              <a:t>possible categories to use for comparison and analys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opic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argument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results found and conclusion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method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4f81bd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 </a:t>
            </a:r>
            <a:r>
              <a:rPr b="0" lang="en-GB" sz="2100" spc="-1" strike="noStrike">
                <a:solidFill>
                  <a:srgbClr val="000000"/>
                </a:solidFill>
                <a:latin typeface="Lucida Sans Unicode"/>
              </a:rPr>
              <a:t>theoretical approach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4f81bd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71" name="Title 2" descr=""/>
          <p:cNvPicPr/>
          <p:nvPr/>
        </p:nvPicPr>
        <p:blipFill>
          <a:blip r:embed="rId1"/>
          <a:stretch/>
        </p:blipFill>
        <p:spPr>
          <a:xfrm>
            <a:off x="201600" y="274680"/>
            <a:ext cx="8485200" cy="12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3T14:49:39Z</dcterms:created>
  <dc:creator>ntpm</dc:creator>
  <dc:description/>
  <dc:language>en-US</dc:language>
  <cp:lastModifiedBy>Licenced User</cp:lastModifiedBy>
  <cp:lastPrinted>2012-08-01T12:36:40Z</cp:lastPrinted>
  <dcterms:modified xsi:type="dcterms:W3CDTF">2014-09-18T15:36:43Z</dcterms:modified>
  <cp:revision>264</cp:revision>
  <dc:subject/>
  <dc:title>Slide 1</dc:title>
</cp:coreProperties>
</file>