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B9CC-BDA6-47E2-88C1-E3906284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72EF8-BC15-42B6-89F1-3C741272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6F49-1ADC-4864-BC4C-1AE869D5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9FB5-FD75-426C-A50B-143837C9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49F6-9F65-414B-BF5C-E7F0C668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C6F1-6BFE-454B-B4DD-F4F9B4AF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2819-B917-41C0-A6C7-CAAA9DDC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7508B-5760-4104-A4A1-4598D8B5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EF05-004A-47FA-B7F0-CB30E18A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F7767-F4F8-4B5D-878D-C3AF78A8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757A-2259-4AF0-8DFF-64647817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CD4E0-2BF1-4EF4-A8EA-2024B68E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73e8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5bd0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a5d0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f5c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4DF6-B923-4AB3-9160-863A9716D295}" type="slidenum">
              <a:rPr b="0" lang="en-GB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c6e7f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6e7f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-andrews.ac.uk/intrel/css/publications/thestandrewspapersoncontemporarysyria/" TargetMode="External"/><Relationship Id="rId2" Type="http://schemas.openxmlformats.org/officeDocument/2006/relationships/hyperlink" Target="http://www.st-andrews.ac.uk/intrel/css/publications/thestandrewspapersoncontemporarysyria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6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eter Philim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4"/>
          <p:cNvGrpSpPr/>
          <p:nvPr/>
        </p:nvGrpSpPr>
        <p:grpSpPr>
          <a:xfrm>
            <a:off x="0" y="311040"/>
            <a:ext cx="1606680" cy="530280"/>
            <a:chOff x="0" y="311040"/>
            <a:chExt cx="1606680" cy="530280"/>
          </a:xfrm>
        </p:grpSpPr>
        <p:pic>
          <p:nvPicPr>
            <p:cNvPr id="47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0" y="31104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6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958680" y="31572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py Editor and Proof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ery short dead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time-consu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imise by preparing text adhering to journal guide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excellent, or a prob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o check, and re-read the scrip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 don’t want bits missed or misrepresen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s with editors, try and communicate directly with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lecting an appropriate jour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ver letter to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lagiar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sing: responding to referees’ critic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r second letter to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py Editor and Proo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uthorship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ciding on who counts as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iteria for i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will lea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ting time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responsibilities as lead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Selecting the right journal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here are many choices, so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ake a list of possibilities, the pro and cons, and an ord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ry x first (why?); try Y second (why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hich audiences are you trying to reach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 you want to aim high or get your paper published rapid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ight you want to reach audiences in several fiel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he pros and cons of interdisciplinary journ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34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1"/>
              </a:rPr>
              <a:t>http://www.st-andrews.ac.uk/intrel/css/publications/thestandrewspapersoncontemporarysyria</a:t>
            </a: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2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ow important is the Impact factor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es Impact factor always reflect journal statu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ver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may be crucial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e the editor WANT this paper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y to ensure that the Editor doesn’t read and reject without even sending to revie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how that you know this journ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plain how your article is (a) appropriate in this journal and (b) offers something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 don’t overstate claims you mak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ddress the editor by na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voiding any suspicion of plagiarism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rely a problem but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be scrupulous in your referencing – regarding both data and argu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insure you are using your own words and sty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1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ikely respo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Accepted but asking for minor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Potential acceptance after mor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vise and resubmit (no guarante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out reviewers’ comments gives you no guid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 reviewers comments may be very usef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2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2-4 reviewers, then order their comm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ort major from less signific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elpful: the comments which help you develop your analys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1: the comments which highlight your lack of dat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2: the comments which require space you don’t hav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rong: the comments which misunderstand your artic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dentify further reading or analysis you need to 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a timetable and involve your co-auth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member to check that the revisions are reflected in the Abs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Your second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is even more important than the fir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 have to convince the editor you have taken reviewers criticisms serious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does not mean you have to agree with every critic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ut you must not give the impression you have been selectiv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to do if reviewers ask for contradictory thing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eking clarification from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letter makes the overall case defending your judgement and decis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7:56:56Z</dcterms:created>
  <dc:creator>PeterP</dc:creator>
  <dc:description/>
  <dc:language>en-US</dc:language>
  <cp:lastModifiedBy>Licenced User</cp:lastModifiedBy>
  <dcterms:modified xsi:type="dcterms:W3CDTF">2014-09-18T15:31:39Z</dcterms:modified>
  <cp:revision>15</cp:revision>
  <dc:subject/>
  <dc:title>PowerPoint Presentation</dc:title>
</cp:coreProperties>
</file>