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D891-CB90-4D06-AE13-F457B9C4375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019AB-439B-4CF4-A3CE-D3FC88AEB91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02F6-7628-47EC-8941-2B1B05338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A67B-1E6D-4A28-BFF0-9611E6CEC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4661D-63E1-4410-ABA6-23AF7B07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422-765D-4E45-9F88-C86E0185A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1A06-09AD-4276-9E1A-80755EC68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2B5B-7149-43BC-8A2B-BDA8B68EF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022-A64A-4F4B-8AB1-73A8D281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50C6A-B314-476A-9DA8-923779A1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EFCC5-E8AF-485A-9136-1EF2C78B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DFD7-3706-4F22-9224-F1DF6F1E0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086-77FE-4881-8860-67044EB1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A4BE-7EB1-4C40-8824-C686D47D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ED647-CDA3-4809-A15C-1311DB03A9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alibri"/>
              </a:rPr>
              <a:t>RESCAP MED and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24000" y="907560"/>
            <a:ext cx="8640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Main Rol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Fellowships program (host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ious successful and productive experience in introducing young researchers to public health policy decision making and modelling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o-participants i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arie Curi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oject led by Kath Bennet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Collaboration with researchers in Portugal, Denmark, Holland, Sp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Calibri"/>
              </a:rPr>
              <a:t>MedCHAMPS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 experience helping develop public health &amp; modelling skills within four national teams: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ed &amp; implemented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CHD, diabetes &amp; Stroke models</a:t>
            </a:r>
            <a:r>
              <a:rPr b="1" lang="en-GB" sz="16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yria, Palestine Tunisia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urkey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Strong support for consolidating  &amp; expanding  the understanding of Public Health Policy Modelling in the region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as a tool that facilitates dialogue with policy stakeholde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 text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,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is helps identify key issues around WHY, HOW, WHAT found, WHAT does it mea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1: main message(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2: Comparison with other stud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3: Expand on key messages (optiona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4: Strengths &amp; Weaknesses (limitation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Para 5: Implications for: clinicians; public health professionals; policy maker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686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riting the Discussion 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(Simon Capewell, Day 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1970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A. start with the abstract. Refine tha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is helps identify key issues around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WHY, HOW, WHAT found, WHAT does it me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B. Draft outline points for each section in Discu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C: Create bullet points for each paragrap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D: Turn bullet points into tex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: Refine &amp; polish. Most important sentences: FIRST, and L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CAP-MED: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versity of Liverpo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United Kingdo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0" y="160020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p: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62 mill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orld 7</a:t>
            </a:r>
            <a:r>
              <a:rPr b="0" lang="en-GB" sz="22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largest economy (GDP &amp; purchasing power parity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VD remains biggest kill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bout 190,000 deaths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estimated cost $45 billion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 y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2012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Queen Diamond Jubile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ummer Olympic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Please visit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map uk"/>
          <p:cNvPicPr/>
          <p:nvPr/>
        </p:nvPicPr>
        <p:blipFill>
          <a:blip r:embed="rId1"/>
          <a:stretch/>
        </p:blipFill>
        <p:spPr>
          <a:xfrm>
            <a:off x="468360" y="1484280"/>
            <a:ext cx="3959280" cy="4903920"/>
          </a:xfrm>
          <a:prstGeom prst="rect">
            <a:avLst/>
          </a:prstGeom>
          <a:ln w="0">
            <a:noFill/>
          </a:ln>
        </p:spPr>
      </p:pic>
      <p:sp>
        <p:nvSpPr>
          <p:cNvPr id="63" name="Oval 4"/>
          <p:cNvSpPr/>
          <p:nvPr/>
        </p:nvSpPr>
        <p:spPr>
          <a:xfrm>
            <a:off x="2627280" y="4365720"/>
            <a:ext cx="504720" cy="28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</a:rPr>
              <a:t>University of Liverpool </a:t>
            </a:r>
            <a:br>
              <a:rPr sz="32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Department of Public Health &amp; Polic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770280" y="1600200"/>
            <a:ext cx="512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epartment of Public Health and Policy is home to many disciplin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Research them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equalities-Social context and consequences of ill-healt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linical effectiven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Health impact assess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Undergraduate and graduate medical educatio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Successful MPH progr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(on campus,</a:t>
            </a:r>
            <a:r>
              <a:rPr b="1" lang="en-GB" sz="1400" spc="-1" strike="noStrike">
                <a:solidFill>
                  <a:srgbClr val="000000"/>
                </a:solidFill>
                <a:latin typeface="Calibri"/>
              </a:rPr>
              <a:t> &amp; 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on-lin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hD 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4" descr="http://pcwww.liv.ac.uk/avam/Images/Vic_theme.jpg"/>
          <p:cNvPicPr/>
          <p:nvPr/>
        </p:nvPicPr>
        <p:blipFill>
          <a:blip r:embed="rId1"/>
          <a:stretch/>
        </p:blipFill>
        <p:spPr>
          <a:xfrm>
            <a:off x="395280" y="2349360"/>
            <a:ext cx="350856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Our T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2276280"/>
            <a:ext cx="41148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Prof Simon Capewell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Chair of Clinical Epidemiolog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Content Placeholder 2"/>
          <p:cNvSpPr/>
          <p:nvPr/>
        </p:nvSpPr>
        <p:spPr>
          <a:xfrm>
            <a:off x="4788000" y="2276640"/>
            <a:ext cx="41148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r Martin O’Flaher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Lecturer in Epidemi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50920" y="3349800"/>
            <a:ext cx="87138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Our Research Interes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Examining what drives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cardiovascular disease (CVD) mortality rat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a range of high, middle &amp; low income countrie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The development of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effective and cost-saving cardiovascular 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the UK and beyond: building on empirical evidence, policy analyses, and quantitative model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How best to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help policy maker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develop effective non-communicable diseas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prevention strategies 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in low, middle &amp; high- income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http://images.clickliverpool.com/admin/article/articleimages/1316448194-SimonCapewell-web.jpg"/>
          <p:cNvPicPr/>
          <p:nvPr/>
        </p:nvPicPr>
        <p:blipFill>
          <a:blip r:embed="rId1"/>
          <a:stretch/>
        </p:blipFill>
        <p:spPr>
          <a:xfrm>
            <a:off x="1476360" y="333360"/>
            <a:ext cx="1181160" cy="1781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http://s3.amazonaws.com/mendeley-photos/94/4e/944e4aa0f0971342c4fa11109483acab1ade1979std.png"/>
          <p:cNvPicPr/>
          <p:nvPr/>
        </p:nvPicPr>
        <p:blipFill>
          <a:blip r:embed="rId2"/>
          <a:stretch/>
        </p:blipFill>
        <p:spPr>
          <a:xfrm>
            <a:off x="6300720" y="404640"/>
            <a:ext cx="120348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4:37:00Z</dcterms:created>
  <dc:creator>Martin O'Flaherty</dc:creator>
  <dc:description/>
  <dc:language>en-US</dc:language>
  <cp:lastModifiedBy>Simon Capewell</cp:lastModifiedBy>
  <dcterms:modified xsi:type="dcterms:W3CDTF">2013-09-14T16:11:25Z</dcterms:modified>
  <cp:revision>9</cp:revision>
  <dc:subject/>
  <dc:title>RESCAP-MED: University of Liverpool</dc:title>
</cp:coreProperties>
</file>