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7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28.png" ContentType="image/png"/>
  <Override PartName="/ppt/media/image30.png" ContentType="image/png"/>
  <Override PartName="/ppt/media/image5.png" ContentType="image/png"/>
  <Override PartName="/ppt/media/image3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77FF-98CE-4447-AAB1-DD2B426F3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70A0-DBB0-4B38-8900-6F087A9F4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215DFA-CDC7-4CFC-8D65-B83589BCE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30303B-C537-4AD3-988E-9BB19247F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4A3CA0-BB3B-4376-86B1-40BB2FDD6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B9420E-739E-4BE9-86B2-2E918377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B9C2B7-119C-4788-A379-A932F94E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2FE641-8506-4A75-98E0-D43DA17C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820745-8B90-43CD-A4C8-4A2544B0A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CF89AF-02D6-43E1-B55B-6C5326DD1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5672C2-6C86-4C38-AB13-9DC50511F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77E4-BE2E-4815-B591-127E7BE5D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0F6A-E068-4647-A87D-FF4F0BB3A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186ED-9499-42FD-A0A1-C370D99DE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5D08E-D137-48C6-9832-2F7FDB69B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5F969-EF2B-4549-930C-01E984274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E2BB7-A111-4250-B273-0282B7540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BD564-C225-46A3-9FC3-54865F365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AFF28-B531-41DB-A151-7A0E93E60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DA0C0-D7C6-4650-91FB-50E8C702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7B61-B1D9-4015-A6CD-192B22DC6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E8A1C-D56B-4710-A43A-C0E5C404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A7616-89DA-41E5-B164-F94AEF1C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F4079-C534-442C-8945-526269A6E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4BE2D-EFFF-4F3E-961B-60C86E235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28262-CBB0-4B56-855D-57447E6EA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180B2-5DC6-45A8-B9C8-09B9A6DC5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F5564-1869-4CF2-8179-BB23E89E3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21A37-6F01-456C-82C1-34A5988CB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41FD0-1507-4F84-A2AA-E5D47F7FF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1D9FB-E111-443A-9011-E1FB28F14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49B4-BE40-4F8E-B707-E9D78999E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C68F5-08CA-4D91-BF44-E8335F8B3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B4F8F-4FF3-4667-8880-DE1EA827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A507C-E085-448F-8F01-DFEA13C1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A0D59-21B3-4127-BFE1-A93C09A1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11B43-50AA-4B70-8F6A-58AB2B499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415BF-895A-4423-ACE5-BCA2042C9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EFE3D-F058-478F-AF61-9F07E42BD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C317F-B5C8-48CD-B65F-BB2B5157A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F4C6F-EB19-4BDB-AF90-99265D32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28830-B565-4C2E-A9AA-C7D435E96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FBBE-4BD4-4CA2-9034-D36576E7D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D6AB2-0C2B-4DE1-B597-4E467C567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6F2AB-9961-43F9-969A-80EE72613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E0D3E-BC91-4747-A6EC-93250BFEC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DEB72-5FD9-4CEE-8A58-75736646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7C91A-32BE-420D-9B26-C9698F3B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88DA3-7CA8-40B7-8E59-EDFC1968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74CC7-15E8-4D8D-A68B-30E674ACE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BDB55-E47D-4FAC-9EDC-10F348368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FA822-01DA-4505-BF61-E5248DACB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81291-A134-4DA3-838D-456731F60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48C0-573E-4694-BE67-7E07ABB9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C3E94-7AB0-4CD6-BCDB-95AE6E7E6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AA227-7AC2-45CE-AD1A-295BADE31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14266-4CB2-4277-B506-F5B59EFEB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2A58A-CF7C-49B0-BBEC-BCFB7C0C1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E5344-14C4-4D02-B392-13B2D4F99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AC5B5-01D7-4C30-884B-67D89CCD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B47C2-185C-4B80-AD63-1E36EF05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7603D1-C5BE-4943-AE2B-65B32E3C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D2158-B3D1-4E95-917D-619F665E6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0F288-C776-4905-A78E-B719E441C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76C3-8732-42B8-A4AF-6CE4B0CBB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66ECE-AC42-4788-A2D0-169AA09CD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34F29-956D-42E9-A6CB-F1939CC0A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7010C-E4EC-489A-B114-415868C5B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8D835-93FE-46A4-BC87-F78CC8C97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2CF25-9D85-453C-AB58-B559812BB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A9C19D-3182-46BA-86C4-566397ABD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08D12-12E1-482A-8B9D-AE1428654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87FE4-6AFB-43DF-8ACC-6735BAAC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A76CE-0CB1-4EF1-AA68-F7B2B239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B2466-B1FA-4072-BF2F-1A3E68F1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A330-1792-4354-BE46-36B8A6C6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A1464-BCD9-4C8E-87D0-DF50717DB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B48185-B17A-42C5-BDE6-A9F0933C2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691B7-A311-4361-A14F-130C1DD35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77C7C-D509-46FD-AFAE-1186EABB6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118BF1-5709-4F7D-861D-8613FDD48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DAC33-574F-4ABC-858D-5A6420F18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E2CF3-0A71-44BE-99C2-E0D481F70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8F8727-5D9B-4C77-AFA9-25AFD19D2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F3328C-F968-4083-8A03-1E1AB9690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2D258F-465C-4463-878D-6EB0BC14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DED6-76CD-46F9-B4FB-2CD8C820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6337AD-2D0A-478E-85A2-D8F8AB04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B8AE51-F148-45D6-A0C3-CE9F65F2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A80843-8E68-4EC8-8564-E6FEF0AAB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672252-A98B-4D29-B451-C5B871020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FB121-1DCE-4A08-A8DD-920C331F5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179FD5-739D-45A1-8506-1DD64CC2B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3426B-A2B2-49FF-8DEB-C347E1192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629E09-6EDE-4315-BF5D-E1976C2A2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3C1C2C-4454-4991-A3AC-1E734C768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53EE74-1A0C-436F-8265-56CD9BC18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D883-D795-46C0-B19C-8D705449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07A3BF-EC9E-4D2F-BC68-3DDA76D4B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C1D315-4F10-4525-A9CD-CA7675E4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40CF01-8A19-4324-ACF2-F5530762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CF45BB-0C5B-4007-BDF8-6157D7D2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846D6C-CD84-4E90-B46A-1AECF8EB6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F6EF26-760B-40A6-9517-89916E7DE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4FFE1B-5B13-48AF-AE0A-98357E1AF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E8C397-5864-481F-A541-B1AB118C2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CB098F-4347-45E7-BA81-B5AA07FEC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257F04-03A6-47F0-9894-5CC4F19FE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85.xml"/><Relationship Id="rId9" Type="http://schemas.openxmlformats.org/officeDocument/2006/relationships/slideLayout" Target="../slideLayouts/slideLayout86.xml"/><Relationship Id="rId10" Type="http://schemas.openxmlformats.org/officeDocument/2006/relationships/slideLayout" Target="../slideLayouts/slideLayout87.xml"/><Relationship Id="rId11" Type="http://schemas.openxmlformats.org/officeDocument/2006/relationships/slideLayout" Target="../slideLayouts/slideLayout88.xml"/><Relationship Id="rId12" Type="http://schemas.openxmlformats.org/officeDocument/2006/relationships/slideLayout" Target="../slideLayouts/slideLayout89.xml"/><Relationship Id="rId13" Type="http://schemas.openxmlformats.org/officeDocument/2006/relationships/slideLayout" Target="../slideLayouts/slideLayout90.xml"/><Relationship Id="rId14" Type="http://schemas.openxmlformats.org/officeDocument/2006/relationships/slideLayout" Target="../slideLayouts/slideLayout91.xml"/><Relationship Id="rId15" Type="http://schemas.openxmlformats.org/officeDocument/2006/relationships/slideLayout" Target="../slideLayouts/slideLayout92.xml"/><Relationship Id="rId16" Type="http://schemas.openxmlformats.org/officeDocument/2006/relationships/slideLayout" Target="../slideLayouts/slideLayout93.xml"/><Relationship Id="rId17" Type="http://schemas.openxmlformats.org/officeDocument/2006/relationships/slideLayout" Target="../slideLayouts/slideLayout94.xml"/><Relationship Id="rId18" Type="http://schemas.openxmlformats.org/officeDocument/2006/relationships/slideLayout" Target="../slideLayouts/slideLayout95.xml"/><Relationship Id="rId19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CD840-8EF3-4849-B13E-9530290BAFAC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3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154c8e"/>
              </a:gs>
              <a:gs pos="50000">
                <a:srgbClr val="5e91da"/>
              </a:gs>
              <a:gs pos="100000">
                <a:srgbClr val="154c8e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5" name="Freeform 16"/>
            <p:cNvSpPr/>
            <p:nvPr/>
          </p:nvSpPr>
          <p:spPr>
            <a:xfrm>
              <a:off x="1694520" y="4952880"/>
              <a:ext cx="7449480" cy="48816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8160"/>
                <a:gd name="textAreaBottom" fmla="*/ 488520 h 48816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a6b9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8"/>
            <p:cNvSpPr/>
            <p:nvPr/>
          </p:nvSpPr>
          <p:spPr>
            <a:xfrm>
              <a:off x="44280" y="5237640"/>
              <a:ext cx="9099720" cy="788760"/>
            </a:xfrm>
            <a:custGeom>
              <a:avLst/>
              <a:gdLst>
                <a:gd name="textAreaLeft" fmla="*/ 0 w 9099720"/>
                <a:gd name="textAreaRight" fmla="*/ 9100080 w 9099720"/>
                <a:gd name="textAreaTop" fmla="*/ 0 h 788760"/>
                <a:gd name="textAreaBottom" fmla="*/ 789120 h 78876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Freef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8" name="Freeform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864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" name="Straight Connector 20" descr=""/>
            <p:cNvPicPr/>
            <p:nvPr/>
          </p:nvPicPr>
          <p:blipFill>
            <a:blip r:embed="rId5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81CD0-5D2A-4AAF-821A-6C42A6133BD5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0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grpSp>
        <p:nvGrpSpPr>
          <p:cNvPr id="108" name="Chevron 10"/>
          <p:cNvGrpSpPr/>
          <p:nvPr/>
        </p:nvGrpSpPr>
        <p:grpSpPr>
          <a:xfrm>
            <a:off x="3565440" y="2962440"/>
            <a:ext cx="336600" cy="377640"/>
            <a:chOff x="3565440" y="2962440"/>
            <a:chExt cx="336600" cy="377640"/>
          </a:xfrm>
        </p:grpSpPr>
        <p:pic>
          <p:nvPicPr>
            <p:cNvPr id="109" name="Chevron 10" descr=""/>
            <p:cNvPicPr/>
            <p:nvPr/>
          </p:nvPicPr>
          <p:blipFill>
            <a:blip r:embed="rId4"/>
            <a:stretch/>
          </p:blipFill>
          <p:spPr>
            <a:xfrm>
              <a:off x="3565440" y="2962440"/>
              <a:ext cx="3366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3637080" y="3005280"/>
              <a:ext cx="18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Chevron 15"/>
          <p:cNvGrpSpPr/>
          <p:nvPr/>
        </p:nvGrpSpPr>
        <p:grpSpPr>
          <a:xfrm>
            <a:off x="3376440" y="2962440"/>
            <a:ext cx="336600" cy="377640"/>
            <a:chOff x="3376440" y="2962440"/>
            <a:chExt cx="336600" cy="377640"/>
          </a:xfrm>
        </p:grpSpPr>
        <p:pic>
          <p:nvPicPr>
            <p:cNvPr id="112" name="Chevron 15" descr=""/>
            <p:cNvPicPr/>
            <p:nvPr/>
          </p:nvPicPr>
          <p:blipFill>
            <a:blip r:embed="rId5"/>
            <a:stretch/>
          </p:blipFill>
          <p:spPr>
            <a:xfrm>
              <a:off x="3376440" y="2962440"/>
              <a:ext cx="3366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3449520" y="300528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A9667-DCF8-4BC1-A463-267A17EA2302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58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0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B0481-61FC-4FB3-AC76-BEEA55ECB83D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0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EDC3F-D99B-4829-A717-0C6E756045BC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52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4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78D01-A109-42C4-935F-15DE6E3BF220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99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1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297A1-B7DF-44C2-82DF-71CB0DBDB9AC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46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8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49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Right Triangle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52" name="Right Triangle 16" descr=""/>
            <p:cNvPicPr/>
            <p:nvPr/>
          </p:nvPicPr>
          <p:blipFill>
            <a:blip r:embed="rId4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4" name="Straight Connector 18" descr=""/>
          <p:cNvPicPr/>
          <p:nvPr/>
        </p:nvPicPr>
        <p:blipFill>
          <a:blip r:embed="rId5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grpSp>
        <p:nvGrpSpPr>
          <p:cNvPr id="355" name="Chevron 19"/>
          <p:cNvGrpSpPr/>
          <p:nvPr/>
        </p:nvGrpSpPr>
        <p:grpSpPr>
          <a:xfrm>
            <a:off x="8589960" y="4943520"/>
            <a:ext cx="334800" cy="377640"/>
            <a:chOff x="8589960" y="4943520"/>
            <a:chExt cx="334800" cy="377640"/>
          </a:xfrm>
        </p:grpSpPr>
        <p:pic>
          <p:nvPicPr>
            <p:cNvPr id="356" name="Chevron 19" descr=""/>
            <p:cNvPicPr/>
            <p:nvPr/>
          </p:nvPicPr>
          <p:blipFill>
            <a:blip r:embed="rId6"/>
            <a:stretch/>
          </p:blipFill>
          <p:spPr>
            <a:xfrm>
              <a:off x="8589960" y="4943520"/>
              <a:ext cx="3348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8664480" y="4987800"/>
              <a:ext cx="18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Chevron 20"/>
          <p:cNvGrpSpPr/>
          <p:nvPr/>
        </p:nvGrpSpPr>
        <p:grpSpPr>
          <a:xfrm>
            <a:off x="8405640" y="4943520"/>
            <a:ext cx="336600" cy="377640"/>
            <a:chOff x="8405640" y="4943520"/>
            <a:chExt cx="336600" cy="377640"/>
          </a:xfrm>
        </p:grpSpPr>
        <p:pic>
          <p:nvPicPr>
            <p:cNvPr id="359" name="Chevron 20" descr=""/>
            <p:cNvPicPr/>
            <p:nvPr/>
          </p:nvPicPr>
          <p:blipFill>
            <a:blip r:embed="rId7"/>
            <a:stretch/>
          </p:blipFill>
          <p:spPr>
            <a:xfrm>
              <a:off x="8405640" y="4943520"/>
              <a:ext cx="3366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8477280" y="4987800"/>
              <a:ext cx="18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D4C4E-26FF-4913-ABC8-2F3794A83FDE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8"/>
    <p:sldLayoutId id="2147483741" r:id="rId9"/>
    <p:sldLayoutId id="2147483742" r:id="rId10"/>
    <p:sldLayoutId id="2147483743" r:id="rId11"/>
    <p:sldLayoutId id="2147483744" r:id="rId12"/>
    <p:sldLayoutId id="2147483745" r:id="rId13"/>
    <p:sldLayoutId id="2147483746" r:id="rId14"/>
    <p:sldLayoutId id="2147483747" r:id="rId15"/>
    <p:sldLayoutId id="2147483748" r:id="rId16"/>
    <p:sldLayoutId id="2147483749" r:id="rId17"/>
    <p:sldLayoutId id="2147483750" r:id="rId18"/>
    <p:sldLayoutId id="2147483751" r:id="rId19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0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19EE6-0E32-42C9-A2E6-D14872C34B0B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Rectangle 4" descr=""/>
          <p:cNvPicPr/>
          <p:nvPr/>
        </p:nvPicPr>
        <p:blipFill>
          <a:blip r:embed="rId1"/>
          <a:stretch/>
        </p:blipFill>
        <p:spPr>
          <a:xfrm>
            <a:off x="487440" y="2871720"/>
            <a:ext cx="8186760" cy="178596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4436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Lucida Sans Unicode"/>
              </a:rPr>
              <a:t>Julia Critchley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51" name="Group 2"/>
          <p:cNvGrpSpPr/>
          <p:nvPr/>
        </p:nvGrpSpPr>
        <p:grpSpPr>
          <a:xfrm>
            <a:off x="85680" y="115920"/>
            <a:ext cx="1606680" cy="530280"/>
            <a:chOff x="85680" y="115920"/>
            <a:chExt cx="1606680" cy="530280"/>
          </a:xfrm>
        </p:grpSpPr>
        <p:pic>
          <p:nvPicPr>
            <p:cNvPr id="452" name="Picture 5" descr="http://research.ncl.ac.uk/media/sites/researchwebsites/rescapmed/EUlogo.jpg"/>
            <p:cNvPicPr/>
            <p:nvPr/>
          </p:nvPicPr>
          <p:blipFill>
            <a:blip r:embed="rId2"/>
            <a:stretch/>
          </p:blipFill>
          <p:spPr>
            <a:xfrm>
              <a:off x="85680" y="115920"/>
              <a:ext cx="811440" cy="53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3" name="Picture 7" descr="http://research.ncl.ac.uk/media/sites/researchwebsites/rescapmed/FP7logo2.jpg"/>
            <p:cNvPicPr/>
            <p:nvPr/>
          </p:nvPicPr>
          <p:blipFill>
            <a:blip r:embed="rId3"/>
            <a:stretch/>
          </p:blipFill>
          <p:spPr>
            <a:xfrm>
              <a:off x="1044360" y="120600"/>
              <a:ext cx="648000" cy="525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4" name="Picture 1" descr=""/>
          <p:cNvPicPr/>
          <p:nvPr/>
        </p:nvPicPr>
        <p:blipFill>
          <a:blip r:embed="rId4"/>
          <a:stretch/>
        </p:blipFill>
        <p:spPr>
          <a:xfrm>
            <a:off x="7000920" y="109440"/>
            <a:ext cx="2093760" cy="14814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2" descr=""/>
          <p:cNvPicPr/>
          <p:nvPr/>
        </p:nvPicPr>
        <p:blipFill>
          <a:blip r:embed="rId5"/>
          <a:stretch/>
        </p:blipFill>
        <p:spPr>
          <a:xfrm>
            <a:off x="2484360" y="139680"/>
            <a:ext cx="3527640" cy="16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In relation to your research stud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ust be defined by this guiding concept (ie your research objective, the problem or issue you are discussing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ot just a descriptive list of the material available, or a set of summari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Title 1" descr=""/>
          <p:cNvPicPr/>
          <p:nvPr/>
        </p:nvPicPr>
        <p:blipFill>
          <a:blip r:embed="rId1"/>
          <a:stretch/>
        </p:blipFill>
        <p:spPr>
          <a:xfrm>
            <a:off x="176040" y="182520"/>
            <a:ext cx="8791920" cy="123840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What are the main arguments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Do the authors make similar or different arguments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Are some arguments more convincing than others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How has research been conducted in the literature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How extensive has it been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What kinds of data have been presented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How pertinent are they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Are there sufficient amounts of data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Do they adequately answer the questions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457200" y="148104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What are the different types of methodologies used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How well do they work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Is one methodology more effective than others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Why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What are the different theoretical frameworks or approaches used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What do they allow the authors o do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How well do they work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Is one approach more effective than others? Why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Overall, is one work more convincing than others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Why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Or are the works you have compared too different to evaluate against each other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7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 txBox="1"/>
          <p:nvPr/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Searching for literatur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Not extensive or exhaustive “systematic review”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Do not need to identify “all literature”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Recent literature will often do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BUT do need to identify key articles in the field (not always recent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Key article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Cited a lot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High impact journal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Check citations e.g. in pubmed, google scholar, science citation index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MEDLINE (PubMed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Systematic review article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Science Citation Index (can be very helpful if there is a “key paper” that most relevant studies will have cited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Rectangle 2" descr=""/>
          <p:cNvPicPr/>
          <p:nvPr/>
        </p:nvPicPr>
        <p:blipFill>
          <a:blip r:embed="rId1"/>
          <a:stretch/>
        </p:blipFill>
        <p:spPr>
          <a:xfrm>
            <a:off x="384120" y="36360"/>
            <a:ext cx="8302680" cy="102420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4" descr=""/>
          <p:cNvPicPr/>
          <p:nvPr/>
        </p:nvPicPr>
        <p:blipFill>
          <a:blip r:embed="rId2"/>
          <a:srcRect l="0" t="0" r="-1248" b="-2039"/>
          <a:stretch/>
        </p:blipFill>
        <p:spPr>
          <a:xfrm>
            <a:off x="2209680" y="1066680"/>
            <a:ext cx="6782040" cy="5083200"/>
          </a:xfrm>
          <a:prstGeom prst="rect">
            <a:avLst/>
          </a:prstGeom>
          <a:ln w="0">
            <a:noFill/>
          </a:ln>
        </p:spPr>
      </p:pic>
      <p:sp>
        <p:nvSpPr>
          <p:cNvPr id="482" name="AutoShape 7"/>
          <p:cNvSpPr/>
          <p:nvPr/>
        </p:nvSpPr>
        <p:spPr>
          <a:xfrm>
            <a:off x="152280" y="5334120"/>
            <a:ext cx="2057400" cy="761760"/>
          </a:xfrm>
          <a:prstGeom prst="rightArrow">
            <a:avLst>
              <a:gd name="adj1" fmla="val 50000"/>
              <a:gd name="adj2" fmla="val 6752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-108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484" name="Picture 4" descr=""/>
          <p:cNvPicPr/>
          <p:nvPr/>
        </p:nvPicPr>
        <p:blipFill>
          <a:blip r:embed="rId1"/>
          <a:srcRect l="0" t="0" r="-1066" b="-1359"/>
          <a:stretch/>
        </p:blipFill>
        <p:spPr>
          <a:xfrm>
            <a:off x="228600" y="185760"/>
            <a:ext cx="8610480" cy="6454800"/>
          </a:xfrm>
          <a:prstGeom prst="rect">
            <a:avLst/>
          </a:prstGeom>
          <a:ln w="0">
            <a:noFill/>
          </a:ln>
        </p:spPr>
      </p:pic>
      <p:sp>
        <p:nvSpPr>
          <p:cNvPr id="485" name="AutoShape 5"/>
          <p:cNvSpPr/>
          <p:nvPr/>
        </p:nvSpPr>
        <p:spPr>
          <a:xfrm>
            <a:off x="7010280" y="2743200"/>
            <a:ext cx="1600200" cy="762120"/>
          </a:xfrm>
          <a:prstGeom prst="leftArrow">
            <a:avLst>
              <a:gd name="adj1" fmla="val 50000"/>
              <a:gd name="adj2" fmla="val 5249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-108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487" name="Picture 3" descr=""/>
          <p:cNvPicPr/>
          <p:nvPr/>
        </p:nvPicPr>
        <p:blipFill>
          <a:blip r:embed="rId1"/>
          <a:srcRect l="0" t="0" r="-1066" b="-1359"/>
          <a:stretch/>
        </p:blipFill>
        <p:spPr>
          <a:xfrm>
            <a:off x="228600" y="185760"/>
            <a:ext cx="8610480" cy="6454800"/>
          </a:xfrm>
          <a:prstGeom prst="rect">
            <a:avLst/>
          </a:prstGeom>
          <a:ln w="0">
            <a:noFill/>
          </a:ln>
        </p:spPr>
      </p:pic>
      <p:sp>
        <p:nvSpPr>
          <p:cNvPr id="488" name="AutoShape 4"/>
          <p:cNvSpPr/>
          <p:nvPr/>
        </p:nvSpPr>
        <p:spPr>
          <a:xfrm>
            <a:off x="7010280" y="2743200"/>
            <a:ext cx="1600200" cy="762120"/>
          </a:xfrm>
          <a:prstGeom prst="leftArrow">
            <a:avLst>
              <a:gd name="adj1" fmla="val 50000"/>
              <a:gd name="adj2" fmla="val 5249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AutoShape 5"/>
          <p:cNvSpPr/>
          <p:nvPr/>
        </p:nvSpPr>
        <p:spPr>
          <a:xfrm>
            <a:off x="457200" y="3809880"/>
            <a:ext cx="1433520" cy="685800"/>
          </a:xfrm>
          <a:prstGeom prst="rightArrow">
            <a:avLst>
              <a:gd name="adj1" fmla="val 50000"/>
              <a:gd name="adj2" fmla="val 5225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-108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491" name="Picture 4" descr=""/>
          <p:cNvPicPr/>
          <p:nvPr/>
        </p:nvPicPr>
        <p:blipFill>
          <a:blip r:embed="rId1"/>
          <a:srcRect l="0" t="0" r="-108" b="-28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-108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493" name="Picture 3" descr=""/>
          <p:cNvPicPr/>
          <p:nvPr/>
        </p:nvPicPr>
        <p:blipFill>
          <a:blip r:embed="rId1"/>
          <a:srcRect l="0" t="0" r="-108" b="-28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494" name="AutoShape 4"/>
          <p:cNvSpPr/>
          <p:nvPr/>
        </p:nvSpPr>
        <p:spPr>
          <a:xfrm>
            <a:off x="7162920" y="1219320"/>
            <a:ext cx="1066680" cy="1433520"/>
          </a:xfrm>
          <a:prstGeom prst="downArrow">
            <a:avLst>
              <a:gd name="adj1" fmla="val 50000"/>
              <a:gd name="adj2" fmla="val 3359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-283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496" name="Picture 4" descr=""/>
          <p:cNvPicPr/>
          <p:nvPr/>
        </p:nvPicPr>
        <p:blipFill>
          <a:blip r:embed="rId1"/>
          <a:srcRect l="0" t="0" r="-753" b="-1378"/>
          <a:stretch/>
        </p:blipFill>
        <p:spPr>
          <a:xfrm>
            <a:off x="-152280" y="0"/>
            <a:ext cx="9296280" cy="7140600"/>
          </a:xfrm>
          <a:prstGeom prst="rect">
            <a:avLst/>
          </a:prstGeom>
          <a:ln w="0">
            <a:noFill/>
          </a:ln>
        </p:spPr>
      </p:pic>
      <p:sp>
        <p:nvSpPr>
          <p:cNvPr id="497" name="AutoShape 5"/>
          <p:cNvSpPr/>
          <p:nvPr/>
        </p:nvSpPr>
        <p:spPr>
          <a:xfrm>
            <a:off x="152280" y="2743200"/>
            <a:ext cx="1586160" cy="990720"/>
          </a:xfrm>
          <a:prstGeom prst="rightArrow">
            <a:avLst>
              <a:gd name="adj1" fmla="val 50000"/>
              <a:gd name="adj2" fmla="val 4002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Provides an overview and a critical evaluation of a body of literature relating to a research topic or a research problem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Analyses a body of literature in order to classify it by themes or categories, rather than simply discussing individual works one after another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Presents the research and ideas of the field rather than each individual work or author by itself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-283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499" name="Picture 3" descr=""/>
          <p:cNvPicPr/>
          <p:nvPr/>
        </p:nvPicPr>
        <p:blipFill>
          <a:blip r:embed="rId1"/>
          <a:srcRect l="0" t="0" r="-753" b="-1378"/>
          <a:stretch/>
        </p:blipFill>
        <p:spPr>
          <a:xfrm>
            <a:off x="-152280" y="0"/>
            <a:ext cx="9296280" cy="7140600"/>
          </a:xfrm>
          <a:prstGeom prst="rect">
            <a:avLst/>
          </a:prstGeom>
          <a:ln w="0">
            <a:noFill/>
          </a:ln>
        </p:spPr>
      </p:pic>
      <p:sp>
        <p:nvSpPr>
          <p:cNvPr id="500" name="AutoShape 4"/>
          <p:cNvSpPr/>
          <p:nvPr/>
        </p:nvSpPr>
        <p:spPr>
          <a:xfrm>
            <a:off x="152280" y="2743200"/>
            <a:ext cx="1586160" cy="990720"/>
          </a:xfrm>
          <a:prstGeom prst="rightArrow">
            <a:avLst>
              <a:gd name="adj1" fmla="val 50000"/>
              <a:gd name="adj2" fmla="val 4002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7"/>
          <p:cNvSpPr/>
          <p:nvPr/>
        </p:nvSpPr>
        <p:spPr>
          <a:xfrm>
            <a:off x="3809880" y="274320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8"/>
          <p:cNvSpPr/>
          <p:nvPr/>
        </p:nvSpPr>
        <p:spPr>
          <a:xfrm>
            <a:off x="4191120" y="27432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9"/>
          <p:cNvSpPr/>
          <p:nvPr/>
        </p:nvSpPr>
        <p:spPr>
          <a:xfrm flipH="1">
            <a:off x="3809520" y="304812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11"/>
          <p:cNvSpPr/>
          <p:nvPr/>
        </p:nvSpPr>
        <p:spPr>
          <a:xfrm flipV="1">
            <a:off x="3809880" y="274284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12"/>
          <p:cNvSpPr/>
          <p:nvPr/>
        </p:nvSpPr>
        <p:spPr>
          <a:xfrm>
            <a:off x="4267080" y="2590920"/>
            <a:ext cx="1219320" cy="685800"/>
          </a:xfrm>
          <a:prstGeom prst="leftArrow">
            <a:avLst>
              <a:gd name="adj1" fmla="val 50000"/>
              <a:gd name="adj2" fmla="val 4444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-283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507" name="Picture 3" descr=""/>
          <p:cNvPicPr/>
          <p:nvPr/>
        </p:nvPicPr>
        <p:blipFill>
          <a:blip r:embed="rId1"/>
          <a:srcRect l="0" t="0" r="-753" b="-1378"/>
          <a:stretch/>
        </p:blipFill>
        <p:spPr>
          <a:xfrm>
            <a:off x="-152280" y="0"/>
            <a:ext cx="9296280" cy="7140600"/>
          </a:xfrm>
          <a:prstGeom prst="rect">
            <a:avLst/>
          </a:prstGeom>
          <a:ln w="0">
            <a:noFill/>
          </a:ln>
        </p:spPr>
      </p:pic>
      <p:sp>
        <p:nvSpPr>
          <p:cNvPr id="508" name="AutoShape 10"/>
          <p:cNvSpPr/>
          <p:nvPr/>
        </p:nvSpPr>
        <p:spPr>
          <a:xfrm>
            <a:off x="1752480" y="685800"/>
            <a:ext cx="914400" cy="1357200"/>
          </a:xfrm>
          <a:prstGeom prst="downArrow">
            <a:avLst>
              <a:gd name="adj1" fmla="val 50000"/>
              <a:gd name="adj2" fmla="val 3710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51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tart with “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What is known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In first sentence, state general topic of pape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Explain background / motivation (literature review) in a few sentences or paragraphs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Narrow down to </a:t>
            </a:r>
            <a:r>
              <a:rPr b="0" lang="en-GB" sz="2300" spc="-1" strike="noStrike">
                <a:solidFill>
                  <a:srgbClr val="ff0000"/>
                </a:solidFill>
                <a:latin typeface="Lucida Sans Unicode"/>
              </a:rPr>
              <a:t>what is NOT know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What is not known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Brief statement, usually one sentenc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Important, because it indicates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b050"/>
                </a:solidFill>
                <a:latin typeface="Lucida Sans Unicode"/>
              </a:rPr>
              <a:t>that this work is new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b050"/>
                </a:solidFill>
                <a:latin typeface="Lucida Sans Unicode"/>
              </a:rPr>
              <a:t>links known and research question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b050"/>
                </a:solidFill>
                <a:latin typeface="Lucida Sans Unicode"/>
              </a:rPr>
              <a:t>creates story lin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Flag this very clearl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E.g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is unknown”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is unclear”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needs to be determined”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Research Question must follow from “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what is not known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New sentence / paragraph for each known, unknown, ques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Use transition phrases and wor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Repeat key them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IEA 2013 course on Epidemiology – Shah Ebrahi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Epidemiology Supercourse (presentations by Richard Smith and Pauls Zieg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18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656560" cy="124308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Wh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Has your research question already been answered? If so, how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How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earch through the literatu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Writing of a review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Situates your topic in relation to previous research and illuminates a spot for your research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[Also demonstrates your knowledge of literature]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Several goals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provides background for your topic using previous research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shows you are familiar with previous, relevant research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evaluates the depth and breadth of the research in regards to your topic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determines remaining questions or aspects of your topic in need of research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Overall, a literature review seeks to answer the following question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What does the literature tell you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What does the literature not tell you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Why is this important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ummarise everything in the fiel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Write loads and demonstrate you know “everything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[This is just a few sentences to a few (short) paragraphs to put your work in context]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5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1. Synthesize and evaluate inform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2. Identify the main ideas of the literatu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3. Identify the main argument of the literature review …[that supports your research question]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4. Organize the main points of the literature review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5. Write literature review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Critical thinking, reading, and writ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trategies for reading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take note of the themes or categori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may be used later to develop a structure for the literature review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take note of how other writers classify their data, the literature in their fields, etc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read literature reviews in other papers to see how they have been structure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Form categories for analysis and comparison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A strong literature review examines each work on its own and in relation to other works by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identifying and then analysing them with regards to a number of different research aspects and idea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possible categories to use for comparison and analysi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topic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argument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results found and conclusion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method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theoretical approach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1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3T14:49:39Z</dcterms:created>
  <dc:creator>ntpm</dc:creator>
  <dc:description/>
  <dc:language>en-US</dc:language>
  <cp:lastModifiedBy>Licenced User</cp:lastModifiedBy>
  <cp:lastPrinted>2012-08-01T12:36:40Z</cp:lastPrinted>
  <dcterms:modified xsi:type="dcterms:W3CDTF">2014-09-18T15:36:43Z</dcterms:modified>
  <cp:revision>264</cp:revision>
  <dc:subject/>
  <dc:title>Slide 1</dc:title>
</cp:coreProperties>
</file>