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5.xml.rels" ContentType="application/vnd.openxmlformats-package.relationships+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81FBF-AA82-4785-AA01-1394A2C7999B}"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2C135-97DB-4405-82DB-DD9F02022785}"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lvl="1"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000000"/>
                </a:solidFill>
                <a:latin typeface="Calibri"/>
              </a:rPr>
              <a:t>Likewise, when you report that one group mean is somehow different from another (larger, smaller, increased, decreased, etc), it will be understood by your reader that you have tested thi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FD0E1-F272-43C4-906F-42FB6F83FDA5}" type="slidenum">
              <a:rPr b="0" lang="en-IE"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E7905E-F0D3-4024-B723-21B5A8ECFD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1012C9-2186-4F0E-AA1E-424627FA1D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AC2C17-5AE4-4E11-96F9-1554AED18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8F41A59-5852-4674-BB44-DBFFADCE78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FC59E-857A-4844-8847-37D48433F7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32D76-07EA-43A9-BF44-E62DED13CF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3EF771-C635-47CF-ABF0-581CFD4F4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9F69F0-173A-43EB-8780-46FB51742F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D349B9-DBC7-4637-83F1-0F9CB8321D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56155-4ED6-4A3D-A024-5C82871EB5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19CDBA-3D26-44D3-A47B-04297C1A89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B44A5-2C96-43AE-8629-7A6335019FE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DDE2D-4904-49BC-BFFC-BB69CA7C276E}" type="slidenum">
              <a:rPr b="0" lang="en-IE"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Results –Quantitative data</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898989"/>
                </a:solidFill>
                <a:latin typeface="Calibri"/>
              </a:rPr>
              <a:t>Kath Bennett</a:t>
            </a:r>
            <a:endParaRPr b="0" lang="en-US" sz="3200" spc="-1" strike="noStrike">
              <a:solidFill>
                <a:srgbClr val="000000"/>
              </a:solidFill>
              <a:latin typeface="Calibri"/>
            </a:endParaRPr>
          </a:p>
        </p:txBody>
      </p:sp>
      <p:pic>
        <p:nvPicPr>
          <p:cNvPr id="50" name="Picture 3" descr=""/>
          <p:cNvPicPr/>
          <p:nvPr/>
        </p:nvPicPr>
        <p:blipFill>
          <a:blip r:embed="rId1"/>
          <a:stretch/>
        </p:blipFill>
        <p:spPr>
          <a:xfrm>
            <a:off x="5940360" y="109440"/>
            <a:ext cx="3154320" cy="1481400"/>
          </a:xfrm>
          <a:prstGeom prst="rect">
            <a:avLst/>
          </a:prstGeom>
          <a:ln w="0">
            <a:noFill/>
          </a:ln>
        </p:spPr>
      </p:pic>
      <p:grpSp>
        <p:nvGrpSpPr>
          <p:cNvPr id="51" name="Group 4"/>
          <p:cNvGrpSpPr/>
          <p:nvPr/>
        </p:nvGrpSpPr>
        <p:grpSpPr>
          <a:xfrm>
            <a:off x="85680" y="115920"/>
            <a:ext cx="1965240" cy="865080"/>
            <a:chOff x="85680" y="115920"/>
            <a:chExt cx="1965240" cy="865080"/>
          </a:xfrm>
        </p:grpSpPr>
        <p:pic>
          <p:nvPicPr>
            <p:cNvPr id="52" name="Picture 5" descr="http://research.ncl.ac.uk/media/sites/researchwebsites/rescapmed/EUlogo.jpg"/>
            <p:cNvPicPr/>
            <p:nvPr/>
          </p:nvPicPr>
          <p:blipFill>
            <a:blip r:embed="rId2"/>
            <a:stretch/>
          </p:blipFill>
          <p:spPr>
            <a:xfrm>
              <a:off x="85680" y="115920"/>
              <a:ext cx="992520" cy="865080"/>
            </a:xfrm>
            <a:prstGeom prst="rect">
              <a:avLst/>
            </a:prstGeom>
            <a:ln w="0">
              <a:noFill/>
            </a:ln>
          </p:spPr>
        </p:pic>
        <p:pic>
          <p:nvPicPr>
            <p:cNvPr id="53" name="Picture 7" descr="http://research.ncl.ac.uk/media/sites/researchwebsites/rescapmed/FP7logo2.jpg"/>
            <p:cNvPicPr/>
            <p:nvPr/>
          </p:nvPicPr>
          <p:blipFill>
            <a:blip r:embed="rId3"/>
            <a:stretch/>
          </p:blipFill>
          <p:spPr>
            <a:xfrm>
              <a:off x="1258200" y="123840"/>
              <a:ext cx="792720" cy="85716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2" name="Picture 2" descr=""/>
          <p:cNvPicPr/>
          <p:nvPr/>
        </p:nvPicPr>
        <p:blipFill>
          <a:blip r:embed="rId1"/>
          <a:stretch/>
        </p:blipFill>
        <p:spPr>
          <a:xfrm>
            <a:off x="395280" y="1557360"/>
            <a:ext cx="7991640" cy="4686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write and revise until you have every test necessary to test your hypotheses and the reader can easily determine what the results indicate in terms of your hypotheses or question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5280" y="227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pecific points</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Data vs results</a:t>
            </a:r>
            <a:endParaRPr b="0" lang="en-US" sz="4400" spc="-1" strike="noStrike">
              <a:solidFill>
                <a:srgbClr val="000000"/>
              </a:solidFill>
              <a:latin typeface="Calibri"/>
            </a:endParaRPr>
          </a:p>
        </p:txBody>
      </p:sp>
      <p:sp>
        <p:nvSpPr>
          <p:cNvPr id="77" name=""/>
          <p:cNvSpPr txBox="1"/>
          <p:nvPr/>
        </p:nvSpPr>
        <p:spPr>
          <a:xfrm>
            <a:off x="457200" y="1599840"/>
            <a:ext cx="8362800" cy="470844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Data </a:t>
            </a:r>
            <a:r>
              <a:rPr b="0" lang="en-IE" sz="2500" spc="-1" strike="noStrike">
                <a:solidFill>
                  <a:srgbClr val="000000"/>
                </a:solidFill>
                <a:latin typeface="Calibri"/>
              </a:rPr>
              <a:t>are facts presented as numbers or figures e.g. means, proportions etc.</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s are general statements that </a:t>
            </a:r>
            <a:r>
              <a:rPr b="0" lang="en-IE" sz="2500" spc="-1" strike="noStrike">
                <a:solidFill>
                  <a:srgbClr val="000000"/>
                </a:solidFill>
                <a:latin typeface="Calibri"/>
              </a:rPr>
              <a:t>interpret data, i.e., the meaning of the dat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Example: Data but no result</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In the 20 control subjects, the mean resting blood pressure was 85 ±5 (SD) mmHg. In the 30 athletes, the mean resting blood pressure was 94 ± 3 mmHg.</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500" spc="-1" strike="noStrike">
                <a:solidFill>
                  <a:srgbClr val="000000"/>
                </a:solidFill>
                <a:latin typeface="Calibri"/>
              </a:rPr>
              <a:t>Result and general idea of the magnitude</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500" spc="-1" strike="noStrike">
                <a:solidFill>
                  <a:srgbClr val="000000"/>
                </a:solidFill>
                <a:latin typeface="Calibri"/>
              </a:rPr>
              <a:t>The mean resting blood pressure was 10% higher in the 30 athletes than in the 20 control subjects [94 ±3 (SD) vs. 85 ± 5 mmHg, </a:t>
            </a:r>
            <a:r>
              <a:rPr b="0" i="1" lang="en-IE" sz="2500" spc="-1" strike="noStrike">
                <a:solidFill>
                  <a:srgbClr val="000000"/>
                </a:solidFill>
                <a:latin typeface="Calibri"/>
              </a:rPr>
              <a:t>P &lt; 0.02].</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Differences, directionality, and magnitude</a:t>
            </a:r>
            <a:endParaRPr b="0" lang="en-US" sz="40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s much information as possible to the reader about the nature of differences or relationship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For example, if you testing for differences among groups, and you find a significant difference, </a:t>
            </a:r>
            <a:endParaRPr b="0" lang="en-US" sz="27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you </a:t>
            </a:r>
            <a:r>
              <a:rPr b="0" i="1" lang="en-IE" sz="2400" spc="-1" strike="noStrike" u="sng">
                <a:solidFill>
                  <a:srgbClr val="000000"/>
                </a:solidFill>
                <a:uFillTx/>
                <a:latin typeface="Calibri"/>
              </a:rPr>
              <a:t>should not</a:t>
            </a:r>
            <a:r>
              <a:rPr b="0" lang="en-IE" sz="2400" spc="-1" strike="noStrike">
                <a:solidFill>
                  <a:srgbClr val="000000"/>
                </a:solidFill>
                <a:latin typeface="Calibri"/>
              </a:rPr>
              <a:t> simply report that "groups A and B were significantly different". </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IE" sz="2400" spc="-1" strike="noStrike">
                <a:solidFill>
                  <a:srgbClr val="000000"/>
                </a:solidFill>
                <a:latin typeface="Calibri"/>
              </a:rPr>
              <a:t>but</a:t>
            </a:r>
            <a:r>
              <a:rPr b="0" lang="en-IE" sz="2400" spc="-1" strike="noStrike">
                <a:solidFill>
                  <a:srgbClr val="000000"/>
                </a:solidFill>
                <a:latin typeface="Calibri"/>
              </a:rPr>
              <a:t> "Group A individuals were 23% larger than those in Group B“</a:t>
            </a:r>
            <a:endParaRPr b="0" lang="en-US" sz="24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port the </a:t>
            </a:r>
            <a:r>
              <a:rPr b="0" i="1" lang="en-IE" sz="2700" spc="-1" strike="noStrike">
                <a:solidFill>
                  <a:srgbClr val="000000"/>
                </a:solidFill>
                <a:latin typeface="Calibri"/>
              </a:rPr>
              <a:t>direction</a:t>
            </a:r>
            <a:r>
              <a:rPr b="0" lang="en-IE" sz="2700" spc="-1" strike="noStrike">
                <a:solidFill>
                  <a:srgbClr val="000000"/>
                </a:solidFill>
                <a:latin typeface="Calibri"/>
              </a:rPr>
              <a:t> of differences (greater, larger, smaller, etc) and the </a:t>
            </a:r>
            <a:r>
              <a:rPr b="0" i="1" lang="en-IE" sz="2700" spc="-1" strike="noStrike">
                <a:solidFill>
                  <a:srgbClr val="000000"/>
                </a:solidFill>
                <a:latin typeface="Calibri"/>
              </a:rPr>
              <a:t>magnitude</a:t>
            </a:r>
            <a:r>
              <a:rPr b="0" lang="en-IE" sz="2700" spc="-1" strike="noStrike">
                <a:solidFill>
                  <a:srgbClr val="000000"/>
                </a:solidFill>
                <a:latin typeface="Calibri"/>
              </a:rPr>
              <a:t> of differences (% difference, how many times, etc.) whenever possib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esenting statistical data</a:t>
            </a:r>
            <a:endParaRPr b="0" lang="en-US" sz="4400" spc="-1" strike="noStrike">
              <a:solidFill>
                <a:srgbClr val="000000"/>
              </a:solidFill>
              <a:latin typeface="Calibri"/>
            </a:endParaRPr>
          </a:p>
        </p:txBody>
      </p:sp>
      <p:sp>
        <p:nvSpPr>
          <p:cNvPr id="81"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2400" spc="-1" strike="noStrike">
                <a:solidFill>
                  <a:srgbClr val="000000"/>
                </a:solidFill>
                <a:latin typeface="Calibri"/>
              </a:rPr>
              <a:t>Statistical test summaries are usually reported parenthetically in conjunction with the results they support.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This should include the statistical test used and the level of significance (test statistic and DF are optional).</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For example, if you found that the mean height of male stroke patients was significantly larger than that of female patients, you might report this result (in blue) and your statistical conclusion (in red) as follow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Calibri"/>
              </a:rPr>
              <a:t>"</a:t>
            </a:r>
            <a:r>
              <a:rPr b="0" lang="en-IE" sz="2400" spc="-1" strike="noStrike">
                <a:solidFill>
                  <a:srgbClr val="4f81bd"/>
                </a:solidFill>
                <a:latin typeface="Calibri"/>
              </a:rPr>
              <a:t>Males (180.5 ± 5.1; n=34) averaged 12.5 cm higher than females (168 ± 7.6 ; n=34) </a:t>
            </a:r>
            <a:r>
              <a:rPr b="0" lang="en-IE" sz="2400" spc="-1" strike="noStrike">
                <a:solidFill>
                  <a:srgbClr val="ff0000"/>
                </a:solidFill>
                <a:latin typeface="Calibri"/>
              </a:rPr>
              <a:t>(two-sample t-test, t = 5.78, 33 d.f., p &lt; 0.001)."</a:t>
            </a:r>
            <a:endParaRPr b="0" lang="en-US" sz="2400" spc="-1" strike="noStrike">
              <a:solidFill>
                <a:srgbClr val="000000"/>
              </a:solidFill>
              <a:latin typeface="Calibri"/>
            </a:endParaRPr>
          </a:p>
          <a:p>
            <a:pPr marL="343080" indent="-34308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4000" spc="-1" strike="noStrike">
                <a:solidFill>
                  <a:srgbClr val="000000"/>
                </a:solidFill>
                <a:latin typeface="Calibri"/>
              </a:rPr>
              <a:t>Use and over-use of the word "significant"</a:t>
            </a:r>
            <a:endParaRPr b="0" lang="en-US" sz="40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 scientific studies, the use of this word implies that a statistical test was employed; limit the use of the word "significant" to this purpose only. </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f your results include a p-value that indicates significance (usually when p&lt; 0.05), it is </a:t>
            </a:r>
            <a:r>
              <a:rPr b="0" i="1" lang="en-IE" sz="2800" spc="-1" strike="noStrike">
                <a:solidFill>
                  <a:srgbClr val="000000"/>
                </a:solidFill>
                <a:latin typeface="Calibri"/>
              </a:rPr>
              <a:t>unncecssary</a:t>
            </a:r>
            <a:r>
              <a:rPr b="0" lang="en-IE" sz="2800" spc="-1" strike="noStrike">
                <a:solidFill>
                  <a:srgbClr val="000000"/>
                </a:solidFill>
                <a:latin typeface="Calibri"/>
              </a:rPr>
              <a:t> (and </a:t>
            </a:r>
            <a:r>
              <a:rPr b="0" i="1" lang="en-IE" sz="2800" spc="-1" strike="noStrike">
                <a:solidFill>
                  <a:srgbClr val="000000"/>
                </a:solidFill>
                <a:latin typeface="Calibri"/>
              </a:rPr>
              <a:t>redundant</a:t>
            </a:r>
            <a:r>
              <a:rPr b="0" lang="en-IE" sz="2800" spc="-1" strike="noStrike">
                <a:solidFill>
                  <a:srgbClr val="000000"/>
                </a:solidFill>
                <a:latin typeface="Calibri"/>
              </a:rPr>
              <a:t>) to use the word "significant</a:t>
            </a:r>
            <a:endParaRPr b="0" lang="en-US" sz="2800" spc="-1" strike="noStrike">
              <a:solidFill>
                <a:srgbClr val="000000"/>
              </a:solidFill>
              <a:latin typeface="Calibri"/>
            </a:endParaRPr>
          </a:p>
          <a:p>
            <a:pPr lvl="1"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Interpretation of confidence intervals should focus on the implications (clinical importance)</a:t>
            </a:r>
            <a:endParaRPr b="0" lang="en-US" sz="2800" spc="-1" strike="noStrike">
              <a:solidFill>
                <a:srgbClr val="000000"/>
              </a:solidFill>
              <a:latin typeface="Calibri"/>
            </a:endParaRPr>
          </a:p>
          <a:p>
            <a:pPr lvl="1"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Problems to avoid</a:t>
            </a:r>
            <a:endParaRPr b="0" lang="en-US" sz="4400" spc="-1" strike="noStrike">
              <a:solidFill>
                <a:srgbClr val="000000"/>
              </a:solidFill>
              <a:latin typeface="Calibri"/>
            </a:endParaRPr>
          </a:p>
        </p:txBody>
      </p:sp>
      <p:sp>
        <p:nvSpPr>
          <p:cNvPr id="8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iterate each value from a Figure or Table - only the key result or trends that each conveys.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present the same data in both a Table and Figure - this is considered redundant and a waste of space and energy. Decide which format best shows the result and go with i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IE" sz="3000" spc="-1" strike="noStrike">
                <a:solidFill>
                  <a:srgbClr val="000000"/>
                </a:solidFill>
                <a:latin typeface="Calibri"/>
              </a:rPr>
              <a:t>Do not</a:t>
            </a:r>
            <a:r>
              <a:rPr b="0" lang="en-IE" sz="3000" spc="-1" strike="noStrike">
                <a:solidFill>
                  <a:srgbClr val="000000"/>
                </a:solidFill>
                <a:latin typeface="Calibri"/>
              </a:rPr>
              <a:t> report raw data values when they can be summarized as means, percents, etc.</a:t>
            </a:r>
            <a:br>
              <a:rPr sz="3000"/>
            </a:br>
            <a:r>
              <a:rPr b="0" lang="en-IE" sz="3000" spc="-1" strike="noStrike">
                <a:solidFill>
                  <a:srgbClr val="000000"/>
                </a:solidFill>
                <a:latin typeface="Calibri"/>
              </a:rPr>
              <a:t> </a:t>
            </a:r>
            <a:endParaRPr b="0" lang="en-US" sz="3000" spc="-1" strike="noStrike">
              <a:solidFill>
                <a:srgbClr val="000000"/>
              </a:solidFill>
              <a:latin typeface="Calibri"/>
            </a:endParaRPr>
          </a:p>
          <a:p>
            <a:pPr marL="339480" indent="-3394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yle</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s always, use past tense when you refer to your results, and put everything in a logical order.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refer to each figure as "figure 1," "figure 2," etc. ; number your tables as well (see the reference text for details)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lace figures and tables, properly numbered, in order at the end of the report (clearly distinguish them from any other material such as raw data, standard curves, etc.)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you prefer, you may place your figures and tables appropriately within the text of your results section. </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Figures and tables</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ither place figures and tables within the text of the result, or include them in the back of the report (following Literature Cited)</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f at the end of the report, make sure they are clearly distinguished from any attached appendix materials</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Regardless of placement, each figure must be numbered consecutively and complete with caption</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table must be titled, numbered consecutively and complete with heading (title with description goes above the tabl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Each figure and table must be sufficiently complete that it could stand on its own, separate from tex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neral intent</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he purpose of a results section is to present and illustrate your findings. Make this section a completely objective report of the results, and save all interpretation for the discussion.</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hould address research question(s) posed at the start</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Follows what is described in the method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Reports results whether or not they support your hypothesis</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Observational studies - STROBE</a:t>
            </a:r>
            <a:endParaRPr b="0" lang="en-US"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In observational studies considerations of confounding and bias are as important as statistical significa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nadjusted and adjusted (for confounders) estimates provide some idea of the effect of confounding.</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Participants – report numbers at each stage of the study – eligible, included, followed up and analysed. A flow chart can sometimes hel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Give reasons for non-participation at each sta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Descriptiv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characteristics of study participants (demographics etc) and information on exposures and confounder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numbers with missing data for variables of interest</a:t>
            </a:r>
            <a:endParaRPr b="0" lang="en-US" sz="2800" spc="-1" strike="noStrike">
              <a:solidFill>
                <a:srgbClr val="000000"/>
              </a:solidFill>
              <a:latin typeface="Calibri"/>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utcome data</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hort studies – report number of outcome events or summary measures over tim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ase-control study – report number in each exposure category or summary of exposu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ross-sectional study – report number of outcome events or summary meas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Main resul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Give unadjusted estimates, and adjusted (for confounders) and their precision (95% CI). Make clear which confounder were adjusted for and wh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category boundaries when continuous data are categoris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Consider translating estimates of relative risk into absolute risk for meaningful time perio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STROBE:RESULTS</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ther analys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Report other analyses performed</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ubgroups and interactions/effect modificatio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800" spc="-1" strike="noStrike">
                <a:solidFill>
                  <a:srgbClr val="000000"/>
                </a:solidFill>
                <a:latin typeface="Calibri"/>
              </a:rPr>
              <a:t>Sensitivity analy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CONTENT of results</a:t>
            </a:r>
            <a:endParaRPr b="0" lang="en-US"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Summarize your findings in text and illustrate them, if appropriate, with figures and tables.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In text, describe each of your results, pointing the reader to observations that are most relevant.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Provide a context, such as by describing the question that was addressed by making a particular observation.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Describe results of control experiments and include observations that are not presented in a formal figure or table, if appropriate.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2700" spc="-1" strike="noStrike">
                <a:solidFill>
                  <a:srgbClr val="000000"/>
                </a:solidFill>
                <a:latin typeface="Calibri"/>
              </a:rPr>
              <a:t>Analyze your data, then prepare the analyzed (converted) data in the form of a figure (graph), table, or in text form. </a:t>
            </a:r>
            <a:endParaRPr b="0" lang="en-US" sz="27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Organize the layout of the results section in the same way you structured the hypotheses or research questions in the introduction section of your research project. This will make it easier for the readers to follow your resul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rt by describing the statistical test or tests used to compare the different conditions or test your hypotheses. Be clear on what hypothesis or question is being compared with each statistical test as well as how you are defining the groups being compared within the te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descriptive statistics to describe the overall characteristics of the groups being compared or sample tested with the inferential statistic.</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State the statistical results in the acceptable format for your discipline; you should familiarize yourself with whichever format is appropriate and follow the guidelines rigorously</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End each statistical test with a sentence or two indicating what that particular statistical result says about the hypothesis or question. Was your hypothesis supported by the statistical resul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Getting started on results</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Use tables and figures sparingly. Tables and figures should help the reader visualize the important resul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3200" spc="-1" strike="noStrike">
                <a:solidFill>
                  <a:srgbClr val="000000"/>
                </a:solidFill>
                <a:latin typeface="Calibri"/>
              </a:rPr>
              <a:t>Tables and figures are helpful to summarize a large amount of data that is essential for the reader to se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Title 1"/>
          <p:cNvSpPr/>
          <p:nvPr/>
        </p:nvSpPr>
        <p:spPr>
          <a:xfrm>
            <a:off x="468360" y="-24300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4400" spc="-1" strike="noStrike">
                <a:solidFill>
                  <a:srgbClr val="000000"/>
                </a:solidFill>
                <a:latin typeface="Calibri"/>
              </a:rPr>
              <a:t>Examples</a:t>
            </a:r>
            <a:endParaRPr b="0" lang="en-US" sz="4400" spc="-1" strike="noStrike">
              <a:solidFill>
                <a:srgbClr val="000000"/>
              </a:solidFill>
              <a:latin typeface="Calibri"/>
            </a:endParaRPr>
          </a:p>
        </p:txBody>
      </p:sp>
      <p:pic>
        <p:nvPicPr>
          <p:cNvPr id="70" name="Picture 3" descr=""/>
          <p:cNvPicPr/>
          <p:nvPr/>
        </p:nvPicPr>
        <p:blipFill>
          <a:blip r:embed="rId1"/>
          <a:stretch/>
        </p:blipFill>
        <p:spPr>
          <a:xfrm>
            <a:off x="539640" y="1341360"/>
            <a:ext cx="8067960" cy="4514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06T16:37:29Z</dcterms:created>
  <dc:creator>Kathleen Bennett</dc:creator>
  <dc:description/>
  <dc:language>en-US</dc:language>
  <cp:lastModifiedBy>Licenced User</cp:lastModifiedBy>
  <dcterms:modified xsi:type="dcterms:W3CDTF">2014-09-18T15:34:08Z</dcterms:modified>
  <cp:revision>12</cp:revision>
  <dc:subject/>
  <dc:title>Results – describing quantitative data or ‘Announcing the findings’</dc:title>
</cp:coreProperties>
</file>