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E49D-1A20-4035-ABE9-B01AACE4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9ED6-ADAC-48AB-B05D-923ABB5DC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9E8E0-66F1-40DC-A9BB-080D27BD8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85D2B-81BF-4178-ADF0-00A12BC2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96B28-863B-4CC3-8CB7-6193EE163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5DC90-0657-40C1-A765-4450202E2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B9E5-E94B-412D-BA44-5FE8FC231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71A32-2FBB-42A0-A967-D3E8A83C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C7EDA-A25C-40AF-AF7F-508E47D0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9896F-4401-4578-ADAB-0C1B1A33E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58A558-226B-4A31-A2CF-5173D4B18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0098-FF3B-4760-8023-4A1CF73CE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73e8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5bd07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a5d02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f5c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073e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D7ABA-C209-4E3D-8E6F-4261595EAEEE}" type="slidenum">
              <a:rPr b="0" lang="en-GB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c6e7fc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c6e7fc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st-andrews.ac.uk/intrel/css/publications/thestandrewspapersoncontemporarysyria/" TargetMode="External"/><Relationship Id="rId2" Type="http://schemas.openxmlformats.org/officeDocument/2006/relationships/hyperlink" Target="http://www.st-andrews.ac.uk/intrel/css/publications/thestandrewspapersoncontemporarysyria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1904760"/>
            <a:ext cx="7543800" cy="2593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6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4571640"/>
            <a:ext cx="646128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98989"/>
                </a:solidFill>
                <a:latin typeface="Calibri"/>
              </a:rPr>
              <a:t>Peter Philimo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7000920" y="109440"/>
            <a:ext cx="2093760" cy="1481400"/>
          </a:xfrm>
          <a:prstGeom prst="rect">
            <a:avLst/>
          </a:prstGeom>
          <a:ln w="0">
            <a:noFill/>
          </a:ln>
        </p:spPr>
      </p:pic>
      <p:grpSp>
        <p:nvGrpSpPr>
          <p:cNvPr id="46" name="Group 4"/>
          <p:cNvGrpSpPr/>
          <p:nvPr/>
        </p:nvGrpSpPr>
        <p:grpSpPr>
          <a:xfrm>
            <a:off x="0" y="311040"/>
            <a:ext cx="1606680" cy="530280"/>
            <a:chOff x="0" y="311040"/>
            <a:chExt cx="1606680" cy="530280"/>
          </a:xfrm>
        </p:grpSpPr>
        <p:pic>
          <p:nvPicPr>
            <p:cNvPr id="47" name="Picture 5" descr="http://research.ncl.ac.uk/media/sites/researchwebsites/rescapmed/EUlogo.jpg"/>
            <p:cNvPicPr/>
            <p:nvPr/>
          </p:nvPicPr>
          <p:blipFill>
            <a:blip r:embed="rId2"/>
            <a:stretch/>
          </p:blipFill>
          <p:spPr>
            <a:xfrm>
              <a:off x="0" y="311040"/>
              <a:ext cx="811440" cy="53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Picture 6" descr="http://research.ncl.ac.uk/media/sites/researchwebsites/rescapmed/FP7logo2.jpg"/>
            <p:cNvPicPr/>
            <p:nvPr/>
          </p:nvPicPr>
          <p:blipFill>
            <a:blip r:embed="rId3"/>
            <a:stretch/>
          </p:blipFill>
          <p:spPr>
            <a:xfrm>
              <a:off x="958680" y="315720"/>
              <a:ext cx="648000" cy="525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py Editor and Proof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Very short deadli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time-consu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ise by preparing text adhering to journal guidelin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an be excellent, or a 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o check, and re-read the script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 don’t want bits missed or misrepresen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s with editors, try and communicate directly with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73e87"/>
                </a:solidFill>
                <a:latin typeface="Cambria"/>
              </a:rPr>
              <a:t>Dealing with Editors</a:t>
            </a:r>
            <a:endParaRPr b="0" lang="en-US" sz="4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lecting an appropriate journal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ver letter to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lagiar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vising: responding to referees’ criticis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Your second letter to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opy Editor and Proof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uthorship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eciding on who counts as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iteria for inclu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Authorship ord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o will lead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ting timet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responsibilities as lead auth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Selecting the right journal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here are many choices, so…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ake a list of possibilities, the pro and cons, and an order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ry x first (why?); try Y second (why?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hich audiences are you trying to reach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 you want to aim high or get your paper published rapidly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Might you want to reach audiences in several field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Calibri"/>
              </a:rPr>
              <a:t>The pros and cons of interdisciplinary journal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34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1"/>
              </a:rPr>
              <a:t>http://www.st-andrews.ac.uk/intrel/css/publications/thestandrewspapersoncontemporarysyria</a:t>
            </a:r>
            <a:r>
              <a:rPr b="0" lang="en-GB" sz="1400" spc="-1" strike="noStrike" u="sng">
                <a:solidFill>
                  <a:srgbClr val="0080ff"/>
                </a:solidFill>
                <a:uFillTx/>
                <a:latin typeface="Calibri"/>
                <a:hlinkClick r:id="rId2"/>
              </a:rPr>
              <a:t>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80000"/>
              </a:lnSpc>
              <a:spcBef>
                <a:spcPts val="425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ow important is the Impact factor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oes Impact factor always reflect journal status?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11196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Cover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may be crucial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Make the editor WANT this paper!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ry to ensure that the Editor doesn’t read and reject without even sending to review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how that you know this journa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90000"/>
              </a:lnSpc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plain how your article is (a) appropriate in this journal and (b) offers something new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 don’t overstate claims you mak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ddress the editor by na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Avoiding any suspicion of plagiarism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arely a problem but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be scrupulous in your referencing – regarding both data and argumen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lways insure you are using your own words and sty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1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Likely respons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Accepted but asking for minor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Potential acceptance after more chang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vise and resubmit (no guarante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Calibri"/>
              </a:rPr>
              <a:t>Rejec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out reviewers’ comments gives you no guidanc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BU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Rejection with reviewers comments may be very useful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vising 2: </a:t>
            </a:r>
            <a:br>
              <a:rPr sz="3600"/>
            </a:b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responding to referees’ criticisms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f 2-4 reviewers, then order their comment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Sort major from less significant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Helpful: the comments which help you develop your analysis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1: the comments which highlight your lack of data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Tricky 2: the comments which require space you don’t have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Wrong: the comments which misunderstand your article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Identify further reading or analysis you need to d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t a timetable and involve your co-auth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alibri"/>
              </a:rPr>
              <a:t>Division of labou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76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Remember to check that the revisions are reflected in the Abstrac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73e87"/>
                </a:solidFill>
                <a:latin typeface="Cambria"/>
              </a:rPr>
              <a:t>Your second letter to the Editor</a:t>
            </a:r>
            <a:endParaRPr b="0" lang="en-US" sz="3600" spc="-1" strike="noStrike">
              <a:solidFill>
                <a:srgbClr val="073e87"/>
              </a:solidFill>
              <a:latin typeface="Cambria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This letter is even more important than the firs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 have to convince the editor you have taken reviewers criticisms seriousl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his does not mean you have to agree with every criticis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But you must not give the impression you have been selective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What to do if reviewers ask for contradictory things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458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eeking clarification from the edi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550"/>
              </a:spcBef>
              <a:buClr>
                <a:srgbClr val="31b6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Your letter makes the overall case defending your judgement and decis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15T17:56:56Z</dcterms:created>
  <dc:creator>PeterP</dc:creator>
  <dc:description/>
  <dc:language>en-US</dc:language>
  <cp:lastModifiedBy>Licenced User</cp:lastModifiedBy>
  <dcterms:modified xsi:type="dcterms:W3CDTF">2014-09-18T15:31:39Z</dcterms:modified>
  <cp:revision>15</cp:revision>
  <dc:subject/>
  <dc:title>PowerPoint Presentation</dc:title>
</cp:coreProperties>
</file>