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D682B0-3596-4AF9-AA82-0964714191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85764-F365-4125-A823-AC24F1147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397099-916F-4D65-A476-6E204C52DE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271000-50AC-4159-BAC9-546D073980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85731-EEA2-4D77-8DE7-10943936E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061CA-9FF2-49AB-A25F-58A97F0E6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BA9A5-6D91-4D77-9D7B-865A5EFDF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00CF4-3363-48F6-B76A-3BFAB44E0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3ADA6-0AC3-4C9D-BA1A-842DE06A6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10574-9470-4D8D-917D-2ABA1E958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A013C-D81A-477B-B889-18017A931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81055-77ED-443A-9164-0889987662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25B04-3893-43D9-9BAC-A61AA493D568}" type="slidenum">
              <a:rPr b="0" lang="en-I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Title and abstract writing</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898989"/>
                </a:solidFill>
                <a:latin typeface="Calibri"/>
              </a:rPr>
              <a:t>Kath Bennett</a:t>
            </a:r>
            <a:endParaRPr b="0" lang="en-US" sz="3200" spc="-1" strike="noStrike">
              <a:solidFill>
                <a:srgbClr val="000000"/>
              </a:solidFill>
              <a:latin typeface="Calibri"/>
            </a:endParaRPr>
          </a:p>
        </p:txBody>
      </p:sp>
      <p:pic>
        <p:nvPicPr>
          <p:cNvPr id="43" name="Picture 3" descr=""/>
          <p:cNvPicPr/>
          <p:nvPr/>
        </p:nvPicPr>
        <p:blipFill>
          <a:blip r:embed="rId1"/>
          <a:stretch/>
        </p:blipFill>
        <p:spPr>
          <a:xfrm>
            <a:off x="7000920" y="109440"/>
            <a:ext cx="2093760" cy="1481400"/>
          </a:xfrm>
          <a:prstGeom prst="rect">
            <a:avLst/>
          </a:prstGeom>
          <a:ln w="0">
            <a:noFill/>
          </a:ln>
        </p:spPr>
      </p:pic>
      <p:grpSp>
        <p:nvGrpSpPr>
          <p:cNvPr id="44" name="Group 4"/>
          <p:cNvGrpSpPr/>
          <p:nvPr/>
        </p:nvGrpSpPr>
        <p:grpSpPr>
          <a:xfrm>
            <a:off x="155520" y="6170760"/>
            <a:ext cx="1606680" cy="528480"/>
            <a:chOff x="155520" y="6170760"/>
            <a:chExt cx="1606680" cy="528480"/>
          </a:xfrm>
        </p:grpSpPr>
        <p:pic>
          <p:nvPicPr>
            <p:cNvPr id="45" name="Picture 5" descr="http://research.ncl.ac.uk/media/sites/researchwebsites/rescapmed/EUlogo.jpg"/>
            <p:cNvPicPr/>
            <p:nvPr/>
          </p:nvPicPr>
          <p:blipFill>
            <a:blip r:embed="rId2"/>
            <a:stretch/>
          </p:blipFill>
          <p:spPr>
            <a:xfrm>
              <a:off x="155520" y="6170760"/>
              <a:ext cx="811440" cy="528480"/>
            </a:xfrm>
            <a:prstGeom prst="rect">
              <a:avLst/>
            </a:prstGeom>
            <a:ln w="0">
              <a:noFill/>
            </a:ln>
          </p:spPr>
        </p:pic>
        <p:pic>
          <p:nvPicPr>
            <p:cNvPr id="46" name="Picture 6" descr="http://research.ncl.ac.uk/media/sites/researchwebsites/rescapmed/FP7logo2.jpg"/>
            <p:cNvPicPr/>
            <p:nvPr/>
          </p:nvPicPr>
          <p:blipFill>
            <a:blip r:embed="rId3"/>
            <a:stretch/>
          </p:blipFill>
          <p:spPr>
            <a:xfrm>
              <a:off x="1114200" y="6175440"/>
              <a:ext cx="648000" cy="5238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ood abstract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eamlessly blend the elements of the text into one coherent paragrap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Include only relevant inform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se a clear and concise writing sty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ake objectives stand ou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void repetition and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ood abstract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ention novel methods and be specif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nly present most important results and be specif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onclusions: just the major implications; relate back to your purpose and research 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Force you to summarise the purpose, scope, argument and originality of your pap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Writing styl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lear and conci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move or shorten unnecessary words/phra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void abbreviations, acronym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Define unfamiliar term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Mediocre abstracts</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ad like a table of cont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Exampl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The behaviour of editors is discussed. What should be covered by an abstract is considered. The importance of the abstract is described. Dictionary definitions of “abstract” are quoted. At the conclusion a revised abstract is presen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Calibri"/>
              </a:rPr>
              <a:t>Mediocre abstracts – improved example</a:t>
            </a:r>
            <a:endParaRPr b="0" lang="en-US" sz="40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he abstract is of utmost importance, for it is read by 10 to 500 times more people than hear the presentation or read the entire article. It should not be a mere recital of the subjects covered, replete with such expressions as “is discussed” and “Is described.” It should be a condensation and concentration of the essential qualities of the pap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Calibri"/>
              </a:rPr>
              <a:t>Abstracts for qualitative research</a:t>
            </a:r>
            <a:br>
              <a:rPr sz="4000"/>
            </a:br>
            <a:r>
              <a:rPr b="0" lang="en-IE" sz="2400" spc="-1" strike="noStrike">
                <a:solidFill>
                  <a:srgbClr val="000000"/>
                </a:solidFill>
                <a:latin typeface="Calibri"/>
              </a:rPr>
              <a:t>two examples (one structured, one unstructured)</a:t>
            </a:r>
            <a:endParaRPr b="0" lang="en-US" sz="2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http://www.globalizationandhealth.com/content/7/1/17/abstract</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http://onlinelibrary.wiley.com/doi/10.1111/maq.12005/abstract</a:t>
            </a:r>
            <a:endParaRPr b="0" lang="en-US" sz="20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6" name="" descr=""/>
          <p:cNvPicPr/>
          <p:nvPr/>
        </p:nvPicPr>
        <p:blipFill>
          <a:blip r:embed="rId1"/>
          <a:stretch/>
        </p:blipFill>
        <p:spPr>
          <a:xfrm>
            <a:off x="457200" y="1600200"/>
            <a:ext cx="8229600" cy="4525920"/>
          </a:xfrm>
          <a:prstGeom prst="rect">
            <a:avLst/>
          </a:prstGeom>
          <a:ln w="0">
            <a:noFill/>
          </a:ln>
        </p:spPr>
      </p:pic>
      <p:pic>
        <p:nvPicPr>
          <p:cNvPr id="77" name="Picture 2" descr=""/>
          <p:cNvPicPr/>
          <p:nvPr/>
        </p:nvPicPr>
        <p:blipFill>
          <a:blip r:embed="rId2"/>
          <a:stretch/>
        </p:blipFill>
        <p:spPr>
          <a:xfrm>
            <a:off x="0" y="0"/>
            <a:ext cx="9753480" cy="7315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9" name="" descr=""/>
          <p:cNvPicPr/>
          <p:nvPr/>
        </p:nvPicPr>
        <p:blipFill>
          <a:blip r:embed="rId1"/>
          <a:stretch/>
        </p:blipFill>
        <p:spPr>
          <a:xfrm>
            <a:off x="457200" y="1600200"/>
            <a:ext cx="8229600" cy="4525920"/>
          </a:xfrm>
          <a:prstGeom prst="rect">
            <a:avLst/>
          </a:prstGeom>
          <a:ln w="0">
            <a:noFill/>
          </a:ln>
        </p:spPr>
      </p:pic>
      <p:pic>
        <p:nvPicPr>
          <p:cNvPr id="80" name="Picture 4" descr=""/>
          <p:cNvPicPr/>
          <p:nvPr/>
        </p:nvPicPr>
        <p:blipFill>
          <a:blip r:embed="rId2"/>
          <a:stretch/>
        </p:blipFill>
        <p:spPr>
          <a:xfrm>
            <a:off x="250920" y="293760"/>
            <a:ext cx="8893080" cy="645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Titles</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Conveys clearly and concisely what the paper is abou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Should indicate narrow focus of the paper</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Should be unambiguous in plain English</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What do you most want to conve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a challenge to current thinking?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a new methodology?</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Can include the population, study design and intervention and/or outcom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A question may be a way to summarise purpos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Abstract</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 brief description of a larger docu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tart with an abstract for a research centred journal arti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sually scientific abstracts but lay abstracts for a wider audi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lways read the instructions for authors when writing abstrac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Purpose</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Help reader decide whether to read text or no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ummarises the findings of the tex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Helps scholars find your artic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Qualities of an abstract</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ne or more well-developed paragraph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hort  (100-300 wo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tands alo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Includes all major elements of the larger text (in same or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No new inform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ucture of an abstract</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opic/Backgrou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search 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etho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sul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onclu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BUT social science journals rarely ask for structured abstracts, even if the same principles app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Writing an abstract</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Finish your pap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ake a brea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ad over your paper and identify key poi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ne to two sentences f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Background/research ques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Metho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Resul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onclusions/recommenda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Writing an abstract</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onnect the ideas with appropriate trans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dd and remove text as requir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vise, edit and Proofrea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Calibri"/>
              </a:rPr>
              <a:t>For literature reviews/critical essays</a:t>
            </a:r>
            <a:endParaRPr b="0" lang="en-US" sz="40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Problem/Topic investiga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hesis stat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Your conclusions based on revie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ethods for review if nove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2T10:13:38Z</dcterms:created>
  <dc:creator>Kathleen Bennett</dc:creator>
  <dc:description/>
  <dc:language>en-US</dc:language>
  <cp:lastModifiedBy>Licenced User</cp:lastModifiedBy>
  <dcterms:modified xsi:type="dcterms:W3CDTF">2014-09-18T15:34:39Z</dcterms:modified>
  <cp:revision>22</cp:revision>
  <dc:subject/>
  <dc:title>Title and abstract writing</dc:title>
</cp:coreProperties>
</file>