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7A89D-8A49-4E2E-BFD0-229E500F446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029FE-9E50-4B6D-B647-ABBD9E2AAE4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6FA1C-F841-4356-B6A9-B8B06A6F7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80810-31D4-4DC2-A85B-05B3D52C4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00070-7726-4F90-8A87-F289C358E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3F16F-FC56-4189-91F0-96EEBF5C0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4BF89-6AA2-4FD6-84BD-F50B824A8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851D8-D424-4F30-9BC8-1A8FCC5D5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D0193-3525-41FA-8AE3-23F37412C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ED8E9-54DF-45E8-8554-E469DEE5F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653F6-F057-42AE-9B5F-FBD4AE228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D7BC5-1FF3-45DA-B58A-D5FD8F36B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9AEBE-7E56-46EA-BF61-0E744E2C3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47E0B-1029-494F-835E-2AF228AB1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ADD36-71CF-40E4-A3BD-A9EF36899CC5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86868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Writing the Discussion 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(Simon Capewell, Day 2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197000"/>
            <a:ext cx="85075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A. start with the abstract, refine tha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This helps identify key issues around WHY, HOW, WHAT found, WHAT does it mea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RESCAP MED and Liverpoo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324000" y="907560"/>
            <a:ext cx="864072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Main Rol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Fellowships program (host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Previous successful and productive experience in introducing young researchers to public health policy decision making and modelling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Co-participants in 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Calibri"/>
              </a:rPr>
              <a:t>Marie Curie 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project led by Kath Bennet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Collaboration with researchers in Portugal, Denmark, Holland, Spa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Calibri"/>
              </a:rPr>
              <a:t>MedCHAMPS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 experience helping develop public health &amp; modelling skills within four national teams: 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Developed &amp; implemented </a:t>
            </a:r>
            <a:r>
              <a:rPr b="1" lang="en-GB" sz="2000" spc="-1" strike="noStrike" u="sng">
                <a:solidFill>
                  <a:srgbClr val="000000"/>
                </a:solidFill>
                <a:uFillTx/>
                <a:latin typeface="Calibri"/>
              </a:rPr>
              <a:t>CHD, diabetes &amp; Stroke models</a:t>
            </a:r>
            <a:r>
              <a:rPr b="1" lang="en-GB" sz="16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Syria, Palestine Tunisia</a:t>
            </a:r>
            <a:r>
              <a:rPr b="1" lang="en-GB" sz="1400" spc="-1" strike="noStrike">
                <a:solidFill>
                  <a:srgbClr val="000000"/>
                </a:solidFill>
                <a:latin typeface="Calibri"/>
              </a:rPr>
              <a:t> &amp; 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Turkey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Strong support for consolidating  &amp; expanding  the understanding of Public Health Policy Modelling in the region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as a tool that facilitates dialogue with policy stakehold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86868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Writing the Discussion 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(Simon Capewell, Day 2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1970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A. start with the abstract. Refine tha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This helps identify key issues around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WHY, HOW, WHAT found, WHAT does it mea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B. Draft outline points for each section in Discuss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C: Create bullet points for each paragrap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D: Turn bullet points into tex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: Refine &amp; polish text. Most important sentences: FIRST, and LA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86868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Writing the Discussion 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(Simon Capewell, Day 2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197000"/>
            <a:ext cx="85075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A. start with the abstract, refine tha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This helps identify key issues around WHY, HOW, WHAT found, WHAT does it mea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B. Draft outline points for each section in Discussion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Para 1: main message(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Para 2: Comparison with other stud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Para 3: Expand on key messages (optiona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Para 4: Strengths &amp; Weaknesses (limitation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Para 5: Implications for: clinicians; public health professionals; policy make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86868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Writing the Discussion 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(Simon Capewell, Day 2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1970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A. start with the abstract. Refine tha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This helps identify key issues around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WHY, HOW, WHAT found, WHAT does it mea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B. Draft outline points for each section in Discuss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C: Create bullet points for each paragrap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D: Turn bullet points into tex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: Refine &amp; polish. Most important sentences: FIRST, and LA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RESCAP-MED: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University of Liverpoo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United Kingdo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0" y="1600200"/>
            <a:ext cx="4392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Pop: </a:t>
            </a: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62 mill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World 7</a:t>
            </a:r>
            <a:r>
              <a:rPr b="0" lang="en-GB" sz="22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largest economy (GDP &amp; purchasing power parity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CVD remains biggest kill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about 190,000 deaths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per yea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estimated cost $45 billion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per yea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2012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Queen Diamond Jubile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Summer Olympic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Please visit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" descr="map uk"/>
          <p:cNvPicPr/>
          <p:nvPr/>
        </p:nvPicPr>
        <p:blipFill>
          <a:blip r:embed="rId1"/>
          <a:stretch/>
        </p:blipFill>
        <p:spPr>
          <a:xfrm>
            <a:off x="468360" y="1484280"/>
            <a:ext cx="3959280" cy="4903920"/>
          </a:xfrm>
          <a:prstGeom prst="rect">
            <a:avLst/>
          </a:prstGeom>
          <a:ln w="0">
            <a:noFill/>
          </a:ln>
        </p:spPr>
      </p:pic>
      <p:sp>
        <p:nvSpPr>
          <p:cNvPr id="63" name="Oval 4"/>
          <p:cNvSpPr/>
          <p:nvPr/>
        </p:nvSpPr>
        <p:spPr>
          <a:xfrm>
            <a:off x="2627280" y="4365720"/>
            <a:ext cx="504720" cy="28728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University of Liverpool </a:t>
            </a:r>
            <a:br>
              <a:rPr sz="3200"/>
            </a:br>
            <a:r>
              <a:rPr b="1" lang="en-GB" sz="4000" spc="-1" strike="noStrike">
                <a:solidFill>
                  <a:srgbClr val="000000"/>
                </a:solidFill>
                <a:latin typeface="Calibri"/>
              </a:rPr>
              <a:t>Department of Public Health &amp; Polic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3770280" y="1600200"/>
            <a:ext cx="512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Department of Public Health and Policy is home to many disciplin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Research theme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Inequalities-Social context and consequences of ill-healt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Clinical effectiven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Health impact assess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Undergraduate and graduate medical education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Successful MPH progra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(on campus,</a:t>
            </a:r>
            <a:r>
              <a:rPr b="1" lang="en-GB" sz="1400" spc="-1" strike="noStrike">
                <a:solidFill>
                  <a:srgbClr val="000000"/>
                </a:solidFill>
                <a:latin typeface="Calibri"/>
              </a:rPr>
              <a:t> &amp; 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on-line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PhD program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4" descr="http://pcwww.liv.ac.uk/avam/Images/Vic_theme.jpg"/>
          <p:cNvPicPr/>
          <p:nvPr/>
        </p:nvPicPr>
        <p:blipFill>
          <a:blip r:embed="rId1"/>
          <a:stretch/>
        </p:blipFill>
        <p:spPr>
          <a:xfrm>
            <a:off x="395280" y="2349360"/>
            <a:ext cx="3508560" cy="263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Our Te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2276280"/>
            <a:ext cx="411480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Prof Simon Capewell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Chair of Clinical Epidemiolog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Content Placeholder 2"/>
          <p:cNvSpPr/>
          <p:nvPr/>
        </p:nvSpPr>
        <p:spPr>
          <a:xfrm>
            <a:off x="4788000" y="2276640"/>
            <a:ext cx="411480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r Martin O’Flaher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Lecturer in Epidemiolo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4"/>
          <p:cNvSpPr/>
          <p:nvPr/>
        </p:nvSpPr>
        <p:spPr>
          <a:xfrm>
            <a:off x="250920" y="3349800"/>
            <a:ext cx="8713800" cy="32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Our Research Interes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Examining what drives 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cardiovascular disease (CVD) mortality rates 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in a range of high, middle &amp; low income countries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The development of 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effective and cost-saving cardiovascular prevention strategies 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in the UK and beyond: building on empirical evidence, policy analyses, and quantitative model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How best to 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help policy makers 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develop effective non-communicable disease 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prevention strategies 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in low, middle &amp; high- income count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2" descr="http://images.clickliverpool.com/admin/article/articleimages/1316448194-SimonCapewell-web.jpg"/>
          <p:cNvPicPr/>
          <p:nvPr/>
        </p:nvPicPr>
        <p:blipFill>
          <a:blip r:embed="rId1"/>
          <a:stretch/>
        </p:blipFill>
        <p:spPr>
          <a:xfrm>
            <a:off x="1476360" y="333360"/>
            <a:ext cx="1181160" cy="17812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4" descr="http://s3.amazonaws.com/mendeley-photos/94/4e/944e4aa0f0971342c4fa11109483acab1ade1979std.png"/>
          <p:cNvPicPr/>
          <p:nvPr/>
        </p:nvPicPr>
        <p:blipFill>
          <a:blip r:embed="rId2"/>
          <a:stretch/>
        </p:blipFill>
        <p:spPr>
          <a:xfrm>
            <a:off x="6300720" y="404640"/>
            <a:ext cx="1203480" cy="17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6T14:37:00Z</dcterms:created>
  <dc:creator>Martin O'Flaherty</dc:creator>
  <dc:description/>
  <dc:language>en-US</dc:language>
  <cp:lastModifiedBy>Simon Capewell</cp:lastModifiedBy>
  <dcterms:modified xsi:type="dcterms:W3CDTF">2013-09-14T16:11:25Z</dcterms:modified>
  <cp:revision>9</cp:revision>
  <dc:subject/>
  <dc:title>RESCAP-MED: University of Liverpool</dc:title>
</cp:coreProperties>
</file>