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DA2C-1A5A-4096-9E40-C910D397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A1B9-C3B9-4284-BEF6-BEADDCC4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2733-EBE5-44EE-AACA-8F3A4220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9E1F-4045-4B22-9F71-C4B2E0D3E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F69F-227D-4BF2-BEBE-DAC1E650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B790-5089-4B9C-92D7-A0819A92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56DD-D704-4156-A75A-91ADC029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ADFD-0BBC-4AB6-BFB4-6BCB401E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4BC1-C0F7-4E29-9E54-6EA7659C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D6D6-E03D-40B3-82DF-3A0CAF2F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50A7-157A-46BE-8EF5-D5F4E1AC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85DA-F50F-44AE-BE65-FBFE4DAE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FDA1-3D69-4FA9-A090-D73D61FF759F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Planning the writing – 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outline sections of the paper/main messa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898989"/>
                </a:solidFill>
                <a:latin typeface="Calibri"/>
              </a:rPr>
              <a:t>Kath Benne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3"/>
          <p:cNvGrpSpPr/>
          <p:nvPr/>
        </p:nvGrpSpPr>
        <p:grpSpPr>
          <a:xfrm>
            <a:off x="85680" y="115920"/>
            <a:ext cx="1965240" cy="865080"/>
            <a:chOff x="85680" y="115920"/>
            <a:chExt cx="1965240" cy="865080"/>
          </a:xfrm>
        </p:grpSpPr>
        <p:pic>
          <p:nvPicPr>
            <p:cNvPr id="44" name="Picture 5" descr="http://research.ncl.ac.uk/media/sites/researchwebsites/rescapmed/EUlogo.jpg"/>
            <p:cNvPicPr/>
            <p:nvPr/>
          </p:nvPicPr>
          <p:blipFill>
            <a:blip r:embed="rId1"/>
            <a:stretch/>
          </p:blipFill>
          <p:spPr>
            <a:xfrm>
              <a:off x="85680" y="115920"/>
              <a:ext cx="99252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7" descr="http://research.ncl.ac.uk/media/sites/researchwebsites/rescapmed/FP7logo2.jpg"/>
            <p:cNvPicPr/>
            <p:nvPr/>
          </p:nvPicPr>
          <p:blipFill>
            <a:blip r:embed="rId2"/>
            <a:stretch/>
          </p:blipFill>
          <p:spPr>
            <a:xfrm>
              <a:off x="1258200" y="123840"/>
              <a:ext cx="792720" cy="85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5940360" y="109440"/>
            <a:ext cx="315432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Writing the Introdu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 the introduction you will need to do the following thing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present relevant background or contextual materi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efine terms or concepts when necessa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explain the focus of the paper and your specific purpo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ink about how you would plan the paragraphs in the 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b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e your outline as flexible guid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Build your paper around points you want to m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tegrate your sources into your discus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Summarize, analyze, explain, and evaluate published work rather than merely reporting 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ove up and down the "ladder of abstraction" from generalization to varying levels of detail back to generaliz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What is know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state the general topic of the paper, background &amp; motiv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What is unknow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Important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Indicate your work is n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Links the known to the research ques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Example, ‘it is not yet known how obesity is linked to cancer….’ ‘To answer this question we conducted a cohort study of …..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Your research questio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Specific topic, follows known and unknown. Importance of research should be evid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robably easiest place to 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How did you do the study? Plan out and describe what you did in detail. Order using subheadings (Design, setting, participants, etc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nclude interventions used, instruments and measu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Get assistance with writing the statistical methods section if not familiar, or other expert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lan what tables and/or figures to inclu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Only those pertinent to answering your research qu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Not too many, many journals have an upper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f only few data in a table then include in the 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e sub-headings to plan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discussion/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Plan the paragraphs/subheadings of the discussion. Guidelines are avail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Start with summary with reference to objectives; strengths &amp; limitations, interpretation, im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Move from a detailed to a general level of consideration in concluding that returns the topic to the context provided by the introduc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Perhaps suggest further research that is requir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yramid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ing each section and each paragraph to support the main arg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Drafting ; re-read what you have writ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o all sections link to the objectives of the researc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oes it tell a coherent stor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s there anything missing? Are you fully up-to-date with the literatu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You need to start from sound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fou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And finally the abstrac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e abstract should be written last after the rest of the paper has been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 short summary that connects the  research question to the methods, results and final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cludes only relevant information to get the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key message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cr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ake interesting – usually first (and only) part that some researchers rea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 what to write: A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id I do in a nutshell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bstra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is the problem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Introduc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How did I solve the problem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Materials and Method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id I find ou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Resul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oes it mean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Discuss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o helped me ou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cknowledgments (optional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ose work did I refer to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Literature Cit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Extra Inform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ppendices (option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Do not start with the abstract (unless you had one prepared for a conference)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Literature review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e area thoroughly – for known and unknown information – leading into your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rite out the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research questions/aim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ain message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rom the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do you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 conclude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RESEARCH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interesting about this question? Hook your readers with an interesting fact that might make them curious about this topi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TERATURE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ind articles that support or refute your findings. List the main points from these and any strengths and limitations of th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NALYSIS OF LIT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st the main ideas, findings from these studies. What makes them the same or different to what you propose?, and why are they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What is known about the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What is unknown, where are the gap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ORIGINAL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original about your research? Why is better than what has gone befo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st the main findings and messages that you would like to get acro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answer to your research question posed at the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most likely explanatio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are the implications of th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Writing an Outline for Yourself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Consider the following question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topic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y is it significa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background material is releva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my purpose stateme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organizational plan will best support my purpos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6T15:50:07Z</dcterms:created>
  <dc:creator>Kathleen Bennett</dc:creator>
  <dc:description/>
  <dc:language>en-US</dc:language>
  <cp:lastModifiedBy>Licenced User</cp:lastModifiedBy>
  <dcterms:modified xsi:type="dcterms:W3CDTF">2014-09-18T15:33:38Z</dcterms:modified>
  <cp:revision>11</cp:revision>
  <dc:subject/>
  <dc:title>Planning the writing –   outline sections of the paper/main messages</dc:title>
</cp:coreProperties>
</file>