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8590A-E473-4D8B-9FA9-9856C0EA475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88575-948B-4FF5-B1F6-243E3BA5E50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ED52-8C1B-4B9F-B145-AD8DE9DCF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7C3A-8D6E-47CD-9520-124309F04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87DD-6765-4DFE-84DF-C067524E8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3855-F170-467A-BB3A-0C7316D1A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5462-ED35-43C9-9B0E-EA498CA2C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809F-744F-4806-85C5-66FEA07AB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429D-A3B5-4F3C-9CD5-1205E33C1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6E16-0B95-4D5D-9C17-4531F8E08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2C37-F0E0-4A44-AF62-A80D1EA1B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08BA-BB30-44B4-93B9-0A2C9BEFA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E98F-3E1B-4E96-9D06-A28C25D8C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6218-393C-4FEE-A061-8D8EFBBFD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7106D-AAED-4F1A-A15C-22BE6145412F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686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Writing the Discussion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(Simon Capewell, Day 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197000"/>
            <a:ext cx="85075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A. start with the abstract, refine tha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This helps identify key issues around WHY, HOW, WHAT found, WHAT does it mea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RESCAP MED and Liverpo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324000" y="907560"/>
            <a:ext cx="864072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Main Rol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Fellowships program (host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Previous successful and productive experience in introducing young researchers to public health policy decision making and modelling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o-participants in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Marie Curie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project led by Kath Bennet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Collaboration with researchers in Portugal, Denmark, Holland, Spa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MedCHAMPS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 experience helping develop public health &amp; modelling skills within four national teams: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Developed &amp; implemented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Calibri"/>
              </a:rPr>
              <a:t>CHD, diabetes &amp; Stroke models</a:t>
            </a:r>
            <a:r>
              <a:rPr b="1" lang="en-GB" sz="16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Syria, Palestine Tunisia</a:t>
            </a:r>
            <a:r>
              <a:rPr b="1" lang="en-GB" sz="1400" spc="-1" strike="noStrike">
                <a:solidFill>
                  <a:srgbClr val="000000"/>
                </a:solidFill>
                <a:latin typeface="Calibri"/>
              </a:rPr>
              <a:t> &amp; 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Turkey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Strong support for consolidating  &amp; expanding  the understanding of Public Health Policy Modelling in the region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as a tool that facilitates dialogue with policy stakehold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686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Writing the Discussion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(Simon Capewell, Day 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1970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A. start with the abstract. Refine tha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This helps identify key issues around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WHY, HOW, WHAT found, WHAT does it me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B. Draft outline points for each section in Discus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C: Create bullet points for each paragrap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D: Turn bullet points into tex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: Refine &amp; polish text. Most important sentences: FIRST, and LA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686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Writing the Discussion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(Simon Capewell, Day 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197000"/>
            <a:ext cx="85075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A. start with the abstract, refine tha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This helps identify key issues around WHY, HOW, WHAT found, WHAT does it mea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B. Draft outline points for each section in Discussio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Para 1: main message(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Para 2: Comparison with other stud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Para 3: Expand on key messages (optiona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Para 4: Strengths &amp; Weaknesses (limitation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Para 5: Implications for: clinicians; public health professionals; policy mak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686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Writing the Discussion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(Simon Capewell, Day 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1970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A. start with the abstract. Refine tha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This helps identify key issues around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WHY, HOW, WHAT found, WHAT does it me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B. Draft outline points for each section in Discus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C: Create bullet points for each paragrap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D: Turn bullet points into tex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: Refine &amp; polish. Most important sentences: FIRST, and LA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SCAP-MED: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University of Liverpo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United Kingdo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0" y="1600200"/>
            <a:ext cx="439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Pop: 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62 mill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World 7</a:t>
            </a:r>
            <a:r>
              <a:rPr b="0" lang="en-GB" sz="2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largest economy (GDP &amp; purchasing power parity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CVD remains biggest kill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bout 190,000 deaths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per ye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estimated cost $45 billion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per ye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2012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Queen Diamond Jubile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ummer Olympic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Please visit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map uk"/>
          <p:cNvPicPr/>
          <p:nvPr/>
        </p:nvPicPr>
        <p:blipFill>
          <a:blip r:embed="rId1"/>
          <a:stretch/>
        </p:blipFill>
        <p:spPr>
          <a:xfrm>
            <a:off x="468360" y="1484280"/>
            <a:ext cx="3959280" cy="4903920"/>
          </a:xfrm>
          <a:prstGeom prst="rect">
            <a:avLst/>
          </a:prstGeom>
          <a:ln w="0">
            <a:noFill/>
          </a:ln>
        </p:spPr>
      </p:pic>
      <p:sp>
        <p:nvSpPr>
          <p:cNvPr id="63" name="Oval 4"/>
          <p:cNvSpPr/>
          <p:nvPr/>
        </p:nvSpPr>
        <p:spPr>
          <a:xfrm>
            <a:off x="2627280" y="4365720"/>
            <a:ext cx="504720" cy="2872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University of Liverpool </a:t>
            </a:r>
            <a:br>
              <a:rPr sz="3200"/>
            </a:b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Department of Public Health &amp; Polic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770280" y="1600200"/>
            <a:ext cx="512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epartment of Public Health and Policy is home to many discipli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esearch them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Inequalities-Social context and consequences of ill-healt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Clinical effectiven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Health impact assess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Undergraduate and graduate medical education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Successful MPH progr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(on campus,</a:t>
            </a:r>
            <a:r>
              <a:rPr b="1" lang="en-GB" sz="1400" spc="-1" strike="noStrike">
                <a:solidFill>
                  <a:srgbClr val="000000"/>
                </a:solidFill>
                <a:latin typeface="Calibri"/>
              </a:rPr>
              <a:t> &amp; 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on-lin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PhD program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4" descr="http://pcwww.liv.ac.uk/avam/Images/Vic_theme.jpg"/>
          <p:cNvPicPr/>
          <p:nvPr/>
        </p:nvPicPr>
        <p:blipFill>
          <a:blip r:embed="rId1"/>
          <a:stretch/>
        </p:blipFill>
        <p:spPr>
          <a:xfrm>
            <a:off x="395280" y="2349360"/>
            <a:ext cx="3508560" cy="26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Our T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2276280"/>
            <a:ext cx="41148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rof Simon Capewell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Chair of Clinical Epidemiolog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Content Placeholder 2"/>
          <p:cNvSpPr/>
          <p:nvPr/>
        </p:nvSpPr>
        <p:spPr>
          <a:xfrm>
            <a:off x="4788000" y="2276640"/>
            <a:ext cx="41148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r Martin O’Flaher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Lecturer in Epidemi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250920" y="3349800"/>
            <a:ext cx="871380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Our Research Interes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Examining what drives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ardiovascular disease (CVD) mortality rates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in a range of high, middle &amp; low income countrie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The development of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effective and cost-saving cardiovascular prevention strategies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in the UK and beyond: building on empirical evidence, policy analyses, and quantitative model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How best to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help policy makers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develop effective non-communicable disease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prevention strategies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in low, middle &amp; high- income coun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http://images.clickliverpool.com/admin/article/articleimages/1316448194-SimonCapewell-web.jpg"/>
          <p:cNvPicPr/>
          <p:nvPr/>
        </p:nvPicPr>
        <p:blipFill>
          <a:blip r:embed="rId1"/>
          <a:stretch/>
        </p:blipFill>
        <p:spPr>
          <a:xfrm>
            <a:off x="1476360" y="333360"/>
            <a:ext cx="1181160" cy="17812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http://s3.amazonaws.com/mendeley-photos/94/4e/944e4aa0f0971342c4fa11109483acab1ade1979std.png"/>
          <p:cNvPicPr/>
          <p:nvPr/>
        </p:nvPicPr>
        <p:blipFill>
          <a:blip r:embed="rId2"/>
          <a:stretch/>
        </p:blipFill>
        <p:spPr>
          <a:xfrm>
            <a:off x="6300720" y="404640"/>
            <a:ext cx="1203480" cy="17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6T14:37:00Z</dcterms:created>
  <dc:creator>Martin O'Flaherty</dc:creator>
  <dc:description/>
  <dc:language>en-US</dc:language>
  <cp:lastModifiedBy>Simon Capewell</cp:lastModifiedBy>
  <dcterms:modified xsi:type="dcterms:W3CDTF">2013-09-14T16:11:25Z</dcterms:modified>
  <cp:revision>9</cp:revision>
  <dc:subject/>
  <dc:title>RESCAP-MED: University of Liverpool</dc:title>
</cp:coreProperties>
</file>