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7527-BA83-4DD5-85EC-F62FBCFB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DED8-5611-4B51-9276-06ACA3AAD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00F5E-4D31-41EB-AA2D-9F0FB2655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B4A5-8DC2-4274-BDE9-B55CF964F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654-D09F-457F-A987-CD6C5D256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4809-307F-4BD3-87FB-22ACBCFB7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A145-D37A-487A-8D38-A250F7ABC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50B8-E576-4CE4-A103-B80A1E3E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5966-5941-4044-89D3-FAA36BC4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07CA-6D19-4A22-8534-F543CED57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41C-333C-4E36-8D54-934741095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E6B4-755C-4B4C-AFA0-EA4D1FF21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CA61-0E55-4035-A516-926057FC877A}" type="slidenum">
              <a:rPr b="0" lang="en-I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Planning the writing – 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Calibri"/>
              </a:rPr>
              <a:t>outline sections of the paper/main messa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898989"/>
                </a:solidFill>
                <a:latin typeface="Calibri"/>
              </a:rPr>
              <a:t>Kath Bennet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3"/>
          <p:cNvGrpSpPr/>
          <p:nvPr/>
        </p:nvGrpSpPr>
        <p:grpSpPr>
          <a:xfrm>
            <a:off x="85680" y="115920"/>
            <a:ext cx="1965240" cy="865080"/>
            <a:chOff x="85680" y="115920"/>
            <a:chExt cx="1965240" cy="865080"/>
          </a:xfrm>
        </p:grpSpPr>
        <p:pic>
          <p:nvPicPr>
            <p:cNvPr id="44" name="Picture 5" descr="http://research.ncl.ac.uk/media/sites/researchwebsites/rescapmed/EUlogo.jpg"/>
            <p:cNvPicPr/>
            <p:nvPr/>
          </p:nvPicPr>
          <p:blipFill>
            <a:blip r:embed="rId1"/>
            <a:stretch/>
          </p:blipFill>
          <p:spPr>
            <a:xfrm>
              <a:off x="85680" y="115920"/>
              <a:ext cx="992520" cy="86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7" descr="http://research.ncl.ac.uk/media/sites/researchwebsites/rescapmed/FP7logo2.jpg"/>
            <p:cNvPicPr/>
            <p:nvPr/>
          </p:nvPicPr>
          <p:blipFill>
            <a:blip r:embed="rId2"/>
            <a:stretch/>
          </p:blipFill>
          <p:spPr>
            <a:xfrm>
              <a:off x="1258200" y="123840"/>
              <a:ext cx="792720" cy="857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5940360" y="109440"/>
            <a:ext cx="3154320" cy="14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 the introduction you will need to do the following thing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present relevant background or contextual materia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efine terms or concepts when necessary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explain the focus of the paper and your specific purpo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ink about how you would plan the paragraphs in the introd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bod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your outline as flexible guid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Build your paper around points you want to mak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tegrate your sources into your discuss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Summarize, analyze, explain, and evaluate published work rather than merely reporting i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ove up and down the "ladder of abstraction" from generalization to varying levels of detail back to generaliz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tate the general topic of the paper, background &amp; motiv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What is unknow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Important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Indicate your work is new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Links the known to the research ques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Example, ‘it is not yet known how obesity is linked to cancer….’ ‘To answer this question we conducted a cohort study of …..’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000" spc="-1" strike="noStrike">
                <a:solidFill>
                  <a:srgbClr val="000000"/>
                </a:solidFill>
                <a:latin typeface="Calibri"/>
              </a:rPr>
              <a:t>Your research question </a:t>
            </a: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– Specific topic, follows known and unknown. Importance of research should be evid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metho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robably easiest place to 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How did you do the study? Plan out and describe what you did in detail. Order using subheadings (Design, setting, participants, etc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nclude interventions used, instruments and measure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Get assistance with writing the statistical methods section if not familiar, or other experti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Plan what tables and/or figures to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Only those pertinent to answering your research ques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Not too many, many journals have an upper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f only few data in a table then include in the tex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e sub-headings to plan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Writing the discussion/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lan the paragraphs/subheadings of the discussion. Guidelines are availa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600" spc="-1" strike="noStrike">
                <a:solidFill>
                  <a:srgbClr val="000000"/>
                </a:solidFill>
                <a:latin typeface="Calibri"/>
              </a:rPr>
              <a:t>Start with summary with reference to objectives; strengths &amp; limitations, interpretation, implication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Move from a detailed to a general level of consideration in concluding that returns the topic to the context provided by the introduction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000" spc="-1" strike="noStrike">
                <a:solidFill>
                  <a:srgbClr val="000000"/>
                </a:solidFill>
                <a:latin typeface="Calibri"/>
              </a:rPr>
              <a:t>Perhaps suggest further research that is required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yramid proces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Using each section and each paragraph to support the main arg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rafting ; re-read what you have writt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 all sections link to the objectives of the research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Does it tell a coherent story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Is there anything missing? Are you fully up-to-date with the literatur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You need to start from sou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found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And finally the abstract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bstract should be written last after the rest of the paper has been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 short summary that connects the  research question to the methods, results and final conclu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Includes only relevant information to ge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key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cro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Make interesting – usually first (and only) part that some researchers read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 what to write: A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3964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do in a nutshell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bstr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is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Introduc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How did I solve the problem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Materials and Method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id I find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Result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at does it mean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Discuss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 helped me out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cknowledgments (optional)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Whose work did I refer to?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Literature Cite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57040" indent="-257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Calibri"/>
              </a:rPr>
              <a:t>Extra Informa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57280" indent="-21420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Calibri"/>
              </a:rPr>
              <a:t>Appendices (optional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Do not start with the abstract (unless you had one prepared for a conference)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Literature review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the area thoroughly – for known and unknown information – leading into your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rite out the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research questions/aim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main messages 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rom the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do you</a:t>
            </a:r>
            <a:r>
              <a:rPr b="1" lang="en-IE" sz="3200" spc="-1" strike="noStrike">
                <a:solidFill>
                  <a:srgbClr val="000000"/>
                </a:solidFill>
                <a:latin typeface="Calibri"/>
              </a:rPr>
              <a:t> conclude</a:t>
            </a: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RESEARCH QUES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interesting about this question? Hook your readers with an interesting fact that might make them curious about this topic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TERATURE RE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Find articles that support or refute your findings. List the main points from these and any strengths and limitations of the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ANALYSIS OF LITER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ideas, findings from these studies. What makes them the same or different to what you propose?, and why are they importan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known about the a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alibri"/>
              </a:rPr>
              <a:t>What is unknown, where are the gap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ORIGINAL RESEAR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original about your research? Why is better than what has gone befor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List the main findings and messages that you would like to get acros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Pl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answer to your research question posed at the st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most likely explanation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are the implications of thi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4000" spc="-1" strike="noStrike">
                <a:solidFill>
                  <a:srgbClr val="000000"/>
                </a:solidFill>
                <a:latin typeface="Calibri"/>
              </a:rPr>
              <a:t>Writing an Outline for Yourself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Consider the following questions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the topic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y is it signific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background material is releva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is my purpose statement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alibri"/>
              </a:rPr>
              <a:t>What organizational plan will best support my purpose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6T15:50:07Z</dcterms:created>
  <dc:creator>Kathleen Bennett</dc:creator>
  <dc:description/>
  <dc:language>en-US</dc:language>
  <cp:lastModifiedBy>Licenced User</cp:lastModifiedBy>
  <dcterms:modified xsi:type="dcterms:W3CDTF">2014-09-18T15:33:38Z</dcterms:modified>
  <cp:revision>11</cp:revision>
  <dc:subject/>
  <dc:title>Planning the writing –   outline sections of the paper/main messages</dc:title>
</cp:coreProperties>
</file>