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7562-CC05-4B55-B6CC-C0813E099E3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39E6-7DAF-4115-ABDF-11BFF549559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D057-249A-4E49-93A6-D604F1615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3B2D-7A58-44C9-B2F5-FA890386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501D-3666-4822-A18E-51029FED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FC15-48CB-45BD-A34C-73AD5190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B02C-6F4E-4C4E-80C2-0FFAA975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1C89-F81E-4E81-966E-D23F4530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0C47-8152-462F-BF10-83EC496F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2357-7874-42EB-AF38-52FB8CB3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2827-B9BE-42DC-B115-E4B71C55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A319-2BB2-4A18-BA09-D46FA8FD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ABD5-01A4-42B1-8C77-BD31B39C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2AEA-2600-4B18-A444-494FC92B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FEE5-A2C0-41AF-B2F0-49D36D59966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RESCAP MED and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4000" y="90756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in Ro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Fellowships program (ho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ious successful and productive experience in introducing young researchers to public health policy decision making and modell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-participants i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arie Curi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led by Kath Benne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llaboration with researchers in Portugal, Denmark, Holland, S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edCHAMPS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experience helping develop public health &amp; modelling skills within four national teams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ed &amp; implemente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CHD, diabetes &amp; Stroke models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yria, Palestine Tunisia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urke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trong support for consolidating  &amp; expanding  the understanding of Public Health Policy Modelling in the regio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s a tool that facilitates dialogue with policy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 text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1: main message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2: Comparison with other stu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3: Expand on key messages (opt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4: Strengths &amp; Weaknesses (limita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5: Implications for: clinicians; public health professionals; policy mak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CAP-MED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ted Kingd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0" y="160020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p: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62 mill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orld 7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largest economy (GDP &amp; purchasing power parity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VD remains biggest kill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bout 190,000 death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stimated cost $45 billion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2012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ueen Diamond Jubil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mmer Olymp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ease visit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map uk"/>
          <p:cNvPicPr/>
          <p:nvPr/>
        </p:nvPicPr>
        <p:blipFill>
          <a:blip r:embed="rId1"/>
          <a:stretch/>
        </p:blipFill>
        <p:spPr>
          <a:xfrm>
            <a:off x="468360" y="1484280"/>
            <a:ext cx="3959280" cy="4903920"/>
          </a:xfrm>
          <a:prstGeom prst="rect">
            <a:avLst/>
          </a:prstGeom>
          <a:ln w="0">
            <a:noFill/>
          </a:ln>
        </p:spPr>
      </p:pic>
      <p:sp>
        <p:nvSpPr>
          <p:cNvPr id="63" name="Oval 4"/>
          <p:cNvSpPr/>
          <p:nvPr/>
        </p:nvSpPr>
        <p:spPr>
          <a:xfrm>
            <a:off x="2627280" y="4365720"/>
            <a:ext cx="504720" cy="287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University of Liverpool </a:t>
            </a:r>
            <a:br>
              <a:rPr sz="32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epartment of Public Health &amp; Poli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77028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partment of Public Health and Policy is home to many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earch them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nequalities-Social context and consequences of ill-heal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linical effective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ealth impact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graduate and graduate medical educ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uccessful MPH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(on campus,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n-li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hD progra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pcwww.liv.ac.uk/avam/Images/Vic_theme.jpg"/>
          <p:cNvPicPr/>
          <p:nvPr/>
        </p:nvPicPr>
        <p:blipFill>
          <a:blip r:embed="rId1"/>
          <a:stretch/>
        </p:blipFill>
        <p:spPr>
          <a:xfrm>
            <a:off x="395280" y="2349360"/>
            <a:ext cx="35085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ur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76280"/>
            <a:ext cx="4114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f Simon Capewe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hair of Clinical Epidemi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4788000" y="2276640"/>
            <a:ext cx="4114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 Martin O’Flah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Lecturer in Epidemi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50920" y="3349800"/>
            <a:ext cx="8713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ur Research Intere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xamining what drives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rdiovascular disease (CVD) mortality rat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a range of high, middle &amp; low income countri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development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ffective and cost-saving cardiovascular 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the UK and beyond: building on empirical evidence, policy analyses, and quantitative 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ow best to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elp policy maker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 effective non-communicable disea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low, middle &amp; high- income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images.clickliverpool.com/admin/article/articleimages/1316448194-SimonCapewell-web.jpg"/>
          <p:cNvPicPr/>
          <p:nvPr/>
        </p:nvPicPr>
        <p:blipFill>
          <a:blip r:embed="rId1"/>
          <a:stretch/>
        </p:blipFill>
        <p:spPr>
          <a:xfrm>
            <a:off x="1476360" y="333360"/>
            <a:ext cx="1181160" cy="17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s3.amazonaws.com/mendeley-photos/94/4e/944e4aa0f0971342c4fa11109483acab1ade1979std.png"/>
          <p:cNvPicPr/>
          <p:nvPr/>
        </p:nvPicPr>
        <p:blipFill>
          <a:blip r:embed="rId2"/>
          <a:stretch/>
        </p:blipFill>
        <p:spPr>
          <a:xfrm>
            <a:off x="6300720" y="404640"/>
            <a:ext cx="12034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4:37:00Z</dcterms:created>
  <dc:creator>Martin O'Flaherty</dc:creator>
  <dc:description/>
  <dc:language>en-US</dc:language>
  <cp:lastModifiedBy>Simon Capewell</cp:lastModifiedBy>
  <dcterms:modified xsi:type="dcterms:W3CDTF">2013-09-14T16:11:25Z</dcterms:modified>
  <cp:revision>9</cp:revision>
  <dc:subject/>
  <dc:title>RESCAP-MED: University of Liverpool</dc:title>
</cp:coreProperties>
</file>