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F07B-9870-4222-820A-DA7E3D0A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9F88-4EBE-423A-9B68-F758C7DC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40049-77B6-4E06-9BDE-DE27E511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C0C67-F0DC-49F2-90C8-CDAF299A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FEB56-2E08-4AAB-8A75-B3838EB4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53A2F-F1F0-4552-AF31-BB59E2E3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2882D-3055-4896-8B35-249C7DFB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09DB9-DC0C-4FCD-BF8D-CF6EC5E8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BF2B6-DCF8-43EE-BCFF-247B7100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F7882-6532-4D0C-A99C-54B2A9A5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430EB-87CC-4610-8490-CD4D480E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D2CD-D1BF-4CC3-B176-33D37AF6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22B5-5114-42B4-81E8-EF3CCD1C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A818-A625-4061-BEFB-FCD9A42F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B39F-2531-4F74-B0AF-C6E24665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9E63-DB94-4726-B3B8-7E3412E1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7701-9B85-477C-9E51-D8B850E3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2ACF-FE2F-41EB-8C47-87141B16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F47C-56FA-4190-AEE2-FBD1BB83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709F-03F9-4B7D-9D66-356B2AD4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4EF4-496A-4903-8F3B-7025B09B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CD1B-0059-440B-9F34-537BBFBF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BE05-406C-46E0-92E0-8CF9D759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1957-D194-47A8-A47A-5945CEAF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71D3-38A8-4F0F-AC04-FC77C059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CEA4-F3FE-4F6F-B698-0FCA665C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38618-C78A-4484-945A-74FA62FA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1F90D-6763-46A4-A9CD-C366D230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6DBBB-6737-4B11-92AD-A1352334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7ACB3-65D2-4B85-A901-ABB4DDCD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9F1E3-368C-4753-B9DF-96A92FD4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A1DA-822A-4FB1-97C3-23CE9C19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5D386-2106-43A0-89DE-88FD8F67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710EF-D0AD-4F2C-A379-A7689AA2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646C2-0AAB-42F1-81A5-5772CF11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215B7-FD0B-4120-A8CB-0D2865DC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1456F-E1E9-4AB4-B86D-6CE06976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70D4E-607E-430D-B777-BE0900D0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93DB9-1F81-4D54-A8C7-54EA5FA0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3BA94-8F72-4FD3-8907-BE80969A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CF469-25CE-41ED-BBA0-4754053A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933E1-F4CF-4E60-AB0B-FEFD5BD6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CF33-8F89-41BA-8BD5-980ECF2F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61E46-836A-47CB-BAF2-D05AED23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5A580-A097-421A-BCEC-2A0D6188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35FD4-D064-4D75-8793-3AE2FE74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2807F-3704-4671-B8AB-D91814CD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52B7C-67D9-4C04-A986-1E6A65E5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A12FF-7117-4813-B7E6-66906A19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FE2EA-95BA-46A6-AB8B-5DF30AED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17FBC-F5CA-4E8B-8883-2BB0E516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7B47D-1982-4D14-AA48-B58C3BAA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73068-DB0A-4E4D-9B96-14D825EB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EF84-D0AD-4B30-A5A8-DAB729F4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93930-39A7-4BB6-BC21-88D235C7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1B50D-0B0E-4016-9303-393CAEA8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6F72F-A50E-4B68-B8BF-1EFE8CE3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D8FAE-5610-4D0B-A006-01224DA1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56B2C-AF6E-48C4-A6FF-95A2F09A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1656B-C06E-4642-9112-BE5865B2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38E82-445D-43B8-92A2-B6B65E66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992CA-E39C-492B-8F60-6A06B48C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30965-4EEA-4799-86F6-FDF15916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3D1A9-607F-4C60-9834-0060D667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C7F0-605E-4217-8E49-2A09E37B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E8B26-2614-432E-9060-AC799964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79C95-AFB1-4FD9-987A-9A38F3F2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CC0E6-2ED5-46C8-8E30-1523383D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F7B43-CB1A-4198-8F83-860BF18E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3F754-745E-40D7-95CA-183D67CA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A48BE-F228-4D14-A0EE-181EBA68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6AF2D-4455-4719-8339-79B10A66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BB8F3-6D7B-42B0-9C9A-29C1EB32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6379C-12A5-4CEA-9C93-1C22432A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FA074-52CE-4935-A26E-F870B3CF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F543-562B-4EAB-9B03-77B7D11E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FFC78-BF9B-4700-9323-75A0F216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BFF0F-7173-4568-8E4E-C4363ECF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B1681-C221-487A-B366-43E242E8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EEA7F-EE8F-42D8-90D0-BCC145FA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5B086-2A6E-4D2E-8FB7-96E1B5AB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ADAD3-E11E-4C4E-8244-3172EBAB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605D0-EF22-4589-80D7-2889CE34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5E831-5058-4CCA-AA57-8B9953B6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5563A-ADDA-4565-B6CB-488DAFD2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5268A-C048-4031-BA19-7E5B8CA8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3EED-1A76-4382-91B2-6F452AE6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67306-EE5E-49DB-AB86-49961FD8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04683-D579-48A2-9E8E-70E8CA3D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DD53C-8710-423D-95ED-B9AF8625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FAB7C-DDA1-4832-A6FC-9248535B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1492C-4F9B-4546-B10D-4780FC90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FEADC-06A0-4FFD-A95A-C0F70411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5C025-A231-4420-9544-9B667280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A2A62-2FBC-416F-8E82-1BBFFC36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9CABA-BC1A-4EFB-AC4D-B4F77809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C375E-EE6A-42DC-B42F-6EEE4B6C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4C29-3C8A-4E82-AA38-A9202D6E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39EFD-860A-400D-AD9C-9F51BDA7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C844D-06ED-4A2D-9449-8658BADA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79E01-F496-4F58-A6B8-20E7D29D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946FE-3CC1-4573-B3B4-8714B33E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AFE84-AFF1-436D-8BC1-7BB7B1F8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BD272-6C43-4C5C-B51F-E9939243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C28EE-033A-40A8-A3CF-7EE16AB7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1E7F2-C8D2-49E9-86D0-C57187E0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A31FB-96EB-48C0-8A58-D9E03482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D33A5-39D8-4F9F-9C42-DCF8E888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1D90-9393-4EC1-BE26-A7F6E298FC5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317F-CB4D-4BC4-86B4-22953F641FAA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08" name="Chevron 10"/>
          <p:cNvGrpSpPr/>
          <p:nvPr/>
        </p:nvGrpSpPr>
        <p:grpSpPr>
          <a:xfrm>
            <a:off x="3565440" y="2962440"/>
            <a:ext cx="336600" cy="377640"/>
            <a:chOff x="3565440" y="2962440"/>
            <a:chExt cx="336600" cy="377640"/>
          </a:xfrm>
        </p:grpSpPr>
        <p:pic>
          <p:nvPicPr>
            <p:cNvPr id="109" name="Chevron 10" descr=""/>
            <p:cNvPicPr/>
            <p:nvPr/>
          </p:nvPicPr>
          <p:blipFill>
            <a:blip r:embed="rId4"/>
            <a:stretch/>
          </p:blipFill>
          <p:spPr>
            <a:xfrm>
              <a:off x="3565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Chevron 15"/>
          <p:cNvGrpSpPr/>
          <p:nvPr/>
        </p:nvGrpSpPr>
        <p:grpSpPr>
          <a:xfrm>
            <a:off x="3376440" y="2962440"/>
            <a:ext cx="336600" cy="377640"/>
            <a:chOff x="3376440" y="2962440"/>
            <a:chExt cx="336600" cy="377640"/>
          </a:xfrm>
        </p:grpSpPr>
        <p:pic>
          <p:nvPicPr>
            <p:cNvPr id="112" name="Chevron 15" descr=""/>
            <p:cNvPicPr/>
            <p:nvPr/>
          </p:nvPicPr>
          <p:blipFill>
            <a:blip r:embed="rId5"/>
            <a:stretch/>
          </p:blipFill>
          <p:spPr>
            <a:xfrm>
              <a:off x="3376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3D7B-CEC9-4850-B496-E5B18008E50A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0602-6925-4067-B76E-7E58E7CA7401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F5A4-CF93-4B6F-B85D-C465163417F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5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D641-81C1-4553-8C66-D40EBFD5260E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0997-8610-4E42-AA48-99CC89730B9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9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2" name="Right Triangle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Straight Connector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355" name="Chevron 19"/>
          <p:cNvGrpSpPr/>
          <p:nvPr/>
        </p:nvGrpSpPr>
        <p:grpSpPr>
          <a:xfrm>
            <a:off x="8589960" y="4943520"/>
            <a:ext cx="334800" cy="377640"/>
            <a:chOff x="8589960" y="4943520"/>
            <a:chExt cx="334800" cy="377640"/>
          </a:xfrm>
        </p:grpSpPr>
        <p:pic>
          <p:nvPicPr>
            <p:cNvPr id="356" name="Chevron 19" descr=""/>
            <p:cNvPicPr/>
            <p:nvPr/>
          </p:nvPicPr>
          <p:blipFill>
            <a:blip r:embed="rId6"/>
            <a:stretch/>
          </p:blipFill>
          <p:spPr>
            <a:xfrm>
              <a:off x="8589960" y="494352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Chevron 20"/>
          <p:cNvGrpSpPr/>
          <p:nvPr/>
        </p:nvGrpSpPr>
        <p:grpSpPr>
          <a:xfrm>
            <a:off x="8405640" y="4943520"/>
            <a:ext cx="336600" cy="377640"/>
            <a:chOff x="8405640" y="4943520"/>
            <a:chExt cx="336600" cy="377640"/>
          </a:xfrm>
        </p:grpSpPr>
        <p:pic>
          <p:nvPicPr>
            <p:cNvPr id="359" name="Chevron 20" descr=""/>
            <p:cNvPicPr/>
            <p:nvPr/>
          </p:nvPicPr>
          <p:blipFill>
            <a:blip r:embed="rId7"/>
            <a:stretch/>
          </p:blipFill>
          <p:spPr>
            <a:xfrm>
              <a:off x="8405640" y="494352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F639-9CCF-4643-869B-035E35F6DFA9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396B-B3B1-40FB-BC41-FAE8E8DEA58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4" descr=""/>
          <p:cNvPicPr/>
          <p:nvPr/>
        </p:nvPicPr>
        <p:blipFill>
          <a:blip r:embed="rId1"/>
          <a:stretch/>
        </p:blipFill>
        <p:spPr>
          <a:xfrm>
            <a:off x="487440" y="2871720"/>
            <a:ext cx="8186760" cy="17859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443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Lucida Sans Unicode"/>
              </a:rPr>
              <a:t>Julia Critchle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51" name="Group 2"/>
          <p:cNvGrpSpPr/>
          <p:nvPr/>
        </p:nvGrpSpPr>
        <p:grpSpPr>
          <a:xfrm>
            <a:off x="85680" y="115920"/>
            <a:ext cx="1606680" cy="530280"/>
            <a:chOff x="85680" y="115920"/>
            <a:chExt cx="1606680" cy="530280"/>
          </a:xfrm>
        </p:grpSpPr>
        <p:pic>
          <p:nvPicPr>
            <p:cNvPr id="452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85680" y="11592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7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1044360" y="12060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4" name="Picture 1" descr=""/>
          <p:cNvPicPr/>
          <p:nvPr/>
        </p:nvPicPr>
        <p:blipFill>
          <a:blip r:embed="rId4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" descr=""/>
          <p:cNvPicPr/>
          <p:nvPr/>
        </p:nvPicPr>
        <p:blipFill>
          <a:blip r:embed="rId5"/>
          <a:stretch/>
        </p:blipFill>
        <p:spPr>
          <a:xfrm>
            <a:off x="2484360" y="139680"/>
            <a:ext cx="35276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n relation to your research stu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st be defined by this guiding concept (ie your research objective, the problem or issue you are discuss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just a descriptive list of the material available, or a set of summ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Title 1" descr=""/>
          <p:cNvPicPr/>
          <p:nvPr/>
        </p:nvPicPr>
        <p:blipFill>
          <a:blip r:embed="rId1"/>
          <a:stretch/>
        </p:blipFill>
        <p:spPr>
          <a:xfrm>
            <a:off x="176040" y="182520"/>
            <a:ext cx="8791920" cy="12384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at are the main arguments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 authors make similar or different argument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some arguments more convincing than other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 has research been conducted in the literature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extensive has it been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kinds of data have been present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pertinent are they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there sufficient amounts of data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y adequately answer the question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48104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ypes of methodologi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methodology more effective than others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heoretical frameworks or approach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at do they allow the authors o do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approach more effective than others? 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Overall, is one work more convincing than other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Or are the works you have compared too different to evaluate against each othe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arching for literatu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ot extensive or exhaustive “systematic review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o not need to identify “all literature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cent literature will often do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BUT do need to identify key articles in the field (not always recen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Key articl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ted a lo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High impact journa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heck citations e.g. in pubmed, google scholar, science citation index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DLINE (PubM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ystematic review articl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cience Citation Index (can be very helpful if there is a “key paper” that most relevant studies will have cit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384120" y="36360"/>
            <a:ext cx="8302680" cy="10242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"/>
          <p:cNvPicPr/>
          <p:nvPr/>
        </p:nvPicPr>
        <p:blipFill>
          <a:blip r:embed="rId2"/>
          <a:srcRect l="0" t="0" r="-1248" b="-2039"/>
          <a:stretch/>
        </p:blipFill>
        <p:spPr>
          <a:xfrm>
            <a:off x="2209680" y="1066680"/>
            <a:ext cx="6782040" cy="5083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7"/>
          <p:cNvSpPr/>
          <p:nvPr/>
        </p:nvSpPr>
        <p:spPr>
          <a:xfrm>
            <a:off x="152280" y="53341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5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4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457200" y="3809880"/>
            <a:ext cx="1433520" cy="685800"/>
          </a:xfrm>
          <a:prstGeom prst="rightArrow">
            <a:avLst>
              <a:gd name="adj1" fmla="val 50000"/>
              <a:gd name="adj2" fmla="val 5225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4"/>
          <p:cNvSpPr/>
          <p:nvPr/>
        </p:nvSpPr>
        <p:spPr>
          <a:xfrm>
            <a:off x="7162920" y="1219320"/>
            <a:ext cx="1066680" cy="1433520"/>
          </a:xfrm>
          <a:prstGeom prst="downArrow">
            <a:avLst>
              <a:gd name="adj1" fmla="val 50000"/>
              <a:gd name="adj2" fmla="val 335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497" name="AutoShape 5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ovides an overview and a critical evaluation of a body of literature relating to a research topic or a research proble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nalyses a body of literature in order to classify it by themes or categories, rather than simply discussing individual works one after anoth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esents the research and ideas of the field rather than each individual work or author by itself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0" name="AutoShape 4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7"/>
          <p:cNvSpPr/>
          <p:nvPr/>
        </p:nvSpPr>
        <p:spPr>
          <a:xfrm>
            <a:off x="3809880" y="27432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8"/>
          <p:cNvSpPr/>
          <p:nvPr/>
        </p:nvSpPr>
        <p:spPr>
          <a:xfrm>
            <a:off x="4191120" y="2743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9"/>
          <p:cNvSpPr/>
          <p:nvPr/>
        </p:nvSpPr>
        <p:spPr>
          <a:xfrm flipH="1">
            <a:off x="3809520" y="3048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1"/>
          <p:cNvSpPr/>
          <p:nvPr/>
        </p:nvSpPr>
        <p:spPr>
          <a:xfrm flipV="1">
            <a:off x="3809880" y="27428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>
            <a:off x="4267080" y="2590920"/>
            <a:ext cx="1219320" cy="685800"/>
          </a:xfrm>
          <a:prstGeom prst="leftArrow">
            <a:avLst>
              <a:gd name="adj1" fmla="val 50000"/>
              <a:gd name="adj2" fmla="val 44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8" name="AutoShape 10"/>
          <p:cNvSpPr/>
          <p:nvPr/>
        </p:nvSpPr>
        <p:spPr>
          <a:xfrm>
            <a:off x="1752480" y="685800"/>
            <a:ext cx="914400" cy="1357200"/>
          </a:xfrm>
          <a:prstGeom prst="downArrow">
            <a:avLst>
              <a:gd name="adj1" fmla="val 50000"/>
              <a:gd name="adj2" fmla="val 3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art with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n first sentence, state general topic of pap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xplain background / motivation (literature review) in a few sentences or paragraph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Narrow down to </a:t>
            </a:r>
            <a:r>
              <a:rPr b="0" lang="en-GB" sz="23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Brief statement, usually one sent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mportant, because it indicat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that this work is new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links known and research question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creates story lin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Flag this very clea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.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known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clear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eeds to be determined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search Question must follow from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w sentence / paragraph for each known, unknown,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e transition phrases and wor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peat key the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EA 2013 course on Epidemiology – Shah Ebrahi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pidemiology Supercourse (presentations by Richard Smith and Pauls Zieg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56560" cy="12430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as your research question already been answered? If so, how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earch through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ing of a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ituates your topic in relation to previous research and illuminates a spot for your research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[Also demonstrates your knowledge of literature]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veral goal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provides background for your topic using previous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hows you are familiar with previous, relevant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evaluates the depth and breadth of the research in regards to your 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etermines remaining questions or aspects of your topic in need of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Overall, a literature review seeks to answer the following questio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not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y is this importan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ummarise everything in the fie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e loads and demonstrate you know “everything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[This is just a few sentences to a few (short) paragraphs to put your work in context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1. Synthesize and evaluate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2. Identify the main ideas of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3. Identify the main argument of the literature review …[that supports your research question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4. Organize the main points of th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5. Writ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ritical thinking, reading, and writ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rategies for reading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the themes or categor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may be used later to develop a structure for the literature review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how other writers classify their data, the literature in their fields, etc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read literature reviews in other papers to see how they have been structur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Form categories for analysis and comparis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 strong literature review examines each work on its own and in relation to other works b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dentifying and then analysing them with regards to a number of different research aspects and ide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ossible categories to use for comparison and analys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argu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sults found and conclu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thod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heoretical approa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14:49:39Z</dcterms:created>
  <dc:creator>ntpm</dc:creator>
  <dc:description/>
  <dc:language>en-US</dc:language>
  <cp:lastModifiedBy>Licenced User</cp:lastModifiedBy>
  <cp:lastPrinted>2012-08-01T12:36:40Z</cp:lastPrinted>
  <dcterms:modified xsi:type="dcterms:W3CDTF">2014-09-18T15:36:43Z</dcterms:modified>
  <cp:revision>264</cp:revision>
  <dc:subject/>
  <dc:title>Slide 1</dc:title>
</cp:coreProperties>
</file>