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1D6-1E24-413B-9895-5014462A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660-97CD-449C-8B9A-7FAA41C2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16C47-604D-48AD-BA7A-7ED2C8D5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8433D-20EB-44A2-B723-B7FA9D75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F92DD-68CB-41C8-9030-BB5468CF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D6CCA-35DC-4404-A2DB-9E38B3AB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9BBFC-5F31-45B9-BCD9-2D494C5C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15A6B-DB48-4629-8F5D-667B5D1C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F2338-3C4A-46D8-A133-33054B3F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AC00C-87C6-41F5-9C51-813AA937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9F472-2A3D-40A7-9133-49EFFD82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E9E-1F59-4363-9185-FDFDF5AB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CC1-DA34-4EE4-B5A4-94971795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D89E-5795-499F-AC77-915273F6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84A6-DEB4-4770-98BD-702FA381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FDEC-22B8-4E85-A73D-F70E3D7F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EBF6-9EA5-4853-9036-0F0F4E38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DF1C-2603-41CC-86DD-65F88401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2BFE-3526-4F5B-A9E1-F5972FAD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3E3C-16D6-4EEB-8C10-16BCFBEA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438-65B2-4F7B-B723-A07A910C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C153-31CB-4473-8614-4F04DC05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4FCB-DA14-4892-8265-A497248E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E311-3828-4B3D-A4E0-CE8FC942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12C7-1FAF-4D2A-9242-8ECDCAA8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7B95-896F-402F-9175-F6507268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6D162-E02D-488C-A070-41AC54F4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36265-43CE-4165-AAB5-72DB4EF5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6E8D2-77C8-4FDE-9D33-E5B9151F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9E66-D24A-4C90-9418-38C6F879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0124-54C1-4C45-8149-CE1F3B12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2A0-A79F-4536-9DF8-5733B27F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C246F-D182-4EE9-8841-95A5F2FC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FAACF-F191-49D1-B669-B84BAB54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30202-34DD-4B2C-947A-FD639B0E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BA717-30CD-488A-AD45-78F0DA1C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1CAA2-1F76-4C5A-B562-C1F056EB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3F136-D13F-4544-8036-9A0BE7A3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AD3BE-85B0-4D4E-93FF-2897351D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D4E24-B7C0-45AA-B134-294002CC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B6431-E5B8-4070-93F1-F291ABB2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EBB52-267D-4860-8E55-7448BD1B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EA1F-301E-4ACB-982C-BE7C0A5A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46320-1105-4C1C-87C2-1C8C69FD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CA99F-0A3F-49C0-A314-9ACDC55F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B7D28-1B29-49C0-B7E1-05F9DF0E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424EB-2D30-472C-A704-885B8E14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AC888-DBA9-4A86-8FBD-A969D0A3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F686C-8510-4F6E-B37F-58AF19FF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61D47-0201-4708-9D67-88852794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C9E1C-E93C-47FD-860C-E284865F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688B3-8345-4107-9860-8C7049C6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C7415-A89E-4E03-8A13-54C06D07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AC7-79BB-4FCC-8F49-287877C3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E9470-B49E-4CC3-9E0B-BB78F30A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0E3EE-B7C7-49E8-B60C-585D6C5F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CB68C-8B97-4FB7-9796-16E669A7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E255D-A7C0-4A20-83B0-CDA492CB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84148-0D42-479C-A104-F5A889CE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9FAFB-96BD-4B9F-8C8B-CC3F1B4B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B3D89-FD79-4BBC-B84A-579A111B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0E830-0246-4560-8870-750FC62B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5E865-5469-47B9-8424-BD01F3FE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7A313-CD12-442A-8FD2-0AB8B2BF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576-85B3-4E2A-846C-F54A9A33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2F43C-7705-4168-BCCD-3A32519C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A5474-FBE4-4299-B4C9-41A759EB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746B8-E648-4E96-9B8B-85F8FAC9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53D12-7F96-4453-A98B-53123AF7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31709-714A-4735-AD0B-EA294CF6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41E5F-C4AF-40BF-8A78-718630C5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B6554-3200-4F4A-81A1-DE4EDC95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3B326-A2CB-4E67-88FA-F571C80E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80898-BE0C-48CE-A6FF-D780D71A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E56F3-539E-49CA-8913-BF8E4025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65C-B035-414B-B7FB-E7258A16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E3B96-68A0-4074-986A-BD84B6F0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D4290-066B-4D7C-9B46-A5581D99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E0A5B-9AD1-4029-A629-203140EE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911EE-9A2E-43EC-979D-E18BB2BF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5DB4B-9C80-4720-9562-4F6211E8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13778-ACDB-46B3-96BE-D4048457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FA0CA-E426-4D17-91CD-8DD6A0B4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1C182-57EF-4D16-B2A1-8DCB7831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9B123-2F07-437E-88B7-308D6838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2ABB3-E9E7-47C0-80F7-2DFAD8F1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7E8-5F54-4DA7-93D7-4245EEC8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9F884-A8B1-4E50-85C5-A7B14772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F2A49-5185-4339-8D5C-C00B9A80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E26C4-1702-4735-B7F0-4133AC7B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9850B-5B62-4B2A-9E41-738B0573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E82F7-D8D7-46CC-B920-B10B3026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CEA6D-CDC0-44BE-8793-B4BD8C56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CBEF8-0090-4BB4-AD99-59CD0C80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48627-39BD-445F-876D-B3CCA527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B66FB-05F7-44E0-9EBF-396F321D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F6F2A-5776-4C78-BCD4-4CBF5522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D4CA-7F13-4C4C-8813-24F98066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B0A80-4B12-4471-8F06-B33133BD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AE402-B865-4BEC-9E42-39B2B7D2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249D1-99B5-4129-9A2A-A0977199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A62B2-15AF-4414-B85B-DE5EA08D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07C6B-FE00-470C-B131-0BACA339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ABB64-D404-4F4B-81DE-8CF67EDF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20AF7-CFE9-49A0-8C97-653F9755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60994-B356-4958-8657-45796CA5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092B4-5644-42EC-8428-92327B3F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CA9F7-3A34-4AFD-A5C7-BCF6859A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2395-E807-4642-B91B-6C734668434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91A8-10E9-43FD-A7A3-EDE10537823D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Chevron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Chevron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Chevron 15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Chevron 15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FF15-B47E-4AB0-A224-666100ABDD4E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2F7B-0B65-403F-91D9-07E726F2F060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B123-5787-4498-A209-E82C689FE70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5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F363-7723-4B85-BA8A-E5B2DF000757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77DD-104D-4B7C-8B31-9033FF9E2D6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2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Chevron 19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356" name="Chevron 19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Chevron 20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359" name="Chevron 20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19B0-622C-4C50-A1AD-53E1AED980F9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DC6E-BB7E-4560-A25C-760B400D2A4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487440" y="2871720"/>
            <a:ext cx="8186760" cy="17859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Lucida Sans Unicode"/>
              </a:rPr>
              <a:t>Julia Critchle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51" name="Group 2"/>
          <p:cNvGrpSpPr/>
          <p:nvPr/>
        </p:nvGrpSpPr>
        <p:grpSpPr>
          <a:xfrm>
            <a:off x="85680" y="115920"/>
            <a:ext cx="1606680" cy="530280"/>
            <a:chOff x="85680" y="115920"/>
            <a:chExt cx="1606680" cy="530280"/>
          </a:xfrm>
        </p:grpSpPr>
        <p:pic>
          <p:nvPicPr>
            <p:cNvPr id="452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85680" y="11592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7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1044360" y="12060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4" name="Picture 1" descr=""/>
          <p:cNvPicPr/>
          <p:nvPr/>
        </p:nvPicPr>
        <p:blipFill>
          <a:blip r:embed="rId4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"/>
          <p:cNvPicPr/>
          <p:nvPr/>
        </p:nvPicPr>
        <p:blipFill>
          <a:blip r:embed="rId5"/>
          <a:stretch/>
        </p:blipFill>
        <p:spPr>
          <a:xfrm>
            <a:off x="2484360" y="139680"/>
            <a:ext cx="35276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 relation to your research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be defined by this guiding concept (ie your research objective, the problem or issue you are discuss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just a descriptive list of the material available, or a set of summ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791920" cy="12384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at are the main arguments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 authors make similar or different argument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some arguments more convincing than other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 has research been conducted in the literature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extensive has it been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kinds of data have been present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pertinent are they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there sufficient amounts of data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y adequately answer the quest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104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ypes of methodologi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methodology more effective than other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heoretical frameworks or approach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at do they allow the authors o do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approach more effective than others? 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verall, is one work more convincing than other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Or are the works you have compared too different to evaluate against each othe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arching for litera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ot extensive or exhaustive “systematic review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o not need to identify “all literatur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cent literature will often do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UT do need to identify key articles in the field (not always recen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Key artic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ted a lo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igh impact journ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heck citations e.g. in pubmed, google scholar, science citation index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DLINE (PubM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ystematic review artic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cience Citation Index (can be very helpful if there is a “key paper” that most relevant studies will have cit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384120" y="36360"/>
            <a:ext cx="8302680" cy="1024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"/>
          <p:cNvPicPr/>
          <p:nvPr/>
        </p:nvPicPr>
        <p:blipFill>
          <a:blip r:embed="rId2"/>
          <a:srcRect l="0" t="0" r="-1248" b="-2039"/>
          <a:stretch/>
        </p:blipFill>
        <p:spPr>
          <a:xfrm>
            <a:off x="2209680" y="1066680"/>
            <a:ext cx="6782040" cy="5083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7"/>
          <p:cNvSpPr/>
          <p:nvPr/>
        </p:nvSpPr>
        <p:spPr>
          <a:xfrm>
            <a:off x="152280" y="53341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5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57200" y="3809880"/>
            <a:ext cx="1433520" cy="685800"/>
          </a:xfrm>
          <a:prstGeom prst="rightArrow">
            <a:avLst>
              <a:gd name="adj1" fmla="val 50000"/>
              <a:gd name="adj2" fmla="val 522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4"/>
          <p:cNvSpPr/>
          <p:nvPr/>
        </p:nvSpPr>
        <p:spPr>
          <a:xfrm>
            <a:off x="7162920" y="1219320"/>
            <a:ext cx="1066680" cy="1433520"/>
          </a:xfrm>
          <a:prstGeom prst="downArrow">
            <a:avLst>
              <a:gd name="adj1" fmla="val 50000"/>
              <a:gd name="adj2" fmla="val 335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5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ovides an overview and a critical evaluation of a body of literature relating to a research topic or a research probl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nalyses a body of literature in order to classify it by themes or categories, rather than simply discussing individual works one after anoth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esents the research and ideas of the field rather than each individual work or author by itself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4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"/>
          <p:cNvSpPr/>
          <p:nvPr/>
        </p:nvSpPr>
        <p:spPr>
          <a:xfrm>
            <a:off x="3809880" y="27432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4191120" y="2743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9"/>
          <p:cNvSpPr/>
          <p:nvPr/>
        </p:nvSpPr>
        <p:spPr>
          <a:xfrm flipH="1">
            <a:off x="3809520" y="3048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 flipV="1">
            <a:off x="3809880" y="27428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4267080" y="2590920"/>
            <a:ext cx="1219320" cy="685800"/>
          </a:xfrm>
          <a:prstGeom prst="leftArrow">
            <a:avLst>
              <a:gd name="adj1" fmla="val 50000"/>
              <a:gd name="adj2" fmla="val 44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10"/>
          <p:cNvSpPr/>
          <p:nvPr/>
        </p:nvSpPr>
        <p:spPr>
          <a:xfrm>
            <a:off x="1752480" y="685800"/>
            <a:ext cx="914400" cy="1357200"/>
          </a:xfrm>
          <a:prstGeom prst="downArrow">
            <a:avLst>
              <a:gd name="adj1" fmla="val 50000"/>
              <a:gd name="adj2" fmla="val 3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rt with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n first sentence, state general topic of pap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xplain background / motivation (literature review) in a few sentences or paragraph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arrow down to </a:t>
            </a:r>
            <a:r>
              <a:rPr b="0" lang="en-GB" sz="23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Brief statement, usually one sent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mportant, because it indicat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that this work is new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links known and research question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creates story li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Flag this very cle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.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known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cle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eeds to be determined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search Question must follow from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w sentence / paragraph for each known, unknown,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 transition phrases and wor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peat key the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EA 2013 course on Epidemiology – Shah Ebrahi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pidemiology Supercourse (presentations by Richard Smith and Pauls Zieg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56560" cy="1243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as your research question already been answered? If so, how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arch through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ing of a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ituates your topic in relation to previous research and illuminates a spot for your resear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[Also demonstrates your knowledge of literature]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veral goal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rovides background for your topic using previous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hows you are familiar with previous, relevant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valuates the depth and breadth of the research in regards to your 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etermines remaining questions or aspects of your topic in need of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verall, a literature review seeks to answer the following 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not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y is this importa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ummarise everything in the fie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e loads and demonstrate you know “everything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[This is just a few sentences to a few (short) paragraphs to put your work in context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Synthesize and evaluat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dentify the main ideas of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dentify the main argument of the literature review …[that supports your research question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Organize the main points of th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Writ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ritical thinking, reading, and wri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rategies for reading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the themes or categor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y be used later to develop a structure for the literature revie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how other writers classify their data, the literature in their fields, etc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read literature reviews in other papers to see how they have been structu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Form categories for analysis and comparis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 strong literature review examines each work on its own and in relation to other works b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dentifying and then analysing them with regards to a number of different research aspects and ide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ossible categories to use for comparison and analys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rg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sults found and conclu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oretical appro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4:49:39Z</dcterms:created>
  <dc:creator>ntpm</dc:creator>
  <dc:description/>
  <dc:language>en-US</dc:language>
  <cp:lastModifiedBy>Licenced User</cp:lastModifiedBy>
  <cp:lastPrinted>2012-08-01T12:36:40Z</cp:lastPrinted>
  <dcterms:modified xsi:type="dcterms:W3CDTF">2014-09-18T15:36:43Z</dcterms:modified>
  <cp:revision>264</cp:revision>
  <dc:subject/>
  <dc:title>Slide 1</dc:title>
</cp:coreProperties>
</file>