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EE928-0C0D-4764-983C-F899B937300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o tiene muchas formas de dialogar cuando hace investigacion cientifica. Uno puede ir a un Congreso y presentar un poster o un trabajo oral o puede publicar sus resultados en una revista cientif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y tambien es posible publicar facilmente en la web, pero el dialogo cientifico mas valioso tiene un componente esencial que es la evualacion por pares. Publicar en revistas de alto impacto no es facil, pero no imposible. Lo importante es tener un mensaje que comunicar, y encontrar la forma de comunicar efectivamente ese mensaje. </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CBDFB-60C0-4509-AC1E-FD272BAA2F7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 publicacion de trabajos cientificos tiene varios actores. Conocerlos y entender sus puntos de vista forman parte de lograr una comunicacion efectiva. Quizas uno de los mas importantes es el Editor de la revista cientfica. La mayor parte de las publicaciones cientificas son empresas comerciales, y existe un mercado genuino para que existan. La publicacion en revistas prestigiosas es una necesidad para la gran mayaria de los academicos, y la mayoria de nosotros nos actualizamos o educamos leyendol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hay muchas revistas, y todas ellas tienen la necesidad de sobrevivir en el mercado. Para eso, tratan de entender muy bien las necesidades de sus lesctores y suscriptores, sus anunciantes. Y en general, trataran de atraer a los mejores articulos , las ideas mas originales y a los autores mas conocidos. Tienen formas de medir su exito a traves de varios sistemas de medicion bibliometrica. </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73672-90A7-49F3-81B6-FF860AF6561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un grupo de actores importantes en este proceso somos nosotros, los autores de los contenidos. Ya sea porque necesitamos las publicaciones en nuestro CV o para ganar el proximo subsidio, publicar en una revista de alto impacto bibliografico es algo que todos deseamos y aspiramos. </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93F7D-458A-453A-BCC0-23062400966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 clave es entonces entender que los editores quieren buen material en su revista, que plazca a su audiencia, y que el proceso sea lo mas costo-efectivo para ell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publicar es una tarea ardua, tan ardua que muchos de nuestros proyectos se olvidan en un cajon, porque no sabemos como navegar las dificultad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scribir para una audiencia cientifica es una habilidad que se puede aprender como cualquier otra, y se puede desarrolloar ejercitandol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 primero que debemos v</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93F9A-8DA6-48F3-BEC3-870010E4E63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022C0E-99A2-4BC7-A292-103927D03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9BFDE-0D00-4162-AF25-94DF42FBD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78FDFA-D2F3-4BC4-8E98-962F351914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36531-FA00-429C-B37F-B65CC1003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8A7C8-952B-4BF4-AFED-E2DDC59F6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3F96B-4A22-4F93-BDC7-0AADDE926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AB20A-4905-4C59-81F8-04F04CBA8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31DCB-F975-4371-9653-F7D20E367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B492D-D7FF-488A-B3F9-E05043852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32B5F-2FE4-453F-B34B-5507F0A1E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16DA3-56C8-4EF9-A92D-776336CFF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5541E-7270-41A0-AB4A-0D364080AF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214BB-B57F-4C77-BF2C-DADE91712A20}"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editors want: How to get your findings publishe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898989"/>
                </a:solidFill>
                <a:latin typeface="Calibri"/>
              </a:rPr>
              <a:t>Martin O’Flaherty</a:t>
            </a:r>
            <a:endParaRPr b="0" lang="en-US" sz="2500" spc="-1" strike="noStrike">
              <a:solidFill>
                <a:srgbClr val="000000"/>
              </a:solidFill>
              <a:latin typeface="Calibri"/>
            </a:endParaRPr>
          </a:p>
          <a:p>
            <a:pPr indent="0" algn="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Lecturer in Epidemiology and Health Services Research, Division of Public Health.</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University of Liverpool</a:t>
            </a:r>
            <a:endParaRPr b="0" lang="en-US" sz="2200" spc="-1" strike="noStrike">
              <a:solidFill>
                <a:srgbClr val="000000"/>
              </a:solidFill>
              <a:latin typeface="Calibri"/>
            </a:endParaRPr>
          </a:p>
        </p:txBody>
      </p:sp>
      <p:pic>
        <p:nvPicPr>
          <p:cNvPr id="50" name="Picture 6" descr="Copy of LVP_UNI_LOGO_Pantone"/>
          <p:cNvPicPr/>
          <p:nvPr/>
        </p:nvPicPr>
        <p:blipFill>
          <a:blip r:embed="rId1"/>
          <a:stretch/>
        </p:blipFill>
        <p:spPr>
          <a:xfrm>
            <a:off x="179280" y="333360"/>
            <a:ext cx="3753000" cy="863640"/>
          </a:xfrm>
          <a:prstGeom prst="rect">
            <a:avLst/>
          </a:prstGeom>
          <a:ln w="0">
            <a:noFill/>
          </a:ln>
        </p:spPr>
      </p:pic>
      <p:pic>
        <p:nvPicPr>
          <p:cNvPr id="51" name="Picture 4" descr=""/>
          <p:cNvPicPr/>
          <p:nvPr/>
        </p:nvPicPr>
        <p:blipFill>
          <a:blip r:embed="rId2"/>
          <a:stretch/>
        </p:blipFill>
        <p:spPr>
          <a:xfrm>
            <a:off x="7000920" y="109440"/>
            <a:ext cx="2093760" cy="1481400"/>
          </a:xfrm>
          <a:prstGeom prst="rect">
            <a:avLst/>
          </a:prstGeom>
          <a:ln w="0">
            <a:noFill/>
          </a:ln>
        </p:spPr>
      </p:pic>
      <p:grpSp>
        <p:nvGrpSpPr>
          <p:cNvPr id="52" name="Group 5"/>
          <p:cNvGrpSpPr/>
          <p:nvPr/>
        </p:nvGrpSpPr>
        <p:grpSpPr>
          <a:xfrm>
            <a:off x="155520" y="6170760"/>
            <a:ext cx="1606680" cy="528480"/>
            <a:chOff x="155520" y="6170760"/>
            <a:chExt cx="1606680" cy="528480"/>
          </a:xfrm>
        </p:grpSpPr>
        <p:pic>
          <p:nvPicPr>
            <p:cNvPr id="53" name="Picture 5" descr="http://research.ncl.ac.uk/media/sites/researchwebsites/rescapmed/EUlogo.jpg"/>
            <p:cNvPicPr/>
            <p:nvPr/>
          </p:nvPicPr>
          <p:blipFill>
            <a:blip r:embed="rId3"/>
            <a:stretch/>
          </p:blipFill>
          <p:spPr>
            <a:xfrm>
              <a:off x="155520" y="6170760"/>
              <a:ext cx="811440" cy="528480"/>
            </a:xfrm>
            <a:prstGeom prst="rect">
              <a:avLst/>
            </a:prstGeom>
            <a:ln w="0">
              <a:noFill/>
            </a:ln>
          </p:spPr>
        </p:pic>
        <p:pic>
          <p:nvPicPr>
            <p:cNvPr id="54" name="Picture 7" descr="http://research.ncl.ac.uk/media/sites/researchwebsites/rescapmed/FP7logo2.jpg"/>
            <p:cNvPicPr/>
            <p:nvPr/>
          </p:nvPicPr>
          <p:blipFill>
            <a:blip r:embed="rId4"/>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 Who can carry our message</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Know your journals and classify them by “audience”</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Every journal has an statement about what they are willing to publish</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TOCs showed in what they are actually interested.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TOCs can help in deciding if your finding are “novelty” for their readership.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Know your journals: Visibility</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F, citations and papers half life important, inform but they are not by themselves the only criteria</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nline first facilities</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pen access journals: Formal bibliometry, web 2.0 metrics (clicks)</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ho is the Editor? What is he/she doing?</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lways address your submission to the editor, by name.</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lways tell the editor why your paper will make his or her journal more successful (importance, novelty, originality)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editor )or associate editors have a lot of manuscripts: the cover letter, the title and the abstract are the things they look at to reject directly, without  peer review.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ho can review our papers? Friends , experts, or we leave to the editor that decision?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4. Risks and opportunities</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Undesirable outcomes for your manuscrip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Dead” manuscrip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Manuscript without a home” syndrom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Delayed” manuscrip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Evaluate risk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rejec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urn-around time for first and subsequent decisions.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pportunity cost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Evaluate opportuniti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having a big impac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getting A)editors comments, B)reviewers comm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5. What, who, how, when for the submission documents</a:t>
            </a: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manuscript submission is a process that needs managem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lea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timetabl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deadline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fficiency is ke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inimum amount of work to keep moving the manuscript from journal to journal is the key factor to decide next step after rejection.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viewers comment generates work: Are they worth the effort or we simply move on?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otivation is ke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lieve your messag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r work will find a home (perhaps not the one you dreamed abou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5. More nuts&amp;Bolts</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ver lett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stablish personal commun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way to deliver your message in a clear way to the guys that control the proces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llow you to explain things that are not possible to explain in the formal manuscrip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exy cover letter</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rof XXX, Editor Journal of Improbable Research</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ear Prof 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t>
            </a:r>
            <a:r>
              <a:rPr b="0" lang="en-GB" sz="1500" spc="-1" strike="noStrike">
                <a:solidFill>
                  <a:srgbClr val="000000"/>
                </a:solidFill>
                <a:latin typeface="Calibri"/>
              </a:rPr>
              <a:t>Reducing the risk of Y using  X in Z: A randomized controlled trial involving 3 million person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We want to publish this manuscript in your journal.</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s you now, Y is an increasingly worrying disease that affects a large quantity of people globally, IN this study, we used the drug X that showed some effects in reducing Y risk factor levels but no effect in risk, despite previous  level 1-3 studies.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Our study was conducted in a larger population, with more accurate case ascertainment We were able to find a XX% risk reduction that lasted for the entire duration of the study.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We hope that this study will be a useful contribution to the ongoing debate on disease Y therapy, particularly about the potential for drug x to become the standard of care.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0" lang="en-GB" sz="1500" spc="-1" strike="noStrike">
                <a:solidFill>
                  <a:srgbClr val="000000"/>
                </a:solidFill>
                <a:latin typeface="Calibri"/>
              </a:rPr>
              <a:t>Yours sincerely</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rof X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r X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ddress, phone. </a:t>
            </a:r>
            <a:endParaRPr b="0" lang="en-US" sz="1500" spc="-1" strike="noStrike">
              <a:solidFill>
                <a:srgbClr val="000000"/>
              </a:solidFill>
              <a:latin typeface="Calibri"/>
            </a:endParaRPr>
          </a:p>
        </p:txBody>
      </p:sp>
      <p:sp>
        <p:nvSpPr>
          <p:cNvPr id="84" name="Rectangle 4"/>
          <p:cNvSpPr/>
          <p:nvPr/>
        </p:nvSpPr>
        <p:spPr>
          <a:xfrm>
            <a:off x="468360" y="2565360"/>
            <a:ext cx="8207280" cy="64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is know</a:t>
            </a:r>
            <a:endParaRPr b="0" lang="en-US" sz="1800" spc="-1" strike="noStrike">
              <a:solidFill>
                <a:srgbClr val="000000"/>
              </a:solidFill>
              <a:latin typeface="Calibri"/>
            </a:endParaRPr>
          </a:p>
        </p:txBody>
      </p:sp>
      <p:sp>
        <p:nvSpPr>
          <p:cNvPr id="85" name="Rectangle 5"/>
          <p:cNvSpPr/>
          <p:nvPr/>
        </p:nvSpPr>
        <p:spPr>
          <a:xfrm>
            <a:off x="468360" y="314172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this study adds</a:t>
            </a:r>
            <a:endParaRPr b="0" lang="en-US" sz="1800" spc="-1" strike="noStrike">
              <a:solidFill>
                <a:srgbClr val="000000"/>
              </a:solidFill>
              <a:latin typeface="Calibri"/>
            </a:endParaRPr>
          </a:p>
        </p:txBody>
      </p:sp>
      <p:sp>
        <p:nvSpPr>
          <p:cNvPr id="86" name="Rectangle 6"/>
          <p:cNvSpPr/>
          <p:nvPr/>
        </p:nvSpPr>
        <p:spPr>
          <a:xfrm>
            <a:off x="468360" y="357336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 What?</a:t>
            </a:r>
            <a:endParaRPr b="0" lang="en-US" sz="1800" spc="-1" strike="noStrike">
              <a:solidFill>
                <a:srgbClr val="000000"/>
              </a:solidFill>
              <a:latin typeface="Calibri"/>
            </a:endParaRPr>
          </a:p>
        </p:txBody>
      </p:sp>
      <p:sp>
        <p:nvSpPr>
          <p:cNvPr id="87" name="Rectangle 7"/>
          <p:cNvSpPr/>
          <p:nvPr/>
        </p:nvSpPr>
        <p:spPr>
          <a:xfrm>
            <a:off x="468360" y="1989000"/>
            <a:ext cx="8207280" cy="576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s this interesting to you? </a:t>
            </a:r>
            <a:endParaRPr b="0" lang="en-US" sz="1800" spc="-1" strike="noStrike">
              <a:solidFill>
                <a:srgbClr val="000000"/>
              </a:solidFill>
              <a:latin typeface="Calibri"/>
            </a:endParaRPr>
          </a:p>
        </p:txBody>
      </p:sp>
      <p:sp>
        <p:nvSpPr>
          <p:cNvPr id="88" name="Rectangle 9"/>
          <p:cNvSpPr/>
          <p:nvPr/>
        </p:nvSpPr>
        <p:spPr>
          <a:xfrm>
            <a:off x="468360" y="1484280"/>
            <a:ext cx="820728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 know who you a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88"/>
                                        </p:tgtEl>
                                        <p:attrNameLst>
                                          <p:attrName>ppt_x</p:attrName>
                                        </p:attrNameLst>
                                      </p:cBhvr>
                                      <p:tavLst>
                                        <p:tav tm="0">
                                          <p:val>
                                            <p:strVal val="#ppt_x"/>
                                          </p:val>
                                        </p:tav>
                                        <p:tav tm="100000">
                                          <p:val>
                                            <p:strVal val="#ppt_x"/>
                                          </p:val>
                                        </p:tav>
                                      </p:tavLst>
                                    </p:anim>
                                    <p:anim calcmode="lin" valueType="num">
                                      <p:cBhvr additive="base">
                                        <p:cTn id="7" dur="500"/>
                                        <p:tgtEl>
                                          <p:spTgt spid="88"/>
                                        </p:tgtEl>
                                        <p:attrNameLst>
                                          <p:attrName>ppt_y</p:attrName>
                                        </p:attrNameLst>
                                      </p:cBhvr>
                                      <p:tavLst>
                                        <p:tav tm="0">
                                          <p:val>
                                            <p:strVal val="#ppt_y"/>
                                          </p:val>
                                        </p:tav>
                                        <p:tav tm="100000">
                                          <p:val>
                                            <p:strVal val="1+#ppt_h/2"/>
                                          </p:val>
                                        </p:tav>
                                      </p:tavLst>
                                    </p:anim>
                                    <p:set>
                                      <p:cBhvr>
                                        <p:cTn id="8" dur="1" fill="hold">
                                          <p:stCondLst>
                                            <p:cond delay="499"/>
                                          </p:stCondLst>
                                        </p:cTn>
                                        <p:tgtEl>
                                          <p:spTgt spid="88"/>
                                        </p:tgtEl>
                                        <p:attrNameLst>
                                          <p:attrName>style.visibility</p:attrName>
                                        </p:attrNameLst>
                                      </p:cBhvr>
                                      <p:to>
                                        <p:strVal val="hidden"/>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2" presetSubtype="4">
                                  <p:stCondLst>
                                    <p:cond delay="0"/>
                                  </p:stCondLst>
                                  <p:childTnLst>
                                    <p:anim calcmode="lin" valueType="num">
                                      <p:cBhvr additive="base">
                                        <p:cTn id="12" dur="500"/>
                                        <p:tgtEl>
                                          <p:spTgt spid="87"/>
                                        </p:tgtEl>
                                        <p:attrNameLst>
                                          <p:attrName>ppt_x</p:attrName>
                                        </p:attrNameLst>
                                      </p:cBhvr>
                                      <p:tavLst>
                                        <p:tav tm="0">
                                          <p:val>
                                            <p:strVal val="#ppt_x"/>
                                          </p:val>
                                        </p:tav>
                                        <p:tav tm="100000">
                                          <p:val>
                                            <p:strVal val="#ppt_x"/>
                                          </p:val>
                                        </p:tav>
                                      </p:tavLst>
                                    </p:anim>
                                    <p:anim calcmode="lin" valueType="num">
                                      <p:cBhvr additive="base">
                                        <p:cTn id="13" dur="500"/>
                                        <p:tgtEl>
                                          <p:spTgt spid="87"/>
                                        </p:tgtEl>
                                        <p:attrNameLst>
                                          <p:attrName>ppt_y</p:attrName>
                                        </p:attrNameLst>
                                      </p:cBhvr>
                                      <p:tavLst>
                                        <p:tav tm="0">
                                          <p:val>
                                            <p:strVal val="#ppt_y"/>
                                          </p:val>
                                        </p:tav>
                                        <p:tav tm="100000">
                                          <p:val>
                                            <p:strVal val="1+#ppt_h/2"/>
                                          </p:val>
                                        </p:tav>
                                      </p:tavLst>
                                    </p:anim>
                                    <p:set>
                                      <p:cBhvr>
                                        <p:cTn id="14" dur="1" fill="hold">
                                          <p:stCondLst>
                                            <p:cond delay="499"/>
                                          </p:stCondLst>
                                        </p:cTn>
                                        <p:tgtEl>
                                          <p:spTgt spid="87"/>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2" presetSubtype="4">
                                  <p:stCondLst>
                                    <p:cond delay="0"/>
                                  </p:stCondLst>
                                  <p:childTnLst>
                                    <p:anim calcmode="lin" valueType="num">
                                      <p:cBhvr additive="base">
                                        <p:cTn id="18" dur="500"/>
                                        <p:tgtEl>
                                          <p:spTgt spid="84"/>
                                        </p:tgtEl>
                                        <p:attrNameLst>
                                          <p:attrName>ppt_x</p:attrName>
                                        </p:attrNameLst>
                                      </p:cBhvr>
                                      <p:tavLst>
                                        <p:tav tm="0">
                                          <p:val>
                                            <p:strVal val="#ppt_x"/>
                                          </p:val>
                                        </p:tav>
                                        <p:tav tm="100000">
                                          <p:val>
                                            <p:strVal val="#ppt_x"/>
                                          </p:val>
                                        </p:tav>
                                      </p:tavLst>
                                    </p:anim>
                                    <p:anim calcmode="lin" valueType="num">
                                      <p:cBhvr additive="base">
                                        <p:cTn id="19" dur="500"/>
                                        <p:tgtEl>
                                          <p:spTgt spid="84"/>
                                        </p:tgtEl>
                                        <p:attrNameLst>
                                          <p:attrName>ppt_y</p:attrName>
                                        </p:attrNameLst>
                                      </p:cBhvr>
                                      <p:tavLst>
                                        <p:tav tm="0">
                                          <p:val>
                                            <p:strVal val="#ppt_y"/>
                                          </p:val>
                                        </p:tav>
                                        <p:tav tm="100000">
                                          <p:val>
                                            <p:strVal val="1+#ppt_h/2"/>
                                          </p:val>
                                        </p:tav>
                                      </p:tavLst>
                                    </p:anim>
                                    <p:set>
                                      <p:cBhvr>
                                        <p:cTn id="20" dur="1" fill="hold">
                                          <p:stCondLst>
                                            <p:cond delay="499"/>
                                          </p:stCondLst>
                                        </p:cTn>
                                        <p:tgtEl>
                                          <p:spTgt spid="84"/>
                                        </p:tgtEl>
                                        <p:attrNameLst>
                                          <p:attrName>style.visibility</p:attrName>
                                        </p:attrNameLst>
                                      </p:cBhvr>
                                      <p:to>
                                        <p:strVal val="hidden"/>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2" presetSubtype="4">
                                  <p:stCondLst>
                                    <p:cond delay="0"/>
                                  </p:stCondLst>
                                  <p:childTnLst>
                                    <p:anim calcmode="lin" valueType="num">
                                      <p:cBhvr additive="base">
                                        <p:cTn id="24" dur="500"/>
                                        <p:tgtEl>
                                          <p:spTgt spid="85"/>
                                        </p:tgtEl>
                                        <p:attrNameLst>
                                          <p:attrName>ppt_x</p:attrName>
                                        </p:attrNameLst>
                                      </p:cBhvr>
                                      <p:tavLst>
                                        <p:tav tm="0">
                                          <p:val>
                                            <p:strVal val="#ppt_x"/>
                                          </p:val>
                                        </p:tav>
                                        <p:tav tm="100000">
                                          <p:val>
                                            <p:strVal val="#ppt_x"/>
                                          </p:val>
                                        </p:tav>
                                      </p:tavLst>
                                    </p:anim>
                                    <p:anim calcmode="lin" valueType="num">
                                      <p:cBhvr additive="base">
                                        <p:cTn id="25" dur="500"/>
                                        <p:tgtEl>
                                          <p:spTgt spid="85"/>
                                        </p:tgtEl>
                                        <p:attrNameLst>
                                          <p:attrName>ppt_y</p:attrName>
                                        </p:attrNameLst>
                                      </p:cBhvr>
                                      <p:tavLst>
                                        <p:tav tm="0">
                                          <p:val>
                                            <p:strVal val="#ppt_y"/>
                                          </p:val>
                                        </p:tav>
                                        <p:tav tm="100000">
                                          <p:val>
                                            <p:strVal val="1+#ppt_h/2"/>
                                          </p:val>
                                        </p:tav>
                                      </p:tavLst>
                                    </p:anim>
                                    <p:set>
                                      <p:cBhvr>
                                        <p:cTn id="26" dur="1" fill="hold">
                                          <p:stCondLst>
                                            <p:cond delay="499"/>
                                          </p:stCondLst>
                                        </p:cTn>
                                        <p:tgtEl>
                                          <p:spTgt spid="85"/>
                                        </p:tgtEl>
                                        <p:attrNameLst>
                                          <p:attrName>style.visibility</p:attrName>
                                        </p:attrNameLst>
                                      </p:cBhvr>
                                      <p:to>
                                        <p:strVal val="hidden"/>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2" presetSubtype="4">
                                  <p:stCondLst>
                                    <p:cond delay="0"/>
                                  </p:stCondLst>
                                  <p:childTnLst>
                                    <p:anim calcmode="lin" valueType="num">
                                      <p:cBhvr additive="base">
                                        <p:cTn id="30" dur="500"/>
                                        <p:tgtEl>
                                          <p:spTgt spid="86"/>
                                        </p:tgtEl>
                                        <p:attrNameLst>
                                          <p:attrName>ppt_x</p:attrName>
                                        </p:attrNameLst>
                                      </p:cBhvr>
                                      <p:tavLst>
                                        <p:tav tm="0">
                                          <p:val>
                                            <p:strVal val="#ppt_x"/>
                                          </p:val>
                                        </p:tav>
                                        <p:tav tm="100000">
                                          <p:val>
                                            <p:strVal val="#ppt_x"/>
                                          </p:val>
                                        </p:tav>
                                      </p:tavLst>
                                    </p:anim>
                                    <p:anim calcmode="lin" valueType="num">
                                      <p:cBhvr additive="base">
                                        <p:cTn id="31" dur="500"/>
                                        <p:tgtEl>
                                          <p:spTgt spid="86"/>
                                        </p:tgtEl>
                                        <p:attrNameLst>
                                          <p:attrName>ppt_y</p:attrName>
                                        </p:attrNameLst>
                                      </p:cBhvr>
                                      <p:tavLst>
                                        <p:tav tm="0">
                                          <p:val>
                                            <p:strVal val="#ppt_y"/>
                                          </p:val>
                                        </p:tav>
                                        <p:tav tm="100000">
                                          <p:val>
                                            <p:strVal val="1+#ppt_h/2"/>
                                          </p:val>
                                        </p:tav>
                                      </p:tavLst>
                                    </p:anim>
                                    <p:set>
                                      <p:cBhvr>
                                        <p:cTn id="32" dur="1" fill="hold">
                                          <p:stCondLst>
                                            <p:cond delay="499"/>
                                          </p:stCondLst>
                                        </p:cTn>
                                        <p:tgtEl>
                                          <p:spTgt spid="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hould fit into one side of A4</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91" name="Rectangle 4"/>
          <p:cNvSpPr/>
          <p:nvPr/>
        </p:nvSpPr>
        <p:spPr>
          <a:xfrm>
            <a:off x="468360" y="2565360"/>
            <a:ext cx="8207280" cy="64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is know</a:t>
            </a:r>
            <a:endParaRPr b="0" lang="en-US" sz="1800" spc="-1" strike="noStrike">
              <a:solidFill>
                <a:srgbClr val="000000"/>
              </a:solidFill>
              <a:latin typeface="Calibri"/>
            </a:endParaRPr>
          </a:p>
        </p:txBody>
      </p:sp>
      <p:sp>
        <p:nvSpPr>
          <p:cNvPr id="92" name="Rectangle 5"/>
          <p:cNvSpPr/>
          <p:nvPr/>
        </p:nvSpPr>
        <p:spPr>
          <a:xfrm>
            <a:off x="468360" y="314172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this study adds</a:t>
            </a:r>
            <a:endParaRPr b="0" lang="en-US" sz="1800" spc="-1" strike="noStrike">
              <a:solidFill>
                <a:srgbClr val="000000"/>
              </a:solidFill>
              <a:latin typeface="Calibri"/>
            </a:endParaRPr>
          </a:p>
        </p:txBody>
      </p:sp>
      <p:sp>
        <p:nvSpPr>
          <p:cNvPr id="93" name="Rectangle 6"/>
          <p:cNvSpPr/>
          <p:nvPr/>
        </p:nvSpPr>
        <p:spPr>
          <a:xfrm>
            <a:off x="468360" y="357336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 What?</a:t>
            </a:r>
            <a:endParaRPr b="0" lang="en-US" sz="1800" spc="-1" strike="noStrike">
              <a:solidFill>
                <a:srgbClr val="000000"/>
              </a:solidFill>
              <a:latin typeface="Calibri"/>
            </a:endParaRPr>
          </a:p>
        </p:txBody>
      </p:sp>
      <p:sp>
        <p:nvSpPr>
          <p:cNvPr id="94" name="Rectangle 7"/>
          <p:cNvSpPr/>
          <p:nvPr/>
        </p:nvSpPr>
        <p:spPr>
          <a:xfrm>
            <a:off x="468360" y="1989000"/>
            <a:ext cx="8207280" cy="576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s this interesting to you? </a:t>
            </a:r>
            <a:endParaRPr b="0" lang="en-US" sz="1800" spc="-1" strike="noStrike">
              <a:solidFill>
                <a:srgbClr val="000000"/>
              </a:solidFill>
              <a:latin typeface="Calibri"/>
            </a:endParaRPr>
          </a:p>
        </p:txBody>
      </p:sp>
      <p:sp>
        <p:nvSpPr>
          <p:cNvPr id="95" name="Rectangle 9"/>
          <p:cNvSpPr/>
          <p:nvPr/>
        </p:nvSpPr>
        <p:spPr>
          <a:xfrm>
            <a:off x="468360" y="1484280"/>
            <a:ext cx="820728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 know who you a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nuscript</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KISS principle:</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IT SHORT &amp; SIMPLE</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IT SIMPLE, STUPI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Story Line</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You are telling a story in a structured way. BUT REMEBER, YOU ARE TELLING A STORY</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lude a beginning, a middle, and an end</a:t>
            </a:r>
            <a:endParaRPr b="0" lang="en-US" sz="20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y should the reader be interested?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did you find?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y is it important?</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How this fit with the rest of the evidence</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are the STRENGHTS? What are the </a:t>
            </a:r>
            <a:r>
              <a:rPr b="0" lang="en-GB" sz="1000" spc="-1" strike="noStrike">
                <a:solidFill>
                  <a:srgbClr val="000000"/>
                </a:solidFill>
                <a:latin typeface="Calibri"/>
              </a:rPr>
              <a:t>LIMITATIONS</a:t>
            </a:r>
            <a:r>
              <a:rPr b="0" lang="en-GB" sz="1700" spc="-1" strike="noStrike">
                <a:solidFill>
                  <a:srgbClr val="000000"/>
                </a:solidFill>
                <a:latin typeface="Calibri"/>
              </a:rPr>
              <a:t>?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to do next? </a:t>
            </a:r>
            <a:endParaRPr b="0" lang="en-US" sz="17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xclude  anything not relevant to the story</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A common theme throughout aids the reader</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reate an OUTLINE WITH YOUR STORY LINE STRUCTURE IN THEMES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ACH THEME=A PARAGRAPH.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ragraph Structure</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irst Sentenc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t concisely states the THE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 can skip the rest of the paragraph, and still get the theme.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ubsequent sentenc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lated to the theme presented in the first sentence.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ffers context, material, details, suppor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inking words essential (however, moreover, First, More later,)</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Last Sentenc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rap-up: What’s wrong. What’s good or reminder for first senten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troduce the next the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ep with the theme, but in a new track.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per Sections</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bstr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t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etho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s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cu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thodology for today</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Publishing Ga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our publication process looks like, right now?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ositi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egati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the editors want and how to adapt to th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TRO</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t the stage:</a:t>
            </a:r>
            <a:endParaRPr b="0" lang="en-US" sz="32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address the title, frame the “big picture”. </a:t>
            </a:r>
            <a:endParaRPr b="0" lang="en-US" sz="28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se the last sentence of the first   paragraph to attack/defend/justify your research</a:t>
            </a:r>
            <a:endParaRPr b="0" lang="en-US" sz="28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ummarize what has been done.</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te what is needed/missing from the state of Knowledge</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te the objectives of the paper</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should be your most fluid wri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thods</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ISS princi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more detailed need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ke good use of “appendices” and “Additional web materia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ference previous work describing method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amples written on plain language of how the method works useful for general audience journals., but not for mainstream method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sults</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to the resul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 speculation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 apologies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esent the results in the order that maintains the thread being wove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ogical flow from one paragraph to the nex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llow the objectives stated in the introdu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ion</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irst paragraph: Summarize your findings that support the main messag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ubsequent paragraph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this compare with other papers:</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My result vs the evidence base. </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are the strengths: Sometimes useful when discussing the wider literature or as a separate paragraph.</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are the limitations: Acknowledging  the limitations will fend-off reviewers. But phrase them in a way thay showed that you cared and you understand what it means for your resul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ot be to harsh on you!</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mplications for action and your speculat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s next in terms of the next steps in the story,</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Last paragraph:</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rap up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rammar and Style</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eck the Englis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ritish or America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f you got it right</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first sentences and the last sentences  should provide an adequate summary of your pape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Title is the shortest possible summary of your articl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Outline is the headings of your pos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first sentences are the main materials for the cover letter and abstrac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swering Reviewers’ queries</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KISS principle.</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inciple of minimum work needed :</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 please the EDITOR, and then the reviewer. </a:t>
            </a: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inciple of keeping your paper moving:</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substantial rewriting/queries asked, considered “tweaking” and send to another journal</a:t>
            </a: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e grateful and polite. BUT if you disagree, politely do so and explain in full your reason. Is the EDITOR who decides.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ddress every single point, describe what you did and how you modified the manuscript.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f it is a genuine opportunity to improve the paper:</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they are willing to publish after corrections, the editor will tell (most of the time). </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you can do it without running the whole project again and submit somewhere else (if rejected)</a:t>
            </a:r>
            <a:endParaRPr b="0" lang="en-US" sz="2000" spc="-1" strike="noStrike">
              <a:solidFill>
                <a:srgbClr val="000000"/>
              </a:solidFill>
              <a:latin typeface="Calibri"/>
            </a:endParaRPr>
          </a:p>
          <a:p>
            <a:pPr lvl="1" marL="735480" indent="-28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appy publish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
        <p:nvSpPr>
          <p:cNvPr id="58" name="PlaceHolder 2"/>
          <p:cNvSpPr>
            <a:spLocks noGrp="1"/>
          </p:cNvSpPr>
          <p:nvPr>
            <p:ph/>
          </p:nvPr>
        </p:nvSpPr>
        <p:spPr>
          <a:xfrm>
            <a:off x="456840" y="119664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Publishers</a:t>
            </a:r>
            <a:endParaRPr b="0" lang="en-US" sz="2400" spc="-1" strike="noStrike">
              <a:solidFill>
                <a:srgbClr val="000000"/>
              </a:solidFill>
              <a:latin typeface="Calibri"/>
            </a:endParaRPr>
          </a:p>
        </p:txBody>
      </p:sp>
      <p:sp>
        <p:nvSpPr>
          <p:cNvPr id="59" name=""/>
          <p:cNvSpPr txBox="1"/>
          <p:nvPr/>
        </p:nvSpPr>
        <p:spPr>
          <a:xfrm>
            <a:off x="456840" y="1844640"/>
            <a:ext cx="8435880" cy="3951360"/>
          </a:xfrm>
          <a:prstGeom prst="rect">
            <a:avLst/>
          </a:prstGeom>
          <a:noFill/>
          <a:ln w="0">
            <a:noFill/>
          </a:ln>
        </p:spPr>
        <p:txBody>
          <a:bodyPr anchor="t">
            <a:normAutofit fontScale="80000"/>
          </a:bodyPr>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blishing is a big bussiness: We are here to make money. </a:t>
            </a: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re is a genuine market need for us: The  accepted way of publicizing research</a:t>
            </a: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s with any publication what is important to us:</a:t>
            </a:r>
            <a:endParaRPr b="0" lang="en-US" sz="24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rket share (attracts advert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estige as a function of our editorial decisions (attracts advert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 associated with “winners” and “leader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ep costs low:</a:t>
            </a:r>
            <a:endParaRPr b="0" lang="en-US" sz="20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st of the work SHOULD be done by others. </a:t>
            </a:r>
            <a:endParaRPr b="0" lang="en-US" sz="18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ot in the content producing bussiness</a:t>
            </a:r>
            <a:endParaRPr b="0" lang="en-US" sz="18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eep customer contacts in a standard way and keep it to a minimun</a:t>
            </a:r>
            <a:endParaRPr b="0" lang="en-US" sz="18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easuring success: IF and bibliometric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e want to keep our readers happy: we want to give them stuff they like</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432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Publisher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 name=""/>
          <p:cNvSpPr txBox="1"/>
          <p:nvPr/>
        </p:nvSpPr>
        <p:spPr>
          <a:xfrm>
            <a:off x="456840" y="2174760"/>
            <a:ext cx="84358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airness and Transparency is an increasing feature of our bussin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OPEN  ACCESS movement is anew kid in the blcok, need to watch them : Offers higher visibility to authors at a direct moderate price to them. We offer prestige and visibility is  decidied by the size of our subsrcriber bas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
        <p:nvSpPr>
          <p:cNvPr id="64" name="PlaceHolder 2"/>
          <p:cNvSpPr>
            <a:spLocks noGrp="1"/>
          </p:cNvSpPr>
          <p:nvPr>
            <p:ph/>
          </p:nvPr>
        </p:nvSpPr>
        <p:spPr>
          <a:xfrm>
            <a:off x="250560" y="1125000"/>
            <a:ext cx="4041720" cy="638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Content Producers</a:t>
            </a:r>
            <a:endParaRPr b="0" lang="en-US" sz="2400" spc="-1" strike="noStrike">
              <a:solidFill>
                <a:srgbClr val="000000"/>
              </a:solidFill>
              <a:latin typeface="Calibri"/>
            </a:endParaRPr>
          </a:p>
        </p:txBody>
      </p:sp>
      <p:sp>
        <p:nvSpPr>
          <p:cNvPr id="65" name=""/>
          <p:cNvSpPr txBox="1"/>
          <p:nvPr/>
        </p:nvSpPr>
        <p:spPr>
          <a:xfrm>
            <a:off x="529920" y="1844640"/>
            <a:ext cx="8289720" cy="3951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only way to justify the money we are being paid to do research, most of the tim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st way to prove our “Track Record” to get more money .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n important and accepted way to make a contribution to the ongoing scientific deba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has direct and indirect costs to us, need to factoring into our budget plan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xercise 5 minutes:</a:t>
            </a:r>
            <a:br>
              <a:rPr sz="4000"/>
            </a:br>
            <a:r>
              <a:rPr b="0" lang="en-GB" sz="4000" spc="-1" strike="noStrike">
                <a:solidFill>
                  <a:srgbClr val="000000"/>
                </a:solidFill>
                <a:latin typeface="Calibri"/>
              </a:rPr>
              <a:t>Our processes today</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otivation </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do research</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publish our research</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ow focused are our research efforts? </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do we plan a research study? </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unding</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issemination plans</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o we have publication targe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parts of the submission are critica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much we know about the journal we select for publication (list things you are looking at when selecting a journa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en published, what are we going to do with th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the editors want: Path to a successful submission</a:t>
            </a:r>
            <a:endParaRPr b="0" lang="en-US" sz="4000" spc="-1" strike="noStrike">
              <a:solidFill>
                <a:srgbClr val="000000"/>
              </a:solidFill>
              <a:latin typeface="Calibri"/>
            </a:endParaRPr>
          </a:p>
        </p:txBody>
      </p:sp>
      <p:pic>
        <p:nvPicPr>
          <p:cNvPr id="69" name="Content Placeholder 3" descr=""/>
          <p:cNvPicPr/>
          <p:nvPr/>
        </p:nvPicPr>
        <p:blipFill>
          <a:blip r:embed="rId1"/>
          <a:stretch/>
        </p:blipFill>
        <p:spPr>
          <a:xfrm>
            <a:off x="396720" y="1590840"/>
            <a:ext cx="8302680" cy="45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1. Do we have a message</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You should be able to summarize your paper in one sentenc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we found in where or whom, and how we did it. </a:t>
            </a:r>
            <a:endParaRPr b="0" lang="en-US" sz="22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Hey, wait a minute. THIS LOOKS LIKE THE TITL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RE IS ONLY ONE CHANCE FOR A FIRST IMPRESSION: Title is the first thing an editor will look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CO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Flattening of CHD mortality in Australia 1976-2006  is continuing: A time trend stud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NOT CO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study of CHD Mortality rates trends in Australia 1976-2006.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2. Audience</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o could be interested in what we are say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List possible audience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ny people around the world need your research. You are not alone. </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One message, multiple audiences: More than one way of delivering the messag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Typical Audienc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eneral medical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pic specific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ethod specific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merican, European, Local, Global.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0:29:49Z</dcterms:created>
  <dc:creator>Martin O'Flaherty</dc:creator>
  <dc:description/>
  <dc:language>en-US</dc:language>
  <cp:lastModifiedBy>Licenced User</cp:lastModifiedBy>
  <dcterms:modified xsi:type="dcterms:W3CDTF">2014-09-18T15:34:55Z</dcterms:modified>
  <cp:revision>33</cp:revision>
  <dc:subject/>
  <dc:title>What the editors want: How to get your findings published</dc:title>
</cp:coreProperties>
</file>