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28.png" ContentType="image/png"/>
  <Override PartName="/ppt/media/image30.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47.png" ContentType="image/png"/>
  <Override PartName="/ppt/media/image48.png" ContentType="image/png"/>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55A27-DFE2-4459-A8DE-BCC5DB40F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92B4B-DCD1-4666-B251-681CAFBDD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814FDA-426A-465F-9D8F-1E263F404E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A451A0-FD69-4030-91C2-1023FEE3DE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9A285E-E74E-4227-BE34-71DB7CC13C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9ABBAD-F3D3-4E9A-9A33-54655DE015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56E4CA-AC97-48B7-8BC6-BBFE0704DF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718D9A-4BA3-4FFA-BC8E-4F2EE12C58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EE5B55-5C48-4A9B-B055-CC0A223C84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0976AB-8160-4334-B3D4-049715D83E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67954B-F39F-4B2D-BFED-162E972087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EC397-1FC1-487C-A70F-EC774CC72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2BF33-75AE-496C-BE29-873512B93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D9DDC-395E-4C1A-BFFC-ECEDD8166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D19DD-5367-4BC6-B42E-783D22C17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00ECA-41FB-4BFB-A8AD-4A10A578E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8886B-9E0B-4CF3-B0A8-BD78EEF70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59E7E-8B28-48DB-8E55-09069F0AC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1817B-E118-40EF-9BED-2FB1E5288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818CC-B7B9-4D39-87A7-1779A3E08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60F24-92E1-4F44-BBA5-D5516C260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FD576-2F2E-4CEB-ABDB-3450FAEE4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2DB13-DFF9-4E81-99ED-AC2FC2CD9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18580-1E78-42A7-8218-0C3C48697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A2FB9-9641-41A4-8F51-AE23502704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6A2B5-A135-42A2-8D2F-B1B7A34DD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58FD28-3D7E-4498-A4DC-EFDE956ECF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B76222-CEF7-4AC5-B7A7-8CA4B88B2B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81A7E4-ADC2-4624-96C6-40B5E698E0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A739AA-7440-48A9-ABF2-ED7BB1859A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8D51B7-19D2-40B4-B4FD-EDF8DFD17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58835-44C1-4847-96F6-2F8B5FAFD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CC51BA-E174-406C-A17A-32585FC22D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6100CE-8208-4CA5-9F55-DBBAA2049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2D6BA6-549A-4527-9F76-3A99B21924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9F9F54-3E2B-4994-AB79-A952DA0532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BFC2C5-2472-464F-9851-753791F2EB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693F28-624B-4910-A3E1-1B06A65B49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10011E-45B1-468B-89B5-67E2A14E47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5DD5E2-6904-43C4-87FE-294334A6BF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70BBEB-67A0-4975-B841-05853CF91E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83C1CD-945D-4088-B65C-23A49DB25B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E01A0-C0A4-451E-82B8-D89539D7D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BD5B42-4810-4726-BF02-77CBBBA9D7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8EADA9-FAC8-4FA3-B5C7-DF722F771D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500CDF-C584-4524-B0FB-40584273C0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61B5D-D21E-4A74-BE63-FAE29DF80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4E90F6-E760-449A-B190-EB9D6E1A6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D4815-0FD1-4F8B-9672-4F0FE32A9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47F0E7-B13C-4704-8FF0-F795EDBD55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31F2FB-3A07-4E94-BBDF-32171512C8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02D341-63D2-43D5-B517-047B225021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7D0A8C-3A59-4401-B893-40246216FA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3B0BE-9EBF-4C84-8EE4-968E80B05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83E01B-F96C-4A03-A454-5DF8C41EBB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69993F-5C39-4A5A-AAC3-2AF732703F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B56EB8-41B2-429D-8100-CC57828330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DE47BE-733A-42E5-99F7-3E4CBC5F8D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BBFD48-114F-4440-B3F1-7EB3DBD64D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D5282A-AFF1-415E-A609-FEC4EB4738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672A9E-FEEE-4E12-9705-903532F5F5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3EBEB2-299F-4A15-B5AF-FCA2FF5118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7686EE-721D-4449-9F1D-432BFA92C4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521617-DD20-4008-BAE7-13C0FAD8F7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016FF-0058-4AE8-B555-D5FABB5F5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36181C-E2AA-49D7-B902-1E5A99E647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82C849-FE80-4350-83D8-2F6E4839BD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9DA87E-0B6E-4EB5-8053-686B64CDBF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D6552C-09CF-48FA-A26A-CA40066CBD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0EF573-5CE8-4F2D-AC28-AF73AAA964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ED25DC-F544-44DB-98C4-574BD051FA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DCCCBC-80DE-44A2-80B1-B0E6F392E6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81D5B-DFEC-4EA8-B943-30766FF694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EF22B8-D93F-48A4-BB02-C22CEA7E01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FBBB4-94C9-48E0-8EF3-CC44870F3B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E2C76-D5F8-48F8-9895-FDC310412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30D86F-3BC0-4C86-B904-FE336463ED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460FEE-4906-4B1C-9CF9-4A07B9F7A0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8775B3-6B5C-4783-9663-7F330A85C8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207B98-C6D4-4379-B8D4-446502C9F7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EC9421-3FB7-4482-BA39-94AE6C075E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8D6866-C9C6-4AD1-95B8-CD22EEC6CC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8DC769-8F4E-45AC-8B83-3F358B7019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C26B22-E53E-4152-9607-48C795DEAE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316855-4DBE-4275-AC4F-ABEFBB85F8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2743FE-0BBA-4ECC-B2AD-62AE42E92F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3CA8C-2FA9-4D66-80ED-C07FCB2A2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2DBF24-38CF-41B8-8091-7E4F3CE5F7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F3C838-9C48-4EBF-AD94-E09DB082C8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E7F933-0CF3-471C-BB97-D9D3DE441C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6C24FC-5930-4360-ADBB-2844E17E05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2A6C6B-D3FA-4AD3-A1F1-7FD4FCB467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8060A9-DF84-43C0-828D-CDA816DC1D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8B3B76-3ED0-49E1-A7C1-E1A69CFEA8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256C33-7016-41A8-8C70-8422109BC0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4B875C-3389-4A25-B225-B20D906C4F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5DDD1F-F45A-42E0-AC5F-FBB40414F9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2BCEE-86D1-490A-8377-984EC9A4E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9496EA-7B49-4737-BB0A-DDBD598167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67DF86-D831-4A97-845F-8504D86C35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8C2B4F-6175-47FC-866B-473F51C516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295E50-900B-4EAF-976D-D4E71959CC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F9D437-52F7-4E78-9FF9-0D5E22C2CD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6BB763-361F-4CB3-865E-EE750DE983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EEA473-1943-4107-A3BA-4495889537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D295D6-4631-4A74-AAB5-4F81B15F86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CD29DB-CB1B-486E-AD17-F99D6C58AD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0760E5-2145-4D95-9B05-5565F76628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715D-13DC-4514-8FFC-570FF198CC6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B146-75E2-444D-B10F-3829C17582AD}"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6810-179B-4E99-9678-4EB13408611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0B8B-EFD0-46C6-A14C-5E1CAB503F5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0A3F-BC86-46C2-B201-ABF669F4F69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54C5-08C0-41B6-945E-3BFC229E041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51BC-4FC3-4F3F-A7B2-B74216C29BD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DE51-2D4B-451A-A106-067D7783EB9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2CBA-A8F8-450C-B5CA-9D4C004C039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www.phd2published.com/2011/11/30/luc-reid-the-will-to-write-getting-past-the-6-most-common-obstacles/" TargetMode="External"/><Relationship Id="rId3" Type="http://schemas.openxmlformats.org/officeDocument/2006/relationships/hyperlink" Target="http://www.phd2published.com/2011/11/30/luc-reid-the-will-to-write-getting-past-the-6-most-common-obstacles/" TargetMode="External"/><Relationship Id="rId4" Type="http://schemas.openxmlformats.org/officeDocument/2006/relationships/hyperlink" Target="http://www.phd2published.com/2011/11/30/luc-reid-the-will-to-write-getting-past-the-6-most-common-obstacles/"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487600"/>
            <a:ext cx="8186760" cy="213984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201600" y="274680"/>
            <a:ext cx="8485200" cy="1243080"/>
          </a:xfrm>
          <a:prstGeom prst="rect">
            <a:avLst/>
          </a:prstGeom>
          <a:ln w="0">
            <a:noFill/>
          </a:ln>
        </p:spPr>
      </p:pic>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ainstorming (individually or in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 solv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earching and consolidating information from multiple sour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senting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aining insight on complex subjec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ogging your creativ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5" name="Content Placeholder 3" descr=""/>
          <p:cNvPicPr/>
          <p:nvPr/>
        </p:nvPicPr>
        <p:blipFill>
          <a:blip r:embed="rId1"/>
          <a:stretch/>
        </p:blipFill>
        <p:spPr>
          <a:xfrm>
            <a:off x="990720" y="1600200"/>
            <a:ext cx="716256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7" name="Content Placeholder 3" descr=""/>
          <p:cNvPicPr/>
          <p:nvPr/>
        </p:nvPicPr>
        <p:blipFill>
          <a:blip r:embed="rId1"/>
          <a:stretch/>
        </p:blipFill>
        <p:spPr>
          <a:xfrm>
            <a:off x="1670040" y="1600200"/>
            <a:ext cx="5803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201600" y="274680"/>
            <a:ext cx="8485200" cy="1243080"/>
          </a:xfrm>
          <a:prstGeom prst="rect">
            <a:avLst/>
          </a:prstGeom>
          <a:ln w="0">
            <a:noFill/>
          </a:ln>
        </p:spPr>
      </p:pic>
      <p:sp>
        <p:nvSpPr>
          <p:cNvPr id="4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rit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Use your outlin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y to complete one section at a time if possible (can be small sub-section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e as you like (can revise la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201600" y="274680"/>
            <a:ext cx="8485200" cy="1243080"/>
          </a:xfrm>
          <a:prstGeom prst="rect">
            <a:avLst/>
          </a:prstGeom>
          <a:ln w="0">
            <a:noFill/>
          </a:ln>
        </p:spPr>
      </p:pic>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heck draft for</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worry about spelling / grammar etc initiall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in points included / given appropriate emphasi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thing miss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rit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rre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lleagues check</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vise agai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201600" y="274680"/>
            <a:ext cx="8485200" cy="1243080"/>
          </a:xfrm>
          <a:prstGeom prst="rect">
            <a:avLst/>
          </a:prstGeom>
          <a:ln w="0">
            <a:noFill/>
          </a:ln>
        </p:spPr>
      </p:pic>
      <p:pic>
        <p:nvPicPr>
          <p:cNvPr id="483"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01600" y="274680"/>
            <a:ext cx="8485200" cy="1243080"/>
          </a:xfrm>
          <a:prstGeom prst="rect">
            <a:avLst/>
          </a:prstGeom>
          <a:ln w="0">
            <a:noFill/>
          </a:ln>
        </p:spPr>
      </p:pic>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Lucida Sans Unicode"/>
              </a:rPr>
              <a:t>IMRAD</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I</a:t>
            </a:r>
            <a:r>
              <a:rPr b="1" lang="en-GB" sz="2700" spc="-1" strike="noStrike">
                <a:solidFill>
                  <a:srgbClr val="000000"/>
                </a:solidFill>
                <a:latin typeface="Lucida Sans Unicode"/>
              </a:rPr>
              <a:t>ntroduction</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M</a:t>
            </a:r>
            <a:r>
              <a:rPr b="1" lang="en-GB" sz="2700" spc="-1" strike="noStrike">
                <a:solidFill>
                  <a:srgbClr val="000000"/>
                </a:solidFill>
                <a:latin typeface="Lucida Sans Unicode"/>
              </a:rPr>
              <a:t>ethods,</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R</a:t>
            </a:r>
            <a:r>
              <a:rPr b="1" lang="en-GB" sz="2700" spc="-1" strike="noStrike">
                <a:solidFill>
                  <a:srgbClr val="000000"/>
                </a:solidFill>
                <a:latin typeface="Lucida Sans Unicode"/>
              </a:rPr>
              <a:t>esearch</a:t>
            </a:r>
            <a:r>
              <a:rPr b="0" lang="en-GB" sz="2700" spc="-1" strike="noStrike">
                <a:solidFill>
                  <a:srgbClr val="000000"/>
                </a:solidFill>
                <a:latin typeface="Lucida Sans Unicode"/>
              </a:rPr>
              <a:t> [and] </a:t>
            </a:r>
            <a:r>
              <a:rPr b="1" lang="en-GB" sz="2700" spc="-1" strike="noStrike" u="sng">
                <a:solidFill>
                  <a:srgbClr val="000000"/>
                </a:solidFill>
                <a:uFillTx/>
                <a:latin typeface="Lucida Sans Unicode"/>
              </a:rPr>
              <a:t>D</a:t>
            </a:r>
            <a:r>
              <a:rPr b="1" lang="en-GB" sz="2700" spc="-1" strike="noStrike">
                <a:solidFill>
                  <a:srgbClr val="000000"/>
                </a:solidFill>
                <a:latin typeface="Lucida Sans Unicode"/>
              </a:rPr>
              <a:t>iscuss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roduction (including a titl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view of background / literature / known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ul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acknowledgements, funding, author contributions, bibliography, append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31840" y="128520"/>
            <a:ext cx="8454960" cy="1292400"/>
          </a:xfrm>
          <a:prstGeom prst="rect">
            <a:avLst/>
          </a:prstGeom>
          <a:ln w="0">
            <a:noFill/>
          </a:ln>
        </p:spPr>
      </p:pic>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ssue, needs, specific problem, and way of addressing it in study in several paragraph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Background to the study i.e. </a:t>
            </a:r>
            <a:r>
              <a:rPr b="0" i="1" lang="en-GB" sz="2500" spc="-1" strike="noStrike">
                <a:solidFill>
                  <a:srgbClr val="ff0000"/>
                </a:solidFill>
                <a:latin typeface="Lucida Sans Unicode"/>
              </a:rPr>
              <a:t>what is already known and where the gaps are </a:t>
            </a:r>
            <a:r>
              <a:rPr b="0" lang="en-GB" sz="2500" spc="-1" strike="noStrike">
                <a:solidFill>
                  <a:srgbClr val="000000"/>
                </a:solidFill>
                <a:latin typeface="Lucida Sans Unicode"/>
              </a:rPr>
              <a:t>– how your study fits the gap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he purpose of the introduction should be to supply sufficient background information to allow the reader to understand and evaluate the results of the present study without needing to refer to previous studies on the topic.”</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201600" y="274680"/>
            <a:ext cx="8485200" cy="1243080"/>
          </a:xfrm>
          <a:prstGeom prst="rect">
            <a:avLst/>
          </a:prstGeom>
          <a:ln w="0">
            <a:noFill/>
          </a:ln>
        </p:spPr>
      </p:pic>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specific materials and/or methods used to carry out the research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subheadings includ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articipants</a:t>
            </a:r>
            <a:r>
              <a:rPr b="0" lang="en-US" sz="2300" spc="-1" strike="noStrike">
                <a:solidFill>
                  <a:srgbClr val="000000"/>
                </a:solidFill>
                <a:latin typeface="Lucida Sans Unicode"/>
              </a:rPr>
              <a:t> – number, criteria for selecting, relevant demographic informat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Research Sample </a:t>
            </a:r>
            <a:r>
              <a:rPr b="0" lang="en-US" sz="2300" spc="-1" strike="noStrike">
                <a:solidFill>
                  <a:srgbClr val="000000"/>
                </a:solidFill>
                <a:latin typeface="Lucida Sans Unicode"/>
              </a:rPr>
              <a:t>– what you collected and criteri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rocedures </a:t>
            </a:r>
            <a:r>
              <a:rPr b="0" lang="en-US" sz="2300" spc="-1" strike="noStrike">
                <a:solidFill>
                  <a:srgbClr val="000000"/>
                </a:solidFill>
                <a:latin typeface="Lucida Sans Unicode"/>
              </a:rPr>
              <a:t>– how did you go about collecting the data? Observations, interviews, surveys,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Analysis</a:t>
            </a:r>
            <a:r>
              <a:rPr b="0" lang="en-US" sz="2300" spc="-1" strike="noStrike">
                <a:solidFill>
                  <a:srgbClr val="000000"/>
                </a:solidFill>
                <a:latin typeface="Lucida Sans Unicode"/>
              </a:rPr>
              <a:t> – how was the data analysed? Include formulas, statistical procedures, and equations, etc.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sp>
        <p:nvSpPr>
          <p:cNvPr id="4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application of the data and specific results or findings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tables, charts, graph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01600" y="274680"/>
            <a:ext cx="8485200" cy="1243080"/>
          </a:xfrm>
          <a:prstGeom prst="rect">
            <a:avLst/>
          </a:prstGeom>
          <a:ln w="0">
            <a:noFill/>
          </a:ln>
        </p:spPr>
      </p:pic>
      <p:sp>
        <p:nvSpPr>
          <p:cNvPr id="45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ow to get start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utlines &amp; 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s with motiv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aling with criticism / reje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219240" y="274680"/>
            <a:ext cx="9363240" cy="1170000"/>
          </a:xfrm>
          <a:prstGeom prst="rect">
            <a:avLst/>
          </a:prstGeom>
          <a:ln w="0">
            <a:noFill/>
          </a:ln>
        </p:spPr>
      </p:pic>
      <p:sp>
        <p:nvSpPr>
          <p:cNvPr id="493"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l in dummy tables and figures with real data</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raft additional tables and figures if needed – look at published articles for potential templates</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se each table/figure in a single sentenc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201600" y="274680"/>
            <a:ext cx="8485200" cy="1243080"/>
          </a:xfrm>
          <a:prstGeom prst="rect">
            <a:avLst/>
          </a:prstGeom>
          <a:ln w="0">
            <a:noFill/>
          </a:ln>
        </p:spPr>
      </p:pic>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nded discussion of the results--what they mean, what will or can happen next, what other experiments might be fruitful, et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by summarizing the main points of the Results section – emphasize the bottom lin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ion flaws and limitations in your study and suggest ways the study might be done better (but not at the star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01600" y="274680"/>
            <a:ext cx="8485200" cy="1243080"/>
          </a:xfrm>
          <a:prstGeom prst="rect">
            <a:avLst/>
          </a:prstGeom>
          <a:ln w="0">
            <a:noFill/>
          </a:ln>
        </p:spPr>
      </p:pic>
      <p:sp>
        <p:nvSpPr>
          <p:cNvPr id="497" name=""/>
          <p:cNvSpPr txBox="1"/>
          <p:nvPr/>
        </p:nvSpPr>
        <p:spPr>
          <a:xfrm>
            <a:off x="457200" y="1268280"/>
            <a:ext cx="8229600" cy="511344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Materials and Method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2. Result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se can be written first, as you are carrying out research and collecting the result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3. Introduction</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4. Discussion</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these sections next, once you have decided on your target journal/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6. Title</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7. Abstract</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your Title and Abstract based on all the other section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OME like to start with Abstract (can be useful to help clarify main messages / key points briefly) </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but also return to it (and revise it) at point 7. </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353880" y="79200"/>
            <a:ext cx="8028000" cy="1243080"/>
          </a:xfrm>
          <a:prstGeom prst="rect">
            <a:avLst/>
          </a:prstGeom>
          <a:ln w="0">
            <a:noFill/>
          </a:ln>
        </p:spPr>
      </p:pic>
      <p:sp>
        <p:nvSpPr>
          <p:cNvPr id="499" name="PlaceHolder 1"/>
          <p:cNvSpPr>
            <a:spLocks noGrp="1"/>
          </p:cNvSpPr>
          <p:nvPr>
            <p:ph/>
          </p:nvPr>
        </p:nvSpPr>
        <p:spPr>
          <a:xfrm>
            <a:off x="1219320" y="1295280"/>
            <a:ext cx="7772400" cy="51580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wor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jarg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bbrevi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fer nouns and verbs to adjectives and adverb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231840" y="85680"/>
            <a:ext cx="7997760" cy="1285920"/>
          </a:xfrm>
          <a:prstGeom prst="rect">
            <a:avLst/>
          </a:prstGeom>
          <a:ln w="0">
            <a:noFill/>
          </a:ln>
        </p:spPr>
      </p:pic>
      <p:sp>
        <p:nvSpPr>
          <p:cNvPr id="501"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figures of speech and idioms</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active to passive</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the concrete to the abstrac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the “</a:t>
            </a:r>
            <a:r>
              <a:rPr b="0" i="1" lang="en-GB" sz="3300" spc="-1" strike="noStrike">
                <a:solidFill>
                  <a:srgbClr val="92d050"/>
                </a:solidFill>
                <a:latin typeface="Lucida Sans Unicode"/>
              </a:rPr>
              <a:t>not unblack cat crossed the not unwide road</a:t>
            </a:r>
            <a:r>
              <a:rPr b="0" lang="en-GB" sz="3300" spc="-1" strike="noStrike">
                <a:solidFill>
                  <a:srgbClr val="000000"/>
                </a:solidFill>
                <a:latin typeface="Lucida Sans Unicode"/>
              </a:rPr>
              <a: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Don</a:t>
            </a:r>
            <a:r>
              <a:rPr b="0" lang="en-GB" sz="3300" spc="-1" strike="noStrike">
                <a:solidFill>
                  <a:srgbClr val="000000"/>
                </a:solidFill>
                <a:latin typeface="WP TypographicSymbols"/>
              </a:rPr>
              <a:t>’</a:t>
            </a:r>
            <a:r>
              <a:rPr b="0" lang="en-GB" sz="3300" spc="-1" strike="noStrike">
                <a:solidFill>
                  <a:srgbClr val="000000"/>
                </a:solidFill>
                <a:latin typeface="Lucida Sans Unicode"/>
              </a:rPr>
              <a:t>t hector</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Be unstuffy</a:t>
            </a: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31840" y="128520"/>
            <a:ext cx="8454960" cy="1292400"/>
          </a:xfrm>
          <a:prstGeom prst="rect">
            <a:avLst/>
          </a:prstGeom>
          <a:ln w="0">
            <a:noFill/>
          </a:ln>
        </p:spPr>
      </p:pic>
      <p:sp>
        <p:nvSpPr>
          <p:cNvPr id="503"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4" name="Rectangle 4"/>
          <p:cNvSpPr/>
          <p:nvPr/>
        </p:nvSpPr>
        <p:spPr>
          <a:xfrm>
            <a:off x="2268360" y="2362320"/>
            <a:ext cx="4132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in </a:t>
            </a:r>
            <a:r>
              <a:rPr b="1" lang="en-US" sz="4000" spc="-1" strike="noStrike">
                <a:solidFill>
                  <a:srgbClr val="ff0000"/>
                </a:solidFill>
                <a:latin typeface="Arial"/>
                <a:ea typeface="Arial"/>
              </a:rPr>
              <a:t>“in chu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31840" y="128520"/>
            <a:ext cx="8454960" cy="1292400"/>
          </a:xfrm>
          <a:prstGeom prst="rect">
            <a:avLst/>
          </a:prstGeom>
          <a:ln w="0">
            <a:noFill/>
          </a:ln>
        </p:spPr>
      </p:pic>
      <p:sp>
        <p:nvSpPr>
          <p:cNvPr id="506"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with coauthors/colleagu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506">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ectangle 2" descr=""/>
          <p:cNvPicPr/>
          <p:nvPr/>
        </p:nvPicPr>
        <p:blipFill>
          <a:blip r:embed="rId1"/>
          <a:stretch/>
        </p:blipFill>
        <p:spPr>
          <a:xfrm>
            <a:off x="231840" y="128520"/>
            <a:ext cx="8454960" cy="1292400"/>
          </a:xfrm>
          <a:prstGeom prst="rect">
            <a:avLst/>
          </a:prstGeom>
          <a:ln w="0">
            <a:noFill/>
          </a:ln>
        </p:spPr>
      </p:pic>
      <p:sp>
        <p:nvSpPr>
          <p:cNvPr id="508"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to coauthors/colleagues.  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  </a:t>
            </a:r>
            <a:r>
              <a:rPr b="0" lang="en-US" sz="2800" spc="-1" strike="noStrike">
                <a:solidFill>
                  <a:srgbClr val="ffcc00"/>
                </a:solidFill>
                <a:latin typeface="Lucida Sans Unicode"/>
              </a:rPr>
              <a:t>Get feedback.</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f497d"/>
              </a:solidFill>
              <a:latin typeface="Lucida Sans Unicode"/>
            </a:endParaRPr>
          </a:p>
        </p:txBody>
      </p:sp>
      <p:sp>
        <p:nvSpPr>
          <p:cNvPr id="51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n’t wait for a complete draft to begin getting feedback</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rcRect l="21411" t="0" r="-1076" b="24560"/>
          <a:stretch/>
        </p:blipFill>
        <p:spPr>
          <a:xfrm>
            <a:off x="2286000" y="0"/>
            <a:ext cx="5103720" cy="5105520"/>
          </a:xfrm>
          <a:prstGeom prst="rect">
            <a:avLst/>
          </a:prstGeom>
          <a:ln w="0">
            <a:noFill/>
          </a:ln>
        </p:spPr>
      </p:pic>
      <p:sp>
        <p:nvSpPr>
          <p:cNvPr id="512" name="Text Box 5"/>
          <p:cNvSpPr/>
          <p:nvPr/>
        </p:nvSpPr>
        <p:spPr>
          <a:xfrm>
            <a:off x="228600" y="53341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lbertus Extra Bold"/>
                <a:ea typeface="Arial"/>
              </a:rPr>
              <a:t>Thanks for your detailed and lengthy criticism of my manuscript.  I’ll be sure to incorporate your suggestions into my next draft</a:t>
            </a:r>
            <a:r>
              <a:rPr b="1" lang="en-US" sz="2000" spc="-1" strike="noStrike">
                <a:solidFill>
                  <a:srgbClr val="ffffff"/>
                </a:solidFill>
                <a:latin typeface="Albertus Extra Bold"/>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lear yoursel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is it you want to communicate / achie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cide on key messages / objectiv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just a fe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201600" y="274680"/>
            <a:ext cx="8485200" cy="1243080"/>
          </a:xfrm>
          <a:prstGeom prst="rect">
            <a:avLst/>
          </a:prstGeom>
          <a:ln w="0">
            <a:noFill/>
          </a:ln>
        </p:spPr>
      </p:pic>
      <p:sp>
        <p:nvSpPr>
          <p:cNvPr id="5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need big blocks of tim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mall regular blocks e.g. 20 minutes per day could also wor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eak outline into small sub-sections to work on bit by bi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231840" y="274680"/>
            <a:ext cx="8454960" cy="1189080"/>
          </a:xfrm>
          <a:prstGeom prst="rect">
            <a:avLst/>
          </a:prstGeom>
          <a:ln w="0">
            <a:noFill/>
          </a:ln>
        </p:spPr>
      </p:pic>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Fear of rejection / Anxiety about the quality of the result / Lack of belief</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ing in stages – its not the end draf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ke a step backward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olster confidence / opin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01600" y="274680"/>
            <a:ext cx="8485200" cy="1243080"/>
          </a:xfrm>
          <a:prstGeom prst="rect">
            <a:avLst/>
          </a:prstGeom>
          <a:ln w="0">
            <a:noFill/>
          </a:ln>
        </p:spPr>
      </p:pic>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flicting prioriti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member you had decided this task was the top priority for no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ruggling to decide what to do next</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lan / organise – identify tasks / sections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MIT PUBLICL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vironmental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 somewhere else e.g. library / coffee shop (maybe without internet acces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457200" y="128520"/>
            <a:ext cx="8229600" cy="1292400"/>
          </a:xfrm>
          <a:prstGeom prst="rect">
            <a:avLst/>
          </a:prstGeom>
          <a:ln w="0">
            <a:noFill/>
          </a:ln>
        </p:spPr>
      </p:pic>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92d050"/>
                </a:solidFill>
                <a:latin typeface="Lucida Sans Unicode"/>
              </a:rPr>
              <a:t>Some writing, even just a little, is a step forwar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0000"/>
                </a:solidFill>
                <a:latin typeface="Lucida Sans Unicode"/>
              </a:rPr>
              <a:t>I only have to work on it a little bit today</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2060"/>
                </a:solidFill>
                <a:latin typeface="Lucida Sans Unicode"/>
              </a:rPr>
              <a:t>I will focus on this task right now and not worry about what will come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c000"/>
                </a:solidFill>
                <a:latin typeface="Lucida Sans Unicode"/>
              </a:rPr>
              <a:t>I can write freely now and worry about editing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0000"/>
                </a:solidFill>
                <a:latin typeface="Lucida Sans Unicode"/>
              </a:rPr>
              <a:t>I will allow others to read this in draft form”</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77933c"/>
                </a:solidFill>
                <a:latin typeface="Lucida Sans Unicode"/>
              </a:rPr>
              <a:t>Its ok to ask for help and its ok if some of it needs to be correcte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Title 1" descr=""/>
          <p:cNvPicPr/>
          <p:nvPr/>
        </p:nvPicPr>
        <p:blipFill>
          <a:blip r:embed="rId1"/>
          <a:stretch/>
        </p:blipFill>
        <p:spPr>
          <a:xfrm>
            <a:off x="201600" y="274680"/>
            <a:ext cx="8485200" cy="12430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lIns="90000" rIns="90000" tIns="46800" bIns="46800" anchor="t">
            <a:normAutofit fontScale="99000"/>
          </a:bodyPr>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No one likes rejection</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ts very very common (even for the most experienced and successful academics)</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take it personall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side editors interests / scope of journal</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ad luck</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201600" y="274680"/>
            <a:ext cx="8485200" cy="1243080"/>
          </a:xfrm>
          <a:prstGeom prst="rect">
            <a:avLst/>
          </a:prstGeom>
          <a:ln w="0">
            <a:noFill/>
          </a:ln>
        </p:spPr>
      </p:pic>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is “unusual” to get 2-3 reviewers comments that are “all positi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otal rejection is different from “reject but resubmit” categor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cceptance with “minor revisions” is unusua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le 1" descr=""/>
          <p:cNvPicPr/>
          <p:nvPr/>
        </p:nvPicPr>
        <p:blipFill>
          <a:blip r:embed="rId1"/>
          <a:stretch/>
        </p:blipFill>
        <p:spPr>
          <a:xfrm>
            <a:off x="201600" y="274680"/>
            <a:ext cx="8485200" cy="1243080"/>
          </a:xfrm>
          <a:prstGeom prst="rect">
            <a:avLst/>
          </a:prstGeom>
          <a:ln w="0">
            <a:noFill/>
          </a:ln>
        </p:spPr>
      </p:pic>
      <p:sp>
        <p:nvSpPr>
          <p:cNvPr id="5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ove o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get angr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ybe put it aside for a week or so</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dress comments and resubmit (Plan b)</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
        <p:nvSpPr>
          <p:cNvPr id="528"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 reasons for rejection (by peer-reviewers)</a:t>
            </a:r>
            <a:endParaRPr b="0" lang="en-US" sz="27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ften not “total rejection” – reject but you may resubmit is a positive response</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did not understand you very well</a:t>
            </a:r>
            <a:endParaRPr b="0" lang="en-US" sz="2300" spc="-1" strike="noStrike">
              <a:solidFill>
                <a:srgbClr val="000000"/>
              </a:solidFill>
              <a:latin typeface="Lucida Sans Unicode"/>
            </a:endParaRPr>
          </a:p>
          <a:p>
            <a:pPr lvl="2" marL="850320" indent="-22608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they may not know your field that well?</a:t>
            </a:r>
            <a:endParaRPr b="0" lang="en-US" sz="21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ological / academic diversit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bastard” review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25360" y="128520"/>
            <a:ext cx="9369360" cy="1614600"/>
          </a:xfrm>
          <a:prstGeom prst="rect">
            <a:avLst/>
          </a:prstGeom>
          <a:ln w="0">
            <a:noFill/>
          </a:ln>
        </p:spPr>
      </p:pic>
      <p:sp>
        <p:nvSpPr>
          <p:cNvPr id="530" name=""/>
          <p:cNvSpPr txBox="1"/>
          <p:nvPr/>
        </p:nvSpPr>
        <p:spPr>
          <a:xfrm>
            <a:off x="457200" y="1599840"/>
            <a:ext cx="8229600" cy="4924440"/>
          </a:xfrm>
          <a:prstGeom prst="rect">
            <a:avLst/>
          </a:prstGeom>
          <a:noFill/>
          <a:ln w="0">
            <a:noFill/>
          </a:ln>
        </p:spPr>
        <p:txBody>
          <a:bodyPr lIns="90000" rIns="90000" tIns="46800" bIns="46800" anchor="t">
            <a:normAutofit fontScale="97000"/>
          </a:bodyPr>
          <a:p>
            <a:pPr marL="353880" indent="-24768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be perturbed / put-off by detailed comments – </a:t>
            </a:r>
            <a:endParaRPr b="0" lang="en-US" sz="27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ften reflects reviewer personality rather than manuscript quality</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his is likely to take a lot of time but you already have a “foot in the door” with the journal</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bably something in there that is “useful”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ually not necessary to address every comment  - some can be “rejected” (not ignored)</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they look “too much” ask for help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dress “easy” ones yourself and circulate the others to co-authors or divide among co-author team to address)</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201600" y="274680"/>
            <a:ext cx="8485200" cy="1243080"/>
          </a:xfrm>
          <a:prstGeom prst="rect">
            <a:avLst/>
          </a:prstGeom>
          <a:ln w="0">
            <a:noFill/>
          </a:ln>
        </p:spPr>
      </p:pic>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ff"/>
                </a:solidFill>
                <a:uFillTx/>
                <a:latin typeface="Lucida Sans Unicode"/>
                <a:hlinkClick r:id="rId2"/>
              </a:rPr>
              <a:t>Luc Reid – The Will to Write: Getting Past the 6 Most Common Obstacles</a:t>
            </a:r>
            <a:r>
              <a:rPr b="0" lang="en-GB" sz="2700" spc="-1" strike="noStrike">
                <a:solidFill>
                  <a:srgbClr val="000000"/>
                </a:solidFill>
                <a:latin typeface="Lucida Sans Unicode"/>
              </a:rPr>
              <a:t> - See more at: </a:t>
            </a:r>
            <a:r>
              <a:rPr b="0" lang="en-GB" sz="2700" spc="-1" strike="noStrike" u="sng">
                <a:solidFill>
                  <a:srgbClr val="0000ff"/>
                </a:solidFill>
                <a:uFillTx/>
                <a:latin typeface="Lucida Sans Unicode"/>
                <a:hlinkClick r:id="rId3"/>
              </a:rPr>
              <a:t>http://www.phd2published.com/2011/11/30/luc-reid-the-will-to-write-getting-past-the-6-most-common-obstacles/#</a:t>
            </a:r>
            <a:r>
              <a:rPr b="0" lang="en-GB" sz="2700" spc="-1" strike="noStrike" u="sng">
                <a:solidFill>
                  <a:srgbClr val="0000ff"/>
                </a:solidFill>
                <a:uFillTx/>
                <a:latin typeface="Lucida Sans Unicode"/>
                <a:hlinkClick r:id="rId4"/>
              </a:rPr>
              <a:t>sthash.5LffGjHR.dpu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48520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inking tim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efine purpose and scop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get audience (who are you writing fo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readers need to know</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ime and resources </a:t>
            </a:r>
            <a:endParaRPr b="0" lang="en-US" sz="2300" spc="-1" strike="noStrike">
              <a:solidFill>
                <a:srgbClr val="000000"/>
              </a:solidFill>
              <a:latin typeface="Lucida Sans Unicode"/>
            </a:endParaRPr>
          </a:p>
          <a:p>
            <a:pPr lvl="2" marL="858960" indent="-22860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ther people, e.g. statistician, help with discussion)</a:t>
            </a: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ll people what you are going to say, say it, tell them what you</a:t>
            </a:r>
            <a:r>
              <a:rPr b="0" lang="en-GB" sz="2700" spc="-1" strike="noStrike">
                <a:solidFill>
                  <a:srgbClr val="000000"/>
                </a:solidFill>
                <a:latin typeface="WP TypographicSymbols"/>
              </a:rPr>
              <a:t>’</a:t>
            </a:r>
            <a:r>
              <a:rPr b="0" lang="en-GB" sz="2700" spc="-1" strike="noStrike">
                <a:solidFill>
                  <a:srgbClr val="000000"/>
                </a:solidFill>
                <a:latin typeface="Lucida Sans Unicode"/>
              </a:rPr>
              <a:t>ve sai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ke sure that readers know where they are, where they are going, and why</a:t>
            </a:r>
            <a:endParaRPr b="0" lang="en-US" sz="28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mraD (Introduction, methods, results, and 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 PLAN PLA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ey Messag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line [maybe even draft Abstra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ffective beginn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ummy tables / figure ax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rder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n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lk with colleagu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01600" y="274680"/>
            <a:ext cx="8485200" cy="1243080"/>
          </a:xfrm>
          <a:prstGeom prst="rect">
            <a:avLst/>
          </a:prstGeom>
          <a:ln w="0">
            <a:noFill/>
          </a:ln>
        </p:spPr>
      </p:pic>
      <p:sp>
        <p:nvSpPr>
          <p:cNvPr id="467"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Keep it simple; try to boil down to a single sentenc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Your message must contain something </a:t>
            </a:r>
            <a:r>
              <a:rPr b="0" lang="en-US" sz="2600" spc="-1" strike="noStrike">
                <a:solidFill>
                  <a:srgbClr val="ff0000"/>
                </a:solidFill>
                <a:latin typeface="Lucida Sans Unicode"/>
              </a:rPr>
              <a:t>new</a:t>
            </a:r>
            <a:r>
              <a:rPr b="0" lang="en-US" sz="2600" spc="-1" strike="noStrike">
                <a:solidFill>
                  <a:srgbClr val="000000"/>
                </a:solidFill>
                <a:latin typeface="Lucida Sans Unicode"/>
              </a:rPr>
              <a:t> and </a:t>
            </a:r>
            <a:r>
              <a:rPr b="0" lang="en-US" sz="2600" spc="-1" strike="noStrike">
                <a:solidFill>
                  <a:srgbClr val="ff0000"/>
                </a:solidFill>
                <a:latin typeface="Lucida Sans Unicode"/>
              </a:rPr>
              <a:t>useful</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Make sure your results support your key messag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message may change as you develop the paper</a:t>
            </a: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201600" y="274680"/>
            <a:ext cx="8485200" cy="1243080"/>
          </a:xfrm>
          <a:prstGeom prst="rect">
            <a:avLst/>
          </a:prstGeom>
          <a:ln w="0">
            <a:noFill/>
          </a:ln>
        </p:spPr>
      </p:pic>
      <p:pic>
        <p:nvPicPr>
          <p:cNvPr id="469"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201600" y="274680"/>
            <a:ext cx="8485200" cy="1243080"/>
          </a:xfrm>
          <a:prstGeom prst="rect">
            <a:avLst/>
          </a:prstGeom>
          <a:ln w="0">
            <a:noFill/>
          </a:ln>
        </p:spPr>
      </p:pic>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ust write anyth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kip ahea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et a little exercise (10 minutes wal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ke a dea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6:21Z</dcterms:modified>
  <cp:revision>259</cp:revision>
  <dc:subject/>
  <dc:title>Slide 1</dc:title>
</cp:coreProperties>
</file>